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8566-654E-484A-AF78-7E92D2A067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2C8F-4C61-454B-8AB6-B51B41A8A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0463-EF53-4B1E-A346-897FD9349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FD37-7653-4DC1-A6E7-83AC8C8CE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DCA0-19DB-4B45-BCAE-217C806913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0F6F-B541-4807-84E6-79B1105CF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004D-AD2D-4CA3-8903-6E099CEBB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2E07-5FFA-49E1-BA9E-3755F4349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7A65-EC45-4DD1-B424-451103912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A5F0-C32E-4298-BAEE-2EA083E8D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B93-D4C2-44E0-94F6-3EFFBD74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0FE6-91F4-4683-862F-28D6BE24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E2BB-14A6-4289-8842-7CEEA950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DE7E-C6CD-4C4D-9654-B7E875AB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08AF-870D-494E-87DA-A641DAC5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2AA9-EA22-4B24-A16B-1597D0D1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A218-54C3-470D-88D4-487095B5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5EEA-E946-493B-B544-9213EC02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A6CB-50E3-48CA-BB16-2E176D2E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8814-872F-44AE-AD70-04147702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FDC3-3335-4268-93BC-E3AF0FC7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B0A8-A0C9-4F83-94CF-5663A21C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5CB3-895B-4246-A53E-09403D71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407B-7881-4FF8-BE1A-D5E79987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0A9D-E527-475E-845F-BA0D5ED1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6EAA-E1BD-4332-83FA-1FF6522F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D419-3817-4F75-B6CE-7020FD13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565EC-D93A-48A8-9B13-D920C475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861CD-A1CD-42E7-88F5-04C53DAC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94A5D-C1E3-4C7C-B967-D1FB3C1F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8B18A-7E6D-481F-9716-05EEDC0D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40472-5363-49BC-8671-C6EC8CCC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3E8C-6ADC-4771-ADB5-6B729879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2B7A0-A478-4D80-8B3D-ECE3FE56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2ACBD-FD7D-4EFD-A8BB-112ACE68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8C882-D6D3-4931-A247-F1804A5F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0B3E7-2368-42F5-88D1-DA5E12AA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EC99C-B8D8-4EA9-91B2-99F40C3C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8910F-D566-44FE-A45E-2306F5BA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8CAD3-D0DD-4F81-8F2F-B5A8A189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86742-0FA4-494C-8DCE-017A75BD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9F0CF-B0FD-4BDB-8DB1-F4954052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9FC68-F0F6-4BCD-A03A-23F930B6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1B79-4B37-41C5-B9D6-64AA1C63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EC3BC-01AA-43A7-B6F0-3B2987AD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3DEDB-1FC3-475D-9CD4-F3AB3723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D8007-B5DA-404D-A65A-3AB53518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5E5A9-7FE9-4A23-9578-29CC74B3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51EB8-E722-4020-9DAD-4FCBFEBC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AC0CE-857E-4BA0-8C1F-47E2E44A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30DFE-7775-403F-B40D-FF0A1879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53F65-6F7F-4E88-AF8F-BFC70B2B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58A0D-217F-485A-AED9-BE7CA100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99231-141A-4D64-B393-70413752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68E9-CBCC-40C4-B60E-8F0E927A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41244-9458-4CCD-A87B-12C80F53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25F97-E0FB-45C0-BEDD-A561AD37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0953A-C6F5-424F-9223-8BE292FC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30757-5296-414E-A068-2D4D63FE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C2F37-D91A-48F6-A5B7-F371378F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A8D71-D193-4735-A26A-20658B86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4E5A3-972D-4229-B68C-F89D71C7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0E4DA-2640-4228-B9E3-16A4F483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D3288-8BB7-40C9-98F5-220A8054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A1BC2-7D40-4BB0-A56A-18BAB5D3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B25-0DD8-4F6D-952A-BD315471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4C138-A1E9-4472-9BC6-FD63F7BA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16687-2865-4CE4-A536-F0FCD996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93B2C-8972-4653-9E2E-797EFF6D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ABEA7-AF98-46AB-8073-57E77A01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38A99-A340-4966-9F15-65130CFA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D3DE0-8D92-4615-9C10-5037048E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09C14-BBD1-4F4D-90E3-4FF58D21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22DB7-51FA-43A0-AD14-5E46F817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FC072-3922-4551-905A-05F7212C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BD39A-276E-4142-9E80-9B1EABAE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9A46-DF68-40A7-AD42-7D3ED7D7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FD16D-804D-4481-9076-9105F765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7770B-A03E-4F77-91F7-146C5188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221B3-3138-44C0-B34B-247AEF03C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312-F2A3-4B39-A437-73871A5E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91B2-766C-4CD9-B7F0-E1BF21DB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F7AC-5DF6-4E39-97A0-CE77F3D28C1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57B8-D397-4772-BD84-D7256E90B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EA43-650C-483C-8E22-D1CBF2E4C10E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04C1-4FAE-4720-98AC-89304C9EC7D9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8639-7849-49A1-BD4A-D58FF74982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57A8-5385-475A-A51D-D4269548F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6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27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0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F9C0-8AED-4A62-98F5-A0CED74F43FE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1FB8-6395-4615-8531-F8998067229A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6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7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0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E0E4-58AF-41DF-8FC0-2B10C17F7F31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F530-321D-43C0-9A45-01F897721E55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2A61-2E28-4D0D-9FEC-31EC98675236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54A4-1E80-4A57-ADF8-876476C799C3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5" descr="http://themissingsandwich.files.wordpress.com/2009/05/walking_on_clouds_by_gil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2"/>
          <p:cNvSpPr/>
          <p:nvPr/>
        </p:nvSpPr>
        <p:spPr>
          <a:xfrm>
            <a:off x="304920" y="304920"/>
            <a:ext cx="85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2.1/2.2: Adding and Subtracting Rational Numb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0" y="5718600"/>
            <a:ext cx="91440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easy in the world to live after the world's opinion; it is easy in solitude to live after our own; but the great man is he who in the midst of the crowd keeps with perfect sweetness the independence of solitu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15" descr="http://themissingsandwich.files.wordpress.com/2009/05/walking_on_clouds_by_gil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671" name="TextBox 2"/>
          <p:cNvSpPr/>
          <p:nvPr/>
        </p:nvSpPr>
        <p:spPr>
          <a:xfrm>
            <a:off x="304920" y="304920"/>
            <a:ext cx="85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2.1/2.2: Adding and Subtracting Rational Numb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7"/>
          <p:cNvSpPr/>
          <p:nvPr/>
        </p:nvSpPr>
        <p:spPr>
          <a:xfrm>
            <a:off x="0" y="5718600"/>
            <a:ext cx="91440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easy in the world to live after the world's opinion; it is easy in solitude to live after our own; but the great man is he who in the midst of the crowd keeps with perfect sweetness the independence of solitu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2362320" y="114300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MEWOR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.60 #9-16, 32-36, 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.66 #9-14, 27-30, 37, 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ng Ration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533520" y="13399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1)  -2 + (-6)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533520" y="2514600"/>
            <a:ext cx="281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2)  -3 + (-8)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533520" y="362592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3)  -2 + 6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3520" y="4768920"/>
            <a:ext cx="297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4)  4 + (-13)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1"/>
          <p:cNvGrpSpPr/>
          <p:nvPr/>
        </p:nvGrpSpPr>
        <p:grpSpPr>
          <a:xfrm>
            <a:off x="2760840" y="1311120"/>
            <a:ext cx="866520" cy="3718080"/>
            <a:chOff x="2760840" y="1311120"/>
            <a:chExt cx="866520" cy="3718080"/>
          </a:xfrm>
        </p:grpSpPr>
        <p:sp>
          <p:nvSpPr>
            <p:cNvPr id="285" name="SMARTInkAnnotation321"/>
            <p:cNvSpPr/>
            <p:nvPr/>
          </p:nvSpPr>
          <p:spPr>
            <a:xfrm>
              <a:off x="3086640" y="1501200"/>
              <a:ext cx="243720" cy="432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43841" h="4391">
                  <a:moveTo>
                    <a:pt x="0" y="0"/>
                  </a:moveTo>
                  <a:lnTo>
                    <a:pt x="14651" y="0"/>
                  </a:lnTo>
                  <a:lnTo>
                    <a:pt x="19927" y="847"/>
                  </a:lnTo>
                  <a:lnTo>
                    <a:pt x="25985" y="2258"/>
                  </a:lnTo>
                  <a:lnTo>
                    <a:pt x="32563" y="4045"/>
                  </a:lnTo>
                  <a:lnTo>
                    <a:pt x="39489" y="4390"/>
                  </a:lnTo>
                  <a:lnTo>
                    <a:pt x="46646" y="3773"/>
                  </a:lnTo>
                  <a:lnTo>
                    <a:pt x="53957" y="2516"/>
                  </a:lnTo>
                  <a:lnTo>
                    <a:pt x="62218" y="1677"/>
                  </a:lnTo>
                  <a:lnTo>
                    <a:pt x="71112" y="1118"/>
                  </a:lnTo>
                  <a:lnTo>
                    <a:pt x="80428" y="746"/>
                  </a:lnTo>
                  <a:lnTo>
                    <a:pt x="102068" y="331"/>
                  </a:lnTo>
                  <a:lnTo>
                    <a:pt x="2438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040" bIns="-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SMARTInkAnnotation322"/>
            <p:cNvSpPr/>
            <p:nvPr/>
          </p:nvSpPr>
          <p:spPr>
            <a:xfrm>
              <a:off x="3371760" y="1311120"/>
              <a:ext cx="189720" cy="16668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90003" h="166709">
                  <a:moveTo>
                    <a:pt x="187257" y="14898"/>
                  </a:moveTo>
                  <a:lnTo>
                    <a:pt x="183212" y="14898"/>
                  </a:lnTo>
                  <a:lnTo>
                    <a:pt x="182020" y="14051"/>
                  </a:lnTo>
                  <a:lnTo>
                    <a:pt x="181226" y="12640"/>
                  </a:lnTo>
                  <a:lnTo>
                    <a:pt x="179951" y="8337"/>
                  </a:lnTo>
                  <a:lnTo>
                    <a:pt x="175685" y="3547"/>
                  </a:lnTo>
                  <a:lnTo>
                    <a:pt x="173616" y="2251"/>
                  </a:lnTo>
                  <a:lnTo>
                    <a:pt x="169059" y="810"/>
                  </a:lnTo>
                  <a:lnTo>
                    <a:pt x="165812" y="426"/>
                  </a:lnTo>
                  <a:lnTo>
                    <a:pt x="161954" y="170"/>
                  </a:lnTo>
                  <a:lnTo>
                    <a:pt x="157688" y="0"/>
                  </a:lnTo>
                  <a:lnTo>
                    <a:pt x="153151" y="1579"/>
                  </a:lnTo>
                  <a:lnTo>
                    <a:pt x="148434" y="4325"/>
                  </a:lnTo>
                  <a:lnTo>
                    <a:pt x="143595" y="7850"/>
                  </a:lnTo>
                  <a:lnTo>
                    <a:pt x="137828" y="11046"/>
                  </a:lnTo>
                  <a:lnTo>
                    <a:pt x="131445" y="14023"/>
                  </a:lnTo>
                  <a:lnTo>
                    <a:pt x="124649" y="16855"/>
                  </a:lnTo>
                  <a:lnTo>
                    <a:pt x="116732" y="20436"/>
                  </a:lnTo>
                  <a:lnTo>
                    <a:pt x="98903" y="28930"/>
                  </a:lnTo>
                  <a:lnTo>
                    <a:pt x="90255" y="34413"/>
                  </a:lnTo>
                  <a:lnTo>
                    <a:pt x="81948" y="40608"/>
                  </a:lnTo>
                  <a:lnTo>
                    <a:pt x="73871" y="47278"/>
                  </a:lnTo>
                  <a:lnTo>
                    <a:pt x="55866" y="61463"/>
                  </a:lnTo>
                  <a:lnTo>
                    <a:pt x="46323" y="68801"/>
                  </a:lnTo>
                  <a:lnTo>
                    <a:pt x="38267" y="76233"/>
                  </a:lnTo>
                  <a:lnTo>
                    <a:pt x="31204" y="83728"/>
                  </a:lnTo>
                  <a:lnTo>
                    <a:pt x="24802" y="91265"/>
                  </a:lnTo>
                  <a:lnTo>
                    <a:pt x="18840" y="98829"/>
                  </a:lnTo>
                  <a:lnTo>
                    <a:pt x="13172" y="106412"/>
                  </a:lnTo>
                  <a:lnTo>
                    <a:pt x="7701" y="114007"/>
                  </a:lnTo>
                  <a:lnTo>
                    <a:pt x="4053" y="120764"/>
                  </a:lnTo>
                  <a:lnTo>
                    <a:pt x="1621" y="126962"/>
                  </a:lnTo>
                  <a:lnTo>
                    <a:pt x="0" y="132787"/>
                  </a:lnTo>
                  <a:lnTo>
                    <a:pt x="612" y="138364"/>
                  </a:lnTo>
                  <a:lnTo>
                    <a:pt x="2714" y="143776"/>
                  </a:lnTo>
                  <a:lnTo>
                    <a:pt x="5808" y="149076"/>
                  </a:lnTo>
                  <a:lnTo>
                    <a:pt x="10411" y="153457"/>
                  </a:lnTo>
                  <a:lnTo>
                    <a:pt x="16020" y="157224"/>
                  </a:lnTo>
                  <a:lnTo>
                    <a:pt x="22299" y="160582"/>
                  </a:lnTo>
                  <a:lnTo>
                    <a:pt x="29025" y="162821"/>
                  </a:lnTo>
                  <a:lnTo>
                    <a:pt x="36049" y="164313"/>
                  </a:lnTo>
                  <a:lnTo>
                    <a:pt x="43271" y="165308"/>
                  </a:lnTo>
                  <a:lnTo>
                    <a:pt x="52320" y="165971"/>
                  </a:lnTo>
                  <a:lnTo>
                    <a:pt x="62586" y="166414"/>
                  </a:lnTo>
                  <a:lnTo>
                    <a:pt x="73663" y="166708"/>
                  </a:lnTo>
                  <a:lnTo>
                    <a:pt x="85281" y="166058"/>
                  </a:lnTo>
                  <a:lnTo>
                    <a:pt x="97260" y="164778"/>
                  </a:lnTo>
                  <a:lnTo>
                    <a:pt x="109479" y="163078"/>
                  </a:lnTo>
                  <a:lnTo>
                    <a:pt x="120165" y="161098"/>
                  </a:lnTo>
                  <a:lnTo>
                    <a:pt x="129829" y="158931"/>
                  </a:lnTo>
                  <a:lnTo>
                    <a:pt x="138812" y="156640"/>
                  </a:lnTo>
                  <a:lnTo>
                    <a:pt x="147340" y="152573"/>
                  </a:lnTo>
                  <a:lnTo>
                    <a:pt x="155566" y="147321"/>
                  </a:lnTo>
                  <a:lnTo>
                    <a:pt x="163590" y="141280"/>
                  </a:lnTo>
                  <a:lnTo>
                    <a:pt x="169786" y="134713"/>
                  </a:lnTo>
                  <a:lnTo>
                    <a:pt x="174763" y="127795"/>
                  </a:lnTo>
                  <a:lnTo>
                    <a:pt x="178927" y="120642"/>
                  </a:lnTo>
                  <a:lnTo>
                    <a:pt x="185813" y="108180"/>
                  </a:lnTo>
                  <a:lnTo>
                    <a:pt x="188834" y="102486"/>
                  </a:lnTo>
                  <a:lnTo>
                    <a:pt x="190002" y="96150"/>
                  </a:lnTo>
                  <a:lnTo>
                    <a:pt x="189934" y="89386"/>
                  </a:lnTo>
                  <a:lnTo>
                    <a:pt x="189041" y="82337"/>
                  </a:lnTo>
                  <a:lnTo>
                    <a:pt x="187600" y="75097"/>
                  </a:lnTo>
                  <a:lnTo>
                    <a:pt x="185793" y="67731"/>
                  </a:lnTo>
                  <a:lnTo>
                    <a:pt x="183741" y="60280"/>
                  </a:lnTo>
                  <a:lnTo>
                    <a:pt x="179833" y="53619"/>
                  </a:lnTo>
                  <a:lnTo>
                    <a:pt x="174688" y="47485"/>
                  </a:lnTo>
                  <a:lnTo>
                    <a:pt x="168717" y="41703"/>
                  </a:lnTo>
                  <a:lnTo>
                    <a:pt x="163044" y="37001"/>
                  </a:lnTo>
                  <a:lnTo>
                    <a:pt x="157568" y="33020"/>
                  </a:lnTo>
                  <a:lnTo>
                    <a:pt x="152225" y="29520"/>
                  </a:lnTo>
                  <a:lnTo>
                    <a:pt x="146969" y="27186"/>
                  </a:lnTo>
                  <a:lnTo>
                    <a:pt x="141772" y="25630"/>
                  </a:lnTo>
                  <a:lnTo>
                    <a:pt x="136613" y="24593"/>
                  </a:lnTo>
                  <a:lnTo>
                    <a:pt x="131481" y="23054"/>
                  </a:lnTo>
                  <a:lnTo>
                    <a:pt x="126366" y="21182"/>
                  </a:lnTo>
                  <a:lnTo>
                    <a:pt x="121264" y="19088"/>
                  </a:lnTo>
                  <a:lnTo>
                    <a:pt x="117015" y="18538"/>
                  </a:lnTo>
                  <a:lnTo>
                    <a:pt x="113336" y="19018"/>
                  </a:lnTo>
                  <a:lnTo>
                    <a:pt x="103437" y="225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SMARTInkAnnotation323"/>
            <p:cNvSpPr/>
            <p:nvPr/>
          </p:nvSpPr>
          <p:spPr>
            <a:xfrm>
              <a:off x="3355200" y="1473840"/>
              <a:ext cx="135000" cy="1638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135081" h="163821">
                  <a:moveTo>
                    <a:pt x="135080" y="4390"/>
                  </a:moveTo>
                  <a:lnTo>
                    <a:pt x="131035" y="345"/>
                  </a:lnTo>
                  <a:lnTo>
                    <a:pt x="128996" y="0"/>
                  </a:lnTo>
                  <a:lnTo>
                    <a:pt x="126791" y="617"/>
                  </a:lnTo>
                  <a:lnTo>
                    <a:pt x="121213" y="3645"/>
                  </a:lnTo>
                  <a:lnTo>
                    <a:pt x="119062" y="3893"/>
                  </a:lnTo>
                  <a:lnTo>
                    <a:pt x="115935" y="4059"/>
                  </a:lnTo>
                  <a:lnTo>
                    <a:pt x="112156" y="4169"/>
                  </a:lnTo>
                  <a:lnTo>
                    <a:pt x="107945" y="5936"/>
                  </a:lnTo>
                  <a:lnTo>
                    <a:pt x="103443" y="8808"/>
                  </a:lnTo>
                  <a:lnTo>
                    <a:pt x="98749" y="12415"/>
                  </a:lnTo>
                  <a:lnTo>
                    <a:pt x="93079" y="16514"/>
                  </a:lnTo>
                  <a:lnTo>
                    <a:pt x="80006" y="25583"/>
                  </a:lnTo>
                  <a:lnTo>
                    <a:pt x="72964" y="31219"/>
                  </a:lnTo>
                  <a:lnTo>
                    <a:pt x="65729" y="37516"/>
                  </a:lnTo>
                  <a:lnTo>
                    <a:pt x="58366" y="44254"/>
                  </a:lnTo>
                  <a:lnTo>
                    <a:pt x="43412" y="58514"/>
                  </a:lnTo>
                  <a:lnTo>
                    <a:pt x="35868" y="65873"/>
                  </a:lnTo>
                  <a:lnTo>
                    <a:pt x="29146" y="73319"/>
                  </a:lnTo>
                  <a:lnTo>
                    <a:pt x="22970" y="80822"/>
                  </a:lnTo>
                  <a:lnTo>
                    <a:pt x="17160" y="88365"/>
                  </a:lnTo>
                  <a:lnTo>
                    <a:pt x="12440" y="95933"/>
                  </a:lnTo>
                  <a:lnTo>
                    <a:pt x="8447" y="103519"/>
                  </a:lnTo>
                  <a:lnTo>
                    <a:pt x="4938" y="111116"/>
                  </a:lnTo>
                  <a:lnTo>
                    <a:pt x="2598" y="117874"/>
                  </a:lnTo>
                  <a:lnTo>
                    <a:pt x="1040" y="124073"/>
                  </a:lnTo>
                  <a:lnTo>
                    <a:pt x="0" y="129898"/>
                  </a:lnTo>
                  <a:lnTo>
                    <a:pt x="153" y="135476"/>
                  </a:lnTo>
                  <a:lnTo>
                    <a:pt x="1102" y="140887"/>
                  </a:lnTo>
                  <a:lnTo>
                    <a:pt x="2582" y="146188"/>
                  </a:lnTo>
                  <a:lnTo>
                    <a:pt x="5261" y="150569"/>
                  </a:lnTo>
                  <a:lnTo>
                    <a:pt x="8741" y="154336"/>
                  </a:lnTo>
                  <a:lnTo>
                    <a:pt x="12754" y="157694"/>
                  </a:lnTo>
                  <a:lnTo>
                    <a:pt x="17970" y="159933"/>
                  </a:lnTo>
                  <a:lnTo>
                    <a:pt x="23986" y="161425"/>
                  </a:lnTo>
                  <a:lnTo>
                    <a:pt x="30538" y="162420"/>
                  </a:lnTo>
                  <a:lnTo>
                    <a:pt x="37445" y="163083"/>
                  </a:lnTo>
                  <a:lnTo>
                    <a:pt x="44590" y="163526"/>
                  </a:lnTo>
                  <a:lnTo>
                    <a:pt x="51893" y="163820"/>
                  </a:lnTo>
                  <a:lnTo>
                    <a:pt x="59302" y="162324"/>
                  </a:lnTo>
                  <a:lnTo>
                    <a:pt x="66782" y="159632"/>
                  </a:lnTo>
                  <a:lnTo>
                    <a:pt x="74308" y="156145"/>
                  </a:lnTo>
                  <a:lnTo>
                    <a:pt x="81865" y="152127"/>
                  </a:lnTo>
                  <a:lnTo>
                    <a:pt x="89444" y="147754"/>
                  </a:lnTo>
                  <a:lnTo>
                    <a:pt x="97036" y="143146"/>
                  </a:lnTo>
                  <a:lnTo>
                    <a:pt x="103790" y="137534"/>
                  </a:lnTo>
                  <a:lnTo>
                    <a:pt x="109987" y="131253"/>
                  </a:lnTo>
                  <a:lnTo>
                    <a:pt x="115812" y="124525"/>
                  </a:lnTo>
                  <a:lnTo>
                    <a:pt x="120541" y="117500"/>
                  </a:lnTo>
                  <a:lnTo>
                    <a:pt x="124541" y="110277"/>
                  </a:lnTo>
                  <a:lnTo>
                    <a:pt x="128054" y="102921"/>
                  </a:lnTo>
                  <a:lnTo>
                    <a:pt x="130396" y="95478"/>
                  </a:lnTo>
                  <a:lnTo>
                    <a:pt x="131957" y="87975"/>
                  </a:lnTo>
                  <a:lnTo>
                    <a:pt x="132998" y="80433"/>
                  </a:lnTo>
                  <a:lnTo>
                    <a:pt x="132845" y="72866"/>
                  </a:lnTo>
                  <a:lnTo>
                    <a:pt x="131897" y="65281"/>
                  </a:lnTo>
                  <a:lnTo>
                    <a:pt x="130418" y="57684"/>
                  </a:lnTo>
                  <a:lnTo>
                    <a:pt x="126892" y="50926"/>
                  </a:lnTo>
                  <a:lnTo>
                    <a:pt x="122001" y="44727"/>
                  </a:lnTo>
                  <a:lnTo>
                    <a:pt x="116201" y="38902"/>
                  </a:lnTo>
                  <a:lnTo>
                    <a:pt x="110641" y="34171"/>
                  </a:lnTo>
                  <a:lnTo>
                    <a:pt x="105241" y="30171"/>
                  </a:lnTo>
                  <a:lnTo>
                    <a:pt x="99947" y="26657"/>
                  </a:lnTo>
                  <a:lnTo>
                    <a:pt x="93878" y="23468"/>
                  </a:lnTo>
                  <a:lnTo>
                    <a:pt x="87292" y="20496"/>
                  </a:lnTo>
                  <a:lnTo>
                    <a:pt x="80361" y="17667"/>
                  </a:lnTo>
                  <a:lnTo>
                    <a:pt x="74894" y="15781"/>
                  </a:lnTo>
                  <a:lnTo>
                    <a:pt x="70403" y="14524"/>
                  </a:lnTo>
                  <a:lnTo>
                    <a:pt x="58880" y="1201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SMARTInkAnnotation324"/>
            <p:cNvSpPr/>
            <p:nvPr/>
          </p:nvSpPr>
          <p:spPr>
            <a:xfrm>
              <a:off x="3094200" y="2781360"/>
              <a:ext cx="152280" cy="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52401" h="7621">
                  <a:moveTo>
                    <a:pt x="0" y="7620"/>
                  </a:moveTo>
                  <a:lnTo>
                    <a:pt x="120912" y="7620"/>
                  </a:lnTo>
                  <a:lnTo>
                    <a:pt x="128021" y="6773"/>
                  </a:lnTo>
                  <a:lnTo>
                    <a:pt x="134454" y="5362"/>
                  </a:lnTo>
                  <a:lnTo>
                    <a:pt x="15240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SMARTInkAnnotation325"/>
            <p:cNvSpPr/>
            <p:nvPr/>
          </p:nvSpPr>
          <p:spPr>
            <a:xfrm>
              <a:off x="3360960" y="2659320"/>
              <a:ext cx="60840" cy="2970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60837" h="297181">
                  <a:moveTo>
                    <a:pt x="60836" y="0"/>
                  </a:moveTo>
                  <a:lnTo>
                    <a:pt x="60836" y="17912"/>
                  </a:lnTo>
                  <a:lnTo>
                    <a:pt x="59989" y="20408"/>
                  </a:lnTo>
                  <a:lnTo>
                    <a:pt x="58579" y="22918"/>
                  </a:lnTo>
                  <a:lnTo>
                    <a:pt x="56791" y="25439"/>
                  </a:lnTo>
                  <a:lnTo>
                    <a:pt x="55599" y="28813"/>
                  </a:lnTo>
                  <a:lnTo>
                    <a:pt x="54275" y="37077"/>
                  </a:lnTo>
                  <a:lnTo>
                    <a:pt x="53076" y="41651"/>
                  </a:lnTo>
                  <a:lnTo>
                    <a:pt x="51429" y="46394"/>
                  </a:lnTo>
                  <a:lnTo>
                    <a:pt x="49485" y="51249"/>
                  </a:lnTo>
                  <a:lnTo>
                    <a:pt x="45066" y="63418"/>
                  </a:lnTo>
                  <a:lnTo>
                    <a:pt x="20187" y="137203"/>
                  </a:lnTo>
                  <a:lnTo>
                    <a:pt x="18497" y="145655"/>
                  </a:lnTo>
                  <a:lnTo>
                    <a:pt x="17370" y="154677"/>
                  </a:lnTo>
                  <a:lnTo>
                    <a:pt x="16619" y="164078"/>
                  </a:lnTo>
                  <a:lnTo>
                    <a:pt x="15271" y="172885"/>
                  </a:lnTo>
                  <a:lnTo>
                    <a:pt x="13526" y="181297"/>
                  </a:lnTo>
                  <a:lnTo>
                    <a:pt x="11516" y="189445"/>
                  </a:lnTo>
                  <a:lnTo>
                    <a:pt x="9330" y="197417"/>
                  </a:lnTo>
                  <a:lnTo>
                    <a:pt x="4642" y="213047"/>
                  </a:lnTo>
                  <a:lnTo>
                    <a:pt x="3053" y="220772"/>
                  </a:lnTo>
                  <a:lnTo>
                    <a:pt x="1995" y="228461"/>
                  </a:lnTo>
                  <a:lnTo>
                    <a:pt x="1288" y="236128"/>
                  </a:lnTo>
                  <a:lnTo>
                    <a:pt x="818" y="242932"/>
                  </a:lnTo>
                  <a:lnTo>
                    <a:pt x="504" y="249161"/>
                  </a:lnTo>
                  <a:lnTo>
                    <a:pt x="155" y="260598"/>
                  </a:lnTo>
                  <a:lnTo>
                    <a:pt x="0" y="271326"/>
                  </a:lnTo>
                  <a:lnTo>
                    <a:pt x="805" y="275711"/>
                  </a:lnTo>
                  <a:lnTo>
                    <a:pt x="2189" y="279481"/>
                  </a:lnTo>
                  <a:lnTo>
                    <a:pt x="3958" y="282841"/>
                  </a:lnTo>
                  <a:lnTo>
                    <a:pt x="5138" y="285927"/>
                  </a:lnTo>
                  <a:lnTo>
                    <a:pt x="5924" y="288832"/>
                  </a:lnTo>
                  <a:lnTo>
                    <a:pt x="7497" y="2971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SMARTInkAnnotation326"/>
            <p:cNvSpPr/>
            <p:nvPr/>
          </p:nvSpPr>
          <p:spPr>
            <a:xfrm>
              <a:off x="3498120" y="2666880"/>
              <a:ext cx="75960" cy="2743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76201" h="274321">
                  <a:moveTo>
                    <a:pt x="76200" y="0"/>
                  </a:moveTo>
                  <a:lnTo>
                    <a:pt x="76200" y="11352"/>
                  </a:lnTo>
                  <a:lnTo>
                    <a:pt x="73942" y="18027"/>
                  </a:lnTo>
                  <a:lnTo>
                    <a:pt x="72155" y="22178"/>
                  </a:lnTo>
                  <a:lnTo>
                    <a:pt x="67911" y="31306"/>
                  </a:lnTo>
                  <a:lnTo>
                    <a:pt x="65594" y="36111"/>
                  </a:lnTo>
                  <a:lnTo>
                    <a:pt x="64050" y="41854"/>
                  </a:lnTo>
                  <a:lnTo>
                    <a:pt x="63019" y="48222"/>
                  </a:lnTo>
                  <a:lnTo>
                    <a:pt x="62333" y="55008"/>
                  </a:lnTo>
                  <a:lnTo>
                    <a:pt x="61029" y="62072"/>
                  </a:lnTo>
                  <a:lnTo>
                    <a:pt x="59313" y="69321"/>
                  </a:lnTo>
                  <a:lnTo>
                    <a:pt x="57321" y="76694"/>
                  </a:lnTo>
                  <a:lnTo>
                    <a:pt x="52852" y="91660"/>
                  </a:lnTo>
                  <a:lnTo>
                    <a:pt x="50474" y="99207"/>
                  </a:lnTo>
                  <a:lnTo>
                    <a:pt x="47196" y="106778"/>
                  </a:lnTo>
                  <a:lnTo>
                    <a:pt x="43317" y="114365"/>
                  </a:lnTo>
                  <a:lnTo>
                    <a:pt x="39039" y="121964"/>
                  </a:lnTo>
                  <a:lnTo>
                    <a:pt x="35339" y="129569"/>
                  </a:lnTo>
                  <a:lnTo>
                    <a:pt x="32026" y="137179"/>
                  </a:lnTo>
                  <a:lnTo>
                    <a:pt x="28971" y="144793"/>
                  </a:lnTo>
                  <a:lnTo>
                    <a:pt x="26087" y="153256"/>
                  </a:lnTo>
                  <a:lnTo>
                    <a:pt x="23318" y="162284"/>
                  </a:lnTo>
                  <a:lnTo>
                    <a:pt x="17984" y="180499"/>
                  </a:lnTo>
                  <a:lnTo>
                    <a:pt x="12790" y="197062"/>
                  </a:lnTo>
                  <a:lnTo>
                    <a:pt x="11067" y="205035"/>
                  </a:lnTo>
                  <a:lnTo>
                    <a:pt x="9918" y="212890"/>
                  </a:lnTo>
                  <a:lnTo>
                    <a:pt x="9152" y="220667"/>
                  </a:lnTo>
                  <a:lnTo>
                    <a:pt x="7795" y="228391"/>
                  </a:lnTo>
                  <a:lnTo>
                    <a:pt x="6043" y="236081"/>
                  </a:lnTo>
                  <a:lnTo>
                    <a:pt x="4029" y="243747"/>
                  </a:lnTo>
                  <a:lnTo>
                    <a:pt x="2686" y="250552"/>
                  </a:lnTo>
                  <a:lnTo>
                    <a:pt x="1791" y="256781"/>
                  </a:lnTo>
                  <a:lnTo>
                    <a:pt x="0" y="2743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SMARTInkAnnotation327"/>
            <p:cNvSpPr/>
            <p:nvPr/>
          </p:nvSpPr>
          <p:spPr>
            <a:xfrm>
              <a:off x="2760840" y="3764520"/>
              <a:ext cx="218880" cy="10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19104" h="106649">
                  <a:moveTo>
                    <a:pt x="89563" y="0"/>
                  </a:moveTo>
                  <a:lnTo>
                    <a:pt x="57563" y="32000"/>
                  </a:lnTo>
                  <a:lnTo>
                    <a:pt x="52990" y="35727"/>
                  </a:lnTo>
                  <a:lnTo>
                    <a:pt x="47401" y="39904"/>
                  </a:lnTo>
                  <a:lnTo>
                    <a:pt x="41135" y="44383"/>
                  </a:lnTo>
                  <a:lnTo>
                    <a:pt x="36111" y="49062"/>
                  </a:lnTo>
                  <a:lnTo>
                    <a:pt x="31915" y="53875"/>
                  </a:lnTo>
                  <a:lnTo>
                    <a:pt x="28271" y="58777"/>
                  </a:lnTo>
                  <a:lnTo>
                    <a:pt x="24148" y="62891"/>
                  </a:lnTo>
                  <a:lnTo>
                    <a:pt x="19706" y="66481"/>
                  </a:lnTo>
                  <a:lnTo>
                    <a:pt x="15052" y="69720"/>
                  </a:lnTo>
                  <a:lnTo>
                    <a:pt x="11102" y="73574"/>
                  </a:lnTo>
                  <a:lnTo>
                    <a:pt x="7623" y="77836"/>
                  </a:lnTo>
                  <a:lnTo>
                    <a:pt x="4456" y="82371"/>
                  </a:lnTo>
                  <a:lnTo>
                    <a:pt x="2345" y="86240"/>
                  </a:lnTo>
                  <a:lnTo>
                    <a:pt x="938" y="89667"/>
                  </a:lnTo>
                  <a:lnTo>
                    <a:pt x="0" y="92798"/>
                  </a:lnTo>
                  <a:lnTo>
                    <a:pt x="221" y="94886"/>
                  </a:lnTo>
                  <a:lnTo>
                    <a:pt x="1215" y="96277"/>
                  </a:lnTo>
                  <a:lnTo>
                    <a:pt x="4577" y="98670"/>
                  </a:lnTo>
                  <a:lnTo>
                    <a:pt x="6659" y="100493"/>
                  </a:lnTo>
                  <a:lnTo>
                    <a:pt x="8894" y="102556"/>
                  </a:lnTo>
                  <a:lnTo>
                    <a:pt x="12924" y="103930"/>
                  </a:lnTo>
                  <a:lnTo>
                    <a:pt x="18150" y="104847"/>
                  </a:lnTo>
                  <a:lnTo>
                    <a:pt x="24175" y="105458"/>
                  </a:lnTo>
                  <a:lnTo>
                    <a:pt x="31578" y="105866"/>
                  </a:lnTo>
                  <a:lnTo>
                    <a:pt x="48834" y="106318"/>
                  </a:lnTo>
                  <a:lnTo>
                    <a:pt x="111603" y="106648"/>
                  </a:lnTo>
                  <a:lnTo>
                    <a:pt x="122884" y="105812"/>
                  </a:lnTo>
                  <a:lnTo>
                    <a:pt x="133790" y="104409"/>
                  </a:lnTo>
                  <a:lnTo>
                    <a:pt x="144448" y="102626"/>
                  </a:lnTo>
                  <a:lnTo>
                    <a:pt x="154939" y="100591"/>
                  </a:lnTo>
                  <a:lnTo>
                    <a:pt x="175628" y="96072"/>
                  </a:lnTo>
                  <a:lnTo>
                    <a:pt x="184193" y="94528"/>
                  </a:lnTo>
                  <a:lnTo>
                    <a:pt x="191597" y="93498"/>
                  </a:lnTo>
                  <a:lnTo>
                    <a:pt x="198225" y="92812"/>
                  </a:lnTo>
                  <a:lnTo>
                    <a:pt x="203492" y="91508"/>
                  </a:lnTo>
                  <a:lnTo>
                    <a:pt x="207849" y="89793"/>
                  </a:lnTo>
                  <a:lnTo>
                    <a:pt x="219103" y="838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SMARTInkAnnotation328"/>
            <p:cNvSpPr/>
            <p:nvPr/>
          </p:nvSpPr>
          <p:spPr>
            <a:xfrm>
              <a:off x="2934000" y="3718800"/>
              <a:ext cx="83520" cy="3578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83821" h="358141">
                  <a:moveTo>
                    <a:pt x="83820" y="0"/>
                  </a:moveTo>
                  <a:lnTo>
                    <a:pt x="83820" y="36110"/>
                  </a:lnTo>
                  <a:lnTo>
                    <a:pt x="82974" y="41854"/>
                  </a:lnTo>
                  <a:lnTo>
                    <a:pt x="81563" y="48222"/>
                  </a:lnTo>
                  <a:lnTo>
                    <a:pt x="65908" y="109813"/>
                  </a:lnTo>
                  <a:lnTo>
                    <a:pt x="60902" y="132061"/>
                  </a:lnTo>
                  <a:lnTo>
                    <a:pt x="58381" y="143921"/>
                  </a:lnTo>
                  <a:lnTo>
                    <a:pt x="55008" y="156061"/>
                  </a:lnTo>
                  <a:lnTo>
                    <a:pt x="51065" y="168387"/>
                  </a:lnTo>
                  <a:lnTo>
                    <a:pt x="17647" y="267190"/>
                  </a:lnTo>
                  <a:lnTo>
                    <a:pt x="13458" y="281420"/>
                  </a:lnTo>
                  <a:lnTo>
                    <a:pt x="9818" y="295140"/>
                  </a:lnTo>
                  <a:lnTo>
                    <a:pt x="6546" y="308520"/>
                  </a:lnTo>
                  <a:lnTo>
                    <a:pt x="4364" y="319980"/>
                  </a:lnTo>
                  <a:lnTo>
                    <a:pt x="2909" y="330160"/>
                  </a:lnTo>
                  <a:lnTo>
                    <a:pt x="0" y="3581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SMARTInkAnnotation329"/>
            <p:cNvSpPr/>
            <p:nvPr/>
          </p:nvSpPr>
          <p:spPr>
            <a:xfrm>
              <a:off x="3109320" y="4785480"/>
              <a:ext cx="220680" cy="3780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20981" h="38101">
                  <a:moveTo>
                    <a:pt x="0" y="0"/>
                  </a:moveTo>
                  <a:lnTo>
                    <a:pt x="4045" y="0"/>
                  </a:lnTo>
                  <a:lnTo>
                    <a:pt x="6930" y="847"/>
                  </a:lnTo>
                  <a:lnTo>
                    <a:pt x="10546" y="2258"/>
                  </a:lnTo>
                  <a:lnTo>
                    <a:pt x="14651" y="4045"/>
                  </a:lnTo>
                  <a:lnTo>
                    <a:pt x="19927" y="5237"/>
                  </a:lnTo>
                  <a:lnTo>
                    <a:pt x="25985" y="6031"/>
                  </a:lnTo>
                  <a:lnTo>
                    <a:pt x="32563" y="6561"/>
                  </a:lnTo>
                  <a:lnTo>
                    <a:pt x="38642" y="6914"/>
                  </a:lnTo>
                  <a:lnTo>
                    <a:pt x="49912" y="7306"/>
                  </a:lnTo>
                  <a:lnTo>
                    <a:pt x="56135" y="8257"/>
                  </a:lnTo>
                  <a:lnTo>
                    <a:pt x="62823" y="9738"/>
                  </a:lnTo>
                  <a:lnTo>
                    <a:pt x="95853" y="18198"/>
                  </a:lnTo>
                  <a:lnTo>
                    <a:pt x="104542" y="19752"/>
                  </a:lnTo>
                  <a:lnTo>
                    <a:pt x="112875" y="20788"/>
                  </a:lnTo>
                  <a:lnTo>
                    <a:pt x="120970" y="21479"/>
                  </a:lnTo>
                  <a:lnTo>
                    <a:pt x="129754" y="22786"/>
                  </a:lnTo>
                  <a:lnTo>
                    <a:pt x="138996" y="24504"/>
                  </a:lnTo>
                  <a:lnTo>
                    <a:pt x="148543" y="26496"/>
                  </a:lnTo>
                  <a:lnTo>
                    <a:pt x="157449" y="28670"/>
                  </a:lnTo>
                  <a:lnTo>
                    <a:pt x="165926" y="30967"/>
                  </a:lnTo>
                  <a:lnTo>
                    <a:pt x="174118" y="33344"/>
                  </a:lnTo>
                  <a:lnTo>
                    <a:pt x="181272" y="34930"/>
                  </a:lnTo>
                  <a:lnTo>
                    <a:pt x="187734" y="35986"/>
                  </a:lnTo>
                  <a:lnTo>
                    <a:pt x="193736" y="36691"/>
                  </a:lnTo>
                  <a:lnTo>
                    <a:pt x="199431" y="37160"/>
                  </a:lnTo>
                  <a:lnTo>
                    <a:pt x="204921" y="37474"/>
                  </a:lnTo>
                  <a:lnTo>
                    <a:pt x="220980" y="381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SMARTInkAnnotation330"/>
            <p:cNvSpPr/>
            <p:nvPr/>
          </p:nvSpPr>
          <p:spPr>
            <a:xfrm>
              <a:off x="3381120" y="4671720"/>
              <a:ext cx="246240" cy="3574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246476" h="357696">
                  <a:moveTo>
                    <a:pt x="246475" y="37655"/>
                  </a:moveTo>
                  <a:lnTo>
                    <a:pt x="246475" y="19743"/>
                  </a:lnTo>
                  <a:lnTo>
                    <a:pt x="245629" y="17247"/>
                  </a:lnTo>
                  <a:lnTo>
                    <a:pt x="242430" y="12216"/>
                  </a:lnTo>
                  <a:lnTo>
                    <a:pt x="235929" y="7158"/>
                  </a:lnTo>
                  <a:lnTo>
                    <a:pt x="231824" y="4624"/>
                  </a:lnTo>
                  <a:lnTo>
                    <a:pt x="227394" y="2934"/>
                  </a:lnTo>
                  <a:lnTo>
                    <a:pt x="222748" y="1808"/>
                  </a:lnTo>
                  <a:lnTo>
                    <a:pt x="217957" y="1057"/>
                  </a:lnTo>
                  <a:lnTo>
                    <a:pt x="211376" y="556"/>
                  </a:lnTo>
                  <a:lnTo>
                    <a:pt x="203603" y="223"/>
                  </a:lnTo>
                  <a:lnTo>
                    <a:pt x="195034" y="0"/>
                  </a:lnTo>
                  <a:lnTo>
                    <a:pt x="185087" y="698"/>
                  </a:lnTo>
                  <a:lnTo>
                    <a:pt x="174223" y="2011"/>
                  </a:lnTo>
                  <a:lnTo>
                    <a:pt x="162747" y="3732"/>
                  </a:lnTo>
                  <a:lnTo>
                    <a:pt x="138707" y="7902"/>
                  </a:lnTo>
                  <a:lnTo>
                    <a:pt x="126370" y="10200"/>
                  </a:lnTo>
                  <a:lnTo>
                    <a:pt x="114758" y="13425"/>
                  </a:lnTo>
                  <a:lnTo>
                    <a:pt x="103630" y="17268"/>
                  </a:lnTo>
                  <a:lnTo>
                    <a:pt x="57392" y="35603"/>
                  </a:lnTo>
                  <a:lnTo>
                    <a:pt x="46760" y="40521"/>
                  </a:lnTo>
                  <a:lnTo>
                    <a:pt x="37132" y="45492"/>
                  </a:lnTo>
                  <a:lnTo>
                    <a:pt x="28173" y="50500"/>
                  </a:lnTo>
                  <a:lnTo>
                    <a:pt x="21354" y="54685"/>
                  </a:lnTo>
                  <a:lnTo>
                    <a:pt x="15961" y="58322"/>
                  </a:lnTo>
                  <a:lnTo>
                    <a:pt x="11519" y="61593"/>
                  </a:lnTo>
                  <a:lnTo>
                    <a:pt x="4326" y="72001"/>
                  </a:lnTo>
                  <a:lnTo>
                    <a:pt x="1222" y="78332"/>
                  </a:lnTo>
                  <a:lnTo>
                    <a:pt x="0" y="83400"/>
                  </a:lnTo>
                  <a:lnTo>
                    <a:pt x="32" y="87625"/>
                  </a:lnTo>
                  <a:lnTo>
                    <a:pt x="899" y="91288"/>
                  </a:lnTo>
                  <a:lnTo>
                    <a:pt x="3171" y="94577"/>
                  </a:lnTo>
                  <a:lnTo>
                    <a:pt x="10211" y="100489"/>
                  </a:lnTo>
                  <a:lnTo>
                    <a:pt x="14459" y="103252"/>
                  </a:lnTo>
                  <a:lnTo>
                    <a:pt x="18985" y="105939"/>
                  </a:lnTo>
                  <a:lnTo>
                    <a:pt x="23695" y="108578"/>
                  </a:lnTo>
                  <a:lnTo>
                    <a:pt x="30222" y="110336"/>
                  </a:lnTo>
                  <a:lnTo>
                    <a:pt x="37960" y="111510"/>
                  </a:lnTo>
                  <a:lnTo>
                    <a:pt x="46504" y="112291"/>
                  </a:lnTo>
                  <a:lnTo>
                    <a:pt x="55588" y="112813"/>
                  </a:lnTo>
                  <a:lnTo>
                    <a:pt x="74712" y="113392"/>
                  </a:lnTo>
                  <a:lnTo>
                    <a:pt x="84553" y="112699"/>
                  </a:lnTo>
                  <a:lnTo>
                    <a:pt x="94501" y="111391"/>
                  </a:lnTo>
                  <a:lnTo>
                    <a:pt x="115431" y="107680"/>
                  </a:lnTo>
                  <a:lnTo>
                    <a:pt x="138844" y="103208"/>
                  </a:lnTo>
                  <a:lnTo>
                    <a:pt x="150168" y="99984"/>
                  </a:lnTo>
                  <a:lnTo>
                    <a:pt x="161104" y="96141"/>
                  </a:lnTo>
                  <a:lnTo>
                    <a:pt x="171780" y="91886"/>
                  </a:lnTo>
                  <a:lnTo>
                    <a:pt x="181439" y="87355"/>
                  </a:lnTo>
                  <a:lnTo>
                    <a:pt x="190418" y="82642"/>
                  </a:lnTo>
                  <a:lnTo>
                    <a:pt x="206321" y="73736"/>
                  </a:lnTo>
                  <a:lnTo>
                    <a:pt x="219033" y="66955"/>
                  </a:lnTo>
                  <a:lnTo>
                    <a:pt x="223947" y="63962"/>
                  </a:lnTo>
                  <a:lnTo>
                    <a:pt x="228070" y="61120"/>
                  </a:lnTo>
                  <a:lnTo>
                    <a:pt x="236725" y="54520"/>
                  </a:lnTo>
                  <a:lnTo>
                    <a:pt x="240166" y="53617"/>
                  </a:lnTo>
                  <a:lnTo>
                    <a:pt x="245229" y="53038"/>
                  </a:lnTo>
                  <a:lnTo>
                    <a:pt x="242061" y="52937"/>
                  </a:lnTo>
                  <a:lnTo>
                    <a:pt x="240992" y="54616"/>
                  </a:lnTo>
                  <a:lnTo>
                    <a:pt x="238641" y="64224"/>
                  </a:lnTo>
                  <a:lnTo>
                    <a:pt x="235092" y="70066"/>
                  </a:lnTo>
                  <a:lnTo>
                    <a:pt x="228434" y="77742"/>
                  </a:lnTo>
                  <a:lnTo>
                    <a:pt x="224287" y="82160"/>
                  </a:lnTo>
                  <a:lnTo>
                    <a:pt x="220677" y="87644"/>
                  </a:lnTo>
                  <a:lnTo>
                    <a:pt x="217423" y="93841"/>
                  </a:lnTo>
                  <a:lnTo>
                    <a:pt x="214407" y="100513"/>
                  </a:lnTo>
                  <a:lnTo>
                    <a:pt x="211549" y="107500"/>
                  </a:lnTo>
                  <a:lnTo>
                    <a:pt x="208798" y="114698"/>
                  </a:lnTo>
                  <a:lnTo>
                    <a:pt x="206117" y="122037"/>
                  </a:lnTo>
                  <a:lnTo>
                    <a:pt x="203483" y="130316"/>
                  </a:lnTo>
                  <a:lnTo>
                    <a:pt x="200880" y="139223"/>
                  </a:lnTo>
                  <a:lnTo>
                    <a:pt x="198299" y="148547"/>
                  </a:lnTo>
                  <a:lnTo>
                    <a:pt x="196577" y="157303"/>
                  </a:lnTo>
                  <a:lnTo>
                    <a:pt x="195430" y="165680"/>
                  </a:lnTo>
                  <a:lnTo>
                    <a:pt x="194665" y="173805"/>
                  </a:lnTo>
                  <a:lnTo>
                    <a:pt x="193309" y="182608"/>
                  </a:lnTo>
                  <a:lnTo>
                    <a:pt x="191557" y="191864"/>
                  </a:lnTo>
                  <a:lnTo>
                    <a:pt x="189543" y="201421"/>
                  </a:lnTo>
                  <a:lnTo>
                    <a:pt x="188200" y="210332"/>
                  </a:lnTo>
                  <a:lnTo>
                    <a:pt x="187305" y="218813"/>
                  </a:lnTo>
                  <a:lnTo>
                    <a:pt x="186709" y="227007"/>
                  </a:lnTo>
                  <a:lnTo>
                    <a:pt x="185464" y="235856"/>
                  </a:lnTo>
                  <a:lnTo>
                    <a:pt x="183788" y="245143"/>
                  </a:lnTo>
                  <a:lnTo>
                    <a:pt x="181824" y="254720"/>
                  </a:lnTo>
                  <a:lnTo>
                    <a:pt x="180514" y="264492"/>
                  </a:lnTo>
                  <a:lnTo>
                    <a:pt x="179641" y="274393"/>
                  </a:lnTo>
                  <a:lnTo>
                    <a:pt x="179059" y="284380"/>
                  </a:lnTo>
                  <a:lnTo>
                    <a:pt x="178412" y="302251"/>
                  </a:lnTo>
                  <a:lnTo>
                    <a:pt x="178049" y="326592"/>
                  </a:lnTo>
                  <a:lnTo>
                    <a:pt x="177895" y="35769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ng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457200" y="1371600"/>
            <a:ext cx="541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5)  Evaluat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-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8.9 f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-2.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457200" y="36259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6)  Evaluat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7.4 f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7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7"/>
          <p:cNvSpPr/>
          <p:nvPr/>
        </p:nvSpPr>
        <p:spPr>
          <a:xfrm>
            <a:off x="457200" y="3581280"/>
            <a:ext cx="79246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4363"/>
          <p:cNvGrpSpPr/>
          <p:nvPr/>
        </p:nvGrpSpPr>
        <p:grpSpPr>
          <a:xfrm>
            <a:off x="853920" y="968400"/>
            <a:ext cx="5158080" cy="4197240"/>
            <a:chOff x="853920" y="968400"/>
            <a:chExt cx="5158080" cy="4197240"/>
          </a:xfrm>
        </p:grpSpPr>
        <p:sp>
          <p:nvSpPr>
            <p:cNvPr id="301" name="SMARTInkAnnotation0"/>
            <p:cNvSpPr/>
            <p:nvPr/>
          </p:nvSpPr>
          <p:spPr>
            <a:xfrm>
              <a:off x="4305600" y="1314360"/>
              <a:ext cx="1706400" cy="627480"/>
            </a:xfrm>
            <a:custGeom>
              <a:avLst/>
              <a:gdLst>
                <a:gd name="textAreaLeft" fmla="*/ 0 w 1706400"/>
                <a:gd name="textAreaRight" fmla="*/ 1706760 w 1706400"/>
                <a:gd name="textAreaTop" fmla="*/ 0 h 627480"/>
                <a:gd name="textAreaBottom" fmla="*/ 627840 h 627480"/>
              </a:gdLst>
              <a:ahLst/>
              <a:rect l="textAreaLeft" t="textAreaTop" r="textAreaRight" b="textAreaBottom"/>
              <a:pathLst>
                <a:path w="1706414" h="627901">
                  <a:moveTo>
                    <a:pt x="121908" y="118456"/>
                  </a:moveTo>
                  <a:lnTo>
                    <a:pt x="103996" y="136368"/>
                  </a:lnTo>
                  <a:lnTo>
                    <a:pt x="96469" y="147941"/>
                  </a:lnTo>
                  <a:lnTo>
                    <a:pt x="88877" y="166139"/>
                  </a:lnTo>
                  <a:lnTo>
                    <a:pt x="83804" y="180289"/>
                  </a:lnTo>
                  <a:lnTo>
                    <a:pt x="77880" y="195044"/>
                  </a:lnTo>
                  <a:lnTo>
                    <a:pt x="69602" y="210068"/>
                  </a:lnTo>
                  <a:lnTo>
                    <a:pt x="60280" y="225213"/>
                  </a:lnTo>
                  <a:lnTo>
                    <a:pt x="51338" y="240410"/>
                  </a:lnTo>
                  <a:lnTo>
                    <a:pt x="44541" y="255631"/>
                  </a:lnTo>
                  <a:lnTo>
                    <a:pt x="38699" y="273121"/>
                  </a:lnTo>
                  <a:lnTo>
                    <a:pt x="33279" y="291336"/>
                  </a:lnTo>
                  <a:lnTo>
                    <a:pt x="28049" y="307898"/>
                  </a:lnTo>
                  <a:lnTo>
                    <a:pt x="22902" y="325984"/>
                  </a:lnTo>
                  <a:lnTo>
                    <a:pt x="17792" y="344464"/>
                  </a:lnTo>
                  <a:lnTo>
                    <a:pt x="12699" y="361144"/>
                  </a:lnTo>
                  <a:lnTo>
                    <a:pt x="5071" y="384815"/>
                  </a:lnTo>
                  <a:lnTo>
                    <a:pt x="1495" y="403870"/>
                  </a:lnTo>
                  <a:lnTo>
                    <a:pt x="658" y="417180"/>
                  </a:lnTo>
                  <a:lnTo>
                    <a:pt x="187" y="436696"/>
                  </a:lnTo>
                  <a:lnTo>
                    <a:pt x="0" y="473951"/>
                  </a:lnTo>
                  <a:lnTo>
                    <a:pt x="843" y="478219"/>
                  </a:lnTo>
                  <a:lnTo>
                    <a:pt x="4037" y="485220"/>
                  </a:lnTo>
                  <a:lnTo>
                    <a:pt x="12140" y="496613"/>
                  </a:lnTo>
                  <a:lnTo>
                    <a:pt x="15160" y="504446"/>
                  </a:lnTo>
                  <a:lnTo>
                    <a:pt x="23337" y="514678"/>
                  </a:lnTo>
                  <a:lnTo>
                    <a:pt x="29059" y="520807"/>
                  </a:lnTo>
                  <a:lnTo>
                    <a:pt x="30376" y="521310"/>
                  </a:lnTo>
                  <a:lnTo>
                    <a:pt x="34096" y="521869"/>
                  </a:lnTo>
                  <a:lnTo>
                    <a:pt x="36274" y="522865"/>
                  </a:lnTo>
                  <a:lnTo>
                    <a:pt x="43383" y="527465"/>
                  </a:lnTo>
                  <a:lnTo>
                    <a:pt x="48343" y="528838"/>
                  </a:lnTo>
                  <a:lnTo>
                    <a:pt x="67542" y="529840"/>
                  </a:lnTo>
                  <a:lnTo>
                    <a:pt x="76861" y="527636"/>
                  </a:lnTo>
                  <a:lnTo>
                    <a:pt x="86647" y="524680"/>
                  </a:lnTo>
                  <a:lnTo>
                    <a:pt x="128175" y="522524"/>
                  </a:lnTo>
                  <a:lnTo>
                    <a:pt x="336916" y="522316"/>
                  </a:lnTo>
                  <a:lnTo>
                    <a:pt x="377432" y="526361"/>
                  </a:lnTo>
                  <a:lnTo>
                    <a:pt x="429894" y="529230"/>
                  </a:lnTo>
                  <a:lnTo>
                    <a:pt x="472525" y="530574"/>
                  </a:lnTo>
                  <a:lnTo>
                    <a:pt x="514038" y="535111"/>
                  </a:lnTo>
                  <a:lnTo>
                    <a:pt x="562274" y="537678"/>
                  </a:lnTo>
                  <a:lnTo>
                    <a:pt x="609116" y="542578"/>
                  </a:lnTo>
                  <a:lnTo>
                    <a:pt x="656015" y="544406"/>
                  </a:lnTo>
                  <a:lnTo>
                    <a:pt x="706224" y="545795"/>
                  </a:lnTo>
                  <a:lnTo>
                    <a:pt x="754497" y="551192"/>
                  </a:lnTo>
                  <a:lnTo>
                    <a:pt x="841080" y="563079"/>
                  </a:lnTo>
                  <a:lnTo>
                    <a:pt x="890127" y="570613"/>
                  </a:lnTo>
                  <a:lnTo>
                    <a:pt x="940878" y="574162"/>
                  </a:lnTo>
                  <a:lnTo>
                    <a:pt x="989406" y="579259"/>
                  </a:lnTo>
                  <a:lnTo>
                    <a:pt x="1035958" y="586131"/>
                  </a:lnTo>
                  <a:lnTo>
                    <a:pt x="1127717" y="601084"/>
                  </a:lnTo>
                  <a:lnTo>
                    <a:pt x="1169414" y="604639"/>
                  </a:lnTo>
                  <a:lnTo>
                    <a:pt x="1221429" y="611924"/>
                  </a:lnTo>
                  <a:lnTo>
                    <a:pt x="1270212" y="619258"/>
                  </a:lnTo>
                  <a:lnTo>
                    <a:pt x="1322177" y="621944"/>
                  </a:lnTo>
                  <a:lnTo>
                    <a:pt x="1363482" y="627900"/>
                  </a:lnTo>
                  <a:lnTo>
                    <a:pt x="1376735" y="626251"/>
                  </a:lnTo>
                  <a:lnTo>
                    <a:pt x="1393715" y="622821"/>
                  </a:lnTo>
                  <a:lnTo>
                    <a:pt x="1429822" y="620586"/>
                  </a:lnTo>
                  <a:lnTo>
                    <a:pt x="1453178" y="610777"/>
                  </a:lnTo>
                  <a:lnTo>
                    <a:pt x="1464155" y="603466"/>
                  </a:lnTo>
                  <a:lnTo>
                    <a:pt x="1481533" y="587327"/>
                  </a:lnTo>
                  <a:lnTo>
                    <a:pt x="1495416" y="572811"/>
                  </a:lnTo>
                  <a:lnTo>
                    <a:pt x="1506115" y="557786"/>
                  </a:lnTo>
                  <a:lnTo>
                    <a:pt x="1518786" y="541763"/>
                  </a:lnTo>
                  <a:lnTo>
                    <a:pt x="1529127" y="521305"/>
                  </a:lnTo>
                  <a:lnTo>
                    <a:pt x="1537843" y="506627"/>
                  </a:lnTo>
                  <a:lnTo>
                    <a:pt x="1547361" y="491636"/>
                  </a:lnTo>
                  <a:lnTo>
                    <a:pt x="1557237" y="475661"/>
                  </a:lnTo>
                  <a:lnTo>
                    <a:pt x="1567270" y="457271"/>
                  </a:lnTo>
                  <a:lnTo>
                    <a:pt x="1582438" y="427878"/>
                  </a:lnTo>
                  <a:lnTo>
                    <a:pt x="1586661" y="417871"/>
                  </a:lnTo>
                  <a:lnTo>
                    <a:pt x="1590324" y="407813"/>
                  </a:lnTo>
                  <a:lnTo>
                    <a:pt x="1593612" y="397720"/>
                  </a:lnTo>
                  <a:lnTo>
                    <a:pt x="1597497" y="387606"/>
                  </a:lnTo>
                  <a:lnTo>
                    <a:pt x="1601781" y="377476"/>
                  </a:lnTo>
                  <a:lnTo>
                    <a:pt x="1606330" y="367336"/>
                  </a:lnTo>
                  <a:lnTo>
                    <a:pt x="1615900" y="347038"/>
                  </a:lnTo>
                  <a:lnTo>
                    <a:pt x="1635842" y="306413"/>
                  </a:lnTo>
                  <a:lnTo>
                    <a:pt x="1645950" y="288352"/>
                  </a:lnTo>
                  <a:lnTo>
                    <a:pt x="1655240" y="271012"/>
                  </a:lnTo>
                  <a:lnTo>
                    <a:pt x="1666077" y="242210"/>
                  </a:lnTo>
                  <a:lnTo>
                    <a:pt x="1670361" y="232285"/>
                  </a:lnTo>
                  <a:lnTo>
                    <a:pt x="1678789" y="213073"/>
                  </a:lnTo>
                  <a:lnTo>
                    <a:pt x="1685358" y="196068"/>
                  </a:lnTo>
                  <a:lnTo>
                    <a:pt x="1691099" y="180044"/>
                  </a:lnTo>
                  <a:lnTo>
                    <a:pt x="1696473" y="165302"/>
                  </a:lnTo>
                  <a:lnTo>
                    <a:pt x="1703412" y="146636"/>
                  </a:lnTo>
                  <a:lnTo>
                    <a:pt x="1705332" y="132674"/>
                  </a:lnTo>
                  <a:lnTo>
                    <a:pt x="1706413" y="114578"/>
                  </a:lnTo>
                  <a:lnTo>
                    <a:pt x="1705718" y="109944"/>
                  </a:lnTo>
                  <a:lnTo>
                    <a:pt x="1702688" y="102538"/>
                  </a:lnTo>
                  <a:lnTo>
                    <a:pt x="1692177" y="89563"/>
                  </a:lnTo>
                  <a:lnTo>
                    <a:pt x="1666248" y="71022"/>
                  </a:lnTo>
                  <a:lnTo>
                    <a:pt x="1645162" y="59246"/>
                  </a:lnTo>
                  <a:lnTo>
                    <a:pt x="1637791" y="56123"/>
                  </a:lnTo>
                  <a:lnTo>
                    <a:pt x="1595543" y="50263"/>
                  </a:lnTo>
                  <a:lnTo>
                    <a:pt x="1525781" y="39433"/>
                  </a:lnTo>
                  <a:lnTo>
                    <a:pt x="1478800" y="36057"/>
                  </a:lnTo>
                  <a:lnTo>
                    <a:pt x="1443509" y="33010"/>
                  </a:lnTo>
                  <a:lnTo>
                    <a:pt x="1405246" y="29680"/>
                  </a:lnTo>
                  <a:lnTo>
                    <a:pt x="1365663" y="28200"/>
                  </a:lnTo>
                  <a:lnTo>
                    <a:pt x="1325493" y="25285"/>
                  </a:lnTo>
                  <a:lnTo>
                    <a:pt x="1236424" y="16514"/>
                  </a:lnTo>
                  <a:lnTo>
                    <a:pt x="1189595" y="13882"/>
                  </a:lnTo>
                  <a:lnTo>
                    <a:pt x="1142536" y="11865"/>
                  </a:lnTo>
                  <a:lnTo>
                    <a:pt x="1093398" y="8147"/>
                  </a:lnTo>
                  <a:lnTo>
                    <a:pt x="1043337" y="5930"/>
                  </a:lnTo>
                  <a:lnTo>
                    <a:pt x="991173" y="4098"/>
                  </a:lnTo>
                  <a:lnTo>
                    <a:pt x="934121" y="461"/>
                  </a:lnTo>
                  <a:lnTo>
                    <a:pt x="905530" y="0"/>
                  </a:lnTo>
                  <a:lnTo>
                    <a:pt x="877157" y="538"/>
                  </a:lnTo>
                  <a:lnTo>
                    <a:pt x="820794" y="2548"/>
                  </a:lnTo>
                  <a:lnTo>
                    <a:pt x="708725" y="3839"/>
                  </a:lnTo>
                  <a:lnTo>
                    <a:pt x="680759" y="3945"/>
                  </a:lnTo>
                  <a:lnTo>
                    <a:pt x="652802" y="4862"/>
                  </a:lnTo>
                  <a:lnTo>
                    <a:pt x="569805" y="9351"/>
                  </a:lnTo>
                  <a:lnTo>
                    <a:pt x="517118" y="10698"/>
                  </a:lnTo>
                  <a:lnTo>
                    <a:pt x="465479" y="13555"/>
                  </a:lnTo>
                  <a:lnTo>
                    <a:pt x="416846" y="17647"/>
                  </a:lnTo>
                  <a:lnTo>
                    <a:pt x="375477" y="22288"/>
                  </a:lnTo>
                  <a:lnTo>
                    <a:pt x="318866" y="29660"/>
                  </a:lnTo>
                  <a:lnTo>
                    <a:pt x="272647" y="37207"/>
                  </a:lnTo>
                  <a:lnTo>
                    <a:pt x="226034" y="42105"/>
                  </a:lnTo>
                  <a:lnTo>
                    <a:pt x="182869" y="498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SMARTInkAnnotation1"/>
            <p:cNvSpPr/>
            <p:nvPr/>
          </p:nvSpPr>
          <p:spPr>
            <a:xfrm>
              <a:off x="4800960" y="1364400"/>
              <a:ext cx="1059120" cy="502560"/>
            </a:xfrm>
            <a:custGeom>
              <a:avLst/>
              <a:gdLst>
                <a:gd name="textAreaLeft" fmla="*/ 0 w 1059120"/>
                <a:gd name="textAreaRight" fmla="*/ 1059480 w 105912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1059133" h="502822">
                  <a:moveTo>
                    <a:pt x="167601" y="114297"/>
                  </a:moveTo>
                  <a:lnTo>
                    <a:pt x="160294" y="114297"/>
                  </a:lnTo>
                  <a:lnTo>
                    <a:pt x="153447" y="120858"/>
                  </a:lnTo>
                  <a:lnTo>
                    <a:pt x="153084" y="122058"/>
                  </a:lnTo>
                  <a:lnTo>
                    <a:pt x="152682" y="125648"/>
                  </a:lnTo>
                  <a:lnTo>
                    <a:pt x="147187" y="140089"/>
                  </a:lnTo>
                  <a:lnTo>
                    <a:pt x="142966" y="154231"/>
                  </a:lnTo>
                  <a:lnTo>
                    <a:pt x="139718" y="163372"/>
                  </a:lnTo>
                  <a:lnTo>
                    <a:pt x="137043" y="178039"/>
                  </a:lnTo>
                  <a:lnTo>
                    <a:pt x="132112" y="192262"/>
                  </a:lnTo>
                  <a:lnTo>
                    <a:pt x="127758" y="207340"/>
                  </a:lnTo>
                  <a:lnTo>
                    <a:pt x="124493" y="216609"/>
                  </a:lnTo>
                  <a:lnTo>
                    <a:pt x="121807" y="232195"/>
                  </a:lnTo>
                  <a:lnTo>
                    <a:pt x="118179" y="245436"/>
                  </a:lnTo>
                  <a:lnTo>
                    <a:pt x="113745" y="257530"/>
                  </a:lnTo>
                  <a:lnTo>
                    <a:pt x="109797" y="268550"/>
                  </a:lnTo>
                  <a:lnTo>
                    <a:pt x="108043" y="279092"/>
                  </a:lnTo>
                  <a:lnTo>
                    <a:pt x="101680" y="299657"/>
                  </a:lnTo>
                  <a:lnTo>
                    <a:pt x="100203" y="309850"/>
                  </a:lnTo>
                  <a:lnTo>
                    <a:pt x="99545" y="322283"/>
                  </a:lnTo>
                  <a:lnTo>
                    <a:pt x="99124" y="342870"/>
                  </a:lnTo>
                  <a:lnTo>
                    <a:pt x="99050" y="356342"/>
                  </a:lnTo>
                  <a:lnTo>
                    <a:pt x="101291" y="366088"/>
                  </a:lnTo>
                  <a:lnTo>
                    <a:pt x="105056" y="378837"/>
                  </a:lnTo>
                  <a:lnTo>
                    <a:pt x="105584" y="382097"/>
                  </a:lnTo>
                  <a:lnTo>
                    <a:pt x="108429" y="387977"/>
                  </a:lnTo>
                  <a:lnTo>
                    <a:pt x="120480" y="402315"/>
                  </a:lnTo>
                  <a:lnTo>
                    <a:pt x="125510" y="407445"/>
                  </a:lnTo>
                  <a:lnTo>
                    <a:pt x="127687" y="408789"/>
                  </a:lnTo>
                  <a:lnTo>
                    <a:pt x="132364" y="410283"/>
                  </a:lnTo>
                  <a:lnTo>
                    <a:pt x="147040" y="411320"/>
                  </a:lnTo>
                  <a:lnTo>
                    <a:pt x="165515" y="411446"/>
                  </a:lnTo>
                  <a:lnTo>
                    <a:pt x="169596" y="412303"/>
                  </a:lnTo>
                  <a:lnTo>
                    <a:pt x="181080" y="416708"/>
                  </a:lnTo>
                  <a:lnTo>
                    <a:pt x="210046" y="418782"/>
                  </a:lnTo>
                  <a:lnTo>
                    <a:pt x="237039" y="419035"/>
                  </a:lnTo>
                  <a:lnTo>
                    <a:pt x="346909" y="419097"/>
                  </a:lnTo>
                  <a:lnTo>
                    <a:pt x="376327" y="423142"/>
                  </a:lnTo>
                  <a:lnTo>
                    <a:pt x="411372" y="426857"/>
                  </a:lnTo>
                  <a:lnTo>
                    <a:pt x="440113" y="431745"/>
                  </a:lnTo>
                  <a:lnTo>
                    <a:pt x="470077" y="434416"/>
                  </a:lnTo>
                  <a:lnTo>
                    <a:pt x="500405" y="439346"/>
                  </a:lnTo>
                  <a:lnTo>
                    <a:pt x="530839" y="442030"/>
                  </a:lnTo>
                  <a:lnTo>
                    <a:pt x="561306" y="446965"/>
                  </a:lnTo>
                  <a:lnTo>
                    <a:pt x="592629" y="449650"/>
                  </a:lnTo>
                  <a:lnTo>
                    <a:pt x="616146" y="453278"/>
                  </a:lnTo>
                  <a:lnTo>
                    <a:pt x="659654" y="457270"/>
                  </a:lnTo>
                  <a:lnTo>
                    <a:pt x="690631" y="463051"/>
                  </a:lnTo>
                  <a:lnTo>
                    <a:pt x="721258" y="470127"/>
                  </a:lnTo>
                  <a:lnTo>
                    <a:pt x="750935" y="476738"/>
                  </a:lnTo>
                  <a:lnTo>
                    <a:pt x="777038" y="479921"/>
                  </a:lnTo>
                  <a:lnTo>
                    <a:pt x="804998" y="485849"/>
                  </a:lnTo>
                  <a:lnTo>
                    <a:pt x="837631" y="493180"/>
                  </a:lnTo>
                  <a:lnTo>
                    <a:pt x="868536" y="494879"/>
                  </a:lnTo>
                  <a:lnTo>
                    <a:pt x="899099" y="500451"/>
                  </a:lnTo>
                  <a:lnTo>
                    <a:pt x="927339" y="502430"/>
                  </a:lnTo>
                  <a:lnTo>
                    <a:pt x="945429" y="502821"/>
                  </a:lnTo>
                  <a:lnTo>
                    <a:pt x="953851" y="500617"/>
                  </a:lnTo>
                  <a:lnTo>
                    <a:pt x="963238" y="497661"/>
                  </a:lnTo>
                  <a:lnTo>
                    <a:pt x="977196" y="495151"/>
                  </a:lnTo>
                  <a:lnTo>
                    <a:pt x="984057" y="491563"/>
                  </a:lnTo>
                  <a:lnTo>
                    <a:pt x="1004641" y="477412"/>
                  </a:lnTo>
                  <a:lnTo>
                    <a:pt x="1011776" y="470133"/>
                  </a:lnTo>
                  <a:lnTo>
                    <a:pt x="1016923" y="462100"/>
                  </a:lnTo>
                  <a:lnTo>
                    <a:pt x="1022485" y="447786"/>
                  </a:lnTo>
                  <a:lnTo>
                    <a:pt x="1026763" y="439468"/>
                  </a:lnTo>
                  <a:lnTo>
                    <a:pt x="1036407" y="424971"/>
                  </a:lnTo>
                  <a:lnTo>
                    <a:pt x="1043939" y="410960"/>
                  </a:lnTo>
                  <a:lnTo>
                    <a:pt x="1046465" y="406052"/>
                  </a:lnTo>
                  <a:lnTo>
                    <a:pt x="1049274" y="396084"/>
                  </a:lnTo>
                  <a:lnTo>
                    <a:pt x="1050522" y="385162"/>
                  </a:lnTo>
                  <a:lnTo>
                    <a:pt x="1051077" y="371841"/>
                  </a:lnTo>
                  <a:lnTo>
                    <a:pt x="1051389" y="354107"/>
                  </a:lnTo>
                  <a:lnTo>
                    <a:pt x="1053720" y="343364"/>
                  </a:lnTo>
                  <a:lnTo>
                    <a:pt x="1056732" y="332098"/>
                  </a:lnTo>
                  <a:lnTo>
                    <a:pt x="1058070" y="318624"/>
                  </a:lnTo>
                  <a:lnTo>
                    <a:pt x="1058665" y="306427"/>
                  </a:lnTo>
                  <a:lnTo>
                    <a:pt x="1058929" y="295361"/>
                  </a:lnTo>
                  <a:lnTo>
                    <a:pt x="1059132" y="247465"/>
                  </a:lnTo>
                  <a:lnTo>
                    <a:pt x="1056879" y="236700"/>
                  </a:lnTo>
                  <a:lnTo>
                    <a:pt x="1053903" y="225425"/>
                  </a:lnTo>
                  <a:lnTo>
                    <a:pt x="1052579" y="211947"/>
                  </a:lnTo>
                  <a:lnTo>
                    <a:pt x="1049734" y="199748"/>
                  </a:lnTo>
                  <a:lnTo>
                    <a:pt x="1045646" y="188682"/>
                  </a:lnTo>
                  <a:lnTo>
                    <a:pt x="1041008" y="178119"/>
                  </a:lnTo>
                  <a:lnTo>
                    <a:pt x="1033635" y="162653"/>
                  </a:lnTo>
                  <a:lnTo>
                    <a:pt x="1024098" y="152439"/>
                  </a:lnTo>
                  <a:lnTo>
                    <a:pt x="1013087" y="142256"/>
                  </a:lnTo>
                  <a:lnTo>
                    <a:pt x="1000433" y="127003"/>
                  </a:lnTo>
                  <a:lnTo>
                    <a:pt x="976518" y="106678"/>
                  </a:lnTo>
                  <a:lnTo>
                    <a:pt x="971038" y="101598"/>
                  </a:lnTo>
                  <a:lnTo>
                    <a:pt x="958177" y="93695"/>
                  </a:lnTo>
                  <a:lnTo>
                    <a:pt x="944841" y="86514"/>
                  </a:lnTo>
                  <a:lnTo>
                    <a:pt x="920225" y="68106"/>
                  </a:lnTo>
                  <a:lnTo>
                    <a:pt x="905114" y="59055"/>
                  </a:lnTo>
                  <a:lnTo>
                    <a:pt x="878412" y="49199"/>
                  </a:lnTo>
                  <a:lnTo>
                    <a:pt x="838444" y="35681"/>
                  </a:lnTo>
                  <a:lnTo>
                    <a:pt x="811339" y="32019"/>
                  </a:lnTo>
                  <a:lnTo>
                    <a:pt x="785904" y="26889"/>
                  </a:lnTo>
                  <a:lnTo>
                    <a:pt x="758236" y="20007"/>
                  </a:lnTo>
                  <a:lnTo>
                    <a:pt x="728590" y="16650"/>
                  </a:lnTo>
                  <a:lnTo>
                    <a:pt x="688231" y="10280"/>
                  </a:lnTo>
                  <a:lnTo>
                    <a:pt x="657800" y="7559"/>
                  </a:lnTo>
                  <a:lnTo>
                    <a:pt x="627334" y="2614"/>
                  </a:lnTo>
                  <a:lnTo>
                    <a:pt x="596858" y="773"/>
                  </a:lnTo>
                  <a:lnTo>
                    <a:pt x="566379" y="227"/>
                  </a:lnTo>
                  <a:lnTo>
                    <a:pt x="454620" y="0"/>
                  </a:lnTo>
                  <a:lnTo>
                    <a:pt x="424140" y="4043"/>
                  </a:lnTo>
                  <a:lnTo>
                    <a:pt x="383500" y="7758"/>
                  </a:lnTo>
                  <a:lnTo>
                    <a:pt x="353020" y="12645"/>
                  </a:lnTo>
                  <a:lnTo>
                    <a:pt x="322540" y="16162"/>
                  </a:lnTo>
                  <a:lnTo>
                    <a:pt x="292060" y="25483"/>
                  </a:lnTo>
                  <a:lnTo>
                    <a:pt x="262427" y="29844"/>
                  </a:lnTo>
                  <a:lnTo>
                    <a:pt x="236337" y="36122"/>
                  </a:lnTo>
                  <a:lnTo>
                    <a:pt x="187607" y="48331"/>
                  </a:lnTo>
                  <a:lnTo>
                    <a:pt x="161392" y="59944"/>
                  </a:lnTo>
                  <a:lnTo>
                    <a:pt x="129779" y="73802"/>
                  </a:lnTo>
                  <a:lnTo>
                    <a:pt x="106723" y="86306"/>
                  </a:lnTo>
                  <a:lnTo>
                    <a:pt x="84651" y="96596"/>
                  </a:lnTo>
                  <a:lnTo>
                    <a:pt x="67011" y="109146"/>
                  </a:lnTo>
                  <a:lnTo>
                    <a:pt x="56289" y="115677"/>
                  </a:lnTo>
                  <a:lnTo>
                    <a:pt x="48137" y="123659"/>
                  </a:lnTo>
                  <a:lnTo>
                    <a:pt x="36531" y="137673"/>
                  </a:lnTo>
                  <a:lnTo>
                    <a:pt x="24624" y="152550"/>
                  </a:lnTo>
                  <a:lnTo>
                    <a:pt x="15735" y="167683"/>
                  </a:lnTo>
                  <a:lnTo>
                    <a:pt x="7739" y="182891"/>
                  </a:lnTo>
                  <a:lnTo>
                    <a:pt x="3417" y="193043"/>
                  </a:lnTo>
                  <a:lnTo>
                    <a:pt x="984" y="208279"/>
                  </a:lnTo>
                  <a:lnTo>
                    <a:pt x="264" y="223518"/>
                  </a:lnTo>
                  <a:lnTo>
                    <a:pt x="20" y="243837"/>
                  </a:lnTo>
                  <a:lnTo>
                    <a:pt x="0" y="248917"/>
                  </a:lnTo>
                  <a:lnTo>
                    <a:pt x="2235" y="259077"/>
                  </a:lnTo>
                  <a:lnTo>
                    <a:pt x="8255" y="274317"/>
                  </a:lnTo>
                  <a:lnTo>
                    <a:pt x="10569" y="279397"/>
                  </a:lnTo>
                  <a:lnTo>
                    <a:pt x="13806" y="283630"/>
                  </a:lnTo>
                  <a:lnTo>
                    <a:pt x="25606" y="294480"/>
                  </a:lnTo>
                  <a:lnTo>
                    <a:pt x="35687" y="307197"/>
                  </a:lnTo>
                  <a:lnTo>
                    <a:pt x="44343" y="313766"/>
                  </a:lnTo>
                  <a:lnTo>
                    <a:pt x="72472" y="327500"/>
                  </a:lnTo>
                  <a:lnTo>
                    <a:pt x="83780" y="33527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SMARTInkAnnotation2"/>
            <p:cNvSpPr/>
            <p:nvPr/>
          </p:nvSpPr>
          <p:spPr>
            <a:xfrm>
              <a:off x="3017880" y="968400"/>
              <a:ext cx="2277000" cy="578880"/>
            </a:xfrm>
            <a:custGeom>
              <a:avLst/>
              <a:gdLst>
                <a:gd name="textAreaLeft" fmla="*/ 0 w 2277000"/>
                <a:gd name="textAreaRight" fmla="*/ 2277360 w 2277000"/>
                <a:gd name="textAreaTop" fmla="*/ 0 h 578880"/>
                <a:gd name="textAreaBottom" fmla="*/ 579240 h 578880"/>
              </a:gdLst>
              <a:ahLst/>
              <a:rect l="textAreaLeft" t="textAreaTop" r="textAreaRight" b="textAreaBottom"/>
              <a:pathLst>
                <a:path w="2277229" h="579120">
                  <a:moveTo>
                    <a:pt x="2270667" y="380999"/>
                  </a:moveTo>
                  <a:lnTo>
                    <a:pt x="2270667" y="374438"/>
                  </a:lnTo>
                  <a:lnTo>
                    <a:pt x="2275904" y="367505"/>
                  </a:lnTo>
                  <a:lnTo>
                    <a:pt x="2277228" y="362866"/>
                  </a:lnTo>
                  <a:lnTo>
                    <a:pt x="2276734" y="360444"/>
                  </a:lnTo>
                  <a:lnTo>
                    <a:pt x="2272841" y="352989"/>
                  </a:lnTo>
                  <a:lnTo>
                    <a:pt x="2271634" y="347948"/>
                  </a:lnTo>
                  <a:lnTo>
                    <a:pt x="2268839" y="342885"/>
                  </a:lnTo>
                  <a:lnTo>
                    <a:pt x="2266909" y="340350"/>
                  </a:lnTo>
                  <a:lnTo>
                    <a:pt x="2264764" y="335275"/>
                  </a:lnTo>
                  <a:lnTo>
                    <a:pt x="2264191" y="332737"/>
                  </a:lnTo>
                  <a:lnTo>
                    <a:pt x="2262117" y="330197"/>
                  </a:lnTo>
                  <a:lnTo>
                    <a:pt x="2242357" y="314112"/>
                  </a:lnTo>
                  <a:lnTo>
                    <a:pt x="2224372" y="296510"/>
                  </a:lnTo>
                  <a:lnTo>
                    <a:pt x="2214532" y="287568"/>
                  </a:lnTo>
                  <a:lnTo>
                    <a:pt x="2192159" y="272672"/>
                  </a:lnTo>
                  <a:lnTo>
                    <a:pt x="2167576" y="257719"/>
                  </a:lnTo>
                  <a:lnTo>
                    <a:pt x="2139484" y="240529"/>
                  </a:lnTo>
                  <a:lnTo>
                    <a:pt x="2104458" y="223085"/>
                  </a:lnTo>
                  <a:lnTo>
                    <a:pt x="2080592" y="211725"/>
                  </a:lnTo>
                  <a:lnTo>
                    <a:pt x="2052917" y="197635"/>
                  </a:lnTo>
                  <a:lnTo>
                    <a:pt x="2009686" y="181749"/>
                  </a:lnTo>
                  <a:lnTo>
                    <a:pt x="1967687" y="165221"/>
                  </a:lnTo>
                  <a:lnTo>
                    <a:pt x="1919503" y="150667"/>
                  </a:lnTo>
                  <a:lnTo>
                    <a:pt x="1873265" y="135782"/>
                  </a:lnTo>
                  <a:lnTo>
                    <a:pt x="1825436" y="119452"/>
                  </a:lnTo>
                  <a:lnTo>
                    <a:pt x="1762571" y="104483"/>
                  </a:lnTo>
                  <a:lnTo>
                    <a:pt x="1705185" y="85453"/>
                  </a:lnTo>
                  <a:lnTo>
                    <a:pt x="1643076" y="71334"/>
                  </a:lnTo>
                  <a:lnTo>
                    <a:pt x="1579759" y="58447"/>
                  </a:lnTo>
                  <a:lnTo>
                    <a:pt x="1497024" y="43181"/>
                  </a:lnTo>
                  <a:lnTo>
                    <a:pt x="1432606" y="36511"/>
                  </a:lnTo>
                  <a:lnTo>
                    <a:pt x="1364595" y="25190"/>
                  </a:lnTo>
                  <a:lnTo>
                    <a:pt x="1304724" y="16717"/>
                  </a:lnTo>
                  <a:lnTo>
                    <a:pt x="1239612" y="9402"/>
                  </a:lnTo>
                  <a:lnTo>
                    <a:pt x="1176777" y="7007"/>
                  </a:lnTo>
                  <a:lnTo>
                    <a:pt x="1110699" y="1089"/>
                  </a:lnTo>
                  <a:lnTo>
                    <a:pt x="1046546" y="143"/>
                  </a:lnTo>
                  <a:lnTo>
                    <a:pt x="890386" y="0"/>
                  </a:lnTo>
                  <a:lnTo>
                    <a:pt x="821516" y="6560"/>
                  </a:lnTo>
                  <a:lnTo>
                    <a:pt x="752911" y="18132"/>
                  </a:lnTo>
                  <a:lnTo>
                    <a:pt x="684328" y="29005"/>
                  </a:lnTo>
                  <a:lnTo>
                    <a:pt x="622309" y="40956"/>
                  </a:lnTo>
                  <a:lnTo>
                    <a:pt x="563772" y="55907"/>
                  </a:lnTo>
                  <a:lnTo>
                    <a:pt x="526342" y="71281"/>
                  </a:lnTo>
                  <a:lnTo>
                    <a:pt x="477179" y="86046"/>
                  </a:lnTo>
                  <a:lnTo>
                    <a:pt x="441975" y="101694"/>
                  </a:lnTo>
                  <a:lnTo>
                    <a:pt x="397332" y="116517"/>
                  </a:lnTo>
                  <a:lnTo>
                    <a:pt x="383692" y="124034"/>
                  </a:lnTo>
                  <a:lnTo>
                    <a:pt x="371138" y="132172"/>
                  </a:lnTo>
                  <a:lnTo>
                    <a:pt x="342383" y="146553"/>
                  </a:lnTo>
                  <a:lnTo>
                    <a:pt x="322079" y="160545"/>
                  </a:lnTo>
                  <a:lnTo>
                    <a:pt x="309888" y="169566"/>
                  </a:lnTo>
                  <a:lnTo>
                    <a:pt x="283623" y="184514"/>
                  </a:lnTo>
                  <a:lnTo>
                    <a:pt x="261878" y="199477"/>
                  </a:lnTo>
                  <a:lnTo>
                    <a:pt x="246391" y="211974"/>
                  </a:lnTo>
                  <a:lnTo>
                    <a:pt x="235123" y="226401"/>
                  </a:lnTo>
                  <a:lnTo>
                    <a:pt x="226932" y="234113"/>
                  </a:lnTo>
                  <a:lnTo>
                    <a:pt x="222377" y="237355"/>
                  </a:lnTo>
                  <a:lnTo>
                    <a:pt x="215058" y="245473"/>
                  </a:lnTo>
                  <a:lnTo>
                    <a:pt x="203920" y="259563"/>
                  </a:lnTo>
                  <a:lnTo>
                    <a:pt x="189896" y="274463"/>
                  </a:lnTo>
                  <a:lnTo>
                    <a:pt x="161378" y="303327"/>
                  </a:lnTo>
                  <a:lnTo>
                    <a:pt x="150950" y="317815"/>
                  </a:lnTo>
                  <a:lnTo>
                    <a:pt x="142498" y="332833"/>
                  </a:lnTo>
                  <a:lnTo>
                    <a:pt x="132056" y="347841"/>
                  </a:lnTo>
                  <a:lnTo>
                    <a:pt x="124388" y="361391"/>
                  </a:lnTo>
                  <a:lnTo>
                    <a:pt x="116753" y="376130"/>
                  </a:lnTo>
                  <a:lnTo>
                    <a:pt x="106589" y="394023"/>
                  </a:lnTo>
                  <a:lnTo>
                    <a:pt x="98968" y="405460"/>
                  </a:lnTo>
                  <a:lnTo>
                    <a:pt x="91347" y="417316"/>
                  </a:lnTo>
                  <a:lnTo>
                    <a:pt x="83727" y="428449"/>
                  </a:lnTo>
                  <a:lnTo>
                    <a:pt x="76107" y="440214"/>
                  </a:lnTo>
                  <a:lnTo>
                    <a:pt x="73568" y="443336"/>
                  </a:lnTo>
                  <a:lnTo>
                    <a:pt x="71874" y="447110"/>
                  </a:lnTo>
                  <a:lnTo>
                    <a:pt x="68644" y="460513"/>
                  </a:lnTo>
                  <a:lnTo>
                    <a:pt x="62701" y="474362"/>
                  </a:lnTo>
                  <a:lnTo>
                    <a:pt x="53108" y="489313"/>
                  </a:lnTo>
                  <a:lnTo>
                    <a:pt x="48952" y="497719"/>
                  </a:lnTo>
                  <a:lnTo>
                    <a:pt x="45765" y="507211"/>
                  </a:lnTo>
                  <a:lnTo>
                    <a:pt x="35151" y="524640"/>
                  </a:lnTo>
                  <a:lnTo>
                    <a:pt x="26091" y="537753"/>
                  </a:lnTo>
                  <a:lnTo>
                    <a:pt x="22905" y="545884"/>
                  </a:lnTo>
                  <a:lnTo>
                    <a:pt x="17822" y="553655"/>
                  </a:lnTo>
                  <a:lnTo>
                    <a:pt x="15093" y="561320"/>
                  </a:lnTo>
                  <a:lnTo>
                    <a:pt x="8691" y="569991"/>
                  </a:lnTo>
                  <a:lnTo>
                    <a:pt x="8044" y="573087"/>
                  </a:lnTo>
                  <a:lnTo>
                    <a:pt x="7558" y="578766"/>
                  </a:lnTo>
                  <a:lnTo>
                    <a:pt x="0" y="579116"/>
                  </a:lnTo>
                  <a:lnTo>
                    <a:pt x="7527" y="5791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SMARTInkAnnotation3"/>
            <p:cNvSpPr/>
            <p:nvPr/>
          </p:nvSpPr>
          <p:spPr>
            <a:xfrm>
              <a:off x="853920" y="2187000"/>
              <a:ext cx="198000" cy="15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8121" h="15241">
                  <a:moveTo>
                    <a:pt x="0" y="0"/>
                  </a:moveTo>
                  <a:lnTo>
                    <a:pt x="0" y="6561"/>
                  </a:lnTo>
                  <a:lnTo>
                    <a:pt x="847" y="6914"/>
                  </a:lnTo>
                  <a:lnTo>
                    <a:pt x="4045" y="7306"/>
                  </a:lnTo>
                  <a:lnTo>
                    <a:pt x="8289" y="7481"/>
                  </a:lnTo>
                  <a:lnTo>
                    <a:pt x="15438" y="7579"/>
                  </a:lnTo>
                  <a:lnTo>
                    <a:pt x="43638" y="7618"/>
                  </a:lnTo>
                  <a:lnTo>
                    <a:pt x="47718" y="8465"/>
                  </a:lnTo>
                  <a:lnTo>
                    <a:pt x="51285" y="9877"/>
                  </a:lnTo>
                  <a:lnTo>
                    <a:pt x="54510" y="11665"/>
                  </a:lnTo>
                  <a:lnTo>
                    <a:pt x="58354" y="12010"/>
                  </a:lnTo>
                  <a:lnTo>
                    <a:pt x="62609" y="11393"/>
                  </a:lnTo>
                  <a:lnTo>
                    <a:pt x="67139" y="10136"/>
                  </a:lnTo>
                  <a:lnTo>
                    <a:pt x="71853" y="9297"/>
                  </a:lnTo>
                  <a:lnTo>
                    <a:pt x="76689" y="8738"/>
                  </a:lnTo>
                  <a:lnTo>
                    <a:pt x="81606" y="8366"/>
                  </a:lnTo>
                  <a:lnTo>
                    <a:pt x="87424" y="8117"/>
                  </a:lnTo>
                  <a:lnTo>
                    <a:pt x="106901" y="7767"/>
                  </a:lnTo>
                  <a:lnTo>
                    <a:pt x="168981" y="7621"/>
                  </a:lnTo>
                  <a:lnTo>
                    <a:pt x="171920" y="8467"/>
                  </a:lnTo>
                  <a:lnTo>
                    <a:pt x="174727" y="9878"/>
                  </a:lnTo>
                  <a:lnTo>
                    <a:pt x="177445" y="11665"/>
                  </a:lnTo>
                  <a:lnTo>
                    <a:pt x="180103" y="12857"/>
                  </a:lnTo>
                  <a:lnTo>
                    <a:pt x="182722" y="13651"/>
                  </a:lnTo>
                  <a:lnTo>
                    <a:pt x="185315" y="14181"/>
                  </a:lnTo>
                  <a:lnTo>
                    <a:pt x="187890" y="14534"/>
                  </a:lnTo>
                  <a:lnTo>
                    <a:pt x="193009" y="14926"/>
                  </a:lnTo>
                  <a:lnTo>
                    <a:pt x="198120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SMARTInkAnnotation4"/>
            <p:cNvSpPr/>
            <p:nvPr/>
          </p:nvSpPr>
          <p:spPr>
            <a:xfrm>
              <a:off x="1152360" y="1966320"/>
              <a:ext cx="127800" cy="41868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418680"/>
                <a:gd name="textAreaBottom" fmla="*/ 419040 h 418680"/>
              </a:gdLst>
              <a:ahLst/>
              <a:rect l="textAreaLeft" t="textAreaTop" r="textAreaRight" b="textAreaBottom"/>
              <a:pathLst>
                <a:path w="128025" h="419101">
                  <a:moveTo>
                    <a:pt x="112784" y="0"/>
                  </a:moveTo>
                  <a:lnTo>
                    <a:pt x="108739" y="0"/>
                  </a:lnTo>
                  <a:lnTo>
                    <a:pt x="107547" y="847"/>
                  </a:lnTo>
                  <a:lnTo>
                    <a:pt x="106753" y="2258"/>
                  </a:lnTo>
                  <a:lnTo>
                    <a:pt x="106223" y="4045"/>
                  </a:lnTo>
                  <a:lnTo>
                    <a:pt x="105024" y="5237"/>
                  </a:lnTo>
                  <a:lnTo>
                    <a:pt x="103377" y="6031"/>
                  </a:lnTo>
                  <a:lnTo>
                    <a:pt x="101433" y="6561"/>
                  </a:lnTo>
                  <a:lnTo>
                    <a:pt x="99290" y="8607"/>
                  </a:lnTo>
                  <a:lnTo>
                    <a:pt x="97015" y="11665"/>
                  </a:lnTo>
                  <a:lnTo>
                    <a:pt x="94651" y="15397"/>
                  </a:lnTo>
                  <a:lnTo>
                    <a:pt x="92229" y="19578"/>
                  </a:lnTo>
                  <a:lnTo>
                    <a:pt x="87280" y="28739"/>
                  </a:lnTo>
                  <a:lnTo>
                    <a:pt x="83928" y="32706"/>
                  </a:lnTo>
                  <a:lnTo>
                    <a:pt x="80000" y="36197"/>
                  </a:lnTo>
                  <a:lnTo>
                    <a:pt x="75688" y="39372"/>
                  </a:lnTo>
                  <a:lnTo>
                    <a:pt x="71967" y="44028"/>
                  </a:lnTo>
                  <a:lnTo>
                    <a:pt x="68639" y="49672"/>
                  </a:lnTo>
                  <a:lnTo>
                    <a:pt x="65574" y="55975"/>
                  </a:lnTo>
                  <a:lnTo>
                    <a:pt x="61837" y="62717"/>
                  </a:lnTo>
                  <a:lnTo>
                    <a:pt x="57653" y="69751"/>
                  </a:lnTo>
                  <a:lnTo>
                    <a:pt x="48488" y="84340"/>
                  </a:lnTo>
                  <a:lnTo>
                    <a:pt x="38770" y="99292"/>
                  </a:lnTo>
                  <a:lnTo>
                    <a:pt x="34655" y="107681"/>
                  </a:lnTo>
                  <a:lnTo>
                    <a:pt x="31065" y="116661"/>
                  </a:lnTo>
                  <a:lnTo>
                    <a:pt x="27824" y="126034"/>
                  </a:lnTo>
                  <a:lnTo>
                    <a:pt x="24817" y="135669"/>
                  </a:lnTo>
                  <a:lnTo>
                    <a:pt x="13909" y="173209"/>
                  </a:lnTo>
                  <a:lnTo>
                    <a:pt x="11307" y="181513"/>
                  </a:lnTo>
                  <a:lnTo>
                    <a:pt x="6159" y="199770"/>
                  </a:lnTo>
                  <a:lnTo>
                    <a:pt x="3600" y="209380"/>
                  </a:lnTo>
                  <a:lnTo>
                    <a:pt x="1895" y="219173"/>
                  </a:lnTo>
                  <a:lnTo>
                    <a:pt x="758" y="229089"/>
                  </a:lnTo>
                  <a:lnTo>
                    <a:pt x="0" y="239086"/>
                  </a:lnTo>
                  <a:lnTo>
                    <a:pt x="342" y="248291"/>
                  </a:lnTo>
                  <a:lnTo>
                    <a:pt x="1416" y="256967"/>
                  </a:lnTo>
                  <a:lnTo>
                    <a:pt x="2979" y="265292"/>
                  </a:lnTo>
                  <a:lnTo>
                    <a:pt x="4867" y="273381"/>
                  </a:lnTo>
                  <a:lnTo>
                    <a:pt x="6973" y="281314"/>
                  </a:lnTo>
                  <a:lnTo>
                    <a:pt x="11570" y="296902"/>
                  </a:lnTo>
                  <a:lnTo>
                    <a:pt x="16436" y="312296"/>
                  </a:lnTo>
                  <a:lnTo>
                    <a:pt x="19765" y="319958"/>
                  </a:lnTo>
                  <a:lnTo>
                    <a:pt x="23678" y="327605"/>
                  </a:lnTo>
                  <a:lnTo>
                    <a:pt x="27980" y="335244"/>
                  </a:lnTo>
                  <a:lnTo>
                    <a:pt x="33388" y="342876"/>
                  </a:lnTo>
                  <a:lnTo>
                    <a:pt x="39534" y="350504"/>
                  </a:lnTo>
                  <a:lnTo>
                    <a:pt x="46170" y="358129"/>
                  </a:lnTo>
                  <a:lnTo>
                    <a:pt x="52288" y="364906"/>
                  </a:lnTo>
                  <a:lnTo>
                    <a:pt x="63601" y="376952"/>
                  </a:lnTo>
                  <a:lnTo>
                    <a:pt x="69836" y="382534"/>
                  </a:lnTo>
                  <a:lnTo>
                    <a:pt x="76532" y="387950"/>
                  </a:lnTo>
                  <a:lnTo>
                    <a:pt x="83536" y="393253"/>
                  </a:lnTo>
                  <a:lnTo>
                    <a:pt x="89899" y="398482"/>
                  </a:lnTo>
                  <a:lnTo>
                    <a:pt x="95834" y="403662"/>
                  </a:lnTo>
                  <a:lnTo>
                    <a:pt x="101484" y="408808"/>
                  </a:lnTo>
                  <a:lnTo>
                    <a:pt x="106944" y="412238"/>
                  </a:lnTo>
                  <a:lnTo>
                    <a:pt x="112277" y="414526"/>
                  </a:lnTo>
                  <a:lnTo>
                    <a:pt x="128024" y="4191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SMARTInkAnnotation5"/>
            <p:cNvSpPr/>
            <p:nvPr/>
          </p:nvSpPr>
          <p:spPr>
            <a:xfrm>
              <a:off x="1272960" y="2141280"/>
              <a:ext cx="152280" cy="151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52401" h="15241">
                  <a:moveTo>
                    <a:pt x="0" y="15240"/>
                  </a:moveTo>
                  <a:lnTo>
                    <a:pt x="36790" y="15240"/>
                  </a:lnTo>
                  <a:lnTo>
                    <a:pt x="41460" y="14393"/>
                  </a:lnTo>
                  <a:lnTo>
                    <a:pt x="46267" y="12982"/>
                  </a:lnTo>
                  <a:lnTo>
                    <a:pt x="51165" y="11195"/>
                  </a:lnTo>
                  <a:lnTo>
                    <a:pt x="56123" y="10003"/>
                  </a:lnTo>
                  <a:lnTo>
                    <a:pt x="61122" y="9209"/>
                  </a:lnTo>
                  <a:lnTo>
                    <a:pt x="66148" y="8679"/>
                  </a:lnTo>
                  <a:lnTo>
                    <a:pt x="71192" y="8326"/>
                  </a:lnTo>
                  <a:lnTo>
                    <a:pt x="76248" y="8091"/>
                  </a:lnTo>
                  <a:lnTo>
                    <a:pt x="87228" y="7829"/>
                  </a:lnTo>
                  <a:lnTo>
                    <a:pt x="100575" y="7713"/>
                  </a:lnTo>
                  <a:lnTo>
                    <a:pt x="105996" y="6836"/>
                  </a:lnTo>
                  <a:lnTo>
                    <a:pt x="110457" y="5403"/>
                  </a:lnTo>
                  <a:lnTo>
                    <a:pt x="114278" y="3602"/>
                  </a:lnTo>
                  <a:lnTo>
                    <a:pt x="118519" y="2401"/>
                  </a:lnTo>
                  <a:lnTo>
                    <a:pt x="123039" y="1601"/>
                  </a:lnTo>
                  <a:lnTo>
                    <a:pt x="127746" y="1067"/>
                  </a:lnTo>
                  <a:lnTo>
                    <a:pt x="131731" y="712"/>
                  </a:lnTo>
                  <a:lnTo>
                    <a:pt x="135234" y="474"/>
                  </a:lnTo>
                  <a:lnTo>
                    <a:pt x="138416" y="316"/>
                  </a:lnTo>
                  <a:lnTo>
                    <a:pt x="144209" y="141"/>
                  </a:lnTo>
                  <a:lnTo>
                    <a:pt x="1524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SMARTInkAnnotation6"/>
            <p:cNvSpPr/>
            <p:nvPr/>
          </p:nvSpPr>
          <p:spPr>
            <a:xfrm>
              <a:off x="1449000" y="2035080"/>
              <a:ext cx="151560" cy="24300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151601" h="243384">
                  <a:moveTo>
                    <a:pt x="29680" y="37748"/>
                  </a:moveTo>
                  <a:lnTo>
                    <a:pt x="55184" y="12244"/>
                  </a:lnTo>
                  <a:lnTo>
                    <a:pt x="58536" y="10585"/>
                  </a:lnTo>
                  <a:lnTo>
                    <a:pt x="62464" y="9480"/>
                  </a:lnTo>
                  <a:lnTo>
                    <a:pt x="66776" y="8743"/>
                  </a:lnTo>
                  <a:lnTo>
                    <a:pt x="71344" y="7404"/>
                  </a:lnTo>
                  <a:lnTo>
                    <a:pt x="76083" y="5665"/>
                  </a:lnTo>
                  <a:lnTo>
                    <a:pt x="80935" y="3660"/>
                  </a:lnTo>
                  <a:lnTo>
                    <a:pt x="85017" y="2323"/>
                  </a:lnTo>
                  <a:lnTo>
                    <a:pt x="88585" y="1431"/>
                  </a:lnTo>
                  <a:lnTo>
                    <a:pt x="91810" y="837"/>
                  </a:lnTo>
                  <a:lnTo>
                    <a:pt x="95653" y="441"/>
                  </a:lnTo>
                  <a:lnTo>
                    <a:pt x="99909" y="177"/>
                  </a:lnTo>
                  <a:lnTo>
                    <a:pt x="104439" y="0"/>
                  </a:lnTo>
                  <a:lnTo>
                    <a:pt x="109153" y="730"/>
                  </a:lnTo>
                  <a:lnTo>
                    <a:pt x="113988" y="2063"/>
                  </a:lnTo>
                  <a:lnTo>
                    <a:pt x="118906" y="3798"/>
                  </a:lnTo>
                  <a:lnTo>
                    <a:pt x="123030" y="4955"/>
                  </a:lnTo>
                  <a:lnTo>
                    <a:pt x="126627" y="5726"/>
                  </a:lnTo>
                  <a:lnTo>
                    <a:pt x="129871" y="6240"/>
                  </a:lnTo>
                  <a:lnTo>
                    <a:pt x="132881" y="7429"/>
                  </a:lnTo>
                  <a:lnTo>
                    <a:pt x="135734" y="9069"/>
                  </a:lnTo>
                  <a:lnTo>
                    <a:pt x="138483" y="11009"/>
                  </a:lnTo>
                  <a:lnTo>
                    <a:pt x="140315" y="13148"/>
                  </a:lnTo>
                  <a:lnTo>
                    <a:pt x="141537" y="15422"/>
                  </a:lnTo>
                  <a:lnTo>
                    <a:pt x="142351" y="17784"/>
                  </a:lnTo>
                  <a:lnTo>
                    <a:pt x="145514" y="22666"/>
                  </a:lnTo>
                  <a:lnTo>
                    <a:pt x="147542" y="25154"/>
                  </a:lnTo>
                  <a:lnTo>
                    <a:pt x="148048" y="28505"/>
                  </a:lnTo>
                  <a:lnTo>
                    <a:pt x="147539" y="32433"/>
                  </a:lnTo>
                  <a:lnTo>
                    <a:pt x="146353" y="36745"/>
                  </a:lnTo>
                  <a:lnTo>
                    <a:pt x="145562" y="41312"/>
                  </a:lnTo>
                  <a:lnTo>
                    <a:pt x="145034" y="46051"/>
                  </a:lnTo>
                  <a:lnTo>
                    <a:pt x="144683" y="50903"/>
                  </a:lnTo>
                  <a:lnTo>
                    <a:pt x="143602" y="55832"/>
                  </a:lnTo>
                  <a:lnTo>
                    <a:pt x="142035" y="60811"/>
                  </a:lnTo>
                  <a:lnTo>
                    <a:pt x="140143" y="65823"/>
                  </a:lnTo>
                  <a:lnTo>
                    <a:pt x="137189" y="70858"/>
                  </a:lnTo>
                  <a:lnTo>
                    <a:pt x="133526" y="75908"/>
                  </a:lnTo>
                  <a:lnTo>
                    <a:pt x="129391" y="80968"/>
                  </a:lnTo>
                  <a:lnTo>
                    <a:pt x="124941" y="86881"/>
                  </a:lnTo>
                  <a:lnTo>
                    <a:pt x="115480" y="100225"/>
                  </a:lnTo>
                  <a:lnTo>
                    <a:pt x="110587" y="106493"/>
                  </a:lnTo>
                  <a:lnTo>
                    <a:pt x="105631" y="112365"/>
                  </a:lnTo>
                  <a:lnTo>
                    <a:pt x="100634" y="117972"/>
                  </a:lnTo>
                  <a:lnTo>
                    <a:pt x="88309" y="130977"/>
                  </a:lnTo>
                  <a:lnTo>
                    <a:pt x="32312" y="187507"/>
                  </a:lnTo>
                  <a:lnTo>
                    <a:pt x="28048" y="192621"/>
                  </a:lnTo>
                  <a:lnTo>
                    <a:pt x="24358" y="197723"/>
                  </a:lnTo>
                  <a:lnTo>
                    <a:pt x="21052" y="202818"/>
                  </a:lnTo>
                  <a:lnTo>
                    <a:pt x="17155" y="207062"/>
                  </a:lnTo>
                  <a:lnTo>
                    <a:pt x="12863" y="210737"/>
                  </a:lnTo>
                  <a:lnTo>
                    <a:pt x="8309" y="214034"/>
                  </a:lnTo>
                  <a:lnTo>
                    <a:pt x="5273" y="217079"/>
                  </a:lnTo>
                  <a:lnTo>
                    <a:pt x="3248" y="219955"/>
                  </a:lnTo>
                  <a:lnTo>
                    <a:pt x="999" y="225409"/>
                  </a:lnTo>
                  <a:lnTo>
                    <a:pt x="0" y="230655"/>
                  </a:lnTo>
                  <a:lnTo>
                    <a:pt x="580" y="232393"/>
                  </a:lnTo>
                  <a:lnTo>
                    <a:pt x="1813" y="233551"/>
                  </a:lnTo>
                  <a:lnTo>
                    <a:pt x="3482" y="234324"/>
                  </a:lnTo>
                  <a:lnTo>
                    <a:pt x="7594" y="237439"/>
                  </a:lnTo>
                  <a:lnTo>
                    <a:pt x="9876" y="239456"/>
                  </a:lnTo>
                  <a:lnTo>
                    <a:pt x="12244" y="240800"/>
                  </a:lnTo>
                  <a:lnTo>
                    <a:pt x="14670" y="241696"/>
                  </a:lnTo>
                  <a:lnTo>
                    <a:pt x="17133" y="242293"/>
                  </a:lnTo>
                  <a:lnTo>
                    <a:pt x="20469" y="242692"/>
                  </a:lnTo>
                  <a:lnTo>
                    <a:pt x="24386" y="242957"/>
                  </a:lnTo>
                  <a:lnTo>
                    <a:pt x="28691" y="243134"/>
                  </a:lnTo>
                  <a:lnTo>
                    <a:pt x="46885" y="243383"/>
                  </a:lnTo>
                  <a:lnTo>
                    <a:pt x="53003" y="242572"/>
                  </a:lnTo>
                  <a:lnTo>
                    <a:pt x="58776" y="241184"/>
                  </a:lnTo>
                  <a:lnTo>
                    <a:pt x="64317" y="239412"/>
                  </a:lnTo>
                  <a:lnTo>
                    <a:pt x="70551" y="238231"/>
                  </a:lnTo>
                  <a:lnTo>
                    <a:pt x="77247" y="237443"/>
                  </a:lnTo>
                  <a:lnTo>
                    <a:pt x="89768" y="236568"/>
                  </a:lnTo>
                  <a:lnTo>
                    <a:pt x="98155" y="236179"/>
                  </a:lnTo>
                  <a:lnTo>
                    <a:pt x="115727" y="235960"/>
                  </a:lnTo>
                  <a:lnTo>
                    <a:pt x="121758" y="235083"/>
                  </a:lnTo>
                  <a:lnTo>
                    <a:pt x="127472" y="233652"/>
                  </a:lnTo>
                  <a:lnTo>
                    <a:pt x="140719" y="229316"/>
                  </a:lnTo>
                  <a:lnTo>
                    <a:pt x="144788" y="228723"/>
                  </a:lnTo>
                  <a:lnTo>
                    <a:pt x="151600" y="2282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SMARTInkAnnotation7"/>
            <p:cNvSpPr/>
            <p:nvPr/>
          </p:nvSpPr>
          <p:spPr>
            <a:xfrm>
              <a:off x="1632240" y="2232720"/>
              <a:ext cx="36360" cy="15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6698" h="15238">
                  <a:moveTo>
                    <a:pt x="-28839" y="0"/>
                  </a:moveTo>
                  <a:lnTo>
                    <a:pt x="29085" y="0"/>
                  </a:lnTo>
                  <a:lnTo>
                    <a:pt x="22517" y="6561"/>
                  </a:lnTo>
                  <a:lnTo>
                    <a:pt x="21317" y="6914"/>
                  </a:lnTo>
                  <a:lnTo>
                    <a:pt x="19670" y="7149"/>
                  </a:lnTo>
                  <a:lnTo>
                    <a:pt x="17726" y="7306"/>
                  </a:lnTo>
                  <a:lnTo>
                    <a:pt x="16430" y="8257"/>
                  </a:lnTo>
                  <a:lnTo>
                    <a:pt x="15565" y="9738"/>
                  </a:lnTo>
                  <a:lnTo>
                    <a:pt x="14989" y="11572"/>
                  </a:lnTo>
                  <a:lnTo>
                    <a:pt x="13758" y="12795"/>
                  </a:lnTo>
                  <a:lnTo>
                    <a:pt x="12091" y="13610"/>
                  </a:lnTo>
                  <a:lnTo>
                    <a:pt x="10133" y="14153"/>
                  </a:lnTo>
                  <a:lnTo>
                    <a:pt x="7981" y="14516"/>
                  </a:lnTo>
                  <a:lnTo>
                    <a:pt x="5700" y="14757"/>
                  </a:lnTo>
                  <a:lnTo>
                    <a:pt x="0" y="15145"/>
                  </a:lnTo>
                  <a:lnTo>
                    <a:pt x="379" y="15176"/>
                  </a:lnTo>
                  <a:lnTo>
                    <a:pt x="3058" y="15212"/>
                  </a:lnTo>
                  <a:lnTo>
                    <a:pt x="16546" y="15237"/>
                  </a:lnTo>
                  <a:lnTo>
                    <a:pt x="18183" y="14392"/>
                  </a:lnTo>
                  <a:lnTo>
                    <a:pt x="19274" y="12981"/>
                  </a:lnTo>
                  <a:lnTo>
                    <a:pt x="20002" y="11194"/>
                  </a:lnTo>
                  <a:lnTo>
                    <a:pt x="21334" y="10003"/>
                  </a:lnTo>
                  <a:lnTo>
                    <a:pt x="23068" y="9209"/>
                  </a:lnTo>
                  <a:lnTo>
                    <a:pt x="25071" y="8679"/>
                  </a:lnTo>
                  <a:lnTo>
                    <a:pt x="27253" y="8326"/>
                  </a:lnTo>
                  <a:lnTo>
                    <a:pt x="29554" y="8091"/>
                  </a:lnTo>
                  <a:lnTo>
                    <a:pt x="-28963" y="7628"/>
                  </a:lnTo>
                  <a:lnTo>
                    <a:pt x="21457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SMARTInkAnnotation8"/>
            <p:cNvSpPr/>
            <p:nvPr/>
          </p:nvSpPr>
          <p:spPr>
            <a:xfrm>
              <a:off x="1760400" y="2034720"/>
              <a:ext cx="173160" cy="2358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73299" h="236144">
                  <a:moveTo>
                    <a:pt x="60960" y="22830"/>
                  </a:moveTo>
                  <a:lnTo>
                    <a:pt x="60960" y="15524"/>
                  </a:lnTo>
                  <a:lnTo>
                    <a:pt x="65006" y="15303"/>
                  </a:lnTo>
                  <a:lnTo>
                    <a:pt x="67044" y="14425"/>
                  </a:lnTo>
                  <a:lnTo>
                    <a:pt x="71566" y="11192"/>
                  </a:lnTo>
                  <a:lnTo>
                    <a:pt x="74804" y="9991"/>
                  </a:lnTo>
                  <a:lnTo>
                    <a:pt x="78656" y="9191"/>
                  </a:lnTo>
                  <a:lnTo>
                    <a:pt x="82917" y="8658"/>
                  </a:lnTo>
                  <a:lnTo>
                    <a:pt x="86605" y="7455"/>
                  </a:lnTo>
                  <a:lnTo>
                    <a:pt x="89910" y="5807"/>
                  </a:lnTo>
                  <a:lnTo>
                    <a:pt x="92960" y="3861"/>
                  </a:lnTo>
                  <a:lnTo>
                    <a:pt x="97533" y="2564"/>
                  </a:lnTo>
                  <a:lnTo>
                    <a:pt x="103122" y="1699"/>
                  </a:lnTo>
                  <a:lnTo>
                    <a:pt x="109388" y="1123"/>
                  </a:lnTo>
                  <a:lnTo>
                    <a:pt x="114412" y="739"/>
                  </a:lnTo>
                  <a:lnTo>
                    <a:pt x="122252" y="312"/>
                  </a:lnTo>
                  <a:lnTo>
                    <a:pt x="130817" y="122"/>
                  </a:lnTo>
                  <a:lnTo>
                    <a:pt x="146067" y="0"/>
                  </a:lnTo>
                  <a:lnTo>
                    <a:pt x="149871" y="837"/>
                  </a:lnTo>
                  <a:lnTo>
                    <a:pt x="154101" y="2241"/>
                  </a:lnTo>
                  <a:lnTo>
                    <a:pt x="164966" y="6534"/>
                  </a:lnTo>
                  <a:lnTo>
                    <a:pt x="165857" y="7732"/>
                  </a:lnTo>
                  <a:lnTo>
                    <a:pt x="166848" y="11322"/>
                  </a:lnTo>
                  <a:lnTo>
                    <a:pt x="167405" y="18103"/>
                  </a:lnTo>
                  <a:lnTo>
                    <a:pt x="164944" y="20525"/>
                  </a:lnTo>
                  <a:lnTo>
                    <a:pt x="160763" y="22987"/>
                  </a:lnTo>
                  <a:lnTo>
                    <a:pt x="150190" y="27980"/>
                  </a:lnTo>
                  <a:lnTo>
                    <a:pt x="139847" y="33021"/>
                  </a:lnTo>
                  <a:lnTo>
                    <a:pt x="133871" y="36397"/>
                  </a:lnTo>
                  <a:lnTo>
                    <a:pt x="127348" y="40342"/>
                  </a:lnTo>
                  <a:lnTo>
                    <a:pt x="120458" y="44664"/>
                  </a:lnTo>
                  <a:lnTo>
                    <a:pt x="113326" y="48393"/>
                  </a:lnTo>
                  <a:lnTo>
                    <a:pt x="106030" y="51725"/>
                  </a:lnTo>
                  <a:lnTo>
                    <a:pt x="98627" y="54793"/>
                  </a:lnTo>
                  <a:lnTo>
                    <a:pt x="91998" y="58532"/>
                  </a:lnTo>
                  <a:lnTo>
                    <a:pt x="85885" y="62718"/>
                  </a:lnTo>
                  <a:lnTo>
                    <a:pt x="80117" y="67202"/>
                  </a:lnTo>
                  <a:lnTo>
                    <a:pt x="73732" y="71038"/>
                  </a:lnTo>
                  <a:lnTo>
                    <a:pt x="66934" y="74442"/>
                  </a:lnTo>
                  <a:lnTo>
                    <a:pt x="59863" y="77558"/>
                  </a:lnTo>
                  <a:lnTo>
                    <a:pt x="54302" y="80482"/>
                  </a:lnTo>
                  <a:lnTo>
                    <a:pt x="49748" y="83278"/>
                  </a:lnTo>
                  <a:lnTo>
                    <a:pt x="45865" y="85989"/>
                  </a:lnTo>
                  <a:lnTo>
                    <a:pt x="42430" y="88642"/>
                  </a:lnTo>
                  <a:lnTo>
                    <a:pt x="39293" y="91258"/>
                  </a:lnTo>
                  <a:lnTo>
                    <a:pt x="32221" y="97495"/>
                  </a:lnTo>
                  <a:lnTo>
                    <a:pt x="32488" y="98853"/>
                  </a:lnTo>
                  <a:lnTo>
                    <a:pt x="35041" y="102620"/>
                  </a:lnTo>
                  <a:lnTo>
                    <a:pt x="37754" y="104810"/>
                  </a:lnTo>
                  <a:lnTo>
                    <a:pt x="41256" y="107117"/>
                  </a:lnTo>
                  <a:lnTo>
                    <a:pt x="45284" y="109501"/>
                  </a:lnTo>
                  <a:lnTo>
                    <a:pt x="50509" y="111937"/>
                  </a:lnTo>
                  <a:lnTo>
                    <a:pt x="56533" y="114408"/>
                  </a:lnTo>
                  <a:lnTo>
                    <a:pt x="63089" y="116902"/>
                  </a:lnTo>
                  <a:lnTo>
                    <a:pt x="69999" y="118565"/>
                  </a:lnTo>
                  <a:lnTo>
                    <a:pt x="77146" y="119674"/>
                  </a:lnTo>
                  <a:lnTo>
                    <a:pt x="84451" y="120412"/>
                  </a:lnTo>
                  <a:lnTo>
                    <a:pt x="91861" y="121751"/>
                  </a:lnTo>
                  <a:lnTo>
                    <a:pt x="99340" y="123491"/>
                  </a:lnTo>
                  <a:lnTo>
                    <a:pt x="106867" y="125497"/>
                  </a:lnTo>
                  <a:lnTo>
                    <a:pt x="113578" y="127682"/>
                  </a:lnTo>
                  <a:lnTo>
                    <a:pt x="119745" y="129985"/>
                  </a:lnTo>
                  <a:lnTo>
                    <a:pt x="125550" y="132366"/>
                  </a:lnTo>
                  <a:lnTo>
                    <a:pt x="131113" y="134801"/>
                  </a:lnTo>
                  <a:lnTo>
                    <a:pt x="141810" y="139764"/>
                  </a:lnTo>
                  <a:lnTo>
                    <a:pt x="157353" y="147318"/>
                  </a:lnTo>
                  <a:lnTo>
                    <a:pt x="161629" y="149849"/>
                  </a:lnTo>
                  <a:lnTo>
                    <a:pt x="165326" y="152383"/>
                  </a:lnTo>
                  <a:lnTo>
                    <a:pt x="168637" y="154918"/>
                  </a:lnTo>
                  <a:lnTo>
                    <a:pt x="170844" y="158302"/>
                  </a:lnTo>
                  <a:lnTo>
                    <a:pt x="172316" y="162251"/>
                  </a:lnTo>
                  <a:lnTo>
                    <a:pt x="173298" y="166578"/>
                  </a:lnTo>
                  <a:lnTo>
                    <a:pt x="173105" y="170308"/>
                  </a:lnTo>
                  <a:lnTo>
                    <a:pt x="172130" y="173642"/>
                  </a:lnTo>
                  <a:lnTo>
                    <a:pt x="164482" y="189122"/>
                  </a:lnTo>
                  <a:lnTo>
                    <a:pt x="161301" y="192958"/>
                  </a:lnTo>
                  <a:lnTo>
                    <a:pt x="157487" y="196362"/>
                  </a:lnTo>
                  <a:lnTo>
                    <a:pt x="153252" y="199478"/>
                  </a:lnTo>
                  <a:lnTo>
                    <a:pt x="148734" y="202402"/>
                  </a:lnTo>
                  <a:lnTo>
                    <a:pt x="144030" y="205198"/>
                  </a:lnTo>
                  <a:lnTo>
                    <a:pt x="139200" y="207909"/>
                  </a:lnTo>
                  <a:lnTo>
                    <a:pt x="134286" y="211409"/>
                  </a:lnTo>
                  <a:lnTo>
                    <a:pt x="129318" y="215436"/>
                  </a:lnTo>
                  <a:lnTo>
                    <a:pt x="124312" y="219814"/>
                  </a:lnTo>
                  <a:lnTo>
                    <a:pt x="118435" y="223579"/>
                  </a:lnTo>
                  <a:lnTo>
                    <a:pt x="111976" y="226936"/>
                  </a:lnTo>
                  <a:lnTo>
                    <a:pt x="105131" y="230021"/>
                  </a:lnTo>
                  <a:lnTo>
                    <a:pt x="98027" y="232077"/>
                  </a:lnTo>
                  <a:lnTo>
                    <a:pt x="90752" y="233448"/>
                  </a:lnTo>
                  <a:lnTo>
                    <a:pt x="83361" y="234362"/>
                  </a:lnTo>
                  <a:lnTo>
                    <a:pt x="75894" y="234972"/>
                  </a:lnTo>
                  <a:lnTo>
                    <a:pt x="68376" y="235378"/>
                  </a:lnTo>
                  <a:lnTo>
                    <a:pt x="54096" y="235829"/>
                  </a:lnTo>
                  <a:lnTo>
                    <a:pt x="31131" y="236119"/>
                  </a:lnTo>
                  <a:lnTo>
                    <a:pt x="25834" y="236143"/>
                  </a:lnTo>
                  <a:lnTo>
                    <a:pt x="20609" y="235312"/>
                  </a:lnTo>
                  <a:lnTo>
                    <a:pt x="15433" y="233911"/>
                  </a:lnTo>
                  <a:lnTo>
                    <a:pt x="10289" y="232131"/>
                  </a:lnTo>
                  <a:lnTo>
                    <a:pt x="6859" y="230097"/>
                  </a:lnTo>
                  <a:lnTo>
                    <a:pt x="4573" y="227895"/>
                  </a:lnTo>
                  <a:lnTo>
                    <a:pt x="0" y="2209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SMARTInkAnnotation9"/>
            <p:cNvSpPr/>
            <p:nvPr/>
          </p:nvSpPr>
          <p:spPr>
            <a:xfrm>
              <a:off x="1943280" y="1905120"/>
              <a:ext cx="203400" cy="3808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03751" h="381001">
                  <a:moveTo>
                    <a:pt x="0" y="0"/>
                  </a:moveTo>
                  <a:lnTo>
                    <a:pt x="10606" y="0"/>
                  </a:lnTo>
                  <a:lnTo>
                    <a:pt x="12151" y="847"/>
                  </a:lnTo>
                  <a:lnTo>
                    <a:pt x="13180" y="2258"/>
                  </a:lnTo>
                  <a:lnTo>
                    <a:pt x="13867" y="4045"/>
                  </a:lnTo>
                  <a:lnTo>
                    <a:pt x="16864" y="6084"/>
                  </a:lnTo>
                  <a:lnTo>
                    <a:pt x="21403" y="8289"/>
                  </a:lnTo>
                  <a:lnTo>
                    <a:pt x="26969" y="10606"/>
                  </a:lnTo>
                  <a:lnTo>
                    <a:pt x="32372" y="13844"/>
                  </a:lnTo>
                  <a:lnTo>
                    <a:pt x="37668" y="17696"/>
                  </a:lnTo>
                  <a:lnTo>
                    <a:pt x="42892" y="21957"/>
                  </a:lnTo>
                  <a:lnTo>
                    <a:pt x="48915" y="26492"/>
                  </a:lnTo>
                  <a:lnTo>
                    <a:pt x="62380" y="36045"/>
                  </a:lnTo>
                  <a:lnTo>
                    <a:pt x="84241" y="50944"/>
                  </a:lnTo>
                  <a:lnTo>
                    <a:pt x="91720" y="56823"/>
                  </a:lnTo>
                  <a:lnTo>
                    <a:pt x="99247" y="63282"/>
                  </a:lnTo>
                  <a:lnTo>
                    <a:pt x="106805" y="70128"/>
                  </a:lnTo>
                  <a:lnTo>
                    <a:pt x="114383" y="78079"/>
                  </a:lnTo>
                  <a:lnTo>
                    <a:pt x="121975" y="86766"/>
                  </a:lnTo>
                  <a:lnTo>
                    <a:pt x="129577" y="95944"/>
                  </a:lnTo>
                  <a:lnTo>
                    <a:pt x="144796" y="115173"/>
                  </a:lnTo>
                  <a:lnTo>
                    <a:pt x="152411" y="125042"/>
                  </a:lnTo>
                  <a:lnTo>
                    <a:pt x="159180" y="135008"/>
                  </a:lnTo>
                  <a:lnTo>
                    <a:pt x="165387" y="145039"/>
                  </a:lnTo>
                  <a:lnTo>
                    <a:pt x="171218" y="155113"/>
                  </a:lnTo>
                  <a:lnTo>
                    <a:pt x="182213" y="175337"/>
                  </a:lnTo>
                  <a:lnTo>
                    <a:pt x="187515" y="185471"/>
                  </a:lnTo>
                  <a:lnTo>
                    <a:pt x="191897" y="195614"/>
                  </a:lnTo>
                  <a:lnTo>
                    <a:pt x="195665" y="205763"/>
                  </a:lnTo>
                  <a:lnTo>
                    <a:pt x="199023" y="215915"/>
                  </a:lnTo>
                  <a:lnTo>
                    <a:pt x="201262" y="225223"/>
                  </a:lnTo>
                  <a:lnTo>
                    <a:pt x="202755" y="233969"/>
                  </a:lnTo>
                  <a:lnTo>
                    <a:pt x="203750" y="242339"/>
                  </a:lnTo>
                  <a:lnTo>
                    <a:pt x="203566" y="251306"/>
                  </a:lnTo>
                  <a:lnTo>
                    <a:pt x="202598" y="260671"/>
                  </a:lnTo>
                  <a:lnTo>
                    <a:pt x="201105" y="270301"/>
                  </a:lnTo>
                  <a:lnTo>
                    <a:pt x="199263" y="279260"/>
                  </a:lnTo>
                  <a:lnTo>
                    <a:pt x="197189" y="287774"/>
                  </a:lnTo>
                  <a:lnTo>
                    <a:pt x="194959" y="295989"/>
                  </a:lnTo>
                  <a:lnTo>
                    <a:pt x="192626" y="303159"/>
                  </a:lnTo>
                  <a:lnTo>
                    <a:pt x="190224" y="309633"/>
                  </a:lnTo>
                  <a:lnTo>
                    <a:pt x="184451" y="321341"/>
                  </a:lnTo>
                  <a:lnTo>
                    <a:pt x="180541" y="326834"/>
                  </a:lnTo>
                  <a:lnTo>
                    <a:pt x="176240" y="332190"/>
                  </a:lnTo>
                  <a:lnTo>
                    <a:pt x="171680" y="337453"/>
                  </a:lnTo>
                  <a:lnTo>
                    <a:pt x="166947" y="342655"/>
                  </a:lnTo>
                  <a:lnTo>
                    <a:pt x="162098" y="347817"/>
                  </a:lnTo>
                  <a:lnTo>
                    <a:pt x="157172" y="352105"/>
                  </a:lnTo>
                  <a:lnTo>
                    <a:pt x="152194" y="355810"/>
                  </a:lnTo>
                  <a:lnTo>
                    <a:pt x="147183" y="359127"/>
                  </a:lnTo>
                  <a:lnTo>
                    <a:pt x="142148" y="362184"/>
                  </a:lnTo>
                  <a:lnTo>
                    <a:pt x="137099" y="365070"/>
                  </a:lnTo>
                  <a:lnTo>
                    <a:pt x="132039" y="367840"/>
                  </a:lnTo>
                  <a:lnTo>
                    <a:pt x="127820" y="370533"/>
                  </a:lnTo>
                  <a:lnTo>
                    <a:pt x="124160" y="373175"/>
                  </a:lnTo>
                  <a:lnTo>
                    <a:pt x="120873" y="375784"/>
                  </a:lnTo>
                  <a:lnTo>
                    <a:pt x="114964" y="378682"/>
                  </a:lnTo>
                  <a:lnTo>
                    <a:pt x="106680" y="3810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SMARTInkAnnotation10"/>
            <p:cNvSpPr/>
            <p:nvPr/>
          </p:nvSpPr>
          <p:spPr>
            <a:xfrm>
              <a:off x="2347200" y="2065320"/>
              <a:ext cx="75960" cy="220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76201" h="220981">
                  <a:moveTo>
                    <a:pt x="76200" y="0"/>
                  </a:moveTo>
                  <a:lnTo>
                    <a:pt x="72155" y="0"/>
                  </a:lnTo>
                  <a:lnTo>
                    <a:pt x="70963" y="847"/>
                  </a:lnTo>
                  <a:lnTo>
                    <a:pt x="70169" y="2258"/>
                  </a:lnTo>
                  <a:lnTo>
                    <a:pt x="69286" y="6084"/>
                  </a:lnTo>
                  <a:lnTo>
                    <a:pt x="68894" y="10606"/>
                  </a:lnTo>
                  <a:lnTo>
                    <a:pt x="67943" y="12997"/>
                  </a:lnTo>
                  <a:lnTo>
                    <a:pt x="66462" y="15438"/>
                  </a:lnTo>
                  <a:lnTo>
                    <a:pt x="64628" y="17912"/>
                  </a:lnTo>
                  <a:lnTo>
                    <a:pt x="63405" y="21255"/>
                  </a:lnTo>
                  <a:lnTo>
                    <a:pt x="62590" y="25177"/>
                  </a:lnTo>
                  <a:lnTo>
                    <a:pt x="62046" y="29485"/>
                  </a:lnTo>
                  <a:lnTo>
                    <a:pt x="60838" y="34050"/>
                  </a:lnTo>
                  <a:lnTo>
                    <a:pt x="59185" y="38786"/>
                  </a:lnTo>
                  <a:lnTo>
                    <a:pt x="57237" y="43638"/>
                  </a:lnTo>
                  <a:lnTo>
                    <a:pt x="55091" y="48565"/>
                  </a:lnTo>
                  <a:lnTo>
                    <a:pt x="50449" y="58556"/>
                  </a:lnTo>
                  <a:lnTo>
                    <a:pt x="48873" y="64437"/>
                  </a:lnTo>
                  <a:lnTo>
                    <a:pt x="47822" y="70898"/>
                  </a:lnTo>
                  <a:lnTo>
                    <a:pt x="47121" y="77745"/>
                  </a:lnTo>
                  <a:lnTo>
                    <a:pt x="45807" y="84003"/>
                  </a:lnTo>
                  <a:lnTo>
                    <a:pt x="44085" y="89869"/>
                  </a:lnTo>
                  <a:lnTo>
                    <a:pt x="37615" y="108473"/>
                  </a:lnTo>
                  <a:lnTo>
                    <a:pt x="27844" y="137514"/>
                  </a:lnTo>
                  <a:lnTo>
                    <a:pt x="25336" y="144170"/>
                  </a:lnTo>
                  <a:lnTo>
                    <a:pt x="22818" y="150300"/>
                  </a:lnTo>
                  <a:lnTo>
                    <a:pt x="20292" y="156080"/>
                  </a:lnTo>
                  <a:lnTo>
                    <a:pt x="18608" y="161627"/>
                  </a:lnTo>
                  <a:lnTo>
                    <a:pt x="17485" y="167018"/>
                  </a:lnTo>
                  <a:lnTo>
                    <a:pt x="16737" y="172305"/>
                  </a:lnTo>
                  <a:lnTo>
                    <a:pt x="15391" y="177523"/>
                  </a:lnTo>
                  <a:lnTo>
                    <a:pt x="13648" y="182696"/>
                  </a:lnTo>
                  <a:lnTo>
                    <a:pt x="11639" y="187837"/>
                  </a:lnTo>
                  <a:lnTo>
                    <a:pt x="10299" y="192958"/>
                  </a:lnTo>
                  <a:lnTo>
                    <a:pt x="9406" y="198065"/>
                  </a:lnTo>
                  <a:lnTo>
                    <a:pt x="8811" y="203164"/>
                  </a:lnTo>
                  <a:lnTo>
                    <a:pt x="7567" y="206562"/>
                  </a:lnTo>
                  <a:lnTo>
                    <a:pt x="5892" y="208828"/>
                  </a:lnTo>
                  <a:lnTo>
                    <a:pt x="3928" y="210339"/>
                  </a:lnTo>
                  <a:lnTo>
                    <a:pt x="2619" y="212193"/>
                  </a:lnTo>
                  <a:lnTo>
                    <a:pt x="517" y="218993"/>
                  </a:lnTo>
                  <a:lnTo>
                    <a:pt x="0" y="2209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SMARTInkAnnotation11"/>
            <p:cNvSpPr/>
            <p:nvPr/>
          </p:nvSpPr>
          <p:spPr>
            <a:xfrm>
              <a:off x="2301480" y="2187000"/>
              <a:ext cx="243720" cy="1512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43841" h="15239">
                  <a:moveTo>
                    <a:pt x="0" y="7618"/>
                  </a:moveTo>
                  <a:lnTo>
                    <a:pt x="4046" y="3573"/>
                  </a:lnTo>
                  <a:lnTo>
                    <a:pt x="6084" y="2381"/>
                  </a:lnTo>
                  <a:lnTo>
                    <a:pt x="8289" y="1587"/>
                  </a:lnTo>
                  <a:lnTo>
                    <a:pt x="10606" y="1057"/>
                  </a:lnTo>
                  <a:lnTo>
                    <a:pt x="12998" y="704"/>
                  </a:lnTo>
                  <a:lnTo>
                    <a:pt x="17913" y="312"/>
                  </a:lnTo>
                  <a:lnTo>
                    <a:pt x="25177" y="138"/>
                  </a:lnTo>
                  <a:lnTo>
                    <a:pt x="91612" y="0"/>
                  </a:lnTo>
                  <a:lnTo>
                    <a:pt x="100022" y="847"/>
                  </a:lnTo>
                  <a:lnTo>
                    <a:pt x="109014" y="2257"/>
                  </a:lnTo>
                  <a:lnTo>
                    <a:pt x="118396" y="4044"/>
                  </a:lnTo>
                  <a:lnTo>
                    <a:pt x="127191" y="5236"/>
                  </a:lnTo>
                  <a:lnTo>
                    <a:pt x="135594" y="6030"/>
                  </a:lnTo>
                  <a:lnTo>
                    <a:pt x="143736" y="6559"/>
                  </a:lnTo>
                  <a:lnTo>
                    <a:pt x="151704" y="6912"/>
                  </a:lnTo>
                  <a:lnTo>
                    <a:pt x="167331" y="7304"/>
                  </a:lnTo>
                  <a:lnTo>
                    <a:pt x="175901" y="8255"/>
                  </a:lnTo>
                  <a:lnTo>
                    <a:pt x="185000" y="9737"/>
                  </a:lnTo>
                  <a:lnTo>
                    <a:pt x="194454" y="11570"/>
                  </a:lnTo>
                  <a:lnTo>
                    <a:pt x="203295" y="12793"/>
                  </a:lnTo>
                  <a:lnTo>
                    <a:pt x="211730" y="13608"/>
                  </a:lnTo>
                  <a:lnTo>
                    <a:pt x="226182" y="14514"/>
                  </a:lnTo>
                  <a:lnTo>
                    <a:pt x="243840" y="152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SMARTInkAnnotation12"/>
            <p:cNvSpPr/>
            <p:nvPr/>
          </p:nvSpPr>
          <p:spPr>
            <a:xfrm>
              <a:off x="2703960" y="2027160"/>
              <a:ext cx="153000" cy="9864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53309" h="98824">
                  <a:moveTo>
                    <a:pt x="108085" y="15232"/>
                  </a:moveTo>
                  <a:lnTo>
                    <a:pt x="108085" y="20"/>
                  </a:lnTo>
                  <a:lnTo>
                    <a:pt x="99995" y="0"/>
                  </a:lnTo>
                  <a:lnTo>
                    <a:pt x="96765" y="845"/>
                  </a:lnTo>
                  <a:lnTo>
                    <a:pt x="93765" y="2254"/>
                  </a:lnTo>
                  <a:lnTo>
                    <a:pt x="90919" y="4040"/>
                  </a:lnTo>
                  <a:lnTo>
                    <a:pt x="87327" y="6077"/>
                  </a:lnTo>
                  <a:lnTo>
                    <a:pt x="78822" y="10599"/>
                  </a:lnTo>
                  <a:lnTo>
                    <a:pt x="73336" y="12990"/>
                  </a:lnTo>
                  <a:lnTo>
                    <a:pt x="67139" y="15431"/>
                  </a:lnTo>
                  <a:lnTo>
                    <a:pt x="60468" y="17905"/>
                  </a:lnTo>
                  <a:lnTo>
                    <a:pt x="53481" y="21247"/>
                  </a:lnTo>
                  <a:lnTo>
                    <a:pt x="46282" y="25169"/>
                  </a:lnTo>
                  <a:lnTo>
                    <a:pt x="38943" y="29477"/>
                  </a:lnTo>
                  <a:lnTo>
                    <a:pt x="33204" y="34042"/>
                  </a:lnTo>
                  <a:lnTo>
                    <a:pt x="28531" y="38778"/>
                  </a:lnTo>
                  <a:lnTo>
                    <a:pt x="24569" y="43630"/>
                  </a:lnTo>
                  <a:lnTo>
                    <a:pt x="21081" y="48557"/>
                  </a:lnTo>
                  <a:lnTo>
                    <a:pt x="17909" y="53536"/>
                  </a:lnTo>
                  <a:lnTo>
                    <a:pt x="14948" y="58548"/>
                  </a:lnTo>
                  <a:lnTo>
                    <a:pt x="11280" y="62736"/>
                  </a:lnTo>
                  <a:lnTo>
                    <a:pt x="7142" y="66374"/>
                  </a:lnTo>
                  <a:lnTo>
                    <a:pt x="2690" y="69647"/>
                  </a:lnTo>
                  <a:lnTo>
                    <a:pt x="568" y="72675"/>
                  </a:lnTo>
                  <a:lnTo>
                    <a:pt x="0" y="75541"/>
                  </a:lnTo>
                  <a:lnTo>
                    <a:pt x="469" y="78298"/>
                  </a:lnTo>
                  <a:lnTo>
                    <a:pt x="1628" y="81829"/>
                  </a:lnTo>
                  <a:lnTo>
                    <a:pt x="3247" y="85877"/>
                  </a:lnTo>
                  <a:lnTo>
                    <a:pt x="5173" y="90269"/>
                  </a:lnTo>
                  <a:lnTo>
                    <a:pt x="8151" y="93196"/>
                  </a:lnTo>
                  <a:lnTo>
                    <a:pt x="11829" y="95148"/>
                  </a:lnTo>
                  <a:lnTo>
                    <a:pt x="15974" y="96449"/>
                  </a:lnTo>
                  <a:lnTo>
                    <a:pt x="21278" y="97317"/>
                  </a:lnTo>
                  <a:lnTo>
                    <a:pt x="27354" y="97895"/>
                  </a:lnTo>
                  <a:lnTo>
                    <a:pt x="33945" y="98281"/>
                  </a:lnTo>
                  <a:lnTo>
                    <a:pt x="50298" y="98709"/>
                  </a:lnTo>
                  <a:lnTo>
                    <a:pt x="59400" y="98823"/>
                  </a:lnTo>
                  <a:lnTo>
                    <a:pt x="68009" y="98053"/>
                  </a:lnTo>
                  <a:lnTo>
                    <a:pt x="76288" y="96693"/>
                  </a:lnTo>
                  <a:lnTo>
                    <a:pt x="84347" y="94939"/>
                  </a:lnTo>
                  <a:lnTo>
                    <a:pt x="92260" y="92923"/>
                  </a:lnTo>
                  <a:lnTo>
                    <a:pt x="100075" y="90733"/>
                  </a:lnTo>
                  <a:lnTo>
                    <a:pt x="107825" y="88426"/>
                  </a:lnTo>
                  <a:lnTo>
                    <a:pt x="114685" y="86888"/>
                  </a:lnTo>
                  <a:lnTo>
                    <a:pt x="120952" y="85863"/>
                  </a:lnTo>
                  <a:lnTo>
                    <a:pt x="126823" y="85179"/>
                  </a:lnTo>
                  <a:lnTo>
                    <a:pt x="131584" y="83030"/>
                  </a:lnTo>
                  <a:lnTo>
                    <a:pt x="135605" y="79904"/>
                  </a:lnTo>
                  <a:lnTo>
                    <a:pt x="139131" y="76127"/>
                  </a:lnTo>
                  <a:lnTo>
                    <a:pt x="142329" y="71915"/>
                  </a:lnTo>
                  <a:lnTo>
                    <a:pt x="145308" y="67414"/>
                  </a:lnTo>
                  <a:lnTo>
                    <a:pt x="148141" y="62720"/>
                  </a:lnTo>
                  <a:lnTo>
                    <a:pt x="150029" y="58744"/>
                  </a:lnTo>
                  <a:lnTo>
                    <a:pt x="151288" y="55247"/>
                  </a:lnTo>
                  <a:lnTo>
                    <a:pt x="152127" y="52069"/>
                  </a:lnTo>
                  <a:lnTo>
                    <a:pt x="152686" y="48256"/>
                  </a:lnTo>
                  <a:lnTo>
                    <a:pt x="153060" y="44022"/>
                  </a:lnTo>
                  <a:lnTo>
                    <a:pt x="153308" y="39505"/>
                  </a:lnTo>
                  <a:lnTo>
                    <a:pt x="151781" y="35647"/>
                  </a:lnTo>
                  <a:lnTo>
                    <a:pt x="149069" y="32229"/>
                  </a:lnTo>
                  <a:lnTo>
                    <a:pt x="145568" y="29103"/>
                  </a:lnTo>
                  <a:lnTo>
                    <a:pt x="139420" y="23373"/>
                  </a:lnTo>
                  <a:lnTo>
                    <a:pt x="132619" y="16840"/>
                  </a:lnTo>
                  <a:lnTo>
                    <a:pt x="131215" y="16304"/>
                  </a:lnTo>
                  <a:lnTo>
                    <a:pt x="127396" y="15709"/>
                  </a:lnTo>
                  <a:lnTo>
                    <a:pt x="122877" y="15444"/>
                  </a:lnTo>
                  <a:lnTo>
                    <a:pt x="115705" y="152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MARTInkAnnotation13"/>
            <p:cNvSpPr/>
            <p:nvPr/>
          </p:nvSpPr>
          <p:spPr>
            <a:xfrm>
              <a:off x="2684520" y="2141640"/>
              <a:ext cx="150120" cy="1429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50204" h="143143">
                  <a:moveTo>
                    <a:pt x="89519" y="7306"/>
                  </a:moveTo>
                  <a:lnTo>
                    <a:pt x="89519" y="745"/>
                  </a:lnTo>
                  <a:lnTo>
                    <a:pt x="88672" y="392"/>
                  </a:lnTo>
                  <a:lnTo>
                    <a:pt x="85474" y="0"/>
                  </a:lnTo>
                  <a:lnTo>
                    <a:pt x="82589" y="742"/>
                  </a:lnTo>
                  <a:lnTo>
                    <a:pt x="78973" y="2083"/>
                  </a:lnTo>
                  <a:lnTo>
                    <a:pt x="74868" y="3824"/>
                  </a:lnTo>
                  <a:lnTo>
                    <a:pt x="71285" y="5831"/>
                  </a:lnTo>
                  <a:lnTo>
                    <a:pt x="68050" y="8016"/>
                  </a:lnTo>
                  <a:lnTo>
                    <a:pt x="65046" y="10320"/>
                  </a:lnTo>
                  <a:lnTo>
                    <a:pt x="61350" y="12702"/>
                  </a:lnTo>
                  <a:lnTo>
                    <a:pt x="57193" y="15137"/>
                  </a:lnTo>
                  <a:lnTo>
                    <a:pt x="52729" y="17606"/>
                  </a:lnTo>
                  <a:lnTo>
                    <a:pt x="48906" y="20946"/>
                  </a:lnTo>
                  <a:lnTo>
                    <a:pt x="45510" y="24866"/>
                  </a:lnTo>
                  <a:lnTo>
                    <a:pt x="42400" y="29173"/>
                  </a:lnTo>
                  <a:lnTo>
                    <a:pt x="38633" y="33737"/>
                  </a:lnTo>
                  <a:lnTo>
                    <a:pt x="34429" y="38474"/>
                  </a:lnTo>
                  <a:lnTo>
                    <a:pt x="29932" y="43324"/>
                  </a:lnTo>
                  <a:lnTo>
                    <a:pt x="25241" y="49099"/>
                  </a:lnTo>
                  <a:lnTo>
                    <a:pt x="20420" y="55488"/>
                  </a:lnTo>
                  <a:lnTo>
                    <a:pt x="15514" y="62287"/>
                  </a:lnTo>
                  <a:lnTo>
                    <a:pt x="11395" y="68514"/>
                  </a:lnTo>
                  <a:lnTo>
                    <a:pt x="7803" y="74358"/>
                  </a:lnTo>
                  <a:lnTo>
                    <a:pt x="4562" y="79947"/>
                  </a:lnTo>
                  <a:lnTo>
                    <a:pt x="2401" y="85367"/>
                  </a:lnTo>
                  <a:lnTo>
                    <a:pt x="960" y="90673"/>
                  </a:lnTo>
                  <a:lnTo>
                    <a:pt x="0" y="95904"/>
                  </a:lnTo>
                  <a:lnTo>
                    <a:pt x="207" y="101085"/>
                  </a:lnTo>
                  <a:lnTo>
                    <a:pt x="1191" y="106232"/>
                  </a:lnTo>
                  <a:lnTo>
                    <a:pt x="2693" y="111357"/>
                  </a:lnTo>
                  <a:lnTo>
                    <a:pt x="4542" y="116466"/>
                  </a:lnTo>
                  <a:lnTo>
                    <a:pt x="6621" y="121566"/>
                  </a:lnTo>
                  <a:lnTo>
                    <a:pt x="8854" y="126660"/>
                  </a:lnTo>
                  <a:lnTo>
                    <a:pt x="12036" y="130055"/>
                  </a:lnTo>
                  <a:lnTo>
                    <a:pt x="15850" y="132319"/>
                  </a:lnTo>
                  <a:lnTo>
                    <a:pt x="31567" y="137762"/>
                  </a:lnTo>
                  <a:lnTo>
                    <a:pt x="38184" y="139997"/>
                  </a:lnTo>
                  <a:lnTo>
                    <a:pt x="45136" y="141487"/>
                  </a:lnTo>
                  <a:lnTo>
                    <a:pt x="52311" y="142480"/>
                  </a:lnTo>
                  <a:lnTo>
                    <a:pt x="59633" y="143142"/>
                  </a:lnTo>
                  <a:lnTo>
                    <a:pt x="67056" y="142737"/>
                  </a:lnTo>
                  <a:lnTo>
                    <a:pt x="74543" y="141620"/>
                  </a:lnTo>
                  <a:lnTo>
                    <a:pt x="82075" y="140028"/>
                  </a:lnTo>
                  <a:lnTo>
                    <a:pt x="89637" y="138121"/>
                  </a:lnTo>
                  <a:lnTo>
                    <a:pt x="97217" y="136003"/>
                  </a:lnTo>
                  <a:lnTo>
                    <a:pt x="104811" y="133744"/>
                  </a:lnTo>
                  <a:lnTo>
                    <a:pt x="111567" y="130545"/>
                  </a:lnTo>
                  <a:lnTo>
                    <a:pt x="117765" y="126718"/>
                  </a:lnTo>
                  <a:lnTo>
                    <a:pt x="123589" y="122474"/>
                  </a:lnTo>
                  <a:lnTo>
                    <a:pt x="129166" y="117951"/>
                  </a:lnTo>
                  <a:lnTo>
                    <a:pt x="134577" y="113243"/>
                  </a:lnTo>
                  <a:lnTo>
                    <a:pt x="139878" y="108411"/>
                  </a:lnTo>
                  <a:lnTo>
                    <a:pt x="143412" y="103496"/>
                  </a:lnTo>
                  <a:lnTo>
                    <a:pt x="145768" y="98526"/>
                  </a:lnTo>
                  <a:lnTo>
                    <a:pt x="147338" y="93519"/>
                  </a:lnTo>
                  <a:lnTo>
                    <a:pt x="148385" y="87642"/>
                  </a:lnTo>
                  <a:lnTo>
                    <a:pt x="149083" y="81183"/>
                  </a:lnTo>
                  <a:lnTo>
                    <a:pt x="149549" y="74337"/>
                  </a:lnTo>
                  <a:lnTo>
                    <a:pt x="149859" y="68080"/>
                  </a:lnTo>
                  <a:lnTo>
                    <a:pt x="150203" y="56612"/>
                  </a:lnTo>
                  <a:lnTo>
                    <a:pt x="148602" y="52030"/>
                  </a:lnTo>
                  <a:lnTo>
                    <a:pt x="145841" y="48129"/>
                  </a:lnTo>
                  <a:lnTo>
                    <a:pt x="142307" y="44681"/>
                  </a:lnTo>
                  <a:lnTo>
                    <a:pt x="139104" y="40690"/>
                  </a:lnTo>
                  <a:lnTo>
                    <a:pt x="136122" y="36335"/>
                  </a:lnTo>
                  <a:lnTo>
                    <a:pt x="133288" y="31739"/>
                  </a:lnTo>
                  <a:lnTo>
                    <a:pt x="129705" y="28674"/>
                  </a:lnTo>
                  <a:lnTo>
                    <a:pt x="125623" y="26632"/>
                  </a:lnTo>
                  <a:lnTo>
                    <a:pt x="121209" y="25270"/>
                  </a:lnTo>
                  <a:lnTo>
                    <a:pt x="117419" y="24362"/>
                  </a:lnTo>
                  <a:lnTo>
                    <a:pt x="114046" y="23757"/>
                  </a:lnTo>
                  <a:lnTo>
                    <a:pt x="104759" y="225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MARTInkAnnotation14"/>
            <p:cNvSpPr/>
            <p:nvPr/>
          </p:nvSpPr>
          <p:spPr>
            <a:xfrm>
              <a:off x="2964960" y="2255760"/>
              <a:ext cx="60480" cy="75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0513" h="7621">
                  <a:moveTo>
                    <a:pt x="-5024" y="0"/>
                  </a:moveTo>
                  <a:lnTo>
                    <a:pt x="0" y="0"/>
                  </a:lnTo>
                  <a:lnTo>
                    <a:pt x="-5505" y="0"/>
                  </a:lnTo>
                  <a:lnTo>
                    <a:pt x="-15672" y="0"/>
                  </a:lnTo>
                  <a:lnTo>
                    <a:pt x="-17203" y="847"/>
                  </a:lnTo>
                  <a:lnTo>
                    <a:pt x="-18223" y="2258"/>
                  </a:lnTo>
                  <a:lnTo>
                    <a:pt x="-18903" y="4045"/>
                  </a:lnTo>
                  <a:lnTo>
                    <a:pt x="-20203" y="5237"/>
                  </a:lnTo>
                  <a:lnTo>
                    <a:pt x="-21917" y="6031"/>
                  </a:lnTo>
                  <a:lnTo>
                    <a:pt x="-23906" y="6561"/>
                  </a:lnTo>
                  <a:lnTo>
                    <a:pt x="-26079" y="6914"/>
                  </a:lnTo>
                  <a:lnTo>
                    <a:pt x="-28374" y="7149"/>
                  </a:lnTo>
                  <a:lnTo>
                    <a:pt x="-30751" y="7306"/>
                  </a:lnTo>
                  <a:lnTo>
                    <a:pt x="32354" y="7410"/>
                  </a:lnTo>
                  <a:lnTo>
                    <a:pt x="22412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SMARTInkAnnotation15"/>
            <p:cNvSpPr/>
            <p:nvPr/>
          </p:nvSpPr>
          <p:spPr>
            <a:xfrm>
              <a:off x="3117600" y="2028600"/>
              <a:ext cx="178200" cy="24984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78213" h="250050">
                  <a:moveTo>
                    <a:pt x="159307" y="44309"/>
                  </a:moveTo>
                  <a:lnTo>
                    <a:pt x="163352" y="44309"/>
                  </a:lnTo>
                  <a:lnTo>
                    <a:pt x="164544" y="43462"/>
                  </a:lnTo>
                  <a:lnTo>
                    <a:pt x="165339" y="42051"/>
                  </a:lnTo>
                  <a:lnTo>
                    <a:pt x="166613" y="37748"/>
                  </a:lnTo>
                  <a:lnTo>
                    <a:pt x="170880" y="32958"/>
                  </a:lnTo>
                  <a:lnTo>
                    <a:pt x="177506" y="26176"/>
                  </a:lnTo>
                  <a:lnTo>
                    <a:pt x="178212" y="23754"/>
                  </a:lnTo>
                  <a:lnTo>
                    <a:pt x="177838" y="21292"/>
                  </a:lnTo>
                  <a:lnTo>
                    <a:pt x="175197" y="15304"/>
                  </a:lnTo>
                  <a:lnTo>
                    <a:pt x="170320" y="12226"/>
                  </a:lnTo>
                  <a:lnTo>
                    <a:pt x="166650" y="10221"/>
                  </a:lnTo>
                  <a:lnTo>
                    <a:pt x="163355" y="8037"/>
                  </a:lnTo>
                  <a:lnTo>
                    <a:pt x="160313" y="5734"/>
                  </a:lnTo>
                  <a:lnTo>
                    <a:pt x="157437" y="3353"/>
                  </a:lnTo>
                  <a:lnTo>
                    <a:pt x="152981" y="1765"/>
                  </a:lnTo>
                  <a:lnTo>
                    <a:pt x="147470" y="706"/>
                  </a:lnTo>
                  <a:lnTo>
                    <a:pt x="141255" y="0"/>
                  </a:lnTo>
                  <a:lnTo>
                    <a:pt x="134573" y="377"/>
                  </a:lnTo>
                  <a:lnTo>
                    <a:pt x="127578" y="1474"/>
                  </a:lnTo>
                  <a:lnTo>
                    <a:pt x="112185" y="4951"/>
                  </a:lnTo>
                  <a:lnTo>
                    <a:pt x="94056" y="9319"/>
                  </a:lnTo>
                  <a:lnTo>
                    <a:pt x="85326" y="12516"/>
                  </a:lnTo>
                  <a:lnTo>
                    <a:pt x="76966" y="16340"/>
                  </a:lnTo>
                  <a:lnTo>
                    <a:pt x="68853" y="20583"/>
                  </a:lnTo>
                  <a:lnTo>
                    <a:pt x="60905" y="24258"/>
                  </a:lnTo>
                  <a:lnTo>
                    <a:pt x="53065" y="27556"/>
                  </a:lnTo>
                  <a:lnTo>
                    <a:pt x="45299" y="30600"/>
                  </a:lnTo>
                  <a:lnTo>
                    <a:pt x="37582" y="34323"/>
                  </a:lnTo>
                  <a:lnTo>
                    <a:pt x="29897" y="38498"/>
                  </a:lnTo>
                  <a:lnTo>
                    <a:pt x="22234" y="42975"/>
                  </a:lnTo>
                  <a:lnTo>
                    <a:pt x="16278" y="48500"/>
                  </a:lnTo>
                  <a:lnTo>
                    <a:pt x="11462" y="54723"/>
                  </a:lnTo>
                  <a:lnTo>
                    <a:pt x="7404" y="61412"/>
                  </a:lnTo>
                  <a:lnTo>
                    <a:pt x="4698" y="66717"/>
                  </a:lnTo>
                  <a:lnTo>
                    <a:pt x="2895" y="71101"/>
                  </a:lnTo>
                  <a:lnTo>
                    <a:pt x="1692" y="74870"/>
                  </a:lnTo>
                  <a:lnTo>
                    <a:pt x="891" y="79077"/>
                  </a:lnTo>
                  <a:lnTo>
                    <a:pt x="356" y="83574"/>
                  </a:lnTo>
                  <a:lnTo>
                    <a:pt x="0" y="88266"/>
                  </a:lnTo>
                  <a:lnTo>
                    <a:pt x="609" y="91393"/>
                  </a:lnTo>
                  <a:lnTo>
                    <a:pt x="1862" y="93479"/>
                  </a:lnTo>
                  <a:lnTo>
                    <a:pt x="6358" y="96642"/>
                  </a:lnTo>
                  <a:lnTo>
                    <a:pt x="9928" y="98671"/>
                  </a:lnTo>
                  <a:lnTo>
                    <a:pt x="14001" y="100870"/>
                  </a:lnTo>
                  <a:lnTo>
                    <a:pt x="19256" y="102337"/>
                  </a:lnTo>
                  <a:lnTo>
                    <a:pt x="25300" y="103314"/>
                  </a:lnTo>
                  <a:lnTo>
                    <a:pt x="31869" y="103966"/>
                  </a:lnTo>
                  <a:lnTo>
                    <a:pt x="38789" y="103554"/>
                  </a:lnTo>
                  <a:lnTo>
                    <a:pt x="45942" y="102432"/>
                  </a:lnTo>
                  <a:lnTo>
                    <a:pt x="53250" y="100838"/>
                  </a:lnTo>
                  <a:lnTo>
                    <a:pt x="60663" y="99775"/>
                  </a:lnTo>
                  <a:lnTo>
                    <a:pt x="68145" y="99066"/>
                  </a:lnTo>
                  <a:lnTo>
                    <a:pt x="75672" y="98594"/>
                  </a:lnTo>
                  <a:lnTo>
                    <a:pt x="83231" y="96586"/>
                  </a:lnTo>
                  <a:lnTo>
                    <a:pt x="90810" y="93553"/>
                  </a:lnTo>
                  <a:lnTo>
                    <a:pt x="98402" y="89839"/>
                  </a:lnTo>
                  <a:lnTo>
                    <a:pt x="104311" y="86515"/>
                  </a:lnTo>
                  <a:lnTo>
                    <a:pt x="109096" y="83453"/>
                  </a:lnTo>
                  <a:lnTo>
                    <a:pt x="113133" y="80565"/>
                  </a:lnTo>
                  <a:lnTo>
                    <a:pt x="117518" y="76100"/>
                  </a:lnTo>
                  <a:lnTo>
                    <a:pt x="122134" y="70583"/>
                  </a:lnTo>
                  <a:lnTo>
                    <a:pt x="126905" y="64365"/>
                  </a:lnTo>
                  <a:lnTo>
                    <a:pt x="130933" y="59373"/>
                  </a:lnTo>
                  <a:lnTo>
                    <a:pt x="134464" y="55198"/>
                  </a:lnTo>
                  <a:lnTo>
                    <a:pt x="139799" y="48302"/>
                  </a:lnTo>
                  <a:lnTo>
                    <a:pt x="142170" y="42415"/>
                  </a:lnTo>
                  <a:lnTo>
                    <a:pt x="143224" y="36976"/>
                  </a:lnTo>
                  <a:lnTo>
                    <a:pt x="144018" y="29532"/>
                  </a:lnTo>
                  <a:lnTo>
                    <a:pt x="144058" y="35244"/>
                  </a:lnTo>
                  <a:lnTo>
                    <a:pt x="144063" y="39716"/>
                  </a:lnTo>
                  <a:lnTo>
                    <a:pt x="141808" y="46783"/>
                  </a:lnTo>
                  <a:lnTo>
                    <a:pt x="140021" y="51039"/>
                  </a:lnTo>
                  <a:lnTo>
                    <a:pt x="138829" y="56415"/>
                  </a:lnTo>
                  <a:lnTo>
                    <a:pt x="138036" y="62540"/>
                  </a:lnTo>
                  <a:lnTo>
                    <a:pt x="137506" y="69163"/>
                  </a:lnTo>
                  <a:lnTo>
                    <a:pt x="137153" y="76118"/>
                  </a:lnTo>
                  <a:lnTo>
                    <a:pt x="136761" y="90620"/>
                  </a:lnTo>
                  <a:lnTo>
                    <a:pt x="136448" y="204330"/>
                  </a:lnTo>
                  <a:lnTo>
                    <a:pt x="137294" y="211103"/>
                  </a:lnTo>
                  <a:lnTo>
                    <a:pt x="138706" y="217312"/>
                  </a:lnTo>
                  <a:lnTo>
                    <a:pt x="140493" y="223144"/>
                  </a:lnTo>
                  <a:lnTo>
                    <a:pt x="141684" y="227879"/>
                  </a:lnTo>
                  <a:lnTo>
                    <a:pt x="143008" y="235398"/>
                  </a:lnTo>
                  <a:lnTo>
                    <a:pt x="145854" y="241562"/>
                  </a:lnTo>
                  <a:lnTo>
                    <a:pt x="151687" y="2500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SMARTInkAnnotation16"/>
            <p:cNvSpPr/>
            <p:nvPr/>
          </p:nvSpPr>
          <p:spPr>
            <a:xfrm>
              <a:off x="3452400" y="2126520"/>
              <a:ext cx="228600" cy="223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28601" h="22539">
                  <a:moveTo>
                    <a:pt x="0" y="14918"/>
                  </a:moveTo>
                  <a:lnTo>
                    <a:pt x="0" y="10873"/>
                  </a:lnTo>
                  <a:lnTo>
                    <a:pt x="1694" y="9681"/>
                  </a:lnTo>
                  <a:lnTo>
                    <a:pt x="4516" y="8887"/>
                  </a:lnTo>
                  <a:lnTo>
                    <a:pt x="8091" y="8357"/>
                  </a:lnTo>
                  <a:lnTo>
                    <a:pt x="14320" y="7769"/>
                  </a:lnTo>
                  <a:lnTo>
                    <a:pt x="17167" y="7612"/>
                  </a:lnTo>
                  <a:lnTo>
                    <a:pt x="21605" y="6661"/>
                  </a:lnTo>
                  <a:lnTo>
                    <a:pt x="27103" y="5180"/>
                  </a:lnTo>
                  <a:lnTo>
                    <a:pt x="33309" y="3346"/>
                  </a:lnTo>
                  <a:lnTo>
                    <a:pt x="40833" y="2123"/>
                  </a:lnTo>
                  <a:lnTo>
                    <a:pt x="49235" y="1308"/>
                  </a:lnTo>
                  <a:lnTo>
                    <a:pt x="58223" y="765"/>
                  </a:lnTo>
                  <a:lnTo>
                    <a:pt x="79499" y="161"/>
                  </a:lnTo>
                  <a:lnTo>
                    <a:pt x="91100" y="0"/>
                  </a:lnTo>
                  <a:lnTo>
                    <a:pt x="103066" y="739"/>
                  </a:lnTo>
                  <a:lnTo>
                    <a:pt x="115277" y="2079"/>
                  </a:lnTo>
                  <a:lnTo>
                    <a:pt x="127652" y="3819"/>
                  </a:lnTo>
                  <a:lnTo>
                    <a:pt x="152689" y="8010"/>
                  </a:lnTo>
                  <a:lnTo>
                    <a:pt x="165293" y="10312"/>
                  </a:lnTo>
                  <a:lnTo>
                    <a:pt x="175389" y="11848"/>
                  </a:lnTo>
                  <a:lnTo>
                    <a:pt x="183812" y="12871"/>
                  </a:lnTo>
                  <a:lnTo>
                    <a:pt x="191122" y="13553"/>
                  </a:lnTo>
                  <a:lnTo>
                    <a:pt x="198535" y="14855"/>
                  </a:lnTo>
                  <a:lnTo>
                    <a:pt x="206016" y="16569"/>
                  </a:lnTo>
                  <a:lnTo>
                    <a:pt x="228600" y="225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MARTInkAnnotation17"/>
            <p:cNvSpPr/>
            <p:nvPr/>
          </p:nvSpPr>
          <p:spPr>
            <a:xfrm>
              <a:off x="3490200" y="2202480"/>
              <a:ext cx="137160" cy="226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37161" h="22861">
                  <a:moveTo>
                    <a:pt x="0" y="0"/>
                  </a:moveTo>
                  <a:lnTo>
                    <a:pt x="0" y="6561"/>
                  </a:lnTo>
                  <a:lnTo>
                    <a:pt x="847" y="6914"/>
                  </a:lnTo>
                  <a:lnTo>
                    <a:pt x="4045" y="7306"/>
                  </a:lnTo>
                  <a:lnTo>
                    <a:pt x="6930" y="8258"/>
                  </a:lnTo>
                  <a:lnTo>
                    <a:pt x="10546" y="9738"/>
                  </a:lnTo>
                  <a:lnTo>
                    <a:pt x="14651" y="11572"/>
                  </a:lnTo>
                  <a:lnTo>
                    <a:pt x="19927" y="13642"/>
                  </a:lnTo>
                  <a:lnTo>
                    <a:pt x="32563" y="18199"/>
                  </a:lnTo>
                  <a:lnTo>
                    <a:pt x="41182" y="19752"/>
                  </a:lnTo>
                  <a:lnTo>
                    <a:pt x="51162" y="20788"/>
                  </a:lnTo>
                  <a:lnTo>
                    <a:pt x="62048" y="21479"/>
                  </a:lnTo>
                  <a:lnTo>
                    <a:pt x="73538" y="21939"/>
                  </a:lnTo>
                  <a:lnTo>
                    <a:pt x="107397" y="22587"/>
                  </a:lnTo>
                  <a:lnTo>
                    <a:pt x="137160" y="228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MARTInkAnnotation18"/>
            <p:cNvSpPr/>
            <p:nvPr/>
          </p:nvSpPr>
          <p:spPr>
            <a:xfrm>
              <a:off x="4031280" y="2095560"/>
              <a:ext cx="68400" cy="1904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68581" h="190501">
                  <a:moveTo>
                    <a:pt x="68580" y="0"/>
                  </a:moveTo>
                  <a:lnTo>
                    <a:pt x="64535" y="4045"/>
                  </a:lnTo>
                  <a:lnTo>
                    <a:pt x="62496" y="6930"/>
                  </a:lnTo>
                  <a:lnTo>
                    <a:pt x="60291" y="10547"/>
                  </a:lnTo>
                  <a:lnTo>
                    <a:pt x="57974" y="14651"/>
                  </a:lnTo>
                  <a:lnTo>
                    <a:pt x="56430" y="18234"/>
                  </a:lnTo>
                  <a:lnTo>
                    <a:pt x="55399" y="21470"/>
                  </a:lnTo>
                  <a:lnTo>
                    <a:pt x="54713" y="24473"/>
                  </a:lnTo>
                  <a:lnTo>
                    <a:pt x="53409" y="28169"/>
                  </a:lnTo>
                  <a:lnTo>
                    <a:pt x="51693" y="32326"/>
                  </a:lnTo>
                  <a:lnTo>
                    <a:pt x="49701" y="36791"/>
                  </a:lnTo>
                  <a:lnTo>
                    <a:pt x="46682" y="42307"/>
                  </a:lnTo>
                  <a:lnTo>
                    <a:pt x="42974" y="48525"/>
                  </a:lnTo>
                  <a:lnTo>
                    <a:pt x="38809" y="55210"/>
                  </a:lnTo>
                  <a:lnTo>
                    <a:pt x="35187" y="62207"/>
                  </a:lnTo>
                  <a:lnTo>
                    <a:pt x="31924" y="69411"/>
                  </a:lnTo>
                  <a:lnTo>
                    <a:pt x="28902" y="76754"/>
                  </a:lnTo>
                  <a:lnTo>
                    <a:pt x="26042" y="84189"/>
                  </a:lnTo>
                  <a:lnTo>
                    <a:pt x="20605" y="99224"/>
                  </a:lnTo>
                  <a:lnTo>
                    <a:pt x="12784" y="121969"/>
                  </a:lnTo>
                  <a:lnTo>
                    <a:pt x="11063" y="128726"/>
                  </a:lnTo>
                  <a:lnTo>
                    <a:pt x="9915" y="134924"/>
                  </a:lnTo>
                  <a:lnTo>
                    <a:pt x="9150" y="140750"/>
                  </a:lnTo>
                  <a:lnTo>
                    <a:pt x="7794" y="146326"/>
                  </a:lnTo>
                  <a:lnTo>
                    <a:pt x="6042" y="151737"/>
                  </a:lnTo>
                  <a:lnTo>
                    <a:pt x="4028" y="157038"/>
                  </a:lnTo>
                  <a:lnTo>
                    <a:pt x="2685" y="162266"/>
                  </a:lnTo>
                  <a:lnTo>
                    <a:pt x="1791" y="167444"/>
                  </a:lnTo>
                  <a:lnTo>
                    <a:pt x="1194" y="172589"/>
                  </a:lnTo>
                  <a:lnTo>
                    <a:pt x="796" y="176866"/>
                  </a:lnTo>
                  <a:lnTo>
                    <a:pt x="530" y="180564"/>
                  </a:lnTo>
                  <a:lnTo>
                    <a:pt x="0" y="1905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SMARTInkAnnotation19"/>
            <p:cNvSpPr/>
            <p:nvPr/>
          </p:nvSpPr>
          <p:spPr>
            <a:xfrm>
              <a:off x="4195800" y="2019600"/>
              <a:ext cx="94680" cy="2282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94765" h="228601">
                  <a:moveTo>
                    <a:pt x="94764" y="0"/>
                  </a:moveTo>
                  <a:lnTo>
                    <a:pt x="90719" y="4045"/>
                  </a:lnTo>
                  <a:lnTo>
                    <a:pt x="89527" y="6084"/>
                  </a:lnTo>
                  <a:lnTo>
                    <a:pt x="87003" y="12997"/>
                  </a:lnTo>
                  <a:lnTo>
                    <a:pt x="85357" y="15438"/>
                  </a:lnTo>
                  <a:lnTo>
                    <a:pt x="83413" y="17912"/>
                  </a:lnTo>
                  <a:lnTo>
                    <a:pt x="81270" y="21255"/>
                  </a:lnTo>
                  <a:lnTo>
                    <a:pt x="78994" y="25177"/>
                  </a:lnTo>
                  <a:lnTo>
                    <a:pt x="76632" y="29484"/>
                  </a:lnTo>
                  <a:lnTo>
                    <a:pt x="73362" y="34050"/>
                  </a:lnTo>
                  <a:lnTo>
                    <a:pt x="69490" y="38787"/>
                  </a:lnTo>
                  <a:lnTo>
                    <a:pt x="65214" y="43638"/>
                  </a:lnTo>
                  <a:lnTo>
                    <a:pt x="61518" y="49412"/>
                  </a:lnTo>
                  <a:lnTo>
                    <a:pt x="58207" y="55801"/>
                  </a:lnTo>
                  <a:lnTo>
                    <a:pt x="55152" y="62601"/>
                  </a:lnTo>
                  <a:lnTo>
                    <a:pt x="52270" y="69674"/>
                  </a:lnTo>
                  <a:lnTo>
                    <a:pt x="49501" y="76929"/>
                  </a:lnTo>
                  <a:lnTo>
                    <a:pt x="44167" y="91764"/>
                  </a:lnTo>
                  <a:lnTo>
                    <a:pt x="38974" y="106824"/>
                  </a:lnTo>
                  <a:lnTo>
                    <a:pt x="35557" y="114396"/>
                  </a:lnTo>
                  <a:lnTo>
                    <a:pt x="31586" y="121984"/>
                  </a:lnTo>
                  <a:lnTo>
                    <a:pt x="27246" y="129583"/>
                  </a:lnTo>
                  <a:lnTo>
                    <a:pt x="23505" y="137188"/>
                  </a:lnTo>
                  <a:lnTo>
                    <a:pt x="20165" y="144799"/>
                  </a:lnTo>
                  <a:lnTo>
                    <a:pt x="17091" y="152413"/>
                  </a:lnTo>
                  <a:lnTo>
                    <a:pt x="11419" y="167646"/>
                  </a:lnTo>
                  <a:lnTo>
                    <a:pt x="8720" y="175264"/>
                  </a:lnTo>
                  <a:lnTo>
                    <a:pt x="6075" y="182036"/>
                  </a:lnTo>
                  <a:lnTo>
                    <a:pt x="3464" y="188244"/>
                  </a:lnTo>
                  <a:lnTo>
                    <a:pt x="878" y="194076"/>
                  </a:lnTo>
                  <a:lnTo>
                    <a:pt x="0" y="199658"/>
                  </a:lnTo>
                  <a:lnTo>
                    <a:pt x="261" y="205071"/>
                  </a:lnTo>
                  <a:lnTo>
                    <a:pt x="1282" y="210374"/>
                  </a:lnTo>
                  <a:lnTo>
                    <a:pt x="1963" y="214756"/>
                  </a:lnTo>
                  <a:lnTo>
                    <a:pt x="2719" y="221883"/>
                  </a:lnTo>
                  <a:lnTo>
                    <a:pt x="3324" y="2286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SMARTInkAnnotation20"/>
            <p:cNvSpPr/>
            <p:nvPr/>
          </p:nvSpPr>
          <p:spPr>
            <a:xfrm>
              <a:off x="4381920" y="2171880"/>
              <a:ext cx="22680" cy="9108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22861" h="91441">
                  <a:moveTo>
                    <a:pt x="22860" y="0"/>
                  </a:moveTo>
                  <a:lnTo>
                    <a:pt x="22860" y="37077"/>
                  </a:lnTo>
                  <a:lnTo>
                    <a:pt x="22013" y="40804"/>
                  </a:lnTo>
                  <a:lnTo>
                    <a:pt x="20602" y="44136"/>
                  </a:lnTo>
                  <a:lnTo>
                    <a:pt x="18815" y="47204"/>
                  </a:lnTo>
                  <a:lnTo>
                    <a:pt x="17623" y="50943"/>
                  </a:lnTo>
                  <a:lnTo>
                    <a:pt x="16829" y="55129"/>
                  </a:lnTo>
                  <a:lnTo>
                    <a:pt x="16299" y="59612"/>
                  </a:lnTo>
                  <a:lnTo>
                    <a:pt x="15099" y="63448"/>
                  </a:lnTo>
                  <a:lnTo>
                    <a:pt x="13453" y="66852"/>
                  </a:lnTo>
                  <a:lnTo>
                    <a:pt x="11509" y="69968"/>
                  </a:lnTo>
                  <a:lnTo>
                    <a:pt x="9366" y="73739"/>
                  </a:lnTo>
                  <a:lnTo>
                    <a:pt x="0" y="914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SMARTInkAnnotation21"/>
            <p:cNvSpPr/>
            <p:nvPr/>
          </p:nvSpPr>
          <p:spPr>
            <a:xfrm>
              <a:off x="4633200" y="2065320"/>
              <a:ext cx="258840" cy="2127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59082" h="212992">
                  <a:moveTo>
                    <a:pt x="0" y="7612"/>
                  </a:moveTo>
                  <a:lnTo>
                    <a:pt x="4045" y="7612"/>
                  </a:lnTo>
                  <a:lnTo>
                    <a:pt x="10546" y="5354"/>
                  </a:lnTo>
                  <a:lnTo>
                    <a:pt x="14651" y="3567"/>
                  </a:lnTo>
                  <a:lnTo>
                    <a:pt x="20774" y="2375"/>
                  </a:lnTo>
                  <a:lnTo>
                    <a:pt x="28243" y="1581"/>
                  </a:lnTo>
                  <a:lnTo>
                    <a:pt x="36608" y="1051"/>
                  </a:lnTo>
                  <a:lnTo>
                    <a:pt x="52677" y="463"/>
                  </a:lnTo>
                  <a:lnTo>
                    <a:pt x="78262" y="132"/>
                  </a:lnTo>
                  <a:lnTo>
                    <a:pt x="143396" y="0"/>
                  </a:lnTo>
                  <a:lnTo>
                    <a:pt x="150631" y="844"/>
                  </a:lnTo>
                  <a:lnTo>
                    <a:pt x="157147" y="2253"/>
                  </a:lnTo>
                  <a:lnTo>
                    <a:pt x="163184" y="4040"/>
                  </a:lnTo>
                  <a:lnTo>
                    <a:pt x="168903" y="6077"/>
                  </a:lnTo>
                  <a:lnTo>
                    <a:pt x="174409" y="8282"/>
                  </a:lnTo>
                  <a:lnTo>
                    <a:pt x="179773" y="10599"/>
                  </a:lnTo>
                  <a:lnTo>
                    <a:pt x="183349" y="12990"/>
                  </a:lnTo>
                  <a:lnTo>
                    <a:pt x="185732" y="15430"/>
                  </a:lnTo>
                  <a:lnTo>
                    <a:pt x="187322" y="17904"/>
                  </a:lnTo>
                  <a:lnTo>
                    <a:pt x="188381" y="21247"/>
                  </a:lnTo>
                  <a:lnTo>
                    <a:pt x="189088" y="25169"/>
                  </a:lnTo>
                  <a:lnTo>
                    <a:pt x="189558" y="29477"/>
                  </a:lnTo>
                  <a:lnTo>
                    <a:pt x="189026" y="34042"/>
                  </a:lnTo>
                  <a:lnTo>
                    <a:pt x="187824" y="38778"/>
                  </a:lnTo>
                  <a:lnTo>
                    <a:pt x="186176" y="43630"/>
                  </a:lnTo>
                  <a:lnTo>
                    <a:pt x="183384" y="48557"/>
                  </a:lnTo>
                  <a:lnTo>
                    <a:pt x="179830" y="53536"/>
                  </a:lnTo>
                  <a:lnTo>
                    <a:pt x="175767" y="58548"/>
                  </a:lnTo>
                  <a:lnTo>
                    <a:pt x="170518" y="63582"/>
                  </a:lnTo>
                  <a:lnTo>
                    <a:pt x="164479" y="68632"/>
                  </a:lnTo>
                  <a:lnTo>
                    <a:pt x="157913" y="73692"/>
                  </a:lnTo>
                  <a:lnTo>
                    <a:pt x="150995" y="78759"/>
                  </a:lnTo>
                  <a:lnTo>
                    <a:pt x="136536" y="88904"/>
                  </a:lnTo>
                  <a:lnTo>
                    <a:pt x="129124" y="94827"/>
                  </a:lnTo>
                  <a:lnTo>
                    <a:pt x="121643" y="101315"/>
                  </a:lnTo>
                  <a:lnTo>
                    <a:pt x="114115" y="108181"/>
                  </a:lnTo>
                  <a:lnTo>
                    <a:pt x="104863" y="114451"/>
                  </a:lnTo>
                  <a:lnTo>
                    <a:pt x="94463" y="120325"/>
                  </a:lnTo>
                  <a:lnTo>
                    <a:pt x="83295" y="125934"/>
                  </a:lnTo>
                  <a:lnTo>
                    <a:pt x="74157" y="131367"/>
                  </a:lnTo>
                  <a:lnTo>
                    <a:pt x="66371" y="136682"/>
                  </a:lnTo>
                  <a:lnTo>
                    <a:pt x="59487" y="141919"/>
                  </a:lnTo>
                  <a:lnTo>
                    <a:pt x="45066" y="152253"/>
                  </a:lnTo>
                  <a:lnTo>
                    <a:pt x="37664" y="157379"/>
                  </a:lnTo>
                  <a:lnTo>
                    <a:pt x="31882" y="161644"/>
                  </a:lnTo>
                  <a:lnTo>
                    <a:pt x="27182" y="165333"/>
                  </a:lnTo>
                  <a:lnTo>
                    <a:pt x="23201" y="168640"/>
                  </a:lnTo>
                  <a:lnTo>
                    <a:pt x="20547" y="171690"/>
                  </a:lnTo>
                  <a:lnTo>
                    <a:pt x="18778" y="174571"/>
                  </a:lnTo>
                  <a:lnTo>
                    <a:pt x="17599" y="177338"/>
                  </a:lnTo>
                  <a:lnTo>
                    <a:pt x="17659" y="180876"/>
                  </a:lnTo>
                  <a:lnTo>
                    <a:pt x="18546" y="184928"/>
                  </a:lnTo>
                  <a:lnTo>
                    <a:pt x="19984" y="189323"/>
                  </a:lnTo>
                  <a:lnTo>
                    <a:pt x="23483" y="193099"/>
                  </a:lnTo>
                  <a:lnTo>
                    <a:pt x="28355" y="196463"/>
                  </a:lnTo>
                  <a:lnTo>
                    <a:pt x="34143" y="199553"/>
                  </a:lnTo>
                  <a:lnTo>
                    <a:pt x="39696" y="201613"/>
                  </a:lnTo>
                  <a:lnTo>
                    <a:pt x="45090" y="202986"/>
                  </a:lnTo>
                  <a:lnTo>
                    <a:pt x="50380" y="203901"/>
                  </a:lnTo>
                  <a:lnTo>
                    <a:pt x="78051" y="209235"/>
                  </a:lnTo>
                  <a:lnTo>
                    <a:pt x="89287" y="210607"/>
                  </a:lnTo>
                  <a:lnTo>
                    <a:pt x="101012" y="211522"/>
                  </a:lnTo>
                  <a:lnTo>
                    <a:pt x="113062" y="212132"/>
                  </a:lnTo>
                  <a:lnTo>
                    <a:pt x="137739" y="212810"/>
                  </a:lnTo>
                  <a:lnTo>
                    <a:pt x="150246" y="212991"/>
                  </a:lnTo>
                  <a:lnTo>
                    <a:pt x="162817" y="212265"/>
                  </a:lnTo>
                  <a:lnTo>
                    <a:pt x="175432" y="210934"/>
                  </a:lnTo>
                  <a:lnTo>
                    <a:pt x="188075" y="209200"/>
                  </a:lnTo>
                  <a:lnTo>
                    <a:pt x="200736" y="208044"/>
                  </a:lnTo>
                  <a:lnTo>
                    <a:pt x="213411" y="207274"/>
                  </a:lnTo>
                  <a:lnTo>
                    <a:pt x="259081" y="2057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MARTInkAnnotation22"/>
            <p:cNvSpPr/>
            <p:nvPr/>
          </p:nvSpPr>
          <p:spPr>
            <a:xfrm>
              <a:off x="1531800" y="4434840"/>
              <a:ext cx="174960" cy="147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75261" h="14925">
                  <a:moveTo>
                    <a:pt x="0" y="14924"/>
                  </a:moveTo>
                  <a:lnTo>
                    <a:pt x="6561" y="8363"/>
                  </a:lnTo>
                  <a:lnTo>
                    <a:pt x="7761" y="8010"/>
                  </a:lnTo>
                  <a:lnTo>
                    <a:pt x="11352" y="7618"/>
                  </a:lnTo>
                  <a:lnTo>
                    <a:pt x="15769" y="7444"/>
                  </a:lnTo>
                  <a:lnTo>
                    <a:pt x="18133" y="7397"/>
                  </a:lnTo>
                  <a:lnTo>
                    <a:pt x="21402" y="6519"/>
                  </a:lnTo>
                  <a:lnTo>
                    <a:pt x="25275" y="5088"/>
                  </a:lnTo>
                  <a:lnTo>
                    <a:pt x="29550" y="3287"/>
                  </a:lnTo>
                  <a:lnTo>
                    <a:pt x="34093" y="2086"/>
                  </a:lnTo>
                  <a:lnTo>
                    <a:pt x="38815" y="1285"/>
                  </a:lnTo>
                  <a:lnTo>
                    <a:pt x="43657" y="752"/>
                  </a:lnTo>
                  <a:lnTo>
                    <a:pt x="49425" y="396"/>
                  </a:lnTo>
                  <a:lnTo>
                    <a:pt x="62607" y="0"/>
                  </a:lnTo>
                  <a:lnTo>
                    <a:pt x="67984" y="742"/>
                  </a:lnTo>
                  <a:lnTo>
                    <a:pt x="72416" y="2082"/>
                  </a:lnTo>
                  <a:lnTo>
                    <a:pt x="76218" y="3823"/>
                  </a:lnTo>
                  <a:lnTo>
                    <a:pt x="81292" y="4983"/>
                  </a:lnTo>
                  <a:lnTo>
                    <a:pt x="87215" y="5757"/>
                  </a:lnTo>
                  <a:lnTo>
                    <a:pt x="93703" y="6273"/>
                  </a:lnTo>
                  <a:lnTo>
                    <a:pt x="99722" y="6616"/>
                  </a:lnTo>
                  <a:lnTo>
                    <a:pt x="110926" y="6998"/>
                  </a:lnTo>
                  <a:lnTo>
                    <a:pt x="131915" y="7244"/>
                  </a:lnTo>
                  <a:lnTo>
                    <a:pt x="175260" y="73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SMARTInkAnnotation23"/>
            <p:cNvSpPr/>
            <p:nvPr/>
          </p:nvSpPr>
          <p:spPr>
            <a:xfrm>
              <a:off x="1768320" y="4205880"/>
              <a:ext cx="114120" cy="449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114234" h="449581">
                  <a:moveTo>
                    <a:pt x="68513" y="0"/>
                  </a:moveTo>
                  <a:lnTo>
                    <a:pt x="68513" y="4045"/>
                  </a:lnTo>
                  <a:lnTo>
                    <a:pt x="67666" y="6084"/>
                  </a:lnTo>
                  <a:lnTo>
                    <a:pt x="64468" y="10606"/>
                  </a:lnTo>
                  <a:lnTo>
                    <a:pt x="62430" y="12151"/>
                  </a:lnTo>
                  <a:lnTo>
                    <a:pt x="60224" y="13181"/>
                  </a:lnTo>
                  <a:lnTo>
                    <a:pt x="57907" y="13867"/>
                  </a:lnTo>
                  <a:lnTo>
                    <a:pt x="55516" y="16018"/>
                  </a:lnTo>
                  <a:lnTo>
                    <a:pt x="53075" y="19145"/>
                  </a:lnTo>
                  <a:lnTo>
                    <a:pt x="50601" y="22924"/>
                  </a:lnTo>
                  <a:lnTo>
                    <a:pt x="48105" y="27136"/>
                  </a:lnTo>
                  <a:lnTo>
                    <a:pt x="45595" y="31637"/>
                  </a:lnTo>
                  <a:lnTo>
                    <a:pt x="40547" y="41154"/>
                  </a:lnTo>
                  <a:lnTo>
                    <a:pt x="35482" y="51028"/>
                  </a:lnTo>
                  <a:lnTo>
                    <a:pt x="32945" y="56879"/>
                  </a:lnTo>
                  <a:lnTo>
                    <a:pt x="30408" y="63320"/>
                  </a:lnTo>
                  <a:lnTo>
                    <a:pt x="25331" y="77249"/>
                  </a:lnTo>
                  <a:lnTo>
                    <a:pt x="20252" y="91906"/>
                  </a:lnTo>
                  <a:lnTo>
                    <a:pt x="16866" y="99371"/>
                  </a:lnTo>
                  <a:lnTo>
                    <a:pt x="12915" y="106887"/>
                  </a:lnTo>
                  <a:lnTo>
                    <a:pt x="8588" y="114438"/>
                  </a:lnTo>
                  <a:lnTo>
                    <a:pt x="5703" y="122012"/>
                  </a:lnTo>
                  <a:lnTo>
                    <a:pt x="3779" y="129602"/>
                  </a:lnTo>
                  <a:lnTo>
                    <a:pt x="2497" y="137201"/>
                  </a:lnTo>
                  <a:lnTo>
                    <a:pt x="1643" y="145654"/>
                  </a:lnTo>
                  <a:lnTo>
                    <a:pt x="1072" y="154676"/>
                  </a:lnTo>
                  <a:lnTo>
                    <a:pt x="440" y="172885"/>
                  </a:lnTo>
                  <a:lnTo>
                    <a:pt x="83" y="198263"/>
                  </a:lnTo>
                  <a:lnTo>
                    <a:pt x="0" y="217092"/>
                  </a:lnTo>
                  <a:lnTo>
                    <a:pt x="824" y="226855"/>
                  </a:lnTo>
                  <a:lnTo>
                    <a:pt x="2220" y="236750"/>
                  </a:lnTo>
                  <a:lnTo>
                    <a:pt x="3998" y="246734"/>
                  </a:lnTo>
                  <a:lnTo>
                    <a:pt x="6876" y="256776"/>
                  </a:lnTo>
                  <a:lnTo>
                    <a:pt x="10489" y="266858"/>
                  </a:lnTo>
                  <a:lnTo>
                    <a:pt x="14590" y="276965"/>
                  </a:lnTo>
                  <a:lnTo>
                    <a:pt x="18171" y="287090"/>
                  </a:lnTo>
                  <a:lnTo>
                    <a:pt x="21405" y="297227"/>
                  </a:lnTo>
                  <a:lnTo>
                    <a:pt x="24408" y="307371"/>
                  </a:lnTo>
                  <a:lnTo>
                    <a:pt x="28103" y="317521"/>
                  </a:lnTo>
                  <a:lnTo>
                    <a:pt x="32260" y="327674"/>
                  </a:lnTo>
                  <a:lnTo>
                    <a:pt x="36724" y="337829"/>
                  </a:lnTo>
                  <a:lnTo>
                    <a:pt x="42241" y="347139"/>
                  </a:lnTo>
                  <a:lnTo>
                    <a:pt x="48458" y="355886"/>
                  </a:lnTo>
                  <a:lnTo>
                    <a:pt x="55143" y="364258"/>
                  </a:lnTo>
                  <a:lnTo>
                    <a:pt x="61293" y="373225"/>
                  </a:lnTo>
                  <a:lnTo>
                    <a:pt x="67087" y="382590"/>
                  </a:lnTo>
                  <a:lnTo>
                    <a:pt x="72642" y="392220"/>
                  </a:lnTo>
                  <a:lnTo>
                    <a:pt x="83331" y="411951"/>
                  </a:lnTo>
                  <a:lnTo>
                    <a:pt x="88551" y="421954"/>
                  </a:lnTo>
                  <a:lnTo>
                    <a:pt x="93726" y="429470"/>
                  </a:lnTo>
                  <a:lnTo>
                    <a:pt x="98868" y="435327"/>
                  </a:lnTo>
                  <a:lnTo>
                    <a:pt x="114233" y="4495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SMARTInkAnnotation24"/>
            <p:cNvSpPr/>
            <p:nvPr/>
          </p:nvSpPr>
          <p:spPr>
            <a:xfrm>
              <a:off x="1913040" y="4282200"/>
              <a:ext cx="258480" cy="28152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58619" h="281932">
                  <a:moveTo>
                    <a:pt x="0" y="22851"/>
                  </a:moveTo>
                  <a:lnTo>
                    <a:pt x="10606" y="22851"/>
                  </a:lnTo>
                  <a:lnTo>
                    <a:pt x="17696" y="25109"/>
                  </a:lnTo>
                  <a:lnTo>
                    <a:pt x="21957" y="26896"/>
                  </a:lnTo>
                  <a:lnTo>
                    <a:pt x="26492" y="28088"/>
                  </a:lnTo>
                  <a:lnTo>
                    <a:pt x="31208" y="28882"/>
                  </a:lnTo>
                  <a:lnTo>
                    <a:pt x="36045" y="29412"/>
                  </a:lnTo>
                  <a:lnTo>
                    <a:pt x="41810" y="28918"/>
                  </a:lnTo>
                  <a:lnTo>
                    <a:pt x="48194" y="27743"/>
                  </a:lnTo>
                  <a:lnTo>
                    <a:pt x="54989" y="26112"/>
                  </a:lnTo>
                  <a:lnTo>
                    <a:pt x="62059" y="25025"/>
                  </a:lnTo>
                  <a:lnTo>
                    <a:pt x="69313" y="24300"/>
                  </a:lnTo>
                  <a:lnTo>
                    <a:pt x="76689" y="23818"/>
                  </a:lnTo>
                  <a:lnTo>
                    <a:pt x="84146" y="23495"/>
                  </a:lnTo>
                  <a:lnTo>
                    <a:pt x="99205" y="23137"/>
                  </a:lnTo>
                  <a:lnTo>
                    <a:pt x="107624" y="22195"/>
                  </a:lnTo>
                  <a:lnTo>
                    <a:pt x="116622" y="20721"/>
                  </a:lnTo>
                  <a:lnTo>
                    <a:pt x="126008" y="18891"/>
                  </a:lnTo>
                  <a:lnTo>
                    <a:pt x="134806" y="17671"/>
                  </a:lnTo>
                  <a:lnTo>
                    <a:pt x="143210" y="16858"/>
                  </a:lnTo>
                  <a:lnTo>
                    <a:pt x="151354" y="16316"/>
                  </a:lnTo>
                  <a:lnTo>
                    <a:pt x="160169" y="15107"/>
                  </a:lnTo>
                  <a:lnTo>
                    <a:pt x="169433" y="13455"/>
                  </a:lnTo>
                  <a:lnTo>
                    <a:pt x="178995" y="11507"/>
                  </a:lnTo>
                  <a:lnTo>
                    <a:pt x="187910" y="10209"/>
                  </a:lnTo>
                  <a:lnTo>
                    <a:pt x="196394" y="9343"/>
                  </a:lnTo>
                  <a:lnTo>
                    <a:pt x="204589" y="8765"/>
                  </a:lnTo>
                  <a:lnTo>
                    <a:pt x="211746" y="7534"/>
                  </a:lnTo>
                  <a:lnTo>
                    <a:pt x="218211" y="5866"/>
                  </a:lnTo>
                  <a:lnTo>
                    <a:pt x="224214" y="3908"/>
                  </a:lnTo>
                  <a:lnTo>
                    <a:pt x="229063" y="2603"/>
                  </a:lnTo>
                  <a:lnTo>
                    <a:pt x="236708" y="1152"/>
                  </a:lnTo>
                  <a:lnTo>
                    <a:pt x="242928" y="507"/>
                  </a:lnTo>
                  <a:lnTo>
                    <a:pt x="248515" y="220"/>
                  </a:lnTo>
                  <a:lnTo>
                    <a:pt x="258618" y="0"/>
                  </a:lnTo>
                  <a:lnTo>
                    <a:pt x="250730" y="8281"/>
                  </a:lnTo>
                  <a:lnTo>
                    <a:pt x="248434" y="10598"/>
                  </a:lnTo>
                  <a:lnTo>
                    <a:pt x="243624" y="17688"/>
                  </a:lnTo>
                  <a:lnTo>
                    <a:pt x="237818" y="26483"/>
                  </a:lnTo>
                  <a:lnTo>
                    <a:pt x="233898" y="31199"/>
                  </a:lnTo>
                  <a:lnTo>
                    <a:pt x="229592" y="36036"/>
                  </a:lnTo>
                  <a:lnTo>
                    <a:pt x="218034" y="48184"/>
                  </a:lnTo>
                  <a:lnTo>
                    <a:pt x="211396" y="54980"/>
                  </a:lnTo>
                  <a:lnTo>
                    <a:pt x="205278" y="62051"/>
                  </a:lnTo>
                  <a:lnTo>
                    <a:pt x="199505" y="69304"/>
                  </a:lnTo>
                  <a:lnTo>
                    <a:pt x="193963" y="76680"/>
                  </a:lnTo>
                  <a:lnTo>
                    <a:pt x="183290" y="91648"/>
                  </a:lnTo>
                  <a:lnTo>
                    <a:pt x="178074" y="99196"/>
                  </a:lnTo>
                  <a:lnTo>
                    <a:pt x="172056" y="106767"/>
                  </a:lnTo>
                  <a:lnTo>
                    <a:pt x="165504" y="114356"/>
                  </a:lnTo>
                  <a:lnTo>
                    <a:pt x="158596" y="121954"/>
                  </a:lnTo>
                  <a:lnTo>
                    <a:pt x="152297" y="129560"/>
                  </a:lnTo>
                  <a:lnTo>
                    <a:pt x="146405" y="137170"/>
                  </a:lnTo>
                  <a:lnTo>
                    <a:pt x="140783" y="144783"/>
                  </a:lnTo>
                  <a:lnTo>
                    <a:pt x="130022" y="160017"/>
                  </a:lnTo>
                  <a:lnTo>
                    <a:pt x="124781" y="167635"/>
                  </a:lnTo>
                  <a:lnTo>
                    <a:pt x="120441" y="175254"/>
                  </a:lnTo>
                  <a:lnTo>
                    <a:pt x="116701" y="182873"/>
                  </a:lnTo>
                  <a:lnTo>
                    <a:pt x="110287" y="197265"/>
                  </a:lnTo>
                  <a:lnTo>
                    <a:pt x="104614" y="209306"/>
                  </a:lnTo>
                  <a:lnTo>
                    <a:pt x="101069" y="215735"/>
                  </a:lnTo>
                  <a:lnTo>
                    <a:pt x="97013" y="222560"/>
                  </a:lnTo>
                  <a:lnTo>
                    <a:pt x="92616" y="229650"/>
                  </a:lnTo>
                  <a:lnTo>
                    <a:pt x="88837" y="236071"/>
                  </a:lnTo>
                  <a:lnTo>
                    <a:pt x="85471" y="242044"/>
                  </a:lnTo>
                  <a:lnTo>
                    <a:pt x="82381" y="247719"/>
                  </a:lnTo>
                  <a:lnTo>
                    <a:pt x="78947" y="256284"/>
                  </a:lnTo>
                  <a:lnTo>
                    <a:pt x="77421" y="262912"/>
                  </a:lnTo>
                  <a:lnTo>
                    <a:pt x="76562" y="270557"/>
                  </a:lnTo>
                  <a:lnTo>
                    <a:pt x="76272" y="275827"/>
                  </a:lnTo>
                  <a:lnTo>
                    <a:pt x="76200" y="2819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SMARTInkAnnotation25"/>
            <p:cNvSpPr/>
            <p:nvPr/>
          </p:nvSpPr>
          <p:spPr>
            <a:xfrm>
              <a:off x="1951200" y="4457160"/>
              <a:ext cx="144720" cy="453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44781" h="45721">
                  <a:moveTo>
                    <a:pt x="0" y="0"/>
                  </a:moveTo>
                  <a:lnTo>
                    <a:pt x="4045" y="4045"/>
                  </a:lnTo>
                  <a:lnTo>
                    <a:pt x="6084" y="5237"/>
                  </a:lnTo>
                  <a:lnTo>
                    <a:pt x="10606" y="6561"/>
                  </a:lnTo>
                  <a:lnTo>
                    <a:pt x="14691" y="6914"/>
                  </a:lnTo>
                  <a:lnTo>
                    <a:pt x="19954" y="7150"/>
                  </a:lnTo>
                  <a:lnTo>
                    <a:pt x="26003" y="7307"/>
                  </a:lnTo>
                  <a:lnTo>
                    <a:pt x="31729" y="8258"/>
                  </a:lnTo>
                  <a:lnTo>
                    <a:pt x="37239" y="9739"/>
                  </a:lnTo>
                  <a:lnTo>
                    <a:pt x="42606" y="11573"/>
                  </a:lnTo>
                  <a:lnTo>
                    <a:pt x="49571" y="13642"/>
                  </a:lnTo>
                  <a:lnTo>
                    <a:pt x="74707" y="20599"/>
                  </a:lnTo>
                  <a:lnTo>
                    <a:pt x="90776" y="25524"/>
                  </a:lnTo>
                  <a:lnTo>
                    <a:pt x="97771" y="27176"/>
                  </a:lnTo>
                  <a:lnTo>
                    <a:pt x="104127" y="28277"/>
                  </a:lnTo>
                  <a:lnTo>
                    <a:pt x="110058" y="29012"/>
                  </a:lnTo>
                  <a:lnTo>
                    <a:pt x="115705" y="30348"/>
                  </a:lnTo>
                  <a:lnTo>
                    <a:pt x="121164" y="32086"/>
                  </a:lnTo>
                  <a:lnTo>
                    <a:pt x="126496" y="34091"/>
                  </a:lnTo>
                  <a:lnTo>
                    <a:pt x="130897" y="36274"/>
                  </a:lnTo>
                  <a:lnTo>
                    <a:pt x="134678" y="38576"/>
                  </a:lnTo>
                  <a:lnTo>
                    <a:pt x="144780" y="457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SMARTInkAnnotation26"/>
            <p:cNvSpPr/>
            <p:nvPr/>
          </p:nvSpPr>
          <p:spPr>
            <a:xfrm>
              <a:off x="2171880" y="4502880"/>
              <a:ext cx="7560" cy="453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7621" h="45721">
                  <a:moveTo>
                    <a:pt x="0" y="0"/>
                  </a:moveTo>
                  <a:lnTo>
                    <a:pt x="0" y="21479"/>
                  </a:lnTo>
                  <a:lnTo>
                    <a:pt x="847" y="22786"/>
                  </a:lnTo>
                  <a:lnTo>
                    <a:pt x="2258" y="24504"/>
                  </a:lnTo>
                  <a:lnTo>
                    <a:pt x="4045" y="26496"/>
                  </a:lnTo>
                  <a:lnTo>
                    <a:pt x="5237" y="28671"/>
                  </a:lnTo>
                  <a:lnTo>
                    <a:pt x="6032" y="30967"/>
                  </a:lnTo>
                  <a:lnTo>
                    <a:pt x="6561" y="-32191"/>
                  </a:lnTo>
                  <a:lnTo>
                    <a:pt x="6914" y="-29759"/>
                  </a:lnTo>
                  <a:lnTo>
                    <a:pt x="7150" y="-27291"/>
                  </a:lnTo>
                  <a:lnTo>
                    <a:pt x="7620" y="-198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SMARTInkAnnotation27"/>
            <p:cNvSpPr/>
            <p:nvPr/>
          </p:nvSpPr>
          <p:spPr>
            <a:xfrm>
              <a:off x="2293920" y="4320360"/>
              <a:ext cx="30240" cy="2358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30481" h="235907">
                  <a:moveTo>
                    <a:pt x="30480" y="7306"/>
                  </a:moveTo>
                  <a:lnTo>
                    <a:pt x="30480" y="0"/>
                  </a:lnTo>
                  <a:lnTo>
                    <a:pt x="30480" y="49885"/>
                  </a:lnTo>
                  <a:lnTo>
                    <a:pt x="29634" y="56013"/>
                  </a:lnTo>
                  <a:lnTo>
                    <a:pt x="28222" y="62637"/>
                  </a:lnTo>
                  <a:lnTo>
                    <a:pt x="26435" y="69593"/>
                  </a:lnTo>
                  <a:lnTo>
                    <a:pt x="24397" y="76771"/>
                  </a:lnTo>
                  <a:lnTo>
                    <a:pt x="19874" y="91520"/>
                  </a:lnTo>
                  <a:lnTo>
                    <a:pt x="18330" y="99009"/>
                  </a:lnTo>
                  <a:lnTo>
                    <a:pt x="17300" y="106541"/>
                  </a:lnTo>
                  <a:lnTo>
                    <a:pt x="16613" y="114103"/>
                  </a:lnTo>
                  <a:lnTo>
                    <a:pt x="15309" y="121684"/>
                  </a:lnTo>
                  <a:lnTo>
                    <a:pt x="13593" y="129278"/>
                  </a:lnTo>
                  <a:lnTo>
                    <a:pt x="11602" y="136881"/>
                  </a:lnTo>
                  <a:lnTo>
                    <a:pt x="10275" y="144489"/>
                  </a:lnTo>
                  <a:lnTo>
                    <a:pt x="9390" y="152101"/>
                  </a:lnTo>
                  <a:lnTo>
                    <a:pt x="8800" y="159717"/>
                  </a:lnTo>
                  <a:lnTo>
                    <a:pt x="7560" y="166486"/>
                  </a:lnTo>
                  <a:lnTo>
                    <a:pt x="5887" y="172693"/>
                  </a:lnTo>
                  <a:lnTo>
                    <a:pt x="3925" y="178524"/>
                  </a:lnTo>
                  <a:lnTo>
                    <a:pt x="2617" y="184105"/>
                  </a:lnTo>
                  <a:lnTo>
                    <a:pt x="1744" y="189518"/>
                  </a:lnTo>
                  <a:lnTo>
                    <a:pt x="1163" y="194822"/>
                  </a:lnTo>
                  <a:lnTo>
                    <a:pt x="776" y="200049"/>
                  </a:lnTo>
                  <a:lnTo>
                    <a:pt x="517" y="205228"/>
                  </a:lnTo>
                  <a:lnTo>
                    <a:pt x="230" y="215498"/>
                  </a:lnTo>
                  <a:lnTo>
                    <a:pt x="0" y="2359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SMARTInkAnnotation28"/>
            <p:cNvSpPr/>
            <p:nvPr/>
          </p:nvSpPr>
          <p:spPr>
            <a:xfrm>
              <a:off x="2431080" y="4183200"/>
              <a:ext cx="75960" cy="487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76069" h="487681">
                  <a:moveTo>
                    <a:pt x="22860" y="0"/>
                  </a:moveTo>
                  <a:lnTo>
                    <a:pt x="22860" y="10606"/>
                  </a:lnTo>
                  <a:lnTo>
                    <a:pt x="25118" y="17696"/>
                  </a:lnTo>
                  <a:lnTo>
                    <a:pt x="26905" y="21957"/>
                  </a:lnTo>
                  <a:lnTo>
                    <a:pt x="28944" y="26491"/>
                  </a:lnTo>
                  <a:lnTo>
                    <a:pt x="33466" y="36045"/>
                  </a:lnTo>
                  <a:lnTo>
                    <a:pt x="35857" y="42657"/>
                  </a:lnTo>
                  <a:lnTo>
                    <a:pt x="38298" y="50451"/>
                  </a:lnTo>
                  <a:lnTo>
                    <a:pt x="43268" y="68143"/>
                  </a:lnTo>
                  <a:lnTo>
                    <a:pt x="48299" y="87295"/>
                  </a:lnTo>
                  <a:lnTo>
                    <a:pt x="53358" y="109353"/>
                  </a:lnTo>
                  <a:lnTo>
                    <a:pt x="55891" y="121162"/>
                  </a:lnTo>
                  <a:lnTo>
                    <a:pt x="60965" y="147830"/>
                  </a:lnTo>
                  <a:lnTo>
                    <a:pt x="71121" y="206342"/>
                  </a:lnTo>
                  <a:lnTo>
                    <a:pt x="72814" y="221382"/>
                  </a:lnTo>
                  <a:lnTo>
                    <a:pt x="73943" y="236488"/>
                  </a:lnTo>
                  <a:lnTo>
                    <a:pt x="74695" y="251639"/>
                  </a:lnTo>
                  <a:lnTo>
                    <a:pt x="75531" y="282020"/>
                  </a:lnTo>
                  <a:lnTo>
                    <a:pt x="76068" y="338871"/>
                  </a:lnTo>
                  <a:lnTo>
                    <a:pt x="75265" y="352067"/>
                  </a:lnTo>
                  <a:lnTo>
                    <a:pt x="73883" y="365098"/>
                  </a:lnTo>
                  <a:lnTo>
                    <a:pt x="72116" y="378019"/>
                  </a:lnTo>
                  <a:lnTo>
                    <a:pt x="69244" y="390019"/>
                  </a:lnTo>
                  <a:lnTo>
                    <a:pt x="65636" y="401406"/>
                  </a:lnTo>
                  <a:lnTo>
                    <a:pt x="61537" y="412384"/>
                  </a:lnTo>
                  <a:lnTo>
                    <a:pt x="57111" y="421396"/>
                  </a:lnTo>
                  <a:lnTo>
                    <a:pt x="52468" y="429098"/>
                  </a:lnTo>
                  <a:lnTo>
                    <a:pt x="37842" y="450285"/>
                  </a:lnTo>
                  <a:lnTo>
                    <a:pt x="32848" y="457670"/>
                  </a:lnTo>
                  <a:lnTo>
                    <a:pt x="27825" y="463440"/>
                  </a:lnTo>
                  <a:lnTo>
                    <a:pt x="22784" y="468134"/>
                  </a:lnTo>
                  <a:lnTo>
                    <a:pt x="17729" y="472109"/>
                  </a:lnTo>
                  <a:lnTo>
                    <a:pt x="13513" y="475606"/>
                  </a:lnTo>
                  <a:lnTo>
                    <a:pt x="9855" y="478784"/>
                  </a:lnTo>
                  <a:lnTo>
                    <a:pt x="0" y="4876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SMARTInkAnnotation29"/>
            <p:cNvSpPr/>
            <p:nvPr/>
          </p:nvSpPr>
          <p:spPr>
            <a:xfrm>
              <a:off x="2591280" y="4419360"/>
              <a:ext cx="243720" cy="720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43841" h="7528">
                  <a:moveTo>
                    <a:pt x="0" y="7527"/>
                  </a:moveTo>
                  <a:lnTo>
                    <a:pt x="21958" y="7527"/>
                  </a:lnTo>
                  <a:lnTo>
                    <a:pt x="26492" y="6681"/>
                  </a:lnTo>
                  <a:lnTo>
                    <a:pt x="31208" y="5269"/>
                  </a:lnTo>
                  <a:lnTo>
                    <a:pt x="36045" y="3482"/>
                  </a:lnTo>
                  <a:lnTo>
                    <a:pt x="41810" y="2291"/>
                  </a:lnTo>
                  <a:lnTo>
                    <a:pt x="48194" y="1496"/>
                  </a:lnTo>
                  <a:lnTo>
                    <a:pt x="54989" y="966"/>
                  </a:lnTo>
                  <a:lnTo>
                    <a:pt x="62059" y="613"/>
                  </a:lnTo>
                  <a:lnTo>
                    <a:pt x="76689" y="221"/>
                  </a:lnTo>
                  <a:lnTo>
                    <a:pt x="103250" y="0"/>
                  </a:lnTo>
                  <a:lnTo>
                    <a:pt x="112014" y="816"/>
                  </a:lnTo>
                  <a:lnTo>
                    <a:pt x="120396" y="2206"/>
                  </a:lnTo>
                  <a:lnTo>
                    <a:pt x="128524" y="3980"/>
                  </a:lnTo>
                  <a:lnTo>
                    <a:pt x="136483" y="5162"/>
                  </a:lnTo>
                  <a:lnTo>
                    <a:pt x="144329" y="5951"/>
                  </a:lnTo>
                  <a:lnTo>
                    <a:pt x="152099" y="6476"/>
                  </a:lnTo>
                  <a:lnTo>
                    <a:pt x="159820" y="6826"/>
                  </a:lnTo>
                  <a:lnTo>
                    <a:pt x="175171" y="7216"/>
                  </a:lnTo>
                  <a:lnTo>
                    <a:pt x="224552" y="7515"/>
                  </a:lnTo>
                  <a:lnTo>
                    <a:pt x="243840" y="75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MARTInkAnnotation30"/>
            <p:cNvSpPr/>
            <p:nvPr/>
          </p:nvSpPr>
          <p:spPr>
            <a:xfrm>
              <a:off x="2926440" y="4297320"/>
              <a:ext cx="289080" cy="2588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89312" h="259081">
                  <a:moveTo>
                    <a:pt x="0" y="0"/>
                  </a:moveTo>
                  <a:lnTo>
                    <a:pt x="62315" y="0"/>
                  </a:lnTo>
                  <a:lnTo>
                    <a:pt x="70330" y="846"/>
                  </a:lnTo>
                  <a:lnTo>
                    <a:pt x="79060" y="2258"/>
                  </a:lnTo>
                  <a:lnTo>
                    <a:pt x="88267" y="4045"/>
                  </a:lnTo>
                  <a:lnTo>
                    <a:pt x="97791" y="5237"/>
                  </a:lnTo>
                  <a:lnTo>
                    <a:pt x="107527" y="6031"/>
                  </a:lnTo>
                  <a:lnTo>
                    <a:pt x="117405" y="6561"/>
                  </a:lnTo>
                  <a:lnTo>
                    <a:pt x="137411" y="7149"/>
                  </a:lnTo>
                  <a:lnTo>
                    <a:pt x="204249" y="7592"/>
                  </a:lnTo>
                  <a:lnTo>
                    <a:pt x="288721" y="7620"/>
                  </a:lnTo>
                  <a:lnTo>
                    <a:pt x="289001" y="8466"/>
                  </a:lnTo>
                  <a:lnTo>
                    <a:pt x="289311" y="11665"/>
                  </a:lnTo>
                  <a:lnTo>
                    <a:pt x="288547" y="12857"/>
                  </a:lnTo>
                  <a:lnTo>
                    <a:pt x="287192" y="13651"/>
                  </a:lnTo>
                  <a:lnTo>
                    <a:pt x="285441" y="14181"/>
                  </a:lnTo>
                  <a:lnTo>
                    <a:pt x="281239" y="17027"/>
                  </a:lnTo>
                  <a:lnTo>
                    <a:pt x="278933" y="18971"/>
                  </a:lnTo>
                  <a:lnTo>
                    <a:pt x="274112" y="25647"/>
                  </a:lnTo>
                  <a:lnTo>
                    <a:pt x="271641" y="29798"/>
                  </a:lnTo>
                  <a:lnTo>
                    <a:pt x="268301" y="34259"/>
                  </a:lnTo>
                  <a:lnTo>
                    <a:pt x="264380" y="38926"/>
                  </a:lnTo>
                  <a:lnTo>
                    <a:pt x="260074" y="43731"/>
                  </a:lnTo>
                  <a:lnTo>
                    <a:pt x="250773" y="53585"/>
                  </a:lnTo>
                  <a:lnTo>
                    <a:pt x="245922" y="58583"/>
                  </a:lnTo>
                  <a:lnTo>
                    <a:pt x="239301" y="64456"/>
                  </a:lnTo>
                  <a:lnTo>
                    <a:pt x="231501" y="70911"/>
                  </a:lnTo>
                  <a:lnTo>
                    <a:pt x="222914" y="77753"/>
                  </a:lnTo>
                  <a:lnTo>
                    <a:pt x="215496" y="84856"/>
                  </a:lnTo>
                  <a:lnTo>
                    <a:pt x="208857" y="92130"/>
                  </a:lnTo>
                  <a:lnTo>
                    <a:pt x="202738" y="99521"/>
                  </a:lnTo>
                  <a:lnTo>
                    <a:pt x="195272" y="106987"/>
                  </a:lnTo>
                  <a:lnTo>
                    <a:pt x="186908" y="114505"/>
                  </a:lnTo>
                  <a:lnTo>
                    <a:pt x="177945" y="122056"/>
                  </a:lnTo>
                  <a:lnTo>
                    <a:pt x="170277" y="129631"/>
                  </a:lnTo>
                  <a:lnTo>
                    <a:pt x="163471" y="137221"/>
                  </a:lnTo>
                  <a:lnTo>
                    <a:pt x="157241" y="144821"/>
                  </a:lnTo>
                  <a:lnTo>
                    <a:pt x="151394" y="152427"/>
                  </a:lnTo>
                  <a:lnTo>
                    <a:pt x="145802" y="160039"/>
                  </a:lnTo>
                  <a:lnTo>
                    <a:pt x="140382" y="167652"/>
                  </a:lnTo>
                  <a:lnTo>
                    <a:pt x="134228" y="175268"/>
                  </a:lnTo>
                  <a:lnTo>
                    <a:pt x="127585" y="182886"/>
                  </a:lnTo>
                  <a:lnTo>
                    <a:pt x="120617" y="190504"/>
                  </a:lnTo>
                  <a:lnTo>
                    <a:pt x="115124" y="197276"/>
                  </a:lnTo>
                  <a:lnTo>
                    <a:pt x="110616" y="203484"/>
                  </a:lnTo>
                  <a:lnTo>
                    <a:pt x="106764" y="209316"/>
                  </a:lnTo>
                  <a:lnTo>
                    <a:pt x="103349" y="214897"/>
                  </a:lnTo>
                  <a:lnTo>
                    <a:pt x="100226" y="220312"/>
                  </a:lnTo>
                  <a:lnTo>
                    <a:pt x="97297" y="225614"/>
                  </a:lnTo>
                  <a:lnTo>
                    <a:pt x="94499" y="229996"/>
                  </a:lnTo>
                  <a:lnTo>
                    <a:pt x="89130" y="237123"/>
                  </a:lnTo>
                  <a:lnTo>
                    <a:pt x="83923" y="243113"/>
                  </a:lnTo>
                  <a:lnTo>
                    <a:pt x="81348" y="245895"/>
                  </a:lnTo>
                  <a:lnTo>
                    <a:pt x="79632" y="248597"/>
                  </a:lnTo>
                  <a:lnTo>
                    <a:pt x="77217" y="255598"/>
                  </a:lnTo>
                  <a:lnTo>
                    <a:pt x="76200" y="2590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SMARTInkAnnotation31"/>
            <p:cNvSpPr/>
            <p:nvPr/>
          </p:nvSpPr>
          <p:spPr>
            <a:xfrm>
              <a:off x="2979720" y="4457160"/>
              <a:ext cx="198000" cy="226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98121" h="22861">
                  <a:moveTo>
                    <a:pt x="0" y="0"/>
                  </a:moveTo>
                  <a:lnTo>
                    <a:pt x="4046" y="0"/>
                  </a:lnTo>
                  <a:lnTo>
                    <a:pt x="6084" y="846"/>
                  </a:lnTo>
                  <a:lnTo>
                    <a:pt x="8289" y="2258"/>
                  </a:lnTo>
                  <a:lnTo>
                    <a:pt x="10606" y="4045"/>
                  </a:lnTo>
                  <a:lnTo>
                    <a:pt x="14691" y="5237"/>
                  </a:lnTo>
                  <a:lnTo>
                    <a:pt x="19954" y="6031"/>
                  </a:lnTo>
                  <a:lnTo>
                    <a:pt x="26003" y="6561"/>
                  </a:lnTo>
                  <a:lnTo>
                    <a:pt x="31729" y="7760"/>
                  </a:lnTo>
                  <a:lnTo>
                    <a:pt x="37239" y="9408"/>
                  </a:lnTo>
                  <a:lnTo>
                    <a:pt x="42606" y="11352"/>
                  </a:lnTo>
                  <a:lnTo>
                    <a:pt x="49571" y="12648"/>
                  </a:lnTo>
                  <a:lnTo>
                    <a:pt x="57600" y="13512"/>
                  </a:lnTo>
                  <a:lnTo>
                    <a:pt x="66340" y="14088"/>
                  </a:lnTo>
                  <a:lnTo>
                    <a:pt x="75554" y="15319"/>
                  </a:lnTo>
                  <a:lnTo>
                    <a:pt x="85082" y="16986"/>
                  </a:lnTo>
                  <a:lnTo>
                    <a:pt x="94822" y="18944"/>
                  </a:lnTo>
                  <a:lnTo>
                    <a:pt x="104701" y="20250"/>
                  </a:lnTo>
                  <a:lnTo>
                    <a:pt x="114674" y="21120"/>
                  </a:lnTo>
                  <a:lnTo>
                    <a:pt x="124710" y="21700"/>
                  </a:lnTo>
                  <a:lnTo>
                    <a:pt x="142633" y="22345"/>
                  </a:lnTo>
                  <a:lnTo>
                    <a:pt x="174836" y="22758"/>
                  </a:lnTo>
                  <a:lnTo>
                    <a:pt x="198120" y="228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SMARTInkAnnotation32"/>
            <p:cNvSpPr/>
            <p:nvPr/>
          </p:nvSpPr>
          <p:spPr>
            <a:xfrm>
              <a:off x="3246480" y="4533480"/>
              <a:ext cx="15120" cy="3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5241" h="1">
                  <a:moveTo>
                    <a:pt x="0" y="0"/>
                  </a:moveTo>
                  <a:lnTo>
                    <a:pt x="152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SMARTInkAnnotation33"/>
            <p:cNvSpPr/>
            <p:nvPr/>
          </p:nvSpPr>
          <p:spPr>
            <a:xfrm>
              <a:off x="3360960" y="4274640"/>
              <a:ext cx="213120" cy="1216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13311" h="121875">
                  <a:moveTo>
                    <a:pt x="91390" y="7611"/>
                  </a:moveTo>
                  <a:lnTo>
                    <a:pt x="91390" y="84"/>
                  </a:lnTo>
                  <a:lnTo>
                    <a:pt x="97951" y="0"/>
                  </a:lnTo>
                  <a:lnTo>
                    <a:pt x="98304" y="843"/>
                  </a:lnTo>
                  <a:lnTo>
                    <a:pt x="98696" y="4039"/>
                  </a:lnTo>
                  <a:lnTo>
                    <a:pt x="97955" y="6076"/>
                  </a:lnTo>
                  <a:lnTo>
                    <a:pt x="96613" y="8282"/>
                  </a:lnTo>
                  <a:lnTo>
                    <a:pt x="94872" y="10598"/>
                  </a:lnTo>
                  <a:lnTo>
                    <a:pt x="93711" y="12989"/>
                  </a:lnTo>
                  <a:lnTo>
                    <a:pt x="92937" y="15430"/>
                  </a:lnTo>
                  <a:lnTo>
                    <a:pt x="92422" y="17904"/>
                  </a:lnTo>
                  <a:lnTo>
                    <a:pt x="91231" y="20400"/>
                  </a:lnTo>
                  <a:lnTo>
                    <a:pt x="89591" y="22910"/>
                  </a:lnTo>
                  <a:lnTo>
                    <a:pt x="87651" y="25430"/>
                  </a:lnTo>
                  <a:lnTo>
                    <a:pt x="85510" y="27957"/>
                  </a:lnTo>
                  <a:lnTo>
                    <a:pt x="83237" y="30488"/>
                  </a:lnTo>
                  <a:lnTo>
                    <a:pt x="80875" y="33022"/>
                  </a:lnTo>
                  <a:lnTo>
                    <a:pt x="77607" y="35559"/>
                  </a:lnTo>
                  <a:lnTo>
                    <a:pt x="73734" y="38096"/>
                  </a:lnTo>
                  <a:lnTo>
                    <a:pt x="69460" y="40634"/>
                  </a:lnTo>
                  <a:lnTo>
                    <a:pt x="64916" y="43173"/>
                  </a:lnTo>
                  <a:lnTo>
                    <a:pt x="55354" y="48252"/>
                  </a:lnTo>
                  <a:lnTo>
                    <a:pt x="51279" y="50792"/>
                  </a:lnTo>
                  <a:lnTo>
                    <a:pt x="47716" y="53332"/>
                  </a:lnTo>
                  <a:lnTo>
                    <a:pt x="44494" y="55871"/>
                  </a:lnTo>
                  <a:lnTo>
                    <a:pt x="40653" y="58411"/>
                  </a:lnTo>
                  <a:lnTo>
                    <a:pt x="36399" y="60951"/>
                  </a:lnTo>
                  <a:lnTo>
                    <a:pt x="31869" y="63491"/>
                  </a:lnTo>
                  <a:lnTo>
                    <a:pt x="22321" y="68571"/>
                  </a:lnTo>
                  <a:lnTo>
                    <a:pt x="17404" y="71111"/>
                  </a:lnTo>
                  <a:lnTo>
                    <a:pt x="13279" y="73651"/>
                  </a:lnTo>
                  <a:lnTo>
                    <a:pt x="9683" y="76191"/>
                  </a:lnTo>
                  <a:lnTo>
                    <a:pt x="1873" y="82306"/>
                  </a:lnTo>
                  <a:lnTo>
                    <a:pt x="1232" y="83654"/>
                  </a:lnTo>
                  <a:lnTo>
                    <a:pt x="520" y="87410"/>
                  </a:lnTo>
                  <a:lnTo>
                    <a:pt x="119" y="90239"/>
                  </a:lnTo>
                  <a:lnTo>
                    <a:pt x="25" y="93159"/>
                  </a:lnTo>
                  <a:lnTo>
                    <a:pt x="0" y="95123"/>
                  </a:lnTo>
                  <a:lnTo>
                    <a:pt x="830" y="97279"/>
                  </a:lnTo>
                  <a:lnTo>
                    <a:pt x="2230" y="99563"/>
                  </a:lnTo>
                  <a:lnTo>
                    <a:pt x="4010" y="101933"/>
                  </a:lnTo>
                  <a:lnTo>
                    <a:pt x="6044" y="103512"/>
                  </a:lnTo>
                  <a:lnTo>
                    <a:pt x="8246" y="104565"/>
                  </a:lnTo>
                  <a:lnTo>
                    <a:pt x="10561" y="105267"/>
                  </a:lnTo>
                  <a:lnTo>
                    <a:pt x="29999" y="110300"/>
                  </a:lnTo>
                  <a:lnTo>
                    <a:pt x="36916" y="112477"/>
                  </a:lnTo>
                  <a:lnTo>
                    <a:pt x="43221" y="114775"/>
                  </a:lnTo>
                  <a:lnTo>
                    <a:pt x="49117" y="117154"/>
                  </a:lnTo>
                  <a:lnTo>
                    <a:pt x="56435" y="118740"/>
                  </a:lnTo>
                  <a:lnTo>
                    <a:pt x="64700" y="119797"/>
                  </a:lnTo>
                  <a:lnTo>
                    <a:pt x="73597" y="120501"/>
                  </a:lnTo>
                  <a:lnTo>
                    <a:pt x="82914" y="120972"/>
                  </a:lnTo>
                  <a:lnTo>
                    <a:pt x="102299" y="121493"/>
                  </a:lnTo>
                  <a:lnTo>
                    <a:pt x="154485" y="121874"/>
                  </a:lnTo>
                  <a:lnTo>
                    <a:pt x="161394" y="121040"/>
                  </a:lnTo>
                  <a:lnTo>
                    <a:pt x="168539" y="119637"/>
                  </a:lnTo>
                  <a:lnTo>
                    <a:pt x="175843" y="117855"/>
                  </a:lnTo>
                  <a:lnTo>
                    <a:pt x="182406" y="115820"/>
                  </a:lnTo>
                  <a:lnTo>
                    <a:pt x="188473" y="113617"/>
                  </a:lnTo>
                  <a:lnTo>
                    <a:pt x="194212" y="111302"/>
                  </a:lnTo>
                  <a:lnTo>
                    <a:pt x="198885" y="109758"/>
                  </a:lnTo>
                  <a:lnTo>
                    <a:pt x="202847" y="108729"/>
                  </a:lnTo>
                  <a:lnTo>
                    <a:pt x="213310" y="10667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SMARTInkAnnotation34"/>
            <p:cNvSpPr/>
            <p:nvPr/>
          </p:nvSpPr>
          <p:spPr>
            <a:xfrm>
              <a:off x="1501560" y="5001480"/>
              <a:ext cx="190440" cy="118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90501" h="11993">
                  <a:moveTo>
                    <a:pt x="0" y="11992"/>
                  </a:moveTo>
                  <a:lnTo>
                    <a:pt x="28518" y="11992"/>
                  </a:lnTo>
                  <a:lnTo>
                    <a:pt x="33405" y="11145"/>
                  </a:lnTo>
                  <a:lnTo>
                    <a:pt x="38357" y="9735"/>
                  </a:lnTo>
                  <a:lnTo>
                    <a:pt x="43351" y="7947"/>
                  </a:lnTo>
                  <a:lnTo>
                    <a:pt x="48374" y="6755"/>
                  </a:lnTo>
                  <a:lnTo>
                    <a:pt x="53416" y="5961"/>
                  </a:lnTo>
                  <a:lnTo>
                    <a:pt x="58471" y="5431"/>
                  </a:lnTo>
                  <a:lnTo>
                    <a:pt x="64380" y="5078"/>
                  </a:lnTo>
                  <a:lnTo>
                    <a:pt x="77720" y="4686"/>
                  </a:lnTo>
                  <a:lnTo>
                    <a:pt x="95465" y="4465"/>
                  </a:lnTo>
                  <a:lnTo>
                    <a:pt x="100897" y="3587"/>
                  </a:lnTo>
                  <a:lnTo>
                    <a:pt x="106211" y="2156"/>
                  </a:lnTo>
                  <a:lnTo>
                    <a:pt x="111447" y="355"/>
                  </a:lnTo>
                  <a:lnTo>
                    <a:pt x="117479" y="0"/>
                  </a:lnTo>
                  <a:lnTo>
                    <a:pt x="124039" y="611"/>
                  </a:lnTo>
                  <a:lnTo>
                    <a:pt x="130953" y="1865"/>
                  </a:lnTo>
                  <a:lnTo>
                    <a:pt x="136408" y="2701"/>
                  </a:lnTo>
                  <a:lnTo>
                    <a:pt x="140892" y="3258"/>
                  </a:lnTo>
                  <a:lnTo>
                    <a:pt x="144728" y="3629"/>
                  </a:lnTo>
                  <a:lnTo>
                    <a:pt x="148979" y="3877"/>
                  </a:lnTo>
                  <a:lnTo>
                    <a:pt x="158217" y="4152"/>
                  </a:lnTo>
                  <a:lnTo>
                    <a:pt x="174688" y="4343"/>
                  </a:lnTo>
                  <a:lnTo>
                    <a:pt x="190500" y="43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SMARTInkAnnotation35"/>
            <p:cNvSpPr/>
            <p:nvPr/>
          </p:nvSpPr>
          <p:spPr>
            <a:xfrm>
              <a:off x="1851840" y="4868640"/>
              <a:ext cx="174960" cy="2952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75095" h="295501">
                  <a:moveTo>
                    <a:pt x="0" y="15239"/>
                  </a:moveTo>
                  <a:lnTo>
                    <a:pt x="18696" y="15239"/>
                  </a:lnTo>
                  <a:lnTo>
                    <a:pt x="24318" y="14393"/>
                  </a:lnTo>
                  <a:lnTo>
                    <a:pt x="29758" y="12981"/>
                  </a:lnTo>
                  <a:lnTo>
                    <a:pt x="35079" y="11194"/>
                  </a:lnTo>
                  <a:lnTo>
                    <a:pt x="40320" y="10002"/>
                  </a:lnTo>
                  <a:lnTo>
                    <a:pt x="45506" y="9208"/>
                  </a:lnTo>
                  <a:lnTo>
                    <a:pt x="50658" y="8678"/>
                  </a:lnTo>
                  <a:lnTo>
                    <a:pt x="56631" y="8325"/>
                  </a:lnTo>
                  <a:lnTo>
                    <a:pt x="70043" y="7933"/>
                  </a:lnTo>
                  <a:lnTo>
                    <a:pt x="77175" y="6982"/>
                  </a:lnTo>
                  <a:lnTo>
                    <a:pt x="84470" y="5501"/>
                  </a:lnTo>
                  <a:lnTo>
                    <a:pt x="91874" y="3667"/>
                  </a:lnTo>
                  <a:lnTo>
                    <a:pt x="98502" y="2444"/>
                  </a:lnTo>
                  <a:lnTo>
                    <a:pt x="104615" y="1629"/>
                  </a:lnTo>
                  <a:lnTo>
                    <a:pt x="110383" y="1086"/>
                  </a:lnTo>
                  <a:lnTo>
                    <a:pt x="116769" y="724"/>
                  </a:lnTo>
                  <a:lnTo>
                    <a:pt x="130637" y="321"/>
                  </a:lnTo>
                  <a:lnTo>
                    <a:pt x="148916" y="63"/>
                  </a:lnTo>
                  <a:lnTo>
                    <a:pt x="174700" y="0"/>
                  </a:lnTo>
                  <a:lnTo>
                    <a:pt x="175011" y="2257"/>
                  </a:lnTo>
                  <a:lnTo>
                    <a:pt x="175094" y="4044"/>
                  </a:lnTo>
                  <a:lnTo>
                    <a:pt x="172928" y="10546"/>
                  </a:lnTo>
                  <a:lnTo>
                    <a:pt x="169144" y="18233"/>
                  </a:lnTo>
                  <a:lnTo>
                    <a:pt x="164639" y="24472"/>
                  </a:lnTo>
                  <a:lnTo>
                    <a:pt x="161406" y="28168"/>
                  </a:lnTo>
                  <a:lnTo>
                    <a:pt x="157558" y="32325"/>
                  </a:lnTo>
                  <a:lnTo>
                    <a:pt x="153298" y="36790"/>
                  </a:lnTo>
                  <a:lnTo>
                    <a:pt x="148765" y="42306"/>
                  </a:lnTo>
                  <a:lnTo>
                    <a:pt x="144050" y="48523"/>
                  </a:lnTo>
                  <a:lnTo>
                    <a:pt x="139214" y="55209"/>
                  </a:lnTo>
                  <a:lnTo>
                    <a:pt x="133449" y="62206"/>
                  </a:lnTo>
                  <a:lnTo>
                    <a:pt x="127066" y="69410"/>
                  </a:lnTo>
                  <a:lnTo>
                    <a:pt x="120271" y="76753"/>
                  </a:lnTo>
                  <a:lnTo>
                    <a:pt x="114047" y="84188"/>
                  </a:lnTo>
                  <a:lnTo>
                    <a:pt x="108204" y="91686"/>
                  </a:lnTo>
                  <a:lnTo>
                    <a:pt x="102616" y="99223"/>
                  </a:lnTo>
                  <a:lnTo>
                    <a:pt x="91892" y="114372"/>
                  </a:lnTo>
                  <a:lnTo>
                    <a:pt x="86661" y="121968"/>
                  </a:lnTo>
                  <a:lnTo>
                    <a:pt x="81481" y="130418"/>
                  </a:lnTo>
                  <a:lnTo>
                    <a:pt x="76334" y="139438"/>
                  </a:lnTo>
                  <a:lnTo>
                    <a:pt x="71209" y="148839"/>
                  </a:lnTo>
                  <a:lnTo>
                    <a:pt x="66099" y="157646"/>
                  </a:lnTo>
                  <a:lnTo>
                    <a:pt x="55906" y="174204"/>
                  </a:lnTo>
                  <a:lnTo>
                    <a:pt x="51664" y="183022"/>
                  </a:lnTo>
                  <a:lnTo>
                    <a:pt x="47990" y="192288"/>
                  </a:lnTo>
                  <a:lnTo>
                    <a:pt x="28073" y="251118"/>
                  </a:lnTo>
                  <a:lnTo>
                    <a:pt x="26335" y="258004"/>
                  </a:lnTo>
                  <a:lnTo>
                    <a:pt x="25177" y="264290"/>
                  </a:lnTo>
                  <a:lnTo>
                    <a:pt x="24405" y="270173"/>
                  </a:lnTo>
                  <a:lnTo>
                    <a:pt x="21289" y="278968"/>
                  </a:lnTo>
                  <a:lnTo>
                    <a:pt x="17928" y="285698"/>
                  </a:lnTo>
                  <a:lnTo>
                    <a:pt x="15771" y="294660"/>
                  </a:lnTo>
                  <a:lnTo>
                    <a:pt x="15594" y="295500"/>
                  </a:lnTo>
                  <a:lnTo>
                    <a:pt x="15476" y="295213"/>
                  </a:lnTo>
                  <a:lnTo>
                    <a:pt x="15271" y="286426"/>
                  </a:lnTo>
                  <a:lnTo>
                    <a:pt x="15249" y="279223"/>
                  </a:lnTo>
                  <a:lnTo>
                    <a:pt x="12986" y="271983"/>
                  </a:lnTo>
                  <a:lnTo>
                    <a:pt x="7620" y="2590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SMARTInkAnnotation36"/>
            <p:cNvSpPr/>
            <p:nvPr/>
          </p:nvSpPr>
          <p:spPr>
            <a:xfrm>
              <a:off x="1814040" y="5029200"/>
              <a:ext cx="152280" cy="604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52370" h="60544">
                  <a:moveTo>
                    <a:pt x="22829" y="30063"/>
                  </a:moveTo>
                  <a:lnTo>
                    <a:pt x="3951" y="11185"/>
                  </a:lnTo>
                  <a:lnTo>
                    <a:pt x="2624" y="9011"/>
                  </a:lnTo>
                  <a:lnTo>
                    <a:pt x="1739" y="6715"/>
                  </a:lnTo>
                  <a:lnTo>
                    <a:pt x="73" y="0"/>
                  </a:lnTo>
                  <a:lnTo>
                    <a:pt x="38" y="709"/>
                  </a:lnTo>
                  <a:lnTo>
                    <a:pt x="0" y="3753"/>
                  </a:lnTo>
                  <a:lnTo>
                    <a:pt x="836" y="4902"/>
                  </a:lnTo>
                  <a:lnTo>
                    <a:pt x="2241" y="5669"/>
                  </a:lnTo>
                  <a:lnTo>
                    <a:pt x="4024" y="6180"/>
                  </a:lnTo>
                  <a:lnTo>
                    <a:pt x="6059" y="7369"/>
                  </a:lnTo>
                  <a:lnTo>
                    <a:pt x="8262" y="9006"/>
                  </a:lnTo>
                  <a:lnTo>
                    <a:pt x="10578" y="10945"/>
                  </a:lnTo>
                  <a:lnTo>
                    <a:pt x="13815" y="12238"/>
                  </a:lnTo>
                  <a:lnTo>
                    <a:pt x="17666" y="13100"/>
                  </a:lnTo>
                  <a:lnTo>
                    <a:pt x="21927" y="13674"/>
                  </a:lnTo>
                  <a:lnTo>
                    <a:pt x="27308" y="14903"/>
                  </a:lnTo>
                  <a:lnTo>
                    <a:pt x="33435" y="16570"/>
                  </a:lnTo>
                  <a:lnTo>
                    <a:pt x="40060" y="18528"/>
                  </a:lnTo>
                  <a:lnTo>
                    <a:pt x="56452" y="22961"/>
                  </a:lnTo>
                  <a:lnTo>
                    <a:pt x="65564" y="25328"/>
                  </a:lnTo>
                  <a:lnTo>
                    <a:pt x="74179" y="28600"/>
                  </a:lnTo>
                  <a:lnTo>
                    <a:pt x="82462" y="32474"/>
                  </a:lnTo>
                  <a:lnTo>
                    <a:pt x="103998" y="43760"/>
                  </a:lnTo>
                  <a:lnTo>
                    <a:pt x="109962" y="46814"/>
                  </a:lnTo>
                  <a:lnTo>
                    <a:pt x="116478" y="49697"/>
                  </a:lnTo>
                  <a:lnTo>
                    <a:pt x="123362" y="52466"/>
                  </a:lnTo>
                  <a:lnTo>
                    <a:pt x="130491" y="55158"/>
                  </a:lnTo>
                  <a:lnTo>
                    <a:pt x="136090" y="56953"/>
                  </a:lnTo>
                  <a:lnTo>
                    <a:pt x="140670" y="58150"/>
                  </a:lnTo>
                  <a:lnTo>
                    <a:pt x="152369" y="6054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SMARTInkAnnotation37"/>
            <p:cNvSpPr/>
            <p:nvPr/>
          </p:nvSpPr>
          <p:spPr>
            <a:xfrm>
              <a:off x="2065320" y="5089680"/>
              <a:ext cx="360" cy="532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" h="53341">
                  <a:moveTo>
                    <a:pt x="0" y="0"/>
                  </a:moveTo>
                  <a:lnTo>
                    <a:pt x="0" y="-121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SMARTInkAnnotation38"/>
            <p:cNvSpPr/>
            <p:nvPr/>
          </p:nvSpPr>
          <p:spPr>
            <a:xfrm>
              <a:off x="2202480" y="4853520"/>
              <a:ext cx="15120" cy="2055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5214" h="205741">
                  <a:moveTo>
                    <a:pt x="7620" y="0"/>
                  </a:moveTo>
                  <a:lnTo>
                    <a:pt x="3575" y="0"/>
                  </a:lnTo>
                  <a:lnTo>
                    <a:pt x="3230" y="847"/>
                  </a:lnTo>
                  <a:lnTo>
                    <a:pt x="3847" y="2258"/>
                  </a:lnTo>
                  <a:lnTo>
                    <a:pt x="6875" y="6561"/>
                  </a:lnTo>
                  <a:lnTo>
                    <a:pt x="7289" y="9407"/>
                  </a:lnTo>
                  <a:lnTo>
                    <a:pt x="7522" y="15770"/>
                  </a:lnTo>
                  <a:lnTo>
                    <a:pt x="7600" y="29550"/>
                  </a:lnTo>
                  <a:lnTo>
                    <a:pt x="8454" y="34093"/>
                  </a:lnTo>
                  <a:lnTo>
                    <a:pt x="9869" y="38816"/>
                  </a:lnTo>
                  <a:lnTo>
                    <a:pt x="11660" y="43657"/>
                  </a:lnTo>
                  <a:lnTo>
                    <a:pt x="12853" y="49425"/>
                  </a:lnTo>
                  <a:lnTo>
                    <a:pt x="13649" y="55810"/>
                  </a:lnTo>
                  <a:lnTo>
                    <a:pt x="14179" y="62606"/>
                  </a:lnTo>
                  <a:lnTo>
                    <a:pt x="14533" y="69678"/>
                  </a:lnTo>
                  <a:lnTo>
                    <a:pt x="14926" y="84308"/>
                  </a:lnTo>
                  <a:lnTo>
                    <a:pt x="15213" y="129583"/>
                  </a:lnTo>
                  <a:lnTo>
                    <a:pt x="14375" y="137188"/>
                  </a:lnTo>
                  <a:lnTo>
                    <a:pt x="12970" y="144799"/>
                  </a:lnTo>
                  <a:lnTo>
                    <a:pt x="11187" y="152413"/>
                  </a:lnTo>
                  <a:lnTo>
                    <a:pt x="9998" y="160028"/>
                  </a:lnTo>
                  <a:lnTo>
                    <a:pt x="9205" y="167646"/>
                  </a:lnTo>
                  <a:lnTo>
                    <a:pt x="8325" y="181189"/>
                  </a:lnTo>
                  <a:lnTo>
                    <a:pt x="7933" y="190031"/>
                  </a:lnTo>
                  <a:lnTo>
                    <a:pt x="6982" y="193574"/>
                  </a:lnTo>
                  <a:lnTo>
                    <a:pt x="5502" y="196782"/>
                  </a:lnTo>
                  <a:lnTo>
                    <a:pt x="0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SMARTInkAnnotation39"/>
            <p:cNvSpPr/>
            <p:nvPr/>
          </p:nvSpPr>
          <p:spPr>
            <a:xfrm>
              <a:off x="2392920" y="5020920"/>
              <a:ext cx="167400" cy="75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7641" h="7621">
                  <a:moveTo>
                    <a:pt x="0" y="0"/>
                  </a:moveTo>
                  <a:lnTo>
                    <a:pt x="167631" y="0"/>
                  </a:lnTo>
                  <a:lnTo>
                    <a:pt x="16764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SMARTInkAnnotation40"/>
            <p:cNvSpPr/>
            <p:nvPr/>
          </p:nvSpPr>
          <p:spPr>
            <a:xfrm>
              <a:off x="2667240" y="4861080"/>
              <a:ext cx="213120" cy="3045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3330" h="304800">
                  <a:moveTo>
                    <a:pt x="0" y="38099"/>
                  </a:moveTo>
                  <a:lnTo>
                    <a:pt x="29550" y="38099"/>
                  </a:lnTo>
                  <a:lnTo>
                    <a:pt x="34093" y="37253"/>
                  </a:lnTo>
                  <a:lnTo>
                    <a:pt x="38816" y="35842"/>
                  </a:lnTo>
                  <a:lnTo>
                    <a:pt x="49425" y="32016"/>
                  </a:lnTo>
                  <a:lnTo>
                    <a:pt x="62607" y="27493"/>
                  </a:lnTo>
                  <a:lnTo>
                    <a:pt x="69678" y="25949"/>
                  </a:lnTo>
                  <a:lnTo>
                    <a:pt x="76932" y="24919"/>
                  </a:lnTo>
                  <a:lnTo>
                    <a:pt x="84308" y="24232"/>
                  </a:lnTo>
                  <a:lnTo>
                    <a:pt x="91765" y="22928"/>
                  </a:lnTo>
                  <a:lnTo>
                    <a:pt x="99277" y="21212"/>
                  </a:lnTo>
                  <a:lnTo>
                    <a:pt x="106824" y="19221"/>
                  </a:lnTo>
                  <a:lnTo>
                    <a:pt x="114397" y="17047"/>
                  </a:lnTo>
                  <a:lnTo>
                    <a:pt x="129583" y="12374"/>
                  </a:lnTo>
                  <a:lnTo>
                    <a:pt x="136342" y="10789"/>
                  </a:lnTo>
                  <a:lnTo>
                    <a:pt x="142541" y="9732"/>
                  </a:lnTo>
                  <a:lnTo>
                    <a:pt x="148368" y="9028"/>
                  </a:lnTo>
                  <a:lnTo>
                    <a:pt x="153945" y="7712"/>
                  </a:lnTo>
                  <a:lnTo>
                    <a:pt x="159357" y="5988"/>
                  </a:lnTo>
                  <a:lnTo>
                    <a:pt x="164658" y="3992"/>
                  </a:lnTo>
                  <a:lnTo>
                    <a:pt x="169885" y="2661"/>
                  </a:lnTo>
                  <a:lnTo>
                    <a:pt x="175064" y="1774"/>
                  </a:lnTo>
                  <a:lnTo>
                    <a:pt x="180209" y="1182"/>
                  </a:lnTo>
                  <a:lnTo>
                    <a:pt x="184486" y="788"/>
                  </a:lnTo>
                  <a:lnTo>
                    <a:pt x="188184" y="526"/>
                  </a:lnTo>
                  <a:lnTo>
                    <a:pt x="194551" y="233"/>
                  </a:lnTo>
                  <a:lnTo>
                    <a:pt x="204100" y="30"/>
                  </a:lnTo>
                  <a:lnTo>
                    <a:pt x="213003" y="0"/>
                  </a:lnTo>
                  <a:lnTo>
                    <a:pt x="213290" y="6930"/>
                  </a:lnTo>
                  <a:lnTo>
                    <a:pt x="213329" y="14651"/>
                  </a:lnTo>
                  <a:lnTo>
                    <a:pt x="212493" y="18234"/>
                  </a:lnTo>
                  <a:lnTo>
                    <a:pt x="209306" y="24472"/>
                  </a:lnTo>
                  <a:lnTo>
                    <a:pt x="205067" y="32325"/>
                  </a:lnTo>
                  <a:lnTo>
                    <a:pt x="200361" y="40613"/>
                  </a:lnTo>
                  <a:lnTo>
                    <a:pt x="195447" y="47118"/>
                  </a:lnTo>
                  <a:lnTo>
                    <a:pt x="190441" y="55090"/>
                  </a:lnTo>
                  <a:lnTo>
                    <a:pt x="187921" y="59586"/>
                  </a:lnTo>
                  <a:lnTo>
                    <a:pt x="185394" y="65124"/>
                  </a:lnTo>
                  <a:lnTo>
                    <a:pt x="182863" y="71356"/>
                  </a:lnTo>
                  <a:lnTo>
                    <a:pt x="180329" y="78050"/>
                  </a:lnTo>
                  <a:lnTo>
                    <a:pt x="176946" y="84207"/>
                  </a:lnTo>
                  <a:lnTo>
                    <a:pt x="172997" y="90004"/>
                  </a:lnTo>
                  <a:lnTo>
                    <a:pt x="168671" y="95562"/>
                  </a:lnTo>
                  <a:lnTo>
                    <a:pt x="164941" y="101808"/>
                  </a:lnTo>
                  <a:lnTo>
                    <a:pt x="161607" y="108512"/>
                  </a:lnTo>
                  <a:lnTo>
                    <a:pt x="158538" y="115521"/>
                  </a:lnTo>
                  <a:lnTo>
                    <a:pt x="154799" y="122734"/>
                  </a:lnTo>
                  <a:lnTo>
                    <a:pt x="150613" y="130082"/>
                  </a:lnTo>
                  <a:lnTo>
                    <a:pt x="146128" y="137521"/>
                  </a:lnTo>
                  <a:lnTo>
                    <a:pt x="142292" y="145021"/>
                  </a:lnTo>
                  <a:lnTo>
                    <a:pt x="138888" y="152560"/>
                  </a:lnTo>
                  <a:lnTo>
                    <a:pt x="135772" y="160127"/>
                  </a:lnTo>
                  <a:lnTo>
                    <a:pt x="132848" y="167711"/>
                  </a:lnTo>
                  <a:lnTo>
                    <a:pt x="127341" y="182911"/>
                  </a:lnTo>
                  <a:lnTo>
                    <a:pt x="119481" y="205748"/>
                  </a:lnTo>
                  <a:lnTo>
                    <a:pt x="116061" y="212518"/>
                  </a:lnTo>
                  <a:lnTo>
                    <a:pt x="112087" y="218726"/>
                  </a:lnTo>
                  <a:lnTo>
                    <a:pt x="107745" y="224556"/>
                  </a:lnTo>
                  <a:lnTo>
                    <a:pt x="104850" y="230984"/>
                  </a:lnTo>
                  <a:lnTo>
                    <a:pt x="102920" y="237809"/>
                  </a:lnTo>
                  <a:lnTo>
                    <a:pt x="101633" y="244899"/>
                  </a:lnTo>
                  <a:lnTo>
                    <a:pt x="99929" y="251319"/>
                  </a:lnTo>
                  <a:lnTo>
                    <a:pt x="97946" y="257292"/>
                  </a:lnTo>
                  <a:lnTo>
                    <a:pt x="95777" y="262968"/>
                  </a:lnTo>
                  <a:lnTo>
                    <a:pt x="91110" y="271532"/>
                  </a:lnTo>
                  <a:lnTo>
                    <a:pt x="87060" y="278160"/>
                  </a:lnTo>
                  <a:lnTo>
                    <a:pt x="85260" y="283928"/>
                  </a:lnTo>
                  <a:lnTo>
                    <a:pt x="84247" y="291936"/>
                  </a:lnTo>
                  <a:lnTo>
                    <a:pt x="83905" y="301380"/>
                  </a:lnTo>
                  <a:lnTo>
                    <a:pt x="83820" y="30479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SMARTInkAnnotation41"/>
            <p:cNvSpPr/>
            <p:nvPr/>
          </p:nvSpPr>
          <p:spPr>
            <a:xfrm>
              <a:off x="2697840" y="4998240"/>
              <a:ext cx="182880" cy="4536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82881" h="45721">
                  <a:moveTo>
                    <a:pt x="0" y="0"/>
                  </a:moveTo>
                  <a:lnTo>
                    <a:pt x="10606" y="0"/>
                  </a:lnTo>
                  <a:lnTo>
                    <a:pt x="12997" y="847"/>
                  </a:lnTo>
                  <a:lnTo>
                    <a:pt x="15438" y="2258"/>
                  </a:lnTo>
                  <a:lnTo>
                    <a:pt x="17912" y="4045"/>
                  </a:lnTo>
                  <a:lnTo>
                    <a:pt x="22101" y="6084"/>
                  </a:lnTo>
                  <a:lnTo>
                    <a:pt x="27434" y="8289"/>
                  </a:lnTo>
                  <a:lnTo>
                    <a:pt x="33529" y="10606"/>
                  </a:lnTo>
                  <a:lnTo>
                    <a:pt x="40133" y="12151"/>
                  </a:lnTo>
                  <a:lnTo>
                    <a:pt x="47076" y="13181"/>
                  </a:lnTo>
                  <a:lnTo>
                    <a:pt x="54244" y="13867"/>
                  </a:lnTo>
                  <a:lnTo>
                    <a:pt x="61563" y="15172"/>
                  </a:lnTo>
                  <a:lnTo>
                    <a:pt x="68982" y="16888"/>
                  </a:lnTo>
                  <a:lnTo>
                    <a:pt x="76468" y="18878"/>
                  </a:lnTo>
                  <a:lnTo>
                    <a:pt x="83152" y="21053"/>
                  </a:lnTo>
                  <a:lnTo>
                    <a:pt x="89301" y="23348"/>
                  </a:lnTo>
                  <a:lnTo>
                    <a:pt x="95094" y="25726"/>
                  </a:lnTo>
                  <a:lnTo>
                    <a:pt x="101496" y="28157"/>
                  </a:lnTo>
                  <a:lnTo>
                    <a:pt x="115383" y="33117"/>
                  </a:lnTo>
                  <a:lnTo>
                    <a:pt x="120949" y="34777"/>
                  </a:lnTo>
                  <a:lnTo>
                    <a:pt x="125506" y="35885"/>
                  </a:lnTo>
                  <a:lnTo>
                    <a:pt x="129390" y="36624"/>
                  </a:lnTo>
                  <a:lnTo>
                    <a:pt x="133674" y="37962"/>
                  </a:lnTo>
                  <a:lnTo>
                    <a:pt x="138223" y="39702"/>
                  </a:lnTo>
                  <a:lnTo>
                    <a:pt x="142948" y="41708"/>
                  </a:lnTo>
                  <a:lnTo>
                    <a:pt x="147792" y="43046"/>
                  </a:lnTo>
                  <a:lnTo>
                    <a:pt x="152715" y="43937"/>
                  </a:lnTo>
                  <a:lnTo>
                    <a:pt x="157690" y="44531"/>
                  </a:lnTo>
                  <a:lnTo>
                    <a:pt x="161853" y="44928"/>
                  </a:lnTo>
                  <a:lnTo>
                    <a:pt x="165476" y="45192"/>
                  </a:lnTo>
                  <a:lnTo>
                    <a:pt x="168737" y="45368"/>
                  </a:lnTo>
                  <a:lnTo>
                    <a:pt x="170911" y="44639"/>
                  </a:lnTo>
                  <a:lnTo>
                    <a:pt x="172361" y="43306"/>
                  </a:lnTo>
                  <a:lnTo>
                    <a:pt x="173327" y="41570"/>
                  </a:lnTo>
                  <a:lnTo>
                    <a:pt x="174818" y="41260"/>
                  </a:lnTo>
                  <a:lnTo>
                    <a:pt x="176659" y="41900"/>
                  </a:lnTo>
                  <a:lnTo>
                    <a:pt x="182880" y="457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SMARTInkAnnotation42"/>
            <p:cNvSpPr/>
            <p:nvPr/>
          </p:nvSpPr>
          <p:spPr>
            <a:xfrm>
              <a:off x="2888640" y="5127840"/>
              <a:ext cx="45360" cy="756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5533" h="7621">
                  <a:moveTo>
                    <a:pt x="-27593" y="0"/>
                  </a:moveTo>
                  <a:lnTo>
                    <a:pt x="0" y="0"/>
                  </a:lnTo>
                  <a:lnTo>
                    <a:pt x="17759" y="0"/>
                  </a:lnTo>
                  <a:lnTo>
                    <a:pt x="20254" y="846"/>
                  </a:lnTo>
                  <a:lnTo>
                    <a:pt x="22763" y="2257"/>
                  </a:lnTo>
                  <a:lnTo>
                    <a:pt x="25283" y="4045"/>
                  </a:lnTo>
                  <a:lnTo>
                    <a:pt x="27810" y="5237"/>
                  </a:lnTo>
                  <a:lnTo>
                    <a:pt x="30341" y="6031"/>
                  </a:lnTo>
                  <a:lnTo>
                    <a:pt x="-29095" y="7306"/>
                  </a:lnTo>
                  <a:lnTo>
                    <a:pt x="-27747" y="7411"/>
                  </a:lnTo>
                  <a:lnTo>
                    <a:pt x="-26002" y="7480"/>
                  </a:lnTo>
                  <a:lnTo>
                    <a:pt x="-20004" y="7619"/>
                  </a:lnTo>
                  <a:lnTo>
                    <a:pt x="-27593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SMARTInkAnnotation43"/>
            <p:cNvSpPr/>
            <p:nvPr/>
          </p:nvSpPr>
          <p:spPr>
            <a:xfrm>
              <a:off x="3028680" y="4884120"/>
              <a:ext cx="141480" cy="7596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41544" h="76199">
                  <a:moveTo>
                    <a:pt x="27243" y="0"/>
                  </a:moveTo>
                  <a:lnTo>
                    <a:pt x="27243" y="4045"/>
                  </a:lnTo>
                  <a:lnTo>
                    <a:pt x="26396" y="5237"/>
                  </a:lnTo>
                  <a:lnTo>
                    <a:pt x="24986" y="6031"/>
                  </a:lnTo>
                  <a:lnTo>
                    <a:pt x="23198" y="6561"/>
                  </a:lnTo>
                  <a:lnTo>
                    <a:pt x="21160" y="7760"/>
                  </a:lnTo>
                  <a:lnTo>
                    <a:pt x="18954" y="9408"/>
                  </a:lnTo>
                  <a:lnTo>
                    <a:pt x="16637" y="11352"/>
                  </a:lnTo>
                  <a:lnTo>
                    <a:pt x="14246" y="13495"/>
                  </a:lnTo>
                  <a:lnTo>
                    <a:pt x="9331" y="18133"/>
                  </a:lnTo>
                  <a:lnTo>
                    <a:pt x="7682" y="20556"/>
                  </a:lnTo>
                  <a:lnTo>
                    <a:pt x="6582" y="23018"/>
                  </a:lnTo>
                  <a:lnTo>
                    <a:pt x="5849" y="25505"/>
                  </a:lnTo>
                  <a:lnTo>
                    <a:pt x="5360" y="28010"/>
                  </a:lnTo>
                  <a:lnTo>
                    <a:pt x="5035" y="30527"/>
                  </a:lnTo>
                  <a:lnTo>
                    <a:pt x="4817" y="33051"/>
                  </a:lnTo>
                  <a:lnTo>
                    <a:pt x="4673" y="35581"/>
                  </a:lnTo>
                  <a:lnTo>
                    <a:pt x="4512" y="40649"/>
                  </a:lnTo>
                  <a:lnTo>
                    <a:pt x="4421" y="48263"/>
                  </a:lnTo>
                  <a:lnTo>
                    <a:pt x="3562" y="49955"/>
                  </a:lnTo>
                  <a:lnTo>
                    <a:pt x="2142" y="51083"/>
                  </a:lnTo>
                  <a:lnTo>
                    <a:pt x="349" y="51836"/>
                  </a:lnTo>
                  <a:lnTo>
                    <a:pt x="0" y="53184"/>
                  </a:lnTo>
                  <a:lnTo>
                    <a:pt x="615" y="54929"/>
                  </a:lnTo>
                  <a:lnTo>
                    <a:pt x="3638" y="59769"/>
                  </a:lnTo>
                  <a:lnTo>
                    <a:pt x="5580" y="61013"/>
                  </a:lnTo>
                  <a:lnTo>
                    <a:pt x="8567" y="62688"/>
                  </a:lnTo>
                  <a:lnTo>
                    <a:pt x="12253" y="64652"/>
                  </a:lnTo>
                  <a:lnTo>
                    <a:pt x="15556" y="65962"/>
                  </a:lnTo>
                  <a:lnTo>
                    <a:pt x="18605" y="66834"/>
                  </a:lnTo>
                  <a:lnTo>
                    <a:pt x="21484" y="67416"/>
                  </a:lnTo>
                  <a:lnTo>
                    <a:pt x="24251" y="67804"/>
                  </a:lnTo>
                  <a:lnTo>
                    <a:pt x="26942" y="68063"/>
                  </a:lnTo>
                  <a:lnTo>
                    <a:pt x="29582" y="68235"/>
                  </a:lnTo>
                  <a:lnTo>
                    <a:pt x="33036" y="69197"/>
                  </a:lnTo>
                  <a:lnTo>
                    <a:pt x="37031" y="70685"/>
                  </a:lnTo>
                  <a:lnTo>
                    <a:pt x="41389" y="72523"/>
                  </a:lnTo>
                  <a:lnTo>
                    <a:pt x="45140" y="73749"/>
                  </a:lnTo>
                  <a:lnTo>
                    <a:pt x="48488" y="74566"/>
                  </a:lnTo>
                  <a:lnTo>
                    <a:pt x="51566" y="75110"/>
                  </a:lnTo>
                  <a:lnTo>
                    <a:pt x="55312" y="75473"/>
                  </a:lnTo>
                  <a:lnTo>
                    <a:pt x="59502" y="75716"/>
                  </a:lnTo>
                  <a:lnTo>
                    <a:pt x="68674" y="75985"/>
                  </a:lnTo>
                  <a:lnTo>
                    <a:pt x="100626" y="76194"/>
                  </a:lnTo>
                  <a:lnTo>
                    <a:pt x="105860" y="76198"/>
                  </a:lnTo>
                  <a:lnTo>
                    <a:pt x="109288" y="75352"/>
                  </a:lnTo>
                  <a:lnTo>
                    <a:pt x="113266" y="73941"/>
                  </a:lnTo>
                  <a:lnTo>
                    <a:pt x="117612" y="72154"/>
                  </a:lnTo>
                  <a:lnTo>
                    <a:pt x="121355" y="70963"/>
                  </a:lnTo>
                  <a:lnTo>
                    <a:pt x="124698" y="70168"/>
                  </a:lnTo>
                  <a:lnTo>
                    <a:pt x="127773" y="69639"/>
                  </a:lnTo>
                  <a:lnTo>
                    <a:pt x="130670" y="69286"/>
                  </a:lnTo>
                  <a:lnTo>
                    <a:pt x="133448" y="69051"/>
                  </a:lnTo>
                  <a:lnTo>
                    <a:pt x="141543" y="685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SMARTInkAnnotation44"/>
            <p:cNvSpPr/>
            <p:nvPr/>
          </p:nvSpPr>
          <p:spPr>
            <a:xfrm>
              <a:off x="3162600" y="4822920"/>
              <a:ext cx="75960" cy="319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76164" h="320041">
                  <a:moveTo>
                    <a:pt x="76163" y="0"/>
                  </a:moveTo>
                  <a:lnTo>
                    <a:pt x="76163" y="4045"/>
                  </a:lnTo>
                  <a:lnTo>
                    <a:pt x="75317" y="6083"/>
                  </a:lnTo>
                  <a:lnTo>
                    <a:pt x="73906" y="8289"/>
                  </a:lnTo>
                  <a:lnTo>
                    <a:pt x="72118" y="10606"/>
                  </a:lnTo>
                  <a:lnTo>
                    <a:pt x="70926" y="12997"/>
                  </a:lnTo>
                  <a:lnTo>
                    <a:pt x="69602" y="17912"/>
                  </a:lnTo>
                  <a:lnTo>
                    <a:pt x="69014" y="25176"/>
                  </a:lnTo>
                  <a:lnTo>
                    <a:pt x="68857" y="29484"/>
                  </a:lnTo>
                  <a:lnTo>
                    <a:pt x="67906" y="34049"/>
                  </a:lnTo>
                  <a:lnTo>
                    <a:pt x="66425" y="38786"/>
                  </a:lnTo>
                  <a:lnTo>
                    <a:pt x="64591" y="43637"/>
                  </a:lnTo>
                  <a:lnTo>
                    <a:pt x="62553" y="53543"/>
                  </a:lnTo>
                  <a:lnTo>
                    <a:pt x="62010" y="58556"/>
                  </a:lnTo>
                  <a:lnTo>
                    <a:pt x="60801" y="63591"/>
                  </a:lnTo>
                  <a:lnTo>
                    <a:pt x="59148" y="68641"/>
                  </a:lnTo>
                  <a:lnTo>
                    <a:pt x="57200" y="73700"/>
                  </a:lnTo>
                  <a:lnTo>
                    <a:pt x="52777" y="86096"/>
                  </a:lnTo>
                  <a:lnTo>
                    <a:pt x="50412" y="92957"/>
                  </a:lnTo>
                  <a:lnTo>
                    <a:pt x="47989" y="99225"/>
                  </a:lnTo>
                  <a:lnTo>
                    <a:pt x="45527" y="105097"/>
                  </a:lnTo>
                  <a:lnTo>
                    <a:pt x="43039" y="110704"/>
                  </a:lnTo>
                  <a:lnTo>
                    <a:pt x="39687" y="116983"/>
                  </a:lnTo>
                  <a:lnTo>
                    <a:pt x="35759" y="123709"/>
                  </a:lnTo>
                  <a:lnTo>
                    <a:pt x="31447" y="130733"/>
                  </a:lnTo>
                  <a:lnTo>
                    <a:pt x="27725" y="137955"/>
                  </a:lnTo>
                  <a:lnTo>
                    <a:pt x="24398" y="145310"/>
                  </a:lnTo>
                  <a:lnTo>
                    <a:pt x="21333" y="152753"/>
                  </a:lnTo>
                  <a:lnTo>
                    <a:pt x="19290" y="159409"/>
                  </a:lnTo>
                  <a:lnTo>
                    <a:pt x="17927" y="165540"/>
                  </a:lnTo>
                  <a:lnTo>
                    <a:pt x="17019" y="171320"/>
                  </a:lnTo>
                  <a:lnTo>
                    <a:pt x="15567" y="177713"/>
                  </a:lnTo>
                  <a:lnTo>
                    <a:pt x="13752" y="184515"/>
                  </a:lnTo>
                  <a:lnTo>
                    <a:pt x="9478" y="198847"/>
                  </a:lnTo>
                  <a:lnTo>
                    <a:pt x="4756" y="213683"/>
                  </a:lnTo>
                  <a:lnTo>
                    <a:pt x="3159" y="220349"/>
                  </a:lnTo>
                  <a:lnTo>
                    <a:pt x="2093" y="226486"/>
                  </a:lnTo>
                  <a:lnTo>
                    <a:pt x="1383" y="232271"/>
                  </a:lnTo>
                  <a:lnTo>
                    <a:pt x="910" y="237821"/>
                  </a:lnTo>
                  <a:lnTo>
                    <a:pt x="594" y="243214"/>
                  </a:lnTo>
                  <a:lnTo>
                    <a:pt x="384" y="248503"/>
                  </a:lnTo>
                  <a:lnTo>
                    <a:pt x="150" y="261152"/>
                  </a:lnTo>
                  <a:lnTo>
                    <a:pt x="0" y="285925"/>
                  </a:lnTo>
                  <a:lnTo>
                    <a:pt x="834" y="290523"/>
                  </a:lnTo>
                  <a:lnTo>
                    <a:pt x="2237" y="294436"/>
                  </a:lnTo>
                  <a:lnTo>
                    <a:pt x="4019" y="297890"/>
                  </a:lnTo>
                  <a:lnTo>
                    <a:pt x="5999" y="303987"/>
                  </a:lnTo>
                  <a:lnTo>
                    <a:pt x="7114" y="312179"/>
                  </a:lnTo>
                  <a:lnTo>
                    <a:pt x="7583" y="3200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SMARTInkAnnotation45"/>
            <p:cNvSpPr/>
            <p:nvPr/>
          </p:nvSpPr>
          <p:spPr>
            <a:xfrm>
              <a:off x="3528360" y="4282200"/>
              <a:ext cx="99000" cy="28944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99061" h="289561">
                  <a:moveTo>
                    <a:pt x="99060" y="0"/>
                  </a:moveTo>
                  <a:lnTo>
                    <a:pt x="95015" y="0"/>
                  </a:lnTo>
                  <a:lnTo>
                    <a:pt x="93823" y="847"/>
                  </a:lnTo>
                  <a:lnTo>
                    <a:pt x="93029" y="2258"/>
                  </a:lnTo>
                  <a:lnTo>
                    <a:pt x="92146" y="6084"/>
                  </a:lnTo>
                  <a:lnTo>
                    <a:pt x="91754" y="10606"/>
                  </a:lnTo>
                  <a:lnTo>
                    <a:pt x="89322" y="17696"/>
                  </a:lnTo>
                  <a:lnTo>
                    <a:pt x="87488" y="21957"/>
                  </a:lnTo>
                  <a:lnTo>
                    <a:pt x="85419" y="25645"/>
                  </a:lnTo>
                  <a:lnTo>
                    <a:pt x="83193" y="28950"/>
                  </a:lnTo>
                  <a:lnTo>
                    <a:pt x="80862" y="32000"/>
                  </a:lnTo>
                  <a:lnTo>
                    <a:pt x="78461" y="35727"/>
                  </a:lnTo>
                  <a:lnTo>
                    <a:pt x="76014" y="39905"/>
                  </a:lnTo>
                  <a:lnTo>
                    <a:pt x="73536" y="44383"/>
                  </a:lnTo>
                  <a:lnTo>
                    <a:pt x="70191" y="49909"/>
                  </a:lnTo>
                  <a:lnTo>
                    <a:pt x="61958" y="62822"/>
                  </a:lnTo>
                  <a:lnTo>
                    <a:pt x="58239" y="69821"/>
                  </a:lnTo>
                  <a:lnTo>
                    <a:pt x="54912" y="77028"/>
                  </a:lnTo>
                  <a:lnTo>
                    <a:pt x="51849" y="84372"/>
                  </a:lnTo>
                  <a:lnTo>
                    <a:pt x="48959" y="91808"/>
                  </a:lnTo>
                  <a:lnTo>
                    <a:pt x="43491" y="106843"/>
                  </a:lnTo>
                  <a:lnTo>
                    <a:pt x="40847" y="115256"/>
                  </a:lnTo>
                  <a:lnTo>
                    <a:pt x="30521" y="150833"/>
                  </a:lnTo>
                  <a:lnTo>
                    <a:pt x="27967" y="158975"/>
                  </a:lnTo>
                  <a:lnTo>
                    <a:pt x="24572" y="167791"/>
                  </a:lnTo>
                  <a:lnTo>
                    <a:pt x="20615" y="177053"/>
                  </a:lnTo>
                  <a:lnTo>
                    <a:pt x="16283" y="186616"/>
                  </a:lnTo>
                  <a:lnTo>
                    <a:pt x="12549" y="197224"/>
                  </a:lnTo>
                  <a:lnTo>
                    <a:pt x="9212" y="208529"/>
                  </a:lnTo>
                  <a:lnTo>
                    <a:pt x="6142" y="220299"/>
                  </a:lnTo>
                  <a:lnTo>
                    <a:pt x="4095" y="231533"/>
                  </a:lnTo>
                  <a:lnTo>
                    <a:pt x="2730" y="242409"/>
                  </a:lnTo>
                  <a:lnTo>
                    <a:pt x="1820" y="253046"/>
                  </a:lnTo>
                  <a:lnTo>
                    <a:pt x="1214" y="261831"/>
                  </a:lnTo>
                  <a:lnTo>
                    <a:pt x="0" y="2895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SMARTInkAnnotation46"/>
            <p:cNvSpPr/>
            <p:nvPr/>
          </p:nvSpPr>
          <p:spPr>
            <a:xfrm>
              <a:off x="4035240" y="4975200"/>
              <a:ext cx="125280" cy="1080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5604" h="10876">
                  <a:moveTo>
                    <a:pt x="0" y="10875"/>
                  </a:moveTo>
                  <a:lnTo>
                    <a:pt x="12560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SMARTInkAnnotation47"/>
            <p:cNvSpPr/>
            <p:nvPr/>
          </p:nvSpPr>
          <p:spPr>
            <a:xfrm>
              <a:off x="3421800" y="4960440"/>
              <a:ext cx="281880" cy="2988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81941" h="30131">
                  <a:moveTo>
                    <a:pt x="0" y="30130"/>
                  </a:moveTo>
                  <a:lnTo>
                    <a:pt x="0" y="26086"/>
                  </a:lnTo>
                  <a:lnTo>
                    <a:pt x="846" y="24893"/>
                  </a:lnTo>
                  <a:lnTo>
                    <a:pt x="2258" y="24099"/>
                  </a:lnTo>
                  <a:lnTo>
                    <a:pt x="4045" y="23570"/>
                  </a:lnTo>
                  <a:lnTo>
                    <a:pt x="6083" y="22370"/>
                  </a:lnTo>
                  <a:lnTo>
                    <a:pt x="8289" y="20723"/>
                  </a:lnTo>
                  <a:lnTo>
                    <a:pt x="10606" y="18779"/>
                  </a:lnTo>
                  <a:lnTo>
                    <a:pt x="14691" y="16635"/>
                  </a:lnTo>
                  <a:lnTo>
                    <a:pt x="19954" y="14360"/>
                  </a:lnTo>
                  <a:lnTo>
                    <a:pt x="26003" y="11997"/>
                  </a:lnTo>
                  <a:lnTo>
                    <a:pt x="33422" y="10422"/>
                  </a:lnTo>
                  <a:lnTo>
                    <a:pt x="41755" y="9371"/>
                  </a:lnTo>
                  <a:lnTo>
                    <a:pt x="50696" y="8671"/>
                  </a:lnTo>
                  <a:lnTo>
                    <a:pt x="60044" y="7357"/>
                  </a:lnTo>
                  <a:lnTo>
                    <a:pt x="69663" y="5635"/>
                  </a:lnTo>
                  <a:lnTo>
                    <a:pt x="79462" y="3640"/>
                  </a:lnTo>
                  <a:lnTo>
                    <a:pt x="89381" y="2310"/>
                  </a:lnTo>
                  <a:lnTo>
                    <a:pt x="99381" y="1423"/>
                  </a:lnTo>
                  <a:lnTo>
                    <a:pt x="109434" y="833"/>
                  </a:lnTo>
                  <a:lnTo>
                    <a:pt x="129635" y="176"/>
                  </a:lnTo>
                  <a:lnTo>
                    <a:pt x="139763" y="0"/>
                  </a:lnTo>
                  <a:lnTo>
                    <a:pt x="150749" y="731"/>
                  </a:lnTo>
                  <a:lnTo>
                    <a:pt x="162306" y="2063"/>
                  </a:lnTo>
                  <a:lnTo>
                    <a:pt x="174244" y="3799"/>
                  </a:lnTo>
                  <a:lnTo>
                    <a:pt x="185589" y="4956"/>
                  </a:lnTo>
                  <a:lnTo>
                    <a:pt x="196540" y="5728"/>
                  </a:lnTo>
                  <a:lnTo>
                    <a:pt x="216044" y="6585"/>
                  </a:lnTo>
                  <a:lnTo>
                    <a:pt x="230358" y="6966"/>
                  </a:lnTo>
                  <a:lnTo>
                    <a:pt x="236545" y="7914"/>
                  </a:lnTo>
                  <a:lnTo>
                    <a:pt x="242363" y="9393"/>
                  </a:lnTo>
                  <a:lnTo>
                    <a:pt x="247936" y="11225"/>
                  </a:lnTo>
                  <a:lnTo>
                    <a:pt x="252498" y="12447"/>
                  </a:lnTo>
                  <a:lnTo>
                    <a:pt x="256384" y="13261"/>
                  </a:lnTo>
                  <a:lnTo>
                    <a:pt x="262962" y="14166"/>
                  </a:lnTo>
                  <a:lnTo>
                    <a:pt x="271425" y="14676"/>
                  </a:lnTo>
                  <a:lnTo>
                    <a:pt x="281940" y="148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SMARTInkAnnotation48"/>
            <p:cNvSpPr/>
            <p:nvPr/>
          </p:nvSpPr>
          <p:spPr>
            <a:xfrm>
              <a:off x="3391200" y="5066640"/>
              <a:ext cx="304560" cy="37800"/>
            </a:xfrm>
            <a:custGeom>
              <a:avLst/>
              <a:gdLst>
                <a:gd name="textAreaLeft" fmla="*/ 0 w 304560"/>
                <a:gd name="textAreaRight" fmla="*/ 304560 w 304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04801" h="38101">
                  <a:moveTo>
                    <a:pt x="0" y="38100"/>
                  </a:moveTo>
                  <a:lnTo>
                    <a:pt x="4045" y="38100"/>
                  </a:lnTo>
                  <a:lnTo>
                    <a:pt x="7777" y="37254"/>
                  </a:lnTo>
                  <a:lnTo>
                    <a:pt x="12805" y="35843"/>
                  </a:lnTo>
                  <a:lnTo>
                    <a:pt x="25164" y="32017"/>
                  </a:lnTo>
                  <a:lnTo>
                    <a:pt x="39124" y="27494"/>
                  </a:lnTo>
                  <a:lnTo>
                    <a:pt x="48096" y="25950"/>
                  </a:lnTo>
                  <a:lnTo>
                    <a:pt x="58311" y="24919"/>
                  </a:lnTo>
                  <a:lnTo>
                    <a:pt x="69354" y="24233"/>
                  </a:lnTo>
                  <a:lnTo>
                    <a:pt x="80950" y="22929"/>
                  </a:lnTo>
                  <a:lnTo>
                    <a:pt x="92913" y="21213"/>
                  </a:lnTo>
                  <a:lnTo>
                    <a:pt x="105122" y="19222"/>
                  </a:lnTo>
                  <a:lnTo>
                    <a:pt x="117495" y="17894"/>
                  </a:lnTo>
                  <a:lnTo>
                    <a:pt x="129977" y="17010"/>
                  </a:lnTo>
                  <a:lnTo>
                    <a:pt x="154287" y="16027"/>
                  </a:lnTo>
                  <a:lnTo>
                    <a:pt x="187014" y="15473"/>
                  </a:lnTo>
                  <a:lnTo>
                    <a:pt x="254552" y="15249"/>
                  </a:lnTo>
                  <a:lnTo>
                    <a:pt x="260295" y="14400"/>
                  </a:lnTo>
                  <a:lnTo>
                    <a:pt x="265816" y="12986"/>
                  </a:lnTo>
                  <a:lnTo>
                    <a:pt x="271191" y="11197"/>
                  </a:lnTo>
                  <a:lnTo>
                    <a:pt x="276468" y="9158"/>
                  </a:lnTo>
                  <a:lnTo>
                    <a:pt x="281679" y="6952"/>
                  </a:lnTo>
                  <a:lnTo>
                    <a:pt x="286846" y="4635"/>
                  </a:lnTo>
                  <a:lnTo>
                    <a:pt x="291137" y="3091"/>
                  </a:lnTo>
                  <a:lnTo>
                    <a:pt x="294844" y="2060"/>
                  </a:lnTo>
                  <a:lnTo>
                    <a:pt x="3048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SMARTInkAnnotation49"/>
            <p:cNvSpPr/>
            <p:nvPr/>
          </p:nvSpPr>
          <p:spPr>
            <a:xfrm>
              <a:off x="3917160" y="4876200"/>
              <a:ext cx="198000" cy="15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8121" h="15211">
                  <a:moveTo>
                    <a:pt x="0" y="15210"/>
                  </a:moveTo>
                  <a:lnTo>
                    <a:pt x="6561" y="15210"/>
                  </a:lnTo>
                  <a:lnTo>
                    <a:pt x="8608" y="14364"/>
                  </a:lnTo>
                  <a:lnTo>
                    <a:pt x="11665" y="12953"/>
                  </a:lnTo>
                  <a:lnTo>
                    <a:pt x="15397" y="11165"/>
                  </a:lnTo>
                  <a:lnTo>
                    <a:pt x="19578" y="9973"/>
                  </a:lnTo>
                  <a:lnTo>
                    <a:pt x="24058" y="9179"/>
                  </a:lnTo>
                  <a:lnTo>
                    <a:pt x="28739" y="8649"/>
                  </a:lnTo>
                  <a:lnTo>
                    <a:pt x="34399" y="7450"/>
                  </a:lnTo>
                  <a:lnTo>
                    <a:pt x="40713" y="5803"/>
                  </a:lnTo>
                  <a:lnTo>
                    <a:pt x="47461" y="3859"/>
                  </a:lnTo>
                  <a:lnTo>
                    <a:pt x="55348" y="2563"/>
                  </a:lnTo>
                  <a:lnTo>
                    <a:pt x="63992" y="1698"/>
                  </a:lnTo>
                  <a:lnTo>
                    <a:pt x="73141" y="1122"/>
                  </a:lnTo>
                  <a:lnTo>
                    <a:pt x="92338" y="482"/>
                  </a:lnTo>
                  <a:lnTo>
                    <a:pt x="131038" y="37"/>
                  </a:lnTo>
                  <a:lnTo>
                    <a:pt x="145446" y="0"/>
                  </a:lnTo>
                  <a:lnTo>
                    <a:pt x="151997" y="837"/>
                  </a:lnTo>
                  <a:lnTo>
                    <a:pt x="158058" y="2242"/>
                  </a:lnTo>
                  <a:lnTo>
                    <a:pt x="163793" y="4024"/>
                  </a:lnTo>
                  <a:lnTo>
                    <a:pt x="168461" y="5213"/>
                  </a:lnTo>
                  <a:lnTo>
                    <a:pt x="172422" y="6006"/>
                  </a:lnTo>
                  <a:lnTo>
                    <a:pt x="175907" y="6534"/>
                  </a:lnTo>
                  <a:lnTo>
                    <a:pt x="179079" y="6886"/>
                  </a:lnTo>
                  <a:lnTo>
                    <a:pt x="184859" y="7277"/>
                  </a:lnTo>
                  <a:lnTo>
                    <a:pt x="190233" y="7528"/>
                  </a:lnTo>
                  <a:lnTo>
                    <a:pt x="198120" y="75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SMARTInkAnnotation50"/>
            <p:cNvSpPr/>
            <p:nvPr/>
          </p:nvSpPr>
          <p:spPr>
            <a:xfrm>
              <a:off x="4237200" y="4784760"/>
              <a:ext cx="68400" cy="2739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68474" h="274321">
                  <a:moveTo>
                    <a:pt x="68473" y="0"/>
                  </a:moveTo>
                  <a:lnTo>
                    <a:pt x="68473" y="4045"/>
                  </a:lnTo>
                  <a:lnTo>
                    <a:pt x="67627" y="5237"/>
                  </a:lnTo>
                  <a:lnTo>
                    <a:pt x="66215" y="6031"/>
                  </a:lnTo>
                  <a:lnTo>
                    <a:pt x="64428" y="6561"/>
                  </a:lnTo>
                  <a:lnTo>
                    <a:pt x="63236" y="8608"/>
                  </a:lnTo>
                  <a:lnTo>
                    <a:pt x="61912" y="15397"/>
                  </a:lnTo>
                  <a:lnTo>
                    <a:pt x="60713" y="19578"/>
                  </a:lnTo>
                  <a:lnTo>
                    <a:pt x="59066" y="24059"/>
                  </a:lnTo>
                  <a:lnTo>
                    <a:pt x="57122" y="28739"/>
                  </a:lnTo>
                  <a:lnTo>
                    <a:pt x="54979" y="33553"/>
                  </a:lnTo>
                  <a:lnTo>
                    <a:pt x="50340" y="43417"/>
                  </a:lnTo>
                  <a:lnTo>
                    <a:pt x="48765" y="48418"/>
                  </a:lnTo>
                  <a:lnTo>
                    <a:pt x="47714" y="53446"/>
                  </a:lnTo>
                  <a:lnTo>
                    <a:pt x="47014" y="58491"/>
                  </a:lnTo>
                  <a:lnTo>
                    <a:pt x="44854" y="63547"/>
                  </a:lnTo>
                  <a:lnTo>
                    <a:pt x="41720" y="68612"/>
                  </a:lnTo>
                  <a:lnTo>
                    <a:pt x="37938" y="73681"/>
                  </a:lnTo>
                  <a:lnTo>
                    <a:pt x="35416" y="79601"/>
                  </a:lnTo>
                  <a:lnTo>
                    <a:pt x="33735" y="86087"/>
                  </a:lnTo>
                  <a:lnTo>
                    <a:pt x="32614" y="92952"/>
                  </a:lnTo>
                  <a:lnTo>
                    <a:pt x="30174" y="100068"/>
                  </a:lnTo>
                  <a:lnTo>
                    <a:pt x="26854" y="107352"/>
                  </a:lnTo>
                  <a:lnTo>
                    <a:pt x="22947" y="114748"/>
                  </a:lnTo>
                  <a:lnTo>
                    <a:pt x="19495" y="122219"/>
                  </a:lnTo>
                  <a:lnTo>
                    <a:pt x="16348" y="129739"/>
                  </a:lnTo>
                  <a:lnTo>
                    <a:pt x="13403" y="137293"/>
                  </a:lnTo>
                  <a:lnTo>
                    <a:pt x="11440" y="144869"/>
                  </a:lnTo>
                  <a:lnTo>
                    <a:pt x="10130" y="152459"/>
                  </a:lnTo>
                  <a:lnTo>
                    <a:pt x="9258" y="160059"/>
                  </a:lnTo>
                  <a:lnTo>
                    <a:pt x="7830" y="168513"/>
                  </a:lnTo>
                  <a:lnTo>
                    <a:pt x="6031" y="177535"/>
                  </a:lnTo>
                  <a:lnTo>
                    <a:pt x="3985" y="186937"/>
                  </a:lnTo>
                  <a:lnTo>
                    <a:pt x="2621" y="195745"/>
                  </a:lnTo>
                  <a:lnTo>
                    <a:pt x="1712" y="204156"/>
                  </a:lnTo>
                  <a:lnTo>
                    <a:pt x="1106" y="212304"/>
                  </a:lnTo>
                  <a:lnTo>
                    <a:pt x="701" y="219429"/>
                  </a:lnTo>
                  <a:lnTo>
                    <a:pt x="252" y="231862"/>
                  </a:lnTo>
                  <a:lnTo>
                    <a:pt x="0" y="252426"/>
                  </a:lnTo>
                  <a:lnTo>
                    <a:pt x="811" y="258031"/>
                  </a:lnTo>
                  <a:lnTo>
                    <a:pt x="2198" y="262614"/>
                  </a:lnTo>
                  <a:lnTo>
                    <a:pt x="7514" y="274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SMARTInkAnnotation51"/>
            <p:cNvSpPr/>
            <p:nvPr/>
          </p:nvSpPr>
          <p:spPr>
            <a:xfrm>
              <a:off x="4375800" y="4769640"/>
              <a:ext cx="211680" cy="12132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211848" h="121598">
                  <a:moveTo>
                    <a:pt x="89926" y="0"/>
                  </a:moveTo>
                  <a:lnTo>
                    <a:pt x="89926" y="4045"/>
                  </a:lnTo>
                  <a:lnTo>
                    <a:pt x="89080" y="5237"/>
                  </a:lnTo>
                  <a:lnTo>
                    <a:pt x="87668" y="6031"/>
                  </a:lnTo>
                  <a:lnTo>
                    <a:pt x="85881" y="6561"/>
                  </a:lnTo>
                  <a:lnTo>
                    <a:pt x="81637" y="9408"/>
                  </a:lnTo>
                  <a:lnTo>
                    <a:pt x="79320" y="11352"/>
                  </a:lnTo>
                  <a:lnTo>
                    <a:pt x="76928" y="13495"/>
                  </a:lnTo>
                  <a:lnTo>
                    <a:pt x="72014" y="18133"/>
                  </a:lnTo>
                  <a:lnTo>
                    <a:pt x="60442" y="29550"/>
                  </a:lnTo>
                  <a:lnTo>
                    <a:pt x="56724" y="34094"/>
                  </a:lnTo>
                  <a:lnTo>
                    <a:pt x="53398" y="38816"/>
                  </a:lnTo>
                  <a:lnTo>
                    <a:pt x="50334" y="43657"/>
                  </a:lnTo>
                  <a:lnTo>
                    <a:pt x="46598" y="47732"/>
                  </a:lnTo>
                  <a:lnTo>
                    <a:pt x="42414" y="51295"/>
                  </a:lnTo>
                  <a:lnTo>
                    <a:pt x="37931" y="54517"/>
                  </a:lnTo>
                  <a:lnTo>
                    <a:pt x="34097" y="57511"/>
                  </a:lnTo>
                  <a:lnTo>
                    <a:pt x="30693" y="60354"/>
                  </a:lnTo>
                  <a:lnTo>
                    <a:pt x="27577" y="63097"/>
                  </a:lnTo>
                  <a:lnTo>
                    <a:pt x="21857" y="68401"/>
                  </a:lnTo>
                  <a:lnTo>
                    <a:pt x="13878" y="76147"/>
                  </a:lnTo>
                  <a:lnTo>
                    <a:pt x="3596" y="86350"/>
                  </a:lnTo>
                  <a:lnTo>
                    <a:pt x="1892" y="88893"/>
                  </a:lnTo>
                  <a:lnTo>
                    <a:pt x="757" y="91436"/>
                  </a:lnTo>
                  <a:lnTo>
                    <a:pt x="0" y="93977"/>
                  </a:lnTo>
                  <a:lnTo>
                    <a:pt x="342" y="96518"/>
                  </a:lnTo>
                  <a:lnTo>
                    <a:pt x="1417" y="99059"/>
                  </a:lnTo>
                  <a:lnTo>
                    <a:pt x="2979" y="101599"/>
                  </a:lnTo>
                  <a:lnTo>
                    <a:pt x="4868" y="103293"/>
                  </a:lnTo>
                  <a:lnTo>
                    <a:pt x="6975" y="104422"/>
                  </a:lnTo>
                  <a:lnTo>
                    <a:pt x="12419" y="106523"/>
                  </a:lnTo>
                  <a:lnTo>
                    <a:pt x="16241" y="108269"/>
                  </a:lnTo>
                  <a:lnTo>
                    <a:pt x="20483" y="110279"/>
                  </a:lnTo>
                  <a:lnTo>
                    <a:pt x="25004" y="111619"/>
                  </a:lnTo>
                  <a:lnTo>
                    <a:pt x="29712" y="112513"/>
                  </a:lnTo>
                  <a:lnTo>
                    <a:pt x="34543" y="113109"/>
                  </a:lnTo>
                  <a:lnTo>
                    <a:pt x="40304" y="113506"/>
                  </a:lnTo>
                  <a:lnTo>
                    <a:pt x="46685" y="113770"/>
                  </a:lnTo>
                  <a:lnTo>
                    <a:pt x="53479" y="113947"/>
                  </a:lnTo>
                  <a:lnTo>
                    <a:pt x="59701" y="114911"/>
                  </a:lnTo>
                  <a:lnTo>
                    <a:pt x="65542" y="116401"/>
                  </a:lnTo>
                  <a:lnTo>
                    <a:pt x="71131" y="118241"/>
                  </a:lnTo>
                  <a:lnTo>
                    <a:pt x="78242" y="119467"/>
                  </a:lnTo>
                  <a:lnTo>
                    <a:pt x="86370" y="120285"/>
                  </a:lnTo>
                  <a:lnTo>
                    <a:pt x="102740" y="121193"/>
                  </a:lnTo>
                  <a:lnTo>
                    <a:pt x="115658" y="121597"/>
                  </a:lnTo>
                  <a:lnTo>
                    <a:pt x="122321" y="120858"/>
                  </a:lnTo>
                  <a:lnTo>
                    <a:pt x="129303" y="119518"/>
                  </a:lnTo>
                  <a:lnTo>
                    <a:pt x="136498" y="117779"/>
                  </a:lnTo>
                  <a:lnTo>
                    <a:pt x="142988" y="116619"/>
                  </a:lnTo>
                  <a:lnTo>
                    <a:pt x="149007" y="115846"/>
                  </a:lnTo>
                  <a:lnTo>
                    <a:pt x="154714" y="115331"/>
                  </a:lnTo>
                  <a:lnTo>
                    <a:pt x="159364" y="114988"/>
                  </a:lnTo>
                  <a:lnTo>
                    <a:pt x="163312" y="114758"/>
                  </a:lnTo>
                  <a:lnTo>
                    <a:pt x="166790" y="114605"/>
                  </a:lnTo>
                  <a:lnTo>
                    <a:pt x="171649" y="113657"/>
                  </a:lnTo>
                  <a:lnTo>
                    <a:pt x="177428" y="112178"/>
                  </a:lnTo>
                  <a:lnTo>
                    <a:pt x="183821" y="110345"/>
                  </a:lnTo>
                  <a:lnTo>
                    <a:pt x="188929" y="109124"/>
                  </a:lnTo>
                  <a:lnTo>
                    <a:pt x="193182" y="108309"/>
                  </a:lnTo>
                  <a:lnTo>
                    <a:pt x="202044" y="107002"/>
                  </a:lnTo>
                  <a:lnTo>
                    <a:pt x="205515" y="104565"/>
                  </a:lnTo>
                  <a:lnTo>
                    <a:pt x="211847" y="990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SMARTInkAnnotation52"/>
            <p:cNvSpPr/>
            <p:nvPr/>
          </p:nvSpPr>
          <p:spPr>
            <a:xfrm>
              <a:off x="4503960" y="4769640"/>
              <a:ext cx="129240" cy="3427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129473" h="342901">
                  <a:moveTo>
                    <a:pt x="129472" y="0"/>
                  </a:moveTo>
                  <a:lnTo>
                    <a:pt x="129472" y="4045"/>
                  </a:lnTo>
                  <a:lnTo>
                    <a:pt x="128625" y="5237"/>
                  </a:lnTo>
                  <a:lnTo>
                    <a:pt x="127214" y="6031"/>
                  </a:lnTo>
                  <a:lnTo>
                    <a:pt x="125427" y="6561"/>
                  </a:lnTo>
                  <a:lnTo>
                    <a:pt x="123388" y="7760"/>
                  </a:lnTo>
                  <a:lnTo>
                    <a:pt x="121183" y="9408"/>
                  </a:lnTo>
                  <a:lnTo>
                    <a:pt x="118866" y="11352"/>
                  </a:lnTo>
                  <a:lnTo>
                    <a:pt x="116475" y="13495"/>
                  </a:lnTo>
                  <a:lnTo>
                    <a:pt x="111560" y="18133"/>
                  </a:lnTo>
                  <a:lnTo>
                    <a:pt x="109064" y="21402"/>
                  </a:lnTo>
                  <a:lnTo>
                    <a:pt x="106554" y="25275"/>
                  </a:lnTo>
                  <a:lnTo>
                    <a:pt x="104033" y="29550"/>
                  </a:lnTo>
                  <a:lnTo>
                    <a:pt x="101505" y="34094"/>
                  </a:lnTo>
                  <a:lnTo>
                    <a:pt x="96441" y="43657"/>
                  </a:lnTo>
                  <a:lnTo>
                    <a:pt x="93057" y="48579"/>
                  </a:lnTo>
                  <a:lnTo>
                    <a:pt x="89109" y="53553"/>
                  </a:lnTo>
                  <a:lnTo>
                    <a:pt x="84783" y="58562"/>
                  </a:lnTo>
                  <a:lnTo>
                    <a:pt x="81053" y="63594"/>
                  </a:lnTo>
                  <a:lnTo>
                    <a:pt x="77719" y="68643"/>
                  </a:lnTo>
                  <a:lnTo>
                    <a:pt x="74650" y="73703"/>
                  </a:lnTo>
                  <a:lnTo>
                    <a:pt x="66724" y="86096"/>
                  </a:lnTo>
                  <a:lnTo>
                    <a:pt x="62240" y="92958"/>
                  </a:lnTo>
                  <a:lnTo>
                    <a:pt x="58404" y="100072"/>
                  </a:lnTo>
                  <a:lnTo>
                    <a:pt x="55000" y="107354"/>
                  </a:lnTo>
                  <a:lnTo>
                    <a:pt x="51884" y="114750"/>
                  </a:lnTo>
                  <a:lnTo>
                    <a:pt x="48113" y="123067"/>
                  </a:lnTo>
                  <a:lnTo>
                    <a:pt x="39408" y="141338"/>
                  </a:lnTo>
                  <a:lnTo>
                    <a:pt x="35563" y="150106"/>
                  </a:lnTo>
                  <a:lnTo>
                    <a:pt x="32152" y="158491"/>
                  </a:lnTo>
                  <a:lnTo>
                    <a:pt x="29032" y="166621"/>
                  </a:lnTo>
                  <a:lnTo>
                    <a:pt x="26105" y="175427"/>
                  </a:lnTo>
                  <a:lnTo>
                    <a:pt x="23308" y="184685"/>
                  </a:lnTo>
                  <a:lnTo>
                    <a:pt x="20596" y="194243"/>
                  </a:lnTo>
                  <a:lnTo>
                    <a:pt x="17095" y="203156"/>
                  </a:lnTo>
                  <a:lnTo>
                    <a:pt x="13067" y="211637"/>
                  </a:lnTo>
                  <a:lnTo>
                    <a:pt x="8689" y="219831"/>
                  </a:lnTo>
                  <a:lnTo>
                    <a:pt x="5770" y="228681"/>
                  </a:lnTo>
                  <a:lnTo>
                    <a:pt x="3824" y="237967"/>
                  </a:lnTo>
                  <a:lnTo>
                    <a:pt x="2527" y="247545"/>
                  </a:lnTo>
                  <a:lnTo>
                    <a:pt x="1662" y="256470"/>
                  </a:lnTo>
                  <a:lnTo>
                    <a:pt x="1085" y="264961"/>
                  </a:lnTo>
                  <a:lnTo>
                    <a:pt x="701" y="273161"/>
                  </a:lnTo>
                  <a:lnTo>
                    <a:pt x="273" y="289045"/>
                  </a:lnTo>
                  <a:lnTo>
                    <a:pt x="0" y="315893"/>
                  </a:lnTo>
                  <a:lnTo>
                    <a:pt x="823" y="321509"/>
                  </a:lnTo>
                  <a:lnTo>
                    <a:pt x="2220" y="326946"/>
                  </a:lnTo>
                  <a:lnTo>
                    <a:pt x="7552" y="3429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SMARTInkAnnotation53"/>
            <p:cNvSpPr/>
            <p:nvPr/>
          </p:nvSpPr>
          <p:spPr>
            <a:xfrm>
              <a:off x="4610520" y="5020920"/>
              <a:ext cx="68400" cy="68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8581" h="68581">
                  <a:moveTo>
                    <a:pt x="68580" y="0"/>
                  </a:moveTo>
                  <a:lnTo>
                    <a:pt x="68580" y="4045"/>
                  </a:lnTo>
                  <a:lnTo>
                    <a:pt x="67733" y="5237"/>
                  </a:lnTo>
                  <a:lnTo>
                    <a:pt x="66322" y="6031"/>
                  </a:lnTo>
                  <a:lnTo>
                    <a:pt x="64535" y="6561"/>
                  </a:lnTo>
                  <a:lnTo>
                    <a:pt x="63343" y="8608"/>
                  </a:lnTo>
                  <a:lnTo>
                    <a:pt x="62549" y="11665"/>
                  </a:lnTo>
                  <a:lnTo>
                    <a:pt x="62019" y="15397"/>
                  </a:lnTo>
                  <a:lnTo>
                    <a:pt x="59973" y="18731"/>
                  </a:lnTo>
                  <a:lnTo>
                    <a:pt x="56915" y="21801"/>
                  </a:lnTo>
                  <a:lnTo>
                    <a:pt x="53184" y="24694"/>
                  </a:lnTo>
                  <a:lnTo>
                    <a:pt x="49849" y="27470"/>
                  </a:lnTo>
                  <a:lnTo>
                    <a:pt x="46779" y="30166"/>
                  </a:lnTo>
                  <a:lnTo>
                    <a:pt x="43886" y="32811"/>
                  </a:lnTo>
                  <a:lnTo>
                    <a:pt x="40264" y="35421"/>
                  </a:lnTo>
                  <a:lnTo>
                    <a:pt x="36156" y="38007"/>
                  </a:lnTo>
                  <a:lnTo>
                    <a:pt x="31724" y="40578"/>
                  </a:lnTo>
                  <a:lnTo>
                    <a:pt x="27923" y="43985"/>
                  </a:lnTo>
                  <a:lnTo>
                    <a:pt x="24542" y="47950"/>
                  </a:lnTo>
                  <a:lnTo>
                    <a:pt x="21441" y="52287"/>
                  </a:lnTo>
                  <a:lnTo>
                    <a:pt x="18527" y="55178"/>
                  </a:lnTo>
                  <a:lnTo>
                    <a:pt x="15738" y="57105"/>
                  </a:lnTo>
                  <a:lnTo>
                    <a:pt x="13033" y="58390"/>
                  </a:lnTo>
                  <a:lnTo>
                    <a:pt x="10382" y="60094"/>
                  </a:lnTo>
                  <a:lnTo>
                    <a:pt x="7768" y="62076"/>
                  </a:lnTo>
                  <a:lnTo>
                    <a:pt x="0" y="685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SMARTInkAnnotation54"/>
            <p:cNvSpPr/>
            <p:nvPr/>
          </p:nvSpPr>
          <p:spPr>
            <a:xfrm>
              <a:off x="4785840" y="4807800"/>
              <a:ext cx="205560" cy="28764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05592" h="288044">
                  <a:moveTo>
                    <a:pt x="53336" y="0"/>
                  </a:moveTo>
                  <a:lnTo>
                    <a:pt x="53336" y="4045"/>
                  </a:lnTo>
                  <a:lnTo>
                    <a:pt x="52490" y="5237"/>
                  </a:lnTo>
                  <a:lnTo>
                    <a:pt x="51079" y="6031"/>
                  </a:lnTo>
                  <a:lnTo>
                    <a:pt x="49292" y="6561"/>
                  </a:lnTo>
                  <a:lnTo>
                    <a:pt x="48099" y="7760"/>
                  </a:lnTo>
                  <a:lnTo>
                    <a:pt x="47305" y="9408"/>
                  </a:lnTo>
                  <a:lnTo>
                    <a:pt x="46776" y="11352"/>
                  </a:lnTo>
                  <a:lnTo>
                    <a:pt x="43930" y="15770"/>
                  </a:lnTo>
                  <a:lnTo>
                    <a:pt x="39842" y="21402"/>
                  </a:lnTo>
                  <a:lnTo>
                    <a:pt x="35204" y="29550"/>
                  </a:lnTo>
                  <a:lnTo>
                    <a:pt x="30320" y="36558"/>
                  </a:lnTo>
                  <a:lnTo>
                    <a:pt x="25326" y="42495"/>
                  </a:lnTo>
                  <a:lnTo>
                    <a:pt x="20286" y="47956"/>
                  </a:lnTo>
                  <a:lnTo>
                    <a:pt x="15223" y="55463"/>
                  </a:lnTo>
                  <a:lnTo>
                    <a:pt x="10150" y="63597"/>
                  </a:lnTo>
                  <a:lnTo>
                    <a:pt x="5074" y="70035"/>
                  </a:lnTo>
                  <a:lnTo>
                    <a:pt x="2253" y="75718"/>
                  </a:lnTo>
                  <a:lnTo>
                    <a:pt x="999" y="81913"/>
                  </a:lnTo>
                  <a:lnTo>
                    <a:pt x="442" y="90310"/>
                  </a:lnTo>
                  <a:lnTo>
                    <a:pt x="84" y="98178"/>
                  </a:lnTo>
                  <a:lnTo>
                    <a:pt x="0" y="106299"/>
                  </a:lnTo>
                  <a:lnTo>
                    <a:pt x="4043" y="106567"/>
                  </a:lnTo>
                  <a:lnTo>
                    <a:pt x="14648" y="106647"/>
                  </a:lnTo>
                  <a:lnTo>
                    <a:pt x="19924" y="105811"/>
                  </a:lnTo>
                  <a:lnTo>
                    <a:pt x="25982" y="104408"/>
                  </a:lnTo>
                  <a:lnTo>
                    <a:pt x="32559" y="102625"/>
                  </a:lnTo>
                  <a:lnTo>
                    <a:pt x="39485" y="101437"/>
                  </a:lnTo>
                  <a:lnTo>
                    <a:pt x="46642" y="100645"/>
                  </a:lnTo>
                  <a:lnTo>
                    <a:pt x="53953" y="100116"/>
                  </a:lnTo>
                  <a:lnTo>
                    <a:pt x="61368" y="99764"/>
                  </a:lnTo>
                  <a:lnTo>
                    <a:pt x="76379" y="99373"/>
                  </a:lnTo>
                  <a:lnTo>
                    <a:pt x="83938" y="100115"/>
                  </a:lnTo>
                  <a:lnTo>
                    <a:pt x="91518" y="101457"/>
                  </a:lnTo>
                  <a:lnTo>
                    <a:pt x="99111" y="103198"/>
                  </a:lnTo>
                  <a:lnTo>
                    <a:pt x="106712" y="105206"/>
                  </a:lnTo>
                  <a:lnTo>
                    <a:pt x="114321" y="107390"/>
                  </a:lnTo>
                  <a:lnTo>
                    <a:pt x="129547" y="112076"/>
                  </a:lnTo>
                  <a:lnTo>
                    <a:pt x="144781" y="116981"/>
                  </a:lnTo>
                  <a:lnTo>
                    <a:pt x="151553" y="120320"/>
                  </a:lnTo>
                  <a:lnTo>
                    <a:pt x="157760" y="124240"/>
                  </a:lnTo>
                  <a:lnTo>
                    <a:pt x="163592" y="128547"/>
                  </a:lnTo>
                  <a:lnTo>
                    <a:pt x="169174" y="132264"/>
                  </a:lnTo>
                  <a:lnTo>
                    <a:pt x="174588" y="135590"/>
                  </a:lnTo>
                  <a:lnTo>
                    <a:pt x="179890" y="138653"/>
                  </a:lnTo>
                  <a:lnTo>
                    <a:pt x="184272" y="142389"/>
                  </a:lnTo>
                  <a:lnTo>
                    <a:pt x="188040" y="146573"/>
                  </a:lnTo>
                  <a:lnTo>
                    <a:pt x="191399" y="151055"/>
                  </a:lnTo>
                  <a:lnTo>
                    <a:pt x="194484" y="156584"/>
                  </a:lnTo>
                  <a:lnTo>
                    <a:pt x="197388" y="162809"/>
                  </a:lnTo>
                  <a:lnTo>
                    <a:pt x="200171" y="169499"/>
                  </a:lnTo>
                  <a:lnTo>
                    <a:pt x="202026" y="175653"/>
                  </a:lnTo>
                  <a:lnTo>
                    <a:pt x="203263" y="181449"/>
                  </a:lnTo>
                  <a:lnTo>
                    <a:pt x="204087" y="187006"/>
                  </a:lnTo>
                  <a:lnTo>
                    <a:pt x="204636" y="192404"/>
                  </a:lnTo>
                  <a:lnTo>
                    <a:pt x="205003" y="197696"/>
                  </a:lnTo>
                  <a:lnTo>
                    <a:pt x="205247" y="202918"/>
                  </a:lnTo>
                  <a:lnTo>
                    <a:pt x="205519" y="213234"/>
                  </a:lnTo>
                  <a:lnTo>
                    <a:pt x="205591" y="218357"/>
                  </a:lnTo>
                  <a:lnTo>
                    <a:pt x="203946" y="223464"/>
                  </a:lnTo>
                  <a:lnTo>
                    <a:pt x="201156" y="228563"/>
                  </a:lnTo>
                  <a:lnTo>
                    <a:pt x="197603" y="233655"/>
                  </a:lnTo>
                  <a:lnTo>
                    <a:pt x="194387" y="238744"/>
                  </a:lnTo>
                  <a:lnTo>
                    <a:pt x="191397" y="243829"/>
                  </a:lnTo>
                  <a:lnTo>
                    <a:pt x="188556" y="248913"/>
                  </a:lnTo>
                  <a:lnTo>
                    <a:pt x="184970" y="253148"/>
                  </a:lnTo>
                  <a:lnTo>
                    <a:pt x="180885" y="256820"/>
                  </a:lnTo>
                  <a:lnTo>
                    <a:pt x="176469" y="260112"/>
                  </a:lnTo>
                  <a:lnTo>
                    <a:pt x="170985" y="263155"/>
                  </a:lnTo>
                  <a:lnTo>
                    <a:pt x="164788" y="266031"/>
                  </a:lnTo>
                  <a:lnTo>
                    <a:pt x="158118" y="268793"/>
                  </a:lnTo>
                  <a:lnTo>
                    <a:pt x="151977" y="271483"/>
                  </a:lnTo>
                  <a:lnTo>
                    <a:pt x="140638" y="276728"/>
                  </a:lnTo>
                  <a:lnTo>
                    <a:pt x="133551" y="279312"/>
                  </a:lnTo>
                  <a:lnTo>
                    <a:pt x="125439" y="281881"/>
                  </a:lnTo>
                  <a:lnTo>
                    <a:pt x="116645" y="284441"/>
                  </a:lnTo>
                  <a:lnTo>
                    <a:pt x="108242" y="286147"/>
                  </a:lnTo>
                  <a:lnTo>
                    <a:pt x="100100" y="287285"/>
                  </a:lnTo>
                  <a:lnTo>
                    <a:pt x="92132" y="288043"/>
                  </a:lnTo>
                  <a:lnTo>
                    <a:pt x="84281" y="287703"/>
                  </a:lnTo>
                  <a:lnTo>
                    <a:pt x="76506" y="286628"/>
                  </a:lnTo>
                  <a:lnTo>
                    <a:pt x="68782" y="285066"/>
                  </a:lnTo>
                  <a:lnTo>
                    <a:pt x="61940" y="283177"/>
                  </a:lnTo>
                  <a:lnTo>
                    <a:pt x="55686" y="281072"/>
                  </a:lnTo>
                  <a:lnTo>
                    <a:pt x="49823" y="278821"/>
                  </a:lnTo>
                  <a:lnTo>
                    <a:pt x="44220" y="277321"/>
                  </a:lnTo>
                  <a:lnTo>
                    <a:pt x="38793" y="276321"/>
                  </a:lnTo>
                  <a:lnTo>
                    <a:pt x="33480" y="275654"/>
                  </a:lnTo>
                  <a:lnTo>
                    <a:pt x="28246" y="275209"/>
                  </a:lnTo>
                  <a:lnTo>
                    <a:pt x="23063" y="274913"/>
                  </a:lnTo>
                  <a:lnTo>
                    <a:pt x="7617" y="274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SMARTInkAnnotation55"/>
            <p:cNvSpPr/>
            <p:nvPr/>
          </p:nvSpPr>
          <p:spPr>
            <a:xfrm>
              <a:off x="4839120" y="4792680"/>
              <a:ext cx="213120" cy="151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13361" h="15240">
                  <a:moveTo>
                    <a:pt x="0" y="15239"/>
                  </a:moveTo>
                  <a:lnTo>
                    <a:pt x="0" y="11194"/>
                  </a:lnTo>
                  <a:lnTo>
                    <a:pt x="846" y="10002"/>
                  </a:lnTo>
                  <a:lnTo>
                    <a:pt x="2258" y="9208"/>
                  </a:lnTo>
                  <a:lnTo>
                    <a:pt x="4045" y="8678"/>
                  </a:lnTo>
                  <a:lnTo>
                    <a:pt x="5237" y="7479"/>
                  </a:lnTo>
                  <a:lnTo>
                    <a:pt x="6032" y="5832"/>
                  </a:lnTo>
                  <a:lnTo>
                    <a:pt x="7306" y="1151"/>
                  </a:lnTo>
                  <a:lnTo>
                    <a:pt x="9104" y="767"/>
                  </a:lnTo>
                  <a:lnTo>
                    <a:pt x="15617" y="340"/>
                  </a:lnTo>
                  <a:lnTo>
                    <a:pt x="21899" y="151"/>
                  </a:lnTo>
                  <a:lnTo>
                    <a:pt x="32830" y="29"/>
                  </a:lnTo>
                  <a:lnTo>
                    <a:pt x="73787" y="0"/>
                  </a:lnTo>
                  <a:lnTo>
                    <a:pt x="79672" y="847"/>
                  </a:lnTo>
                  <a:lnTo>
                    <a:pt x="86134" y="2257"/>
                  </a:lnTo>
                  <a:lnTo>
                    <a:pt x="92983" y="4044"/>
                  </a:lnTo>
                  <a:lnTo>
                    <a:pt x="100089" y="5236"/>
                  </a:lnTo>
                  <a:lnTo>
                    <a:pt x="107366" y="6030"/>
                  </a:lnTo>
                  <a:lnTo>
                    <a:pt x="114757" y="6560"/>
                  </a:lnTo>
                  <a:lnTo>
                    <a:pt x="121378" y="6913"/>
                  </a:lnTo>
                  <a:lnTo>
                    <a:pt x="133250" y="7305"/>
                  </a:lnTo>
                  <a:lnTo>
                    <a:pt x="168129" y="7578"/>
                  </a:lnTo>
                  <a:lnTo>
                    <a:pt x="213360" y="76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152280" y="1143000"/>
            <a:ext cx="8686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7)  A rock climber climbs a mountain with a base 132ft below sea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533520" y="2133720"/>
            <a:ext cx="8381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Define a variable and write an expression to represent the climber’s height below or above sea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533520" y="4267080"/>
            <a:ext cx="8381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Find the climber’s height above sea level after climbing 485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MARTInkAnnotation255"/>
          <p:cNvSpPr/>
          <p:nvPr/>
        </p:nvSpPr>
        <p:spPr>
          <a:xfrm>
            <a:off x="1189080" y="3078000"/>
            <a:ext cx="357120" cy="274680"/>
          </a:xfrm>
          <a:custGeom>
            <a:avLst/>
            <a:gdLst>
              <a:gd name="textAreaLeft" fmla="*/ 0 w 357120"/>
              <a:gd name="textAreaRight" fmla="*/ 357120 w 3571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58141" h="274321">
                <a:moveTo>
                  <a:pt x="358140" y="0"/>
                </a:moveTo>
                <a:lnTo>
                  <a:pt x="358140" y="18133"/>
                </a:lnTo>
                <a:lnTo>
                  <a:pt x="355882" y="25275"/>
                </a:lnTo>
                <a:lnTo>
                  <a:pt x="354095" y="29550"/>
                </a:lnTo>
                <a:lnTo>
                  <a:pt x="352057" y="34093"/>
                </a:lnTo>
                <a:lnTo>
                  <a:pt x="347534" y="43657"/>
                </a:lnTo>
                <a:lnTo>
                  <a:pt x="332701" y="73702"/>
                </a:lnTo>
                <a:lnTo>
                  <a:pt x="328481" y="79615"/>
                </a:lnTo>
                <a:lnTo>
                  <a:pt x="323128" y="86096"/>
                </a:lnTo>
                <a:lnTo>
                  <a:pt x="317018" y="92958"/>
                </a:lnTo>
                <a:lnTo>
                  <a:pt x="305715" y="105097"/>
                </a:lnTo>
                <a:lnTo>
                  <a:pt x="300330" y="110705"/>
                </a:lnTo>
                <a:lnTo>
                  <a:pt x="293353" y="116983"/>
                </a:lnTo>
                <a:lnTo>
                  <a:pt x="285316" y="123709"/>
                </a:lnTo>
                <a:lnTo>
                  <a:pt x="276571" y="130732"/>
                </a:lnTo>
                <a:lnTo>
                  <a:pt x="268200" y="137955"/>
                </a:lnTo>
                <a:lnTo>
                  <a:pt x="260080" y="145310"/>
                </a:lnTo>
                <a:lnTo>
                  <a:pt x="252127" y="152753"/>
                </a:lnTo>
                <a:lnTo>
                  <a:pt x="243438" y="159409"/>
                </a:lnTo>
                <a:lnTo>
                  <a:pt x="234259" y="165539"/>
                </a:lnTo>
                <a:lnTo>
                  <a:pt x="224753" y="171320"/>
                </a:lnTo>
                <a:lnTo>
                  <a:pt x="215875" y="177713"/>
                </a:lnTo>
                <a:lnTo>
                  <a:pt x="207417" y="184515"/>
                </a:lnTo>
                <a:lnTo>
                  <a:pt x="199238" y="191590"/>
                </a:lnTo>
                <a:lnTo>
                  <a:pt x="190399" y="198000"/>
                </a:lnTo>
                <a:lnTo>
                  <a:pt x="181119" y="203967"/>
                </a:lnTo>
                <a:lnTo>
                  <a:pt x="171546" y="209638"/>
                </a:lnTo>
                <a:lnTo>
                  <a:pt x="161778" y="215112"/>
                </a:lnTo>
                <a:lnTo>
                  <a:pt x="141892" y="225710"/>
                </a:lnTo>
                <a:lnTo>
                  <a:pt x="111657" y="241196"/>
                </a:lnTo>
                <a:lnTo>
                  <a:pt x="102378" y="245464"/>
                </a:lnTo>
                <a:lnTo>
                  <a:pt x="93652" y="249156"/>
                </a:lnTo>
                <a:lnTo>
                  <a:pt x="85295" y="252464"/>
                </a:lnTo>
                <a:lnTo>
                  <a:pt x="78030" y="255516"/>
                </a:lnTo>
                <a:lnTo>
                  <a:pt x="65442" y="261165"/>
                </a:lnTo>
                <a:lnTo>
                  <a:pt x="58868" y="263857"/>
                </a:lnTo>
                <a:lnTo>
                  <a:pt x="51946" y="266498"/>
                </a:lnTo>
                <a:lnTo>
                  <a:pt x="44790" y="269105"/>
                </a:lnTo>
                <a:lnTo>
                  <a:pt x="38327" y="270843"/>
                </a:lnTo>
                <a:lnTo>
                  <a:pt x="32325" y="272002"/>
                </a:lnTo>
                <a:lnTo>
                  <a:pt x="21987" y="273290"/>
                </a:lnTo>
                <a:lnTo>
                  <a:pt x="11406" y="274015"/>
                </a:lnTo>
                <a:lnTo>
                  <a:pt x="0" y="2743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MARTInkAnnotation256"/>
          <p:cNvSpPr/>
          <p:nvPr/>
        </p:nvSpPr>
        <p:spPr>
          <a:xfrm>
            <a:off x="1241280" y="31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89561" h="289561">
                <a:moveTo>
                  <a:pt x="0" y="0"/>
                </a:moveTo>
                <a:lnTo>
                  <a:pt x="4045" y="0"/>
                </a:lnTo>
                <a:lnTo>
                  <a:pt x="6084" y="1693"/>
                </a:lnTo>
                <a:lnTo>
                  <a:pt x="12151" y="10474"/>
                </a:lnTo>
                <a:lnTo>
                  <a:pt x="15171" y="14675"/>
                </a:lnTo>
                <a:lnTo>
                  <a:pt x="21052" y="21752"/>
                </a:lnTo>
                <a:lnTo>
                  <a:pt x="25725" y="29705"/>
                </a:lnTo>
                <a:lnTo>
                  <a:pt x="29004" y="34197"/>
                </a:lnTo>
                <a:lnTo>
                  <a:pt x="32883" y="38884"/>
                </a:lnTo>
                <a:lnTo>
                  <a:pt x="37162" y="43703"/>
                </a:lnTo>
                <a:lnTo>
                  <a:pt x="41708" y="49456"/>
                </a:lnTo>
                <a:lnTo>
                  <a:pt x="46432" y="55830"/>
                </a:lnTo>
                <a:lnTo>
                  <a:pt x="51275" y="62620"/>
                </a:lnTo>
                <a:lnTo>
                  <a:pt x="55350" y="68840"/>
                </a:lnTo>
                <a:lnTo>
                  <a:pt x="58913" y="74680"/>
                </a:lnTo>
                <a:lnTo>
                  <a:pt x="62135" y="80267"/>
                </a:lnTo>
                <a:lnTo>
                  <a:pt x="65977" y="86531"/>
                </a:lnTo>
                <a:lnTo>
                  <a:pt x="74761" y="100265"/>
                </a:lnTo>
                <a:lnTo>
                  <a:pt x="80321" y="108330"/>
                </a:lnTo>
                <a:lnTo>
                  <a:pt x="105236" y="143350"/>
                </a:lnTo>
                <a:lnTo>
                  <a:pt x="110798" y="151447"/>
                </a:lnTo>
                <a:lnTo>
                  <a:pt x="117045" y="159385"/>
                </a:lnTo>
                <a:lnTo>
                  <a:pt x="123750" y="167216"/>
                </a:lnTo>
                <a:lnTo>
                  <a:pt x="130760" y="174978"/>
                </a:lnTo>
                <a:lnTo>
                  <a:pt x="145322" y="190375"/>
                </a:lnTo>
                <a:lnTo>
                  <a:pt x="171322" y="216910"/>
                </a:lnTo>
                <a:lnTo>
                  <a:pt x="177715" y="222500"/>
                </a:lnTo>
                <a:lnTo>
                  <a:pt x="184516" y="227920"/>
                </a:lnTo>
                <a:lnTo>
                  <a:pt x="191591" y="233227"/>
                </a:lnTo>
                <a:lnTo>
                  <a:pt x="198001" y="238458"/>
                </a:lnTo>
                <a:lnTo>
                  <a:pt x="203967" y="243638"/>
                </a:lnTo>
                <a:lnTo>
                  <a:pt x="209638" y="248786"/>
                </a:lnTo>
                <a:lnTo>
                  <a:pt x="215959" y="253911"/>
                </a:lnTo>
                <a:lnTo>
                  <a:pt x="222713" y="259020"/>
                </a:lnTo>
                <a:lnTo>
                  <a:pt x="229755" y="264120"/>
                </a:lnTo>
                <a:lnTo>
                  <a:pt x="236143" y="268367"/>
                </a:lnTo>
                <a:lnTo>
                  <a:pt x="242096" y="272045"/>
                </a:lnTo>
                <a:lnTo>
                  <a:pt x="247757" y="275343"/>
                </a:lnTo>
                <a:lnTo>
                  <a:pt x="258563" y="281266"/>
                </a:lnTo>
                <a:lnTo>
                  <a:pt x="263816" y="284031"/>
                </a:lnTo>
                <a:lnTo>
                  <a:pt x="271909" y="287102"/>
                </a:lnTo>
                <a:lnTo>
                  <a:pt x="278329" y="288468"/>
                </a:lnTo>
                <a:lnTo>
                  <a:pt x="281226" y="288832"/>
                </a:lnTo>
                <a:lnTo>
                  <a:pt x="289560" y="2895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MARTInkAnnotation257"/>
          <p:cNvSpPr/>
          <p:nvPr/>
        </p:nvSpPr>
        <p:spPr>
          <a:xfrm>
            <a:off x="1569960" y="3276720"/>
            <a:ext cx="258840" cy="54000"/>
          </a:xfrm>
          <a:custGeom>
            <a:avLst/>
            <a:gdLst>
              <a:gd name="textAreaLeft" fmla="*/ 0 w 258840"/>
              <a:gd name="textAreaRight" fmla="*/ 259200 w 2588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59081" h="53341">
                <a:moveTo>
                  <a:pt x="0" y="53340"/>
                </a:moveTo>
                <a:lnTo>
                  <a:pt x="10606" y="53340"/>
                </a:lnTo>
                <a:lnTo>
                  <a:pt x="13844" y="52494"/>
                </a:lnTo>
                <a:lnTo>
                  <a:pt x="17696" y="51083"/>
                </a:lnTo>
                <a:lnTo>
                  <a:pt x="21957" y="49295"/>
                </a:lnTo>
                <a:lnTo>
                  <a:pt x="26492" y="48103"/>
                </a:lnTo>
                <a:lnTo>
                  <a:pt x="31208" y="47309"/>
                </a:lnTo>
                <a:lnTo>
                  <a:pt x="36045" y="46779"/>
                </a:lnTo>
                <a:lnTo>
                  <a:pt x="41810" y="45580"/>
                </a:lnTo>
                <a:lnTo>
                  <a:pt x="48194" y="43933"/>
                </a:lnTo>
                <a:lnTo>
                  <a:pt x="54989" y="41989"/>
                </a:lnTo>
                <a:lnTo>
                  <a:pt x="69313" y="37571"/>
                </a:lnTo>
                <a:lnTo>
                  <a:pt x="99205" y="27836"/>
                </a:lnTo>
                <a:lnTo>
                  <a:pt x="107623" y="26177"/>
                </a:lnTo>
                <a:lnTo>
                  <a:pt x="116622" y="25071"/>
                </a:lnTo>
                <a:lnTo>
                  <a:pt x="126008" y="24335"/>
                </a:lnTo>
                <a:lnTo>
                  <a:pt x="134806" y="22149"/>
                </a:lnTo>
                <a:lnTo>
                  <a:pt x="143210" y="19000"/>
                </a:lnTo>
                <a:lnTo>
                  <a:pt x="151354" y="15206"/>
                </a:lnTo>
                <a:lnTo>
                  <a:pt x="160169" y="12678"/>
                </a:lnTo>
                <a:lnTo>
                  <a:pt x="169433" y="10992"/>
                </a:lnTo>
                <a:lnTo>
                  <a:pt x="178995" y="9868"/>
                </a:lnTo>
                <a:lnTo>
                  <a:pt x="187910" y="8272"/>
                </a:lnTo>
                <a:lnTo>
                  <a:pt x="196394" y="6362"/>
                </a:lnTo>
                <a:lnTo>
                  <a:pt x="204589" y="4241"/>
                </a:lnTo>
                <a:lnTo>
                  <a:pt x="212593" y="2827"/>
                </a:lnTo>
                <a:lnTo>
                  <a:pt x="220468" y="1885"/>
                </a:lnTo>
                <a:lnTo>
                  <a:pt x="234299" y="838"/>
                </a:lnTo>
                <a:lnTo>
                  <a:pt x="243269" y="372"/>
                </a:lnTo>
                <a:lnTo>
                  <a:pt x="250077" y="165"/>
                </a:lnTo>
                <a:lnTo>
                  <a:pt x="25908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MARTInkAnnotation258"/>
          <p:cNvSpPr/>
          <p:nvPr/>
        </p:nvSpPr>
        <p:spPr>
          <a:xfrm>
            <a:off x="1616040" y="3809880"/>
            <a:ext cx="395280" cy="236520"/>
          </a:xfrm>
          <a:custGeom>
            <a:avLst/>
            <a:gdLst>
              <a:gd name="textAreaLeft" fmla="*/ 0 w 395280"/>
              <a:gd name="textAreaRight" fmla="*/ 395640 w 3952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396241" h="236083">
                <a:moveTo>
                  <a:pt x="396240" y="0"/>
                </a:moveTo>
                <a:lnTo>
                  <a:pt x="396240" y="11352"/>
                </a:lnTo>
                <a:lnTo>
                  <a:pt x="394547" y="13494"/>
                </a:lnTo>
                <a:lnTo>
                  <a:pt x="388150" y="18133"/>
                </a:lnTo>
                <a:lnTo>
                  <a:pt x="381920" y="25275"/>
                </a:lnTo>
                <a:lnTo>
                  <a:pt x="379073" y="29550"/>
                </a:lnTo>
                <a:lnTo>
                  <a:pt x="373653" y="36558"/>
                </a:lnTo>
                <a:lnTo>
                  <a:pt x="366728" y="43341"/>
                </a:lnTo>
                <a:lnTo>
                  <a:pt x="361325" y="47521"/>
                </a:lnTo>
                <a:lnTo>
                  <a:pt x="355184" y="52001"/>
                </a:lnTo>
                <a:lnTo>
                  <a:pt x="349396" y="56680"/>
                </a:lnTo>
                <a:lnTo>
                  <a:pt x="343844" y="61494"/>
                </a:lnTo>
                <a:lnTo>
                  <a:pt x="338449" y="66396"/>
                </a:lnTo>
                <a:lnTo>
                  <a:pt x="325682" y="78616"/>
                </a:lnTo>
                <a:lnTo>
                  <a:pt x="318721" y="85431"/>
                </a:lnTo>
                <a:lnTo>
                  <a:pt x="311541" y="91667"/>
                </a:lnTo>
                <a:lnTo>
                  <a:pt x="304214" y="97518"/>
                </a:lnTo>
                <a:lnTo>
                  <a:pt x="270159" y="123120"/>
                </a:lnTo>
                <a:lnTo>
                  <a:pt x="260539" y="129494"/>
                </a:lnTo>
                <a:lnTo>
                  <a:pt x="250740" y="135436"/>
                </a:lnTo>
                <a:lnTo>
                  <a:pt x="240820" y="141091"/>
                </a:lnTo>
                <a:lnTo>
                  <a:pt x="230820" y="147400"/>
                </a:lnTo>
                <a:lnTo>
                  <a:pt x="220767" y="154147"/>
                </a:lnTo>
                <a:lnTo>
                  <a:pt x="175389" y="185493"/>
                </a:lnTo>
                <a:lnTo>
                  <a:pt x="156408" y="199282"/>
                </a:lnTo>
                <a:lnTo>
                  <a:pt x="146605" y="204821"/>
                </a:lnTo>
                <a:lnTo>
                  <a:pt x="136684" y="209361"/>
                </a:lnTo>
                <a:lnTo>
                  <a:pt x="117475" y="216663"/>
                </a:lnTo>
                <a:lnTo>
                  <a:pt x="92381" y="225534"/>
                </a:lnTo>
                <a:lnTo>
                  <a:pt x="76618" y="230906"/>
                </a:lnTo>
                <a:lnTo>
                  <a:pt x="69705" y="232678"/>
                </a:lnTo>
                <a:lnTo>
                  <a:pt x="57509" y="234646"/>
                </a:lnTo>
                <a:lnTo>
                  <a:pt x="46444" y="235520"/>
                </a:lnTo>
                <a:lnTo>
                  <a:pt x="35882" y="235909"/>
                </a:lnTo>
                <a:lnTo>
                  <a:pt x="25543" y="236082"/>
                </a:lnTo>
                <a:lnTo>
                  <a:pt x="15304" y="233901"/>
                </a:lnTo>
                <a:lnTo>
                  <a:pt x="10202" y="232134"/>
                </a:lnTo>
                <a:lnTo>
                  <a:pt x="6802" y="230109"/>
                </a:lnTo>
                <a:lnTo>
                  <a:pt x="4535" y="227913"/>
                </a:lnTo>
                <a:lnTo>
                  <a:pt x="0" y="2209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MARTInkAnnotation259"/>
          <p:cNvSpPr/>
          <p:nvPr/>
        </p:nvSpPr>
        <p:spPr>
          <a:xfrm>
            <a:off x="1698480" y="3809880"/>
            <a:ext cx="198720" cy="174600"/>
          </a:xfrm>
          <a:custGeom>
            <a:avLst/>
            <a:gdLst>
              <a:gd name="textAreaLeft" fmla="*/ 0 w 198720"/>
              <a:gd name="textAreaRight" fmla="*/ 199080 w 19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98121" h="175168">
                <a:moveTo>
                  <a:pt x="0" y="7527"/>
                </a:moveTo>
                <a:lnTo>
                  <a:pt x="0" y="0"/>
                </a:lnTo>
                <a:lnTo>
                  <a:pt x="0" y="6476"/>
                </a:lnTo>
                <a:lnTo>
                  <a:pt x="4045" y="11261"/>
                </a:lnTo>
                <a:lnTo>
                  <a:pt x="5237" y="13403"/>
                </a:lnTo>
                <a:lnTo>
                  <a:pt x="6561" y="18040"/>
                </a:lnTo>
                <a:lnTo>
                  <a:pt x="7760" y="21310"/>
                </a:lnTo>
                <a:lnTo>
                  <a:pt x="9407" y="25182"/>
                </a:lnTo>
                <a:lnTo>
                  <a:pt x="11352" y="29457"/>
                </a:lnTo>
                <a:lnTo>
                  <a:pt x="12648" y="33153"/>
                </a:lnTo>
                <a:lnTo>
                  <a:pt x="13512" y="36465"/>
                </a:lnTo>
                <a:lnTo>
                  <a:pt x="14088" y="39519"/>
                </a:lnTo>
                <a:lnTo>
                  <a:pt x="16165" y="43248"/>
                </a:lnTo>
                <a:lnTo>
                  <a:pt x="19243" y="47428"/>
                </a:lnTo>
                <a:lnTo>
                  <a:pt x="22989" y="51908"/>
                </a:lnTo>
                <a:lnTo>
                  <a:pt x="26333" y="57434"/>
                </a:lnTo>
                <a:lnTo>
                  <a:pt x="29409" y="63659"/>
                </a:lnTo>
                <a:lnTo>
                  <a:pt x="32306" y="70348"/>
                </a:lnTo>
                <a:lnTo>
                  <a:pt x="37783" y="82296"/>
                </a:lnTo>
                <a:lnTo>
                  <a:pt x="40428" y="87853"/>
                </a:lnTo>
                <a:lnTo>
                  <a:pt x="43886" y="93251"/>
                </a:lnTo>
                <a:lnTo>
                  <a:pt x="47884" y="98543"/>
                </a:lnTo>
                <a:lnTo>
                  <a:pt x="52243" y="103765"/>
                </a:lnTo>
                <a:lnTo>
                  <a:pt x="56842" y="108939"/>
                </a:lnTo>
                <a:lnTo>
                  <a:pt x="66467" y="119204"/>
                </a:lnTo>
                <a:lnTo>
                  <a:pt x="81407" y="134502"/>
                </a:lnTo>
                <a:lnTo>
                  <a:pt x="86445" y="138744"/>
                </a:lnTo>
                <a:lnTo>
                  <a:pt x="91496" y="142418"/>
                </a:lnTo>
                <a:lnTo>
                  <a:pt x="115816" y="158444"/>
                </a:lnTo>
                <a:lnTo>
                  <a:pt x="122084" y="161479"/>
                </a:lnTo>
                <a:lnTo>
                  <a:pt x="127956" y="163501"/>
                </a:lnTo>
                <a:lnTo>
                  <a:pt x="133564" y="164850"/>
                </a:lnTo>
                <a:lnTo>
                  <a:pt x="139843" y="166596"/>
                </a:lnTo>
                <a:lnTo>
                  <a:pt x="153592" y="170793"/>
                </a:lnTo>
                <a:lnTo>
                  <a:pt x="160815" y="172251"/>
                </a:lnTo>
                <a:lnTo>
                  <a:pt x="168170" y="173223"/>
                </a:lnTo>
                <a:lnTo>
                  <a:pt x="181422" y="174303"/>
                </a:lnTo>
                <a:lnTo>
                  <a:pt x="198120" y="1751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MARTInkAnnotation260"/>
          <p:cNvSpPr/>
          <p:nvPr/>
        </p:nvSpPr>
        <p:spPr>
          <a:xfrm>
            <a:off x="2117880" y="3703680"/>
            <a:ext cx="45720" cy="297000"/>
          </a:xfrm>
          <a:custGeom>
            <a:avLst/>
            <a:gdLst>
              <a:gd name="textAreaLeft" fmla="*/ 0 w 45720"/>
              <a:gd name="textAreaRight" fmla="*/ 46080 w 457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45721" h="297181">
                <a:moveTo>
                  <a:pt x="0" y="0"/>
                </a:moveTo>
                <a:lnTo>
                  <a:pt x="4045" y="4045"/>
                </a:lnTo>
                <a:lnTo>
                  <a:pt x="5237" y="6083"/>
                </a:lnTo>
                <a:lnTo>
                  <a:pt x="6561" y="10606"/>
                </a:lnTo>
                <a:lnTo>
                  <a:pt x="7760" y="12151"/>
                </a:lnTo>
                <a:lnTo>
                  <a:pt x="9407" y="13181"/>
                </a:lnTo>
                <a:lnTo>
                  <a:pt x="11352" y="13867"/>
                </a:lnTo>
                <a:lnTo>
                  <a:pt x="13494" y="16018"/>
                </a:lnTo>
                <a:lnTo>
                  <a:pt x="15769" y="19146"/>
                </a:lnTo>
                <a:lnTo>
                  <a:pt x="18133" y="22924"/>
                </a:lnTo>
                <a:lnTo>
                  <a:pt x="20555" y="27136"/>
                </a:lnTo>
                <a:lnTo>
                  <a:pt x="25504" y="36332"/>
                </a:lnTo>
                <a:lnTo>
                  <a:pt x="28010" y="40308"/>
                </a:lnTo>
                <a:lnTo>
                  <a:pt x="30526" y="43805"/>
                </a:lnTo>
                <a:lnTo>
                  <a:pt x="33051" y="46984"/>
                </a:lnTo>
                <a:lnTo>
                  <a:pt x="34734" y="51642"/>
                </a:lnTo>
                <a:lnTo>
                  <a:pt x="35856" y="57288"/>
                </a:lnTo>
                <a:lnTo>
                  <a:pt x="36604" y="63592"/>
                </a:lnTo>
                <a:lnTo>
                  <a:pt x="37103" y="70335"/>
                </a:lnTo>
                <a:lnTo>
                  <a:pt x="37435" y="77370"/>
                </a:lnTo>
                <a:lnTo>
                  <a:pt x="37805" y="91960"/>
                </a:lnTo>
                <a:lnTo>
                  <a:pt x="38100" y="255122"/>
                </a:lnTo>
                <a:lnTo>
                  <a:pt x="38947" y="259828"/>
                </a:lnTo>
                <a:lnTo>
                  <a:pt x="40358" y="263812"/>
                </a:lnTo>
                <a:lnTo>
                  <a:pt x="42145" y="267314"/>
                </a:lnTo>
                <a:lnTo>
                  <a:pt x="43337" y="271343"/>
                </a:lnTo>
                <a:lnTo>
                  <a:pt x="44661" y="280335"/>
                </a:lnTo>
                <a:lnTo>
                  <a:pt x="45249" y="287717"/>
                </a:lnTo>
                <a:lnTo>
                  <a:pt x="45720" y="297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MARTInkAnnotation261"/>
          <p:cNvSpPr/>
          <p:nvPr/>
        </p:nvSpPr>
        <p:spPr>
          <a:xfrm>
            <a:off x="2049480" y="3878280"/>
            <a:ext cx="182520" cy="7920"/>
          </a:xfrm>
          <a:custGeom>
            <a:avLst/>
            <a:gdLst>
              <a:gd name="textAreaLeft" fmla="*/ 0 w 182520"/>
              <a:gd name="textAreaRight" fmla="*/ 182880 w 182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82881" h="7613">
                <a:moveTo>
                  <a:pt x="0" y="0"/>
                </a:moveTo>
                <a:lnTo>
                  <a:pt x="43352" y="0"/>
                </a:lnTo>
                <a:lnTo>
                  <a:pt x="50068" y="847"/>
                </a:lnTo>
                <a:lnTo>
                  <a:pt x="57932" y="2258"/>
                </a:lnTo>
                <a:lnTo>
                  <a:pt x="66561" y="4045"/>
                </a:lnTo>
                <a:lnTo>
                  <a:pt x="74007" y="5237"/>
                </a:lnTo>
                <a:lnTo>
                  <a:pt x="80665" y="6031"/>
                </a:lnTo>
                <a:lnTo>
                  <a:pt x="86797" y="6561"/>
                </a:lnTo>
                <a:lnTo>
                  <a:pt x="93424" y="6914"/>
                </a:lnTo>
                <a:lnTo>
                  <a:pt x="107562" y="7306"/>
                </a:lnTo>
                <a:lnTo>
                  <a:pt x="141872" y="7592"/>
                </a:lnTo>
                <a:lnTo>
                  <a:pt x="157371" y="7612"/>
                </a:lnTo>
                <a:lnTo>
                  <a:pt x="162487" y="6768"/>
                </a:lnTo>
                <a:lnTo>
                  <a:pt x="167591" y="5359"/>
                </a:lnTo>
                <a:lnTo>
                  <a:pt x="18288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ARTInkAnnotation262"/>
          <p:cNvSpPr/>
          <p:nvPr/>
        </p:nvSpPr>
        <p:spPr>
          <a:xfrm>
            <a:off x="2422440" y="3711600"/>
            <a:ext cx="12960" cy="258840"/>
          </a:xfrm>
          <a:custGeom>
            <a:avLst/>
            <a:gdLst>
              <a:gd name="textAreaLeft" fmla="*/ 0 w 12960"/>
              <a:gd name="textAreaRight" fmla="*/ 13320 w 1296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1993" h="259081">
                <a:moveTo>
                  <a:pt x="0" y="0"/>
                </a:moveTo>
                <a:lnTo>
                  <a:pt x="6561" y="6561"/>
                </a:lnTo>
                <a:lnTo>
                  <a:pt x="6914" y="7761"/>
                </a:lnTo>
                <a:lnTo>
                  <a:pt x="7149" y="9407"/>
                </a:lnTo>
                <a:lnTo>
                  <a:pt x="7480" y="15769"/>
                </a:lnTo>
                <a:lnTo>
                  <a:pt x="7527" y="18133"/>
                </a:lnTo>
                <a:lnTo>
                  <a:pt x="8405" y="21402"/>
                </a:lnTo>
                <a:lnTo>
                  <a:pt x="9837" y="25275"/>
                </a:lnTo>
                <a:lnTo>
                  <a:pt x="11638" y="29550"/>
                </a:lnTo>
                <a:lnTo>
                  <a:pt x="11992" y="34093"/>
                </a:lnTo>
                <a:lnTo>
                  <a:pt x="11381" y="38816"/>
                </a:lnTo>
                <a:lnTo>
                  <a:pt x="10128" y="43657"/>
                </a:lnTo>
                <a:lnTo>
                  <a:pt x="9292" y="48578"/>
                </a:lnTo>
                <a:lnTo>
                  <a:pt x="8735" y="53552"/>
                </a:lnTo>
                <a:lnTo>
                  <a:pt x="8363" y="58561"/>
                </a:lnTo>
                <a:lnTo>
                  <a:pt x="7269" y="64441"/>
                </a:lnTo>
                <a:lnTo>
                  <a:pt x="5693" y="70901"/>
                </a:lnTo>
                <a:lnTo>
                  <a:pt x="3795" y="77747"/>
                </a:lnTo>
                <a:lnTo>
                  <a:pt x="2530" y="84005"/>
                </a:lnTo>
                <a:lnTo>
                  <a:pt x="1687" y="89870"/>
                </a:lnTo>
                <a:lnTo>
                  <a:pt x="1125" y="95473"/>
                </a:lnTo>
                <a:lnTo>
                  <a:pt x="750" y="101749"/>
                </a:lnTo>
                <a:lnTo>
                  <a:pt x="333" y="115495"/>
                </a:lnTo>
                <a:lnTo>
                  <a:pt x="20" y="162473"/>
                </a:lnTo>
                <a:lnTo>
                  <a:pt x="0" y="233263"/>
                </a:lnTo>
                <a:lnTo>
                  <a:pt x="847" y="237635"/>
                </a:lnTo>
                <a:lnTo>
                  <a:pt x="2258" y="241397"/>
                </a:lnTo>
                <a:lnTo>
                  <a:pt x="4045" y="244751"/>
                </a:lnTo>
                <a:lnTo>
                  <a:pt x="5237" y="247834"/>
                </a:lnTo>
                <a:lnTo>
                  <a:pt x="6031" y="250736"/>
                </a:lnTo>
                <a:lnTo>
                  <a:pt x="7620" y="2590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MARTInkAnnotation263"/>
          <p:cNvSpPr/>
          <p:nvPr/>
        </p:nvSpPr>
        <p:spPr>
          <a:xfrm>
            <a:off x="2560680" y="3703680"/>
            <a:ext cx="218880" cy="277920"/>
          </a:xfrm>
          <a:custGeom>
            <a:avLst/>
            <a:gdLst>
              <a:gd name="textAreaLeft" fmla="*/ 0 w 218880"/>
              <a:gd name="textAreaRight" fmla="*/ 219240 w 2188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220079" h="278381">
                <a:moveTo>
                  <a:pt x="0" y="53328"/>
                </a:moveTo>
                <a:lnTo>
                  <a:pt x="0" y="39240"/>
                </a:lnTo>
                <a:lnTo>
                  <a:pt x="4045" y="34384"/>
                </a:lnTo>
                <a:lnTo>
                  <a:pt x="10606" y="27584"/>
                </a:lnTo>
                <a:lnTo>
                  <a:pt x="17912" y="20206"/>
                </a:lnTo>
                <a:lnTo>
                  <a:pt x="21255" y="17700"/>
                </a:lnTo>
                <a:lnTo>
                  <a:pt x="25176" y="15182"/>
                </a:lnTo>
                <a:lnTo>
                  <a:pt x="29485" y="12658"/>
                </a:lnTo>
                <a:lnTo>
                  <a:pt x="34050" y="10128"/>
                </a:lnTo>
                <a:lnTo>
                  <a:pt x="43638" y="5059"/>
                </a:lnTo>
                <a:lnTo>
                  <a:pt x="49412" y="3369"/>
                </a:lnTo>
                <a:lnTo>
                  <a:pt x="55801" y="2242"/>
                </a:lnTo>
                <a:lnTo>
                  <a:pt x="62601" y="1491"/>
                </a:lnTo>
                <a:lnTo>
                  <a:pt x="70521" y="990"/>
                </a:lnTo>
                <a:lnTo>
                  <a:pt x="79187" y="656"/>
                </a:lnTo>
                <a:lnTo>
                  <a:pt x="109340" y="121"/>
                </a:lnTo>
                <a:lnTo>
                  <a:pt x="155149" y="0"/>
                </a:lnTo>
                <a:lnTo>
                  <a:pt x="161006" y="843"/>
                </a:lnTo>
                <a:lnTo>
                  <a:pt x="166604" y="2251"/>
                </a:lnTo>
                <a:lnTo>
                  <a:pt x="172029" y="4037"/>
                </a:lnTo>
                <a:lnTo>
                  <a:pt x="177340" y="6074"/>
                </a:lnTo>
                <a:lnTo>
                  <a:pt x="182573" y="8279"/>
                </a:lnTo>
                <a:lnTo>
                  <a:pt x="187755" y="10595"/>
                </a:lnTo>
                <a:lnTo>
                  <a:pt x="192057" y="12140"/>
                </a:lnTo>
                <a:lnTo>
                  <a:pt x="195771" y="13169"/>
                </a:lnTo>
                <a:lnTo>
                  <a:pt x="199094" y="13855"/>
                </a:lnTo>
                <a:lnTo>
                  <a:pt x="201309" y="15160"/>
                </a:lnTo>
                <a:lnTo>
                  <a:pt x="202786" y="16875"/>
                </a:lnTo>
                <a:lnTo>
                  <a:pt x="203771" y="18866"/>
                </a:lnTo>
                <a:lnTo>
                  <a:pt x="204865" y="23337"/>
                </a:lnTo>
                <a:lnTo>
                  <a:pt x="205157" y="25714"/>
                </a:lnTo>
                <a:lnTo>
                  <a:pt x="204504" y="28145"/>
                </a:lnTo>
                <a:lnTo>
                  <a:pt x="201522" y="33105"/>
                </a:lnTo>
                <a:lnTo>
                  <a:pt x="195116" y="40389"/>
                </a:lnTo>
                <a:lnTo>
                  <a:pt x="191038" y="44702"/>
                </a:lnTo>
                <a:lnTo>
                  <a:pt x="186625" y="48424"/>
                </a:lnTo>
                <a:lnTo>
                  <a:pt x="181990" y="51752"/>
                </a:lnTo>
                <a:lnTo>
                  <a:pt x="177207" y="54818"/>
                </a:lnTo>
                <a:lnTo>
                  <a:pt x="172325" y="57708"/>
                </a:lnTo>
                <a:lnTo>
                  <a:pt x="167376" y="60482"/>
                </a:lnTo>
                <a:lnTo>
                  <a:pt x="162384" y="63177"/>
                </a:lnTo>
                <a:lnTo>
                  <a:pt x="156516" y="66668"/>
                </a:lnTo>
                <a:lnTo>
                  <a:pt x="143223" y="75061"/>
                </a:lnTo>
                <a:lnTo>
                  <a:pt x="136969" y="78824"/>
                </a:lnTo>
                <a:lnTo>
                  <a:pt x="131105" y="82178"/>
                </a:lnTo>
                <a:lnTo>
                  <a:pt x="125504" y="85262"/>
                </a:lnTo>
                <a:lnTo>
                  <a:pt x="120922" y="87318"/>
                </a:lnTo>
                <a:lnTo>
                  <a:pt x="117022" y="88688"/>
                </a:lnTo>
                <a:lnTo>
                  <a:pt x="113574" y="89601"/>
                </a:lnTo>
                <a:lnTo>
                  <a:pt x="109583" y="91057"/>
                </a:lnTo>
                <a:lnTo>
                  <a:pt x="105229" y="92874"/>
                </a:lnTo>
                <a:lnTo>
                  <a:pt x="100632" y="94932"/>
                </a:lnTo>
                <a:lnTo>
                  <a:pt x="96721" y="97151"/>
                </a:lnTo>
                <a:lnTo>
                  <a:pt x="90119" y="101874"/>
                </a:lnTo>
                <a:lnTo>
                  <a:pt x="88866" y="104319"/>
                </a:lnTo>
                <a:lnTo>
                  <a:pt x="88878" y="106796"/>
                </a:lnTo>
                <a:lnTo>
                  <a:pt x="89732" y="109293"/>
                </a:lnTo>
                <a:lnTo>
                  <a:pt x="92939" y="114326"/>
                </a:lnTo>
                <a:lnTo>
                  <a:pt x="98033" y="120232"/>
                </a:lnTo>
                <a:lnTo>
                  <a:pt x="105941" y="128501"/>
                </a:lnTo>
                <a:lnTo>
                  <a:pt x="110421" y="132230"/>
                </a:lnTo>
                <a:lnTo>
                  <a:pt x="115100" y="135563"/>
                </a:lnTo>
                <a:lnTo>
                  <a:pt x="119914" y="138631"/>
                </a:lnTo>
                <a:lnTo>
                  <a:pt x="125662" y="141524"/>
                </a:lnTo>
                <a:lnTo>
                  <a:pt x="132035" y="144298"/>
                </a:lnTo>
                <a:lnTo>
                  <a:pt x="138824" y="146995"/>
                </a:lnTo>
                <a:lnTo>
                  <a:pt x="145889" y="150486"/>
                </a:lnTo>
                <a:lnTo>
                  <a:pt x="153139" y="154507"/>
                </a:lnTo>
                <a:lnTo>
                  <a:pt x="160513" y="158881"/>
                </a:lnTo>
                <a:lnTo>
                  <a:pt x="167122" y="162643"/>
                </a:lnTo>
                <a:lnTo>
                  <a:pt x="178981" y="169082"/>
                </a:lnTo>
                <a:lnTo>
                  <a:pt x="184514" y="173677"/>
                </a:lnTo>
                <a:lnTo>
                  <a:pt x="189896" y="179281"/>
                </a:lnTo>
                <a:lnTo>
                  <a:pt x="195177" y="185556"/>
                </a:lnTo>
                <a:lnTo>
                  <a:pt x="200392" y="190587"/>
                </a:lnTo>
                <a:lnTo>
                  <a:pt x="205561" y="194787"/>
                </a:lnTo>
                <a:lnTo>
                  <a:pt x="210701" y="198434"/>
                </a:lnTo>
                <a:lnTo>
                  <a:pt x="214127" y="202559"/>
                </a:lnTo>
                <a:lnTo>
                  <a:pt x="216412" y="207002"/>
                </a:lnTo>
                <a:lnTo>
                  <a:pt x="217934" y="211657"/>
                </a:lnTo>
                <a:lnTo>
                  <a:pt x="218950" y="216454"/>
                </a:lnTo>
                <a:lnTo>
                  <a:pt x="219627" y="221346"/>
                </a:lnTo>
                <a:lnTo>
                  <a:pt x="220078" y="226300"/>
                </a:lnTo>
                <a:lnTo>
                  <a:pt x="219532" y="230450"/>
                </a:lnTo>
                <a:lnTo>
                  <a:pt x="216667" y="237318"/>
                </a:lnTo>
                <a:lnTo>
                  <a:pt x="210314" y="245450"/>
                </a:lnTo>
                <a:lnTo>
                  <a:pt x="206250" y="249989"/>
                </a:lnTo>
                <a:lnTo>
                  <a:pt x="201000" y="253863"/>
                </a:lnTo>
                <a:lnTo>
                  <a:pt x="194960" y="257291"/>
                </a:lnTo>
                <a:lnTo>
                  <a:pt x="188393" y="260423"/>
                </a:lnTo>
                <a:lnTo>
                  <a:pt x="181475" y="263358"/>
                </a:lnTo>
                <a:lnTo>
                  <a:pt x="174324" y="266162"/>
                </a:lnTo>
                <a:lnTo>
                  <a:pt x="167016" y="268877"/>
                </a:lnTo>
                <a:lnTo>
                  <a:pt x="158757" y="270688"/>
                </a:lnTo>
                <a:lnTo>
                  <a:pt x="149865" y="271895"/>
                </a:lnTo>
                <a:lnTo>
                  <a:pt x="140550" y="272699"/>
                </a:lnTo>
                <a:lnTo>
                  <a:pt x="131800" y="274082"/>
                </a:lnTo>
                <a:lnTo>
                  <a:pt x="123427" y="275850"/>
                </a:lnTo>
                <a:lnTo>
                  <a:pt x="115304" y="277876"/>
                </a:lnTo>
                <a:lnTo>
                  <a:pt x="107350" y="278380"/>
                </a:lnTo>
                <a:lnTo>
                  <a:pt x="99507" y="277870"/>
                </a:lnTo>
                <a:lnTo>
                  <a:pt x="91738" y="276683"/>
                </a:lnTo>
                <a:lnTo>
                  <a:pt x="84865" y="275891"/>
                </a:lnTo>
                <a:lnTo>
                  <a:pt x="78590" y="275364"/>
                </a:lnTo>
                <a:lnTo>
                  <a:pt x="72713" y="275012"/>
                </a:lnTo>
                <a:lnTo>
                  <a:pt x="66256" y="273931"/>
                </a:lnTo>
                <a:lnTo>
                  <a:pt x="59411" y="272363"/>
                </a:lnTo>
                <a:lnTo>
                  <a:pt x="52307" y="270472"/>
                </a:lnTo>
                <a:lnTo>
                  <a:pt x="46725" y="268364"/>
                </a:lnTo>
                <a:lnTo>
                  <a:pt x="42157" y="266112"/>
                </a:lnTo>
                <a:lnTo>
                  <a:pt x="38264" y="263764"/>
                </a:lnTo>
                <a:lnTo>
                  <a:pt x="31682" y="256640"/>
                </a:lnTo>
                <a:lnTo>
                  <a:pt x="28741" y="252369"/>
                </a:lnTo>
                <a:lnTo>
                  <a:pt x="26781" y="247829"/>
                </a:lnTo>
                <a:lnTo>
                  <a:pt x="25474" y="243109"/>
                </a:lnTo>
                <a:lnTo>
                  <a:pt x="24603" y="238269"/>
                </a:lnTo>
                <a:lnTo>
                  <a:pt x="23635" y="230633"/>
                </a:lnTo>
                <a:lnTo>
                  <a:pt x="22860" y="2209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MARTInkAnnotation264"/>
          <p:cNvSpPr/>
          <p:nvPr/>
        </p:nvSpPr>
        <p:spPr>
          <a:xfrm>
            <a:off x="2881440" y="3673440"/>
            <a:ext cx="226800" cy="335160"/>
          </a:xfrm>
          <a:custGeom>
            <a:avLst/>
            <a:gdLst>
              <a:gd name="textAreaLeft" fmla="*/ 0 w 226800"/>
              <a:gd name="textAreaRight" fmla="*/ 227160 w 2268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26932" h="335148">
                <a:moveTo>
                  <a:pt x="5952" y="68447"/>
                </a:moveTo>
                <a:lnTo>
                  <a:pt x="5952" y="49569"/>
                </a:lnTo>
                <a:lnTo>
                  <a:pt x="8209" y="42841"/>
                </a:lnTo>
                <a:lnTo>
                  <a:pt x="12035" y="35053"/>
                </a:lnTo>
                <a:lnTo>
                  <a:pt x="18949" y="25909"/>
                </a:lnTo>
                <a:lnTo>
                  <a:pt x="23864" y="20472"/>
                </a:lnTo>
                <a:lnTo>
                  <a:pt x="27206" y="17837"/>
                </a:lnTo>
                <a:lnTo>
                  <a:pt x="31128" y="15234"/>
                </a:lnTo>
                <a:lnTo>
                  <a:pt x="35436" y="12652"/>
                </a:lnTo>
                <a:lnTo>
                  <a:pt x="40001" y="10083"/>
                </a:lnTo>
                <a:lnTo>
                  <a:pt x="49589" y="4972"/>
                </a:lnTo>
                <a:lnTo>
                  <a:pt x="55363" y="3270"/>
                </a:lnTo>
                <a:lnTo>
                  <a:pt x="61753" y="2136"/>
                </a:lnTo>
                <a:lnTo>
                  <a:pt x="68552" y="1379"/>
                </a:lnTo>
                <a:lnTo>
                  <a:pt x="75626" y="876"/>
                </a:lnTo>
                <a:lnTo>
                  <a:pt x="82881" y="540"/>
                </a:lnTo>
                <a:lnTo>
                  <a:pt x="98563" y="166"/>
                </a:lnTo>
                <a:lnTo>
                  <a:pt x="116821" y="0"/>
                </a:lnTo>
                <a:lnTo>
                  <a:pt x="125584" y="802"/>
                </a:lnTo>
                <a:lnTo>
                  <a:pt x="133967" y="2184"/>
                </a:lnTo>
                <a:lnTo>
                  <a:pt x="142096" y="3951"/>
                </a:lnTo>
                <a:lnTo>
                  <a:pt x="150054" y="5976"/>
                </a:lnTo>
                <a:lnTo>
                  <a:pt x="157900" y="8174"/>
                </a:lnTo>
                <a:lnTo>
                  <a:pt x="165670" y="10485"/>
                </a:lnTo>
                <a:lnTo>
                  <a:pt x="173391" y="13719"/>
                </a:lnTo>
                <a:lnTo>
                  <a:pt x="181077" y="17568"/>
                </a:lnTo>
                <a:lnTo>
                  <a:pt x="188742" y="21828"/>
                </a:lnTo>
                <a:lnTo>
                  <a:pt x="194699" y="26361"/>
                </a:lnTo>
                <a:lnTo>
                  <a:pt x="199516" y="31076"/>
                </a:lnTo>
                <a:lnTo>
                  <a:pt x="203575" y="35913"/>
                </a:lnTo>
                <a:lnTo>
                  <a:pt x="207973" y="40831"/>
                </a:lnTo>
                <a:lnTo>
                  <a:pt x="217377" y="50811"/>
                </a:lnTo>
                <a:lnTo>
                  <a:pt x="220562" y="55843"/>
                </a:lnTo>
                <a:lnTo>
                  <a:pt x="224100" y="65950"/>
                </a:lnTo>
                <a:lnTo>
                  <a:pt x="224197" y="71016"/>
                </a:lnTo>
                <a:lnTo>
                  <a:pt x="222048" y="81160"/>
                </a:lnTo>
                <a:lnTo>
                  <a:pt x="218270" y="93571"/>
                </a:lnTo>
                <a:lnTo>
                  <a:pt x="216077" y="100436"/>
                </a:lnTo>
                <a:lnTo>
                  <a:pt x="212075" y="106706"/>
                </a:lnTo>
                <a:lnTo>
                  <a:pt x="206868" y="112580"/>
                </a:lnTo>
                <a:lnTo>
                  <a:pt x="194308" y="124468"/>
                </a:lnTo>
                <a:lnTo>
                  <a:pt x="180259" y="138219"/>
                </a:lnTo>
                <a:lnTo>
                  <a:pt x="172956" y="144595"/>
                </a:lnTo>
                <a:lnTo>
                  <a:pt x="165548" y="150539"/>
                </a:lnTo>
                <a:lnTo>
                  <a:pt x="131363" y="176291"/>
                </a:lnTo>
                <a:lnTo>
                  <a:pt x="114183" y="188627"/>
                </a:lnTo>
                <a:lnTo>
                  <a:pt x="82458" y="210343"/>
                </a:lnTo>
                <a:lnTo>
                  <a:pt x="75583" y="215538"/>
                </a:lnTo>
                <a:lnTo>
                  <a:pt x="69306" y="220695"/>
                </a:lnTo>
                <a:lnTo>
                  <a:pt x="63427" y="225826"/>
                </a:lnTo>
                <a:lnTo>
                  <a:pt x="56969" y="230093"/>
                </a:lnTo>
                <a:lnTo>
                  <a:pt x="50123" y="233784"/>
                </a:lnTo>
                <a:lnTo>
                  <a:pt x="30611" y="243025"/>
                </a:lnTo>
                <a:lnTo>
                  <a:pt x="24931" y="245792"/>
                </a:lnTo>
                <a:lnTo>
                  <a:pt x="20298" y="249331"/>
                </a:lnTo>
                <a:lnTo>
                  <a:pt x="16363" y="253383"/>
                </a:lnTo>
                <a:lnTo>
                  <a:pt x="9732" y="261554"/>
                </a:lnTo>
                <a:lnTo>
                  <a:pt x="3963" y="268008"/>
                </a:lnTo>
                <a:lnTo>
                  <a:pt x="2086" y="270914"/>
                </a:lnTo>
                <a:lnTo>
                  <a:pt x="0" y="276402"/>
                </a:lnTo>
                <a:lnTo>
                  <a:pt x="291" y="279051"/>
                </a:lnTo>
                <a:lnTo>
                  <a:pt x="1331" y="281662"/>
                </a:lnTo>
                <a:lnTo>
                  <a:pt x="4745" y="286823"/>
                </a:lnTo>
                <a:lnTo>
                  <a:pt x="9084" y="291938"/>
                </a:lnTo>
                <a:lnTo>
                  <a:pt x="13120" y="294488"/>
                </a:lnTo>
                <a:lnTo>
                  <a:pt x="18351" y="297034"/>
                </a:lnTo>
                <a:lnTo>
                  <a:pt x="24378" y="299579"/>
                </a:lnTo>
                <a:lnTo>
                  <a:pt x="30936" y="302121"/>
                </a:lnTo>
                <a:lnTo>
                  <a:pt x="44995" y="307205"/>
                </a:lnTo>
                <a:lnTo>
                  <a:pt x="53147" y="309746"/>
                </a:lnTo>
                <a:lnTo>
                  <a:pt x="71236" y="314827"/>
                </a:lnTo>
                <a:lnTo>
                  <a:pt x="79955" y="316520"/>
                </a:lnTo>
                <a:lnTo>
                  <a:pt x="88307" y="317649"/>
                </a:lnTo>
                <a:lnTo>
                  <a:pt x="96415" y="318402"/>
                </a:lnTo>
                <a:lnTo>
                  <a:pt x="106054" y="320597"/>
                </a:lnTo>
                <a:lnTo>
                  <a:pt x="116713" y="323754"/>
                </a:lnTo>
                <a:lnTo>
                  <a:pt x="128053" y="327551"/>
                </a:lnTo>
                <a:lnTo>
                  <a:pt x="138999" y="330083"/>
                </a:lnTo>
                <a:lnTo>
                  <a:pt x="149683" y="331771"/>
                </a:lnTo>
                <a:lnTo>
                  <a:pt x="160193" y="332896"/>
                </a:lnTo>
                <a:lnTo>
                  <a:pt x="169739" y="333647"/>
                </a:lnTo>
                <a:lnTo>
                  <a:pt x="178643" y="334147"/>
                </a:lnTo>
                <a:lnTo>
                  <a:pt x="194463" y="334703"/>
                </a:lnTo>
                <a:lnTo>
                  <a:pt x="216159" y="335060"/>
                </a:lnTo>
                <a:lnTo>
                  <a:pt x="226931" y="33514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MARTInkAnnotation265"/>
          <p:cNvSpPr/>
          <p:nvPr/>
        </p:nvSpPr>
        <p:spPr>
          <a:xfrm>
            <a:off x="1577880" y="3192480"/>
            <a:ext cx="284400" cy="23760"/>
          </a:xfrm>
          <a:custGeom>
            <a:avLst/>
            <a:gdLst>
              <a:gd name="textAreaLeft" fmla="*/ 0 w 284400"/>
              <a:gd name="textAreaRight" fmla="*/ 284760 w 2844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84224" h="22831">
                <a:moveTo>
                  <a:pt x="0" y="22830"/>
                </a:moveTo>
                <a:lnTo>
                  <a:pt x="4045" y="22830"/>
                </a:lnTo>
                <a:lnTo>
                  <a:pt x="5237" y="21984"/>
                </a:lnTo>
                <a:lnTo>
                  <a:pt x="6031" y="20572"/>
                </a:lnTo>
                <a:lnTo>
                  <a:pt x="6561" y="18785"/>
                </a:lnTo>
                <a:lnTo>
                  <a:pt x="7760" y="17593"/>
                </a:lnTo>
                <a:lnTo>
                  <a:pt x="9407" y="16799"/>
                </a:lnTo>
                <a:lnTo>
                  <a:pt x="11351" y="16269"/>
                </a:lnTo>
                <a:lnTo>
                  <a:pt x="15769" y="15681"/>
                </a:lnTo>
                <a:lnTo>
                  <a:pt x="18133" y="15524"/>
                </a:lnTo>
                <a:lnTo>
                  <a:pt x="21402" y="14573"/>
                </a:lnTo>
                <a:lnTo>
                  <a:pt x="25274" y="13092"/>
                </a:lnTo>
                <a:lnTo>
                  <a:pt x="29550" y="11258"/>
                </a:lnTo>
                <a:lnTo>
                  <a:pt x="34940" y="10035"/>
                </a:lnTo>
                <a:lnTo>
                  <a:pt x="41073" y="9220"/>
                </a:lnTo>
                <a:lnTo>
                  <a:pt x="47702" y="8677"/>
                </a:lnTo>
                <a:lnTo>
                  <a:pt x="54661" y="8314"/>
                </a:lnTo>
                <a:lnTo>
                  <a:pt x="69167" y="7912"/>
                </a:lnTo>
                <a:lnTo>
                  <a:pt x="76592" y="6958"/>
                </a:lnTo>
                <a:lnTo>
                  <a:pt x="84081" y="5476"/>
                </a:lnTo>
                <a:lnTo>
                  <a:pt x="91614" y="3640"/>
                </a:lnTo>
                <a:lnTo>
                  <a:pt x="99176" y="2417"/>
                </a:lnTo>
                <a:lnTo>
                  <a:pt x="106757" y="1601"/>
                </a:lnTo>
                <a:lnTo>
                  <a:pt x="114352" y="1058"/>
                </a:lnTo>
                <a:lnTo>
                  <a:pt x="123648" y="695"/>
                </a:lnTo>
                <a:lnTo>
                  <a:pt x="155264" y="185"/>
                </a:lnTo>
                <a:lnTo>
                  <a:pt x="28422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MARTInkAnnotation266"/>
          <p:cNvSpPr/>
          <p:nvPr/>
        </p:nvSpPr>
        <p:spPr>
          <a:xfrm>
            <a:off x="2149560" y="2949480"/>
            <a:ext cx="296640" cy="365400"/>
          </a:xfrm>
          <a:custGeom>
            <a:avLst/>
            <a:gdLst>
              <a:gd name="textAreaLeft" fmla="*/ 0 w 296640"/>
              <a:gd name="textAreaRight" fmla="*/ 297000 w 29664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297151" h="365761">
                <a:moveTo>
                  <a:pt x="22830" y="0"/>
                </a:moveTo>
                <a:lnTo>
                  <a:pt x="22830" y="83255"/>
                </a:lnTo>
                <a:lnTo>
                  <a:pt x="21983" y="91910"/>
                </a:lnTo>
                <a:lnTo>
                  <a:pt x="20572" y="101067"/>
                </a:lnTo>
                <a:lnTo>
                  <a:pt x="18785" y="110558"/>
                </a:lnTo>
                <a:lnTo>
                  <a:pt x="17593" y="121119"/>
                </a:lnTo>
                <a:lnTo>
                  <a:pt x="16799" y="132392"/>
                </a:lnTo>
                <a:lnTo>
                  <a:pt x="16269" y="144142"/>
                </a:lnTo>
                <a:lnTo>
                  <a:pt x="15069" y="156208"/>
                </a:lnTo>
                <a:lnTo>
                  <a:pt x="13423" y="168485"/>
                </a:lnTo>
                <a:lnTo>
                  <a:pt x="11479" y="180904"/>
                </a:lnTo>
                <a:lnTo>
                  <a:pt x="10182" y="192569"/>
                </a:lnTo>
                <a:lnTo>
                  <a:pt x="9318" y="203733"/>
                </a:lnTo>
                <a:lnTo>
                  <a:pt x="8742" y="214562"/>
                </a:lnTo>
                <a:lnTo>
                  <a:pt x="7511" y="225168"/>
                </a:lnTo>
                <a:lnTo>
                  <a:pt x="5844" y="235626"/>
                </a:lnTo>
                <a:lnTo>
                  <a:pt x="3886" y="245984"/>
                </a:lnTo>
                <a:lnTo>
                  <a:pt x="2581" y="256276"/>
                </a:lnTo>
                <a:lnTo>
                  <a:pt x="1710" y="266524"/>
                </a:lnTo>
                <a:lnTo>
                  <a:pt x="1130" y="276743"/>
                </a:lnTo>
                <a:lnTo>
                  <a:pt x="486" y="294870"/>
                </a:lnTo>
                <a:lnTo>
                  <a:pt x="38" y="328046"/>
                </a:lnTo>
                <a:lnTo>
                  <a:pt x="0" y="335734"/>
                </a:lnTo>
                <a:lnTo>
                  <a:pt x="837" y="338969"/>
                </a:lnTo>
                <a:lnTo>
                  <a:pt x="6534" y="348832"/>
                </a:lnTo>
                <a:lnTo>
                  <a:pt x="7732" y="348548"/>
                </a:lnTo>
                <a:lnTo>
                  <a:pt x="11322" y="345975"/>
                </a:lnTo>
                <a:lnTo>
                  <a:pt x="18103" y="335721"/>
                </a:lnTo>
                <a:lnTo>
                  <a:pt x="25245" y="326727"/>
                </a:lnTo>
                <a:lnTo>
                  <a:pt x="29520" y="321958"/>
                </a:lnTo>
                <a:lnTo>
                  <a:pt x="33217" y="316239"/>
                </a:lnTo>
                <a:lnTo>
                  <a:pt x="36528" y="309886"/>
                </a:lnTo>
                <a:lnTo>
                  <a:pt x="39582" y="303111"/>
                </a:lnTo>
                <a:lnTo>
                  <a:pt x="43311" y="296054"/>
                </a:lnTo>
                <a:lnTo>
                  <a:pt x="47491" y="288809"/>
                </a:lnTo>
                <a:lnTo>
                  <a:pt x="51970" y="281439"/>
                </a:lnTo>
                <a:lnTo>
                  <a:pt x="61464" y="266478"/>
                </a:lnTo>
                <a:lnTo>
                  <a:pt x="66366" y="258932"/>
                </a:lnTo>
                <a:lnTo>
                  <a:pt x="71327" y="252208"/>
                </a:lnTo>
                <a:lnTo>
                  <a:pt x="76328" y="246032"/>
                </a:lnTo>
                <a:lnTo>
                  <a:pt x="85554" y="235501"/>
                </a:lnTo>
                <a:lnTo>
                  <a:pt x="92476" y="227998"/>
                </a:lnTo>
                <a:lnTo>
                  <a:pt x="96354" y="225659"/>
                </a:lnTo>
                <a:lnTo>
                  <a:pt x="105178" y="223060"/>
                </a:lnTo>
                <a:lnTo>
                  <a:pt x="112487" y="221904"/>
                </a:lnTo>
                <a:lnTo>
                  <a:pt x="121362" y="221254"/>
                </a:lnTo>
                <a:lnTo>
                  <a:pt x="124078" y="221163"/>
                </a:lnTo>
                <a:lnTo>
                  <a:pt x="126735" y="221948"/>
                </a:lnTo>
                <a:lnTo>
                  <a:pt x="131946" y="225079"/>
                </a:lnTo>
                <a:lnTo>
                  <a:pt x="137084" y="231551"/>
                </a:lnTo>
                <a:lnTo>
                  <a:pt x="142190" y="240071"/>
                </a:lnTo>
                <a:lnTo>
                  <a:pt x="147281" y="249503"/>
                </a:lnTo>
                <a:lnTo>
                  <a:pt x="154624" y="259339"/>
                </a:lnTo>
                <a:lnTo>
                  <a:pt x="158953" y="264333"/>
                </a:lnTo>
                <a:lnTo>
                  <a:pt x="162685" y="270202"/>
                </a:lnTo>
                <a:lnTo>
                  <a:pt x="166020" y="276655"/>
                </a:lnTo>
                <a:lnTo>
                  <a:pt x="169090" y="283496"/>
                </a:lnTo>
                <a:lnTo>
                  <a:pt x="172830" y="289751"/>
                </a:lnTo>
                <a:lnTo>
                  <a:pt x="177017" y="295614"/>
                </a:lnTo>
                <a:lnTo>
                  <a:pt x="185338" y="306644"/>
                </a:lnTo>
                <a:lnTo>
                  <a:pt x="191858" y="317190"/>
                </a:lnTo>
                <a:lnTo>
                  <a:pt x="199836" y="327522"/>
                </a:lnTo>
                <a:lnTo>
                  <a:pt x="204334" y="332648"/>
                </a:lnTo>
                <a:lnTo>
                  <a:pt x="209873" y="336913"/>
                </a:lnTo>
                <a:lnTo>
                  <a:pt x="216105" y="340601"/>
                </a:lnTo>
                <a:lnTo>
                  <a:pt x="240313" y="352606"/>
                </a:lnTo>
                <a:lnTo>
                  <a:pt x="246559" y="355297"/>
                </a:lnTo>
                <a:lnTo>
                  <a:pt x="253262" y="357938"/>
                </a:lnTo>
                <a:lnTo>
                  <a:pt x="260272" y="360546"/>
                </a:lnTo>
                <a:lnTo>
                  <a:pt x="265791" y="362284"/>
                </a:lnTo>
                <a:lnTo>
                  <a:pt x="274182" y="364215"/>
                </a:lnTo>
                <a:lnTo>
                  <a:pt x="282991" y="365074"/>
                </a:lnTo>
                <a:lnTo>
                  <a:pt x="297150" y="3657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MARTInkAnnotation267"/>
          <p:cNvSpPr/>
          <p:nvPr/>
        </p:nvSpPr>
        <p:spPr>
          <a:xfrm>
            <a:off x="2484360" y="3192480"/>
            <a:ext cx="14400" cy="138240"/>
          </a:xfrm>
          <a:custGeom>
            <a:avLst/>
            <a:gdLst>
              <a:gd name="textAreaLeft" fmla="*/ 0 w 14400"/>
              <a:gd name="textAreaRight" fmla="*/ 14760 w 1440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15241" h="137161">
                <a:moveTo>
                  <a:pt x="0" y="0"/>
                </a:moveTo>
                <a:lnTo>
                  <a:pt x="0" y="4045"/>
                </a:lnTo>
                <a:lnTo>
                  <a:pt x="847" y="6084"/>
                </a:lnTo>
                <a:lnTo>
                  <a:pt x="2258" y="8289"/>
                </a:lnTo>
                <a:lnTo>
                  <a:pt x="6561" y="13867"/>
                </a:lnTo>
                <a:lnTo>
                  <a:pt x="6914" y="16018"/>
                </a:lnTo>
                <a:lnTo>
                  <a:pt x="7150" y="19145"/>
                </a:lnTo>
                <a:lnTo>
                  <a:pt x="7306" y="22924"/>
                </a:lnTo>
                <a:lnTo>
                  <a:pt x="7527" y="40377"/>
                </a:lnTo>
                <a:lnTo>
                  <a:pt x="7618" y="95388"/>
                </a:lnTo>
                <a:lnTo>
                  <a:pt x="8465" y="100845"/>
                </a:lnTo>
                <a:lnTo>
                  <a:pt x="9877" y="106177"/>
                </a:lnTo>
                <a:lnTo>
                  <a:pt x="11665" y="111425"/>
                </a:lnTo>
                <a:lnTo>
                  <a:pt x="12857" y="115770"/>
                </a:lnTo>
                <a:lnTo>
                  <a:pt x="13651" y="119513"/>
                </a:lnTo>
                <a:lnTo>
                  <a:pt x="14181" y="122856"/>
                </a:lnTo>
                <a:lnTo>
                  <a:pt x="14534" y="125930"/>
                </a:lnTo>
                <a:lnTo>
                  <a:pt x="14769" y="128827"/>
                </a:lnTo>
                <a:lnTo>
                  <a:pt x="15240" y="1371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MARTInkAnnotation268"/>
          <p:cNvSpPr/>
          <p:nvPr/>
        </p:nvSpPr>
        <p:spPr>
          <a:xfrm>
            <a:off x="2568600" y="3139920"/>
            <a:ext cx="360" cy="22320"/>
          </a:xfrm>
          <a:custGeom>
            <a:avLst/>
            <a:gdLst>
              <a:gd name="textAreaLeft" fmla="*/ 0 w 360"/>
              <a:gd name="textAreaRight" fmla="*/ 720 w 3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" h="22861">
                <a:moveTo>
                  <a:pt x="0" y="0"/>
                </a:moveTo>
                <a:lnTo>
                  <a:pt x="0" y="228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MARTInkAnnotation269"/>
          <p:cNvSpPr/>
          <p:nvPr/>
        </p:nvSpPr>
        <p:spPr>
          <a:xfrm>
            <a:off x="2598840" y="3184560"/>
            <a:ext cx="144360" cy="136440"/>
          </a:xfrm>
          <a:custGeom>
            <a:avLst/>
            <a:gdLst>
              <a:gd name="textAreaLeft" fmla="*/ 0 w 144360"/>
              <a:gd name="textAreaRight" fmla="*/ 144720 w 1443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44556" h="135934">
                <a:moveTo>
                  <a:pt x="114075" y="7592"/>
                </a:moveTo>
                <a:lnTo>
                  <a:pt x="114075" y="3547"/>
                </a:lnTo>
                <a:lnTo>
                  <a:pt x="113229" y="2355"/>
                </a:lnTo>
                <a:lnTo>
                  <a:pt x="111818" y="1561"/>
                </a:lnTo>
                <a:lnTo>
                  <a:pt x="107992" y="678"/>
                </a:lnTo>
                <a:lnTo>
                  <a:pt x="105787" y="443"/>
                </a:lnTo>
                <a:lnTo>
                  <a:pt x="103470" y="286"/>
                </a:lnTo>
                <a:lnTo>
                  <a:pt x="96379" y="112"/>
                </a:lnTo>
                <a:lnTo>
                  <a:pt x="78030" y="0"/>
                </a:lnTo>
                <a:lnTo>
                  <a:pt x="73112" y="837"/>
                </a:lnTo>
                <a:lnTo>
                  <a:pt x="68140" y="2242"/>
                </a:lnTo>
                <a:lnTo>
                  <a:pt x="63132" y="4025"/>
                </a:lnTo>
                <a:lnTo>
                  <a:pt x="58100" y="5214"/>
                </a:lnTo>
                <a:lnTo>
                  <a:pt x="53052" y="6007"/>
                </a:lnTo>
                <a:lnTo>
                  <a:pt x="47993" y="6535"/>
                </a:lnTo>
                <a:lnTo>
                  <a:pt x="43774" y="7734"/>
                </a:lnTo>
                <a:lnTo>
                  <a:pt x="40114" y="9380"/>
                </a:lnTo>
                <a:lnTo>
                  <a:pt x="36828" y="11324"/>
                </a:lnTo>
                <a:lnTo>
                  <a:pt x="33790" y="13467"/>
                </a:lnTo>
                <a:lnTo>
                  <a:pt x="30919" y="15742"/>
                </a:lnTo>
                <a:lnTo>
                  <a:pt x="28158" y="18105"/>
                </a:lnTo>
                <a:lnTo>
                  <a:pt x="25470" y="19681"/>
                </a:lnTo>
                <a:lnTo>
                  <a:pt x="22832" y="20731"/>
                </a:lnTo>
                <a:lnTo>
                  <a:pt x="20227" y="21431"/>
                </a:lnTo>
                <a:lnTo>
                  <a:pt x="18490" y="22745"/>
                </a:lnTo>
                <a:lnTo>
                  <a:pt x="17331" y="24467"/>
                </a:lnTo>
                <a:lnTo>
                  <a:pt x="16045" y="28639"/>
                </a:lnTo>
                <a:lnTo>
                  <a:pt x="15701" y="30937"/>
                </a:lnTo>
                <a:lnTo>
                  <a:pt x="15473" y="33315"/>
                </a:lnTo>
                <a:lnTo>
                  <a:pt x="16167" y="34901"/>
                </a:lnTo>
                <a:lnTo>
                  <a:pt x="17477" y="35958"/>
                </a:lnTo>
                <a:lnTo>
                  <a:pt x="19196" y="36663"/>
                </a:lnTo>
                <a:lnTo>
                  <a:pt x="23365" y="39703"/>
                </a:lnTo>
                <a:lnTo>
                  <a:pt x="25661" y="41700"/>
                </a:lnTo>
                <a:lnTo>
                  <a:pt x="28040" y="43030"/>
                </a:lnTo>
                <a:lnTo>
                  <a:pt x="30472" y="43918"/>
                </a:lnTo>
                <a:lnTo>
                  <a:pt x="36413" y="45342"/>
                </a:lnTo>
                <a:lnTo>
                  <a:pt x="39483" y="45537"/>
                </a:lnTo>
                <a:lnTo>
                  <a:pt x="41487" y="45588"/>
                </a:lnTo>
                <a:lnTo>
                  <a:pt x="41977" y="46469"/>
                </a:lnTo>
                <a:lnTo>
                  <a:pt x="41456" y="47904"/>
                </a:lnTo>
                <a:lnTo>
                  <a:pt x="40263" y="49706"/>
                </a:lnTo>
                <a:lnTo>
                  <a:pt x="39467" y="51755"/>
                </a:lnTo>
                <a:lnTo>
                  <a:pt x="38937" y="53968"/>
                </a:lnTo>
                <a:lnTo>
                  <a:pt x="38583" y="56289"/>
                </a:lnTo>
                <a:lnTo>
                  <a:pt x="37500" y="58684"/>
                </a:lnTo>
                <a:lnTo>
                  <a:pt x="35932" y="61126"/>
                </a:lnTo>
                <a:lnTo>
                  <a:pt x="34040" y="63601"/>
                </a:lnTo>
                <a:lnTo>
                  <a:pt x="31932" y="66098"/>
                </a:lnTo>
                <a:lnTo>
                  <a:pt x="29680" y="68610"/>
                </a:lnTo>
                <a:lnTo>
                  <a:pt x="24919" y="73658"/>
                </a:lnTo>
                <a:lnTo>
                  <a:pt x="19982" y="78723"/>
                </a:lnTo>
                <a:lnTo>
                  <a:pt x="16633" y="81260"/>
                </a:lnTo>
                <a:lnTo>
                  <a:pt x="12707" y="83797"/>
                </a:lnTo>
                <a:lnTo>
                  <a:pt x="8397" y="86335"/>
                </a:lnTo>
                <a:lnTo>
                  <a:pt x="5523" y="88875"/>
                </a:lnTo>
                <a:lnTo>
                  <a:pt x="3607" y="91414"/>
                </a:lnTo>
                <a:lnTo>
                  <a:pt x="2330" y="93953"/>
                </a:lnTo>
                <a:lnTo>
                  <a:pt x="1478" y="97339"/>
                </a:lnTo>
                <a:lnTo>
                  <a:pt x="911" y="101290"/>
                </a:lnTo>
                <a:lnTo>
                  <a:pt x="532" y="105618"/>
                </a:lnTo>
                <a:lnTo>
                  <a:pt x="280" y="109349"/>
                </a:lnTo>
                <a:lnTo>
                  <a:pt x="0" y="115753"/>
                </a:lnTo>
                <a:lnTo>
                  <a:pt x="772" y="118646"/>
                </a:lnTo>
                <a:lnTo>
                  <a:pt x="2133" y="121421"/>
                </a:lnTo>
                <a:lnTo>
                  <a:pt x="3887" y="124119"/>
                </a:lnTo>
                <a:lnTo>
                  <a:pt x="6750" y="125916"/>
                </a:lnTo>
                <a:lnTo>
                  <a:pt x="10352" y="127115"/>
                </a:lnTo>
                <a:lnTo>
                  <a:pt x="14446" y="127914"/>
                </a:lnTo>
                <a:lnTo>
                  <a:pt x="18869" y="129293"/>
                </a:lnTo>
                <a:lnTo>
                  <a:pt x="23511" y="131060"/>
                </a:lnTo>
                <a:lnTo>
                  <a:pt x="28299" y="133083"/>
                </a:lnTo>
                <a:lnTo>
                  <a:pt x="34032" y="134433"/>
                </a:lnTo>
                <a:lnTo>
                  <a:pt x="40393" y="135333"/>
                </a:lnTo>
                <a:lnTo>
                  <a:pt x="47174" y="135933"/>
                </a:lnTo>
                <a:lnTo>
                  <a:pt x="54234" y="135486"/>
                </a:lnTo>
                <a:lnTo>
                  <a:pt x="61481" y="134341"/>
                </a:lnTo>
                <a:lnTo>
                  <a:pt x="68853" y="132732"/>
                </a:lnTo>
                <a:lnTo>
                  <a:pt x="77153" y="131658"/>
                </a:lnTo>
                <a:lnTo>
                  <a:pt x="86074" y="130943"/>
                </a:lnTo>
                <a:lnTo>
                  <a:pt x="95408" y="130466"/>
                </a:lnTo>
                <a:lnTo>
                  <a:pt x="104170" y="129302"/>
                </a:lnTo>
                <a:lnTo>
                  <a:pt x="112552" y="127678"/>
                </a:lnTo>
                <a:lnTo>
                  <a:pt x="120680" y="125749"/>
                </a:lnTo>
                <a:lnTo>
                  <a:pt x="126945" y="124464"/>
                </a:lnTo>
                <a:lnTo>
                  <a:pt x="131968" y="123607"/>
                </a:lnTo>
                <a:lnTo>
                  <a:pt x="144555" y="12189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MARTInkAnnotation270"/>
          <p:cNvSpPr/>
          <p:nvPr/>
        </p:nvSpPr>
        <p:spPr>
          <a:xfrm>
            <a:off x="2759040" y="3216240"/>
            <a:ext cx="262080" cy="300240"/>
          </a:xfrm>
          <a:custGeom>
            <a:avLst/>
            <a:gdLst>
              <a:gd name="textAreaLeft" fmla="*/ 0 w 262080"/>
              <a:gd name="textAreaRight" fmla="*/ 262440 w 2620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263174" h="300136">
                <a:moveTo>
                  <a:pt x="137159" y="15139"/>
                </a:moveTo>
                <a:lnTo>
                  <a:pt x="141205" y="15139"/>
                </a:lnTo>
                <a:lnTo>
                  <a:pt x="142396" y="14292"/>
                </a:lnTo>
                <a:lnTo>
                  <a:pt x="143191" y="12881"/>
                </a:lnTo>
                <a:lnTo>
                  <a:pt x="143720" y="11094"/>
                </a:lnTo>
                <a:lnTo>
                  <a:pt x="144920" y="9902"/>
                </a:lnTo>
                <a:lnTo>
                  <a:pt x="146567" y="9108"/>
                </a:lnTo>
                <a:lnTo>
                  <a:pt x="148511" y="8579"/>
                </a:lnTo>
                <a:lnTo>
                  <a:pt x="149807" y="7379"/>
                </a:lnTo>
                <a:lnTo>
                  <a:pt x="150672" y="5732"/>
                </a:lnTo>
                <a:lnTo>
                  <a:pt x="151248" y="3788"/>
                </a:lnTo>
                <a:lnTo>
                  <a:pt x="150785" y="2492"/>
                </a:lnTo>
                <a:lnTo>
                  <a:pt x="149630" y="1628"/>
                </a:lnTo>
                <a:lnTo>
                  <a:pt x="146088" y="668"/>
                </a:lnTo>
                <a:lnTo>
                  <a:pt x="139335" y="127"/>
                </a:lnTo>
                <a:lnTo>
                  <a:pt x="134457" y="0"/>
                </a:lnTo>
                <a:lnTo>
                  <a:pt x="131971" y="813"/>
                </a:lnTo>
                <a:lnTo>
                  <a:pt x="126952" y="3974"/>
                </a:lnTo>
                <a:lnTo>
                  <a:pt x="119640" y="8202"/>
                </a:lnTo>
                <a:lnTo>
                  <a:pt x="115320" y="10514"/>
                </a:lnTo>
                <a:lnTo>
                  <a:pt x="110746" y="13749"/>
                </a:lnTo>
                <a:lnTo>
                  <a:pt x="106005" y="17599"/>
                </a:lnTo>
                <a:lnTo>
                  <a:pt x="101149" y="21859"/>
                </a:lnTo>
                <a:lnTo>
                  <a:pt x="96219" y="26392"/>
                </a:lnTo>
                <a:lnTo>
                  <a:pt x="86226" y="35945"/>
                </a:lnTo>
                <a:lnTo>
                  <a:pt x="82038" y="40863"/>
                </a:lnTo>
                <a:lnTo>
                  <a:pt x="78398" y="45835"/>
                </a:lnTo>
                <a:lnTo>
                  <a:pt x="72943" y="55029"/>
                </a:lnTo>
                <a:lnTo>
                  <a:pt x="70519" y="61936"/>
                </a:lnTo>
                <a:lnTo>
                  <a:pt x="71566" y="64964"/>
                </a:lnTo>
                <a:lnTo>
                  <a:pt x="73957" y="67829"/>
                </a:lnTo>
                <a:lnTo>
                  <a:pt x="80283" y="73270"/>
                </a:lnTo>
                <a:lnTo>
                  <a:pt x="85917" y="78511"/>
                </a:lnTo>
                <a:lnTo>
                  <a:pt x="93500" y="83662"/>
                </a:lnTo>
                <a:lnTo>
                  <a:pt x="97893" y="86221"/>
                </a:lnTo>
                <a:lnTo>
                  <a:pt x="102515" y="87927"/>
                </a:lnTo>
                <a:lnTo>
                  <a:pt x="107290" y="89065"/>
                </a:lnTo>
                <a:lnTo>
                  <a:pt x="112167" y="89823"/>
                </a:lnTo>
                <a:lnTo>
                  <a:pt x="117958" y="89482"/>
                </a:lnTo>
                <a:lnTo>
                  <a:pt x="124358" y="88408"/>
                </a:lnTo>
                <a:lnTo>
                  <a:pt x="131165" y="86845"/>
                </a:lnTo>
                <a:lnTo>
                  <a:pt x="137397" y="84956"/>
                </a:lnTo>
                <a:lnTo>
                  <a:pt x="143244" y="82851"/>
                </a:lnTo>
                <a:lnTo>
                  <a:pt x="148836" y="80600"/>
                </a:lnTo>
                <a:lnTo>
                  <a:pt x="154257" y="78253"/>
                </a:lnTo>
                <a:lnTo>
                  <a:pt x="164797" y="73388"/>
                </a:lnTo>
                <a:lnTo>
                  <a:pt x="172867" y="68403"/>
                </a:lnTo>
                <a:lnTo>
                  <a:pt x="179276" y="63365"/>
                </a:lnTo>
                <a:lnTo>
                  <a:pt x="184947" y="58304"/>
                </a:lnTo>
                <a:lnTo>
                  <a:pt x="192900" y="50695"/>
                </a:lnTo>
                <a:lnTo>
                  <a:pt x="198057" y="43360"/>
                </a:lnTo>
                <a:lnTo>
                  <a:pt x="204222" y="32943"/>
                </a:lnTo>
                <a:lnTo>
                  <a:pt x="205575" y="32089"/>
                </a:lnTo>
                <a:lnTo>
                  <a:pt x="212167" y="30604"/>
                </a:lnTo>
                <a:lnTo>
                  <a:pt x="215087" y="32737"/>
                </a:lnTo>
                <a:lnTo>
                  <a:pt x="217051" y="34491"/>
                </a:lnTo>
                <a:lnTo>
                  <a:pt x="218360" y="37354"/>
                </a:lnTo>
                <a:lnTo>
                  <a:pt x="219816" y="45050"/>
                </a:lnTo>
                <a:lnTo>
                  <a:pt x="222720" y="54115"/>
                </a:lnTo>
                <a:lnTo>
                  <a:pt x="224680" y="58903"/>
                </a:lnTo>
                <a:lnTo>
                  <a:pt x="226833" y="64635"/>
                </a:lnTo>
                <a:lnTo>
                  <a:pt x="233908" y="84838"/>
                </a:lnTo>
                <a:lnTo>
                  <a:pt x="238861" y="99456"/>
                </a:lnTo>
                <a:lnTo>
                  <a:pt x="241367" y="107757"/>
                </a:lnTo>
                <a:lnTo>
                  <a:pt x="246410" y="126012"/>
                </a:lnTo>
                <a:lnTo>
                  <a:pt x="254008" y="155329"/>
                </a:lnTo>
                <a:lnTo>
                  <a:pt x="255699" y="165325"/>
                </a:lnTo>
                <a:lnTo>
                  <a:pt x="256826" y="175377"/>
                </a:lnTo>
                <a:lnTo>
                  <a:pt x="257577" y="185465"/>
                </a:lnTo>
                <a:lnTo>
                  <a:pt x="258924" y="195576"/>
                </a:lnTo>
                <a:lnTo>
                  <a:pt x="260669" y="205704"/>
                </a:lnTo>
                <a:lnTo>
                  <a:pt x="262679" y="215842"/>
                </a:lnTo>
                <a:lnTo>
                  <a:pt x="263173" y="225142"/>
                </a:lnTo>
                <a:lnTo>
                  <a:pt x="262655" y="233881"/>
                </a:lnTo>
                <a:lnTo>
                  <a:pt x="261463" y="242247"/>
                </a:lnTo>
                <a:lnTo>
                  <a:pt x="259822" y="249518"/>
                </a:lnTo>
                <a:lnTo>
                  <a:pt x="257881" y="256058"/>
                </a:lnTo>
                <a:lnTo>
                  <a:pt x="255741" y="262112"/>
                </a:lnTo>
                <a:lnTo>
                  <a:pt x="252620" y="267841"/>
                </a:lnTo>
                <a:lnTo>
                  <a:pt x="248847" y="273353"/>
                </a:lnTo>
                <a:lnTo>
                  <a:pt x="244638" y="278722"/>
                </a:lnTo>
                <a:lnTo>
                  <a:pt x="240138" y="283148"/>
                </a:lnTo>
                <a:lnTo>
                  <a:pt x="235445" y="286945"/>
                </a:lnTo>
                <a:lnTo>
                  <a:pt x="230623" y="290323"/>
                </a:lnTo>
                <a:lnTo>
                  <a:pt x="224869" y="293422"/>
                </a:lnTo>
                <a:lnTo>
                  <a:pt x="218492" y="296334"/>
                </a:lnTo>
                <a:lnTo>
                  <a:pt x="211701" y="299123"/>
                </a:lnTo>
                <a:lnTo>
                  <a:pt x="202941" y="300135"/>
                </a:lnTo>
                <a:lnTo>
                  <a:pt x="192867" y="299963"/>
                </a:lnTo>
                <a:lnTo>
                  <a:pt x="181918" y="299002"/>
                </a:lnTo>
                <a:lnTo>
                  <a:pt x="171232" y="297514"/>
                </a:lnTo>
                <a:lnTo>
                  <a:pt x="160721" y="295676"/>
                </a:lnTo>
                <a:lnTo>
                  <a:pt x="150327" y="293604"/>
                </a:lnTo>
                <a:lnTo>
                  <a:pt x="140011" y="290529"/>
                </a:lnTo>
                <a:lnTo>
                  <a:pt x="129748" y="286786"/>
                </a:lnTo>
                <a:lnTo>
                  <a:pt x="119518" y="282597"/>
                </a:lnTo>
                <a:lnTo>
                  <a:pt x="109312" y="277264"/>
                </a:lnTo>
                <a:lnTo>
                  <a:pt x="99121" y="271169"/>
                </a:lnTo>
                <a:lnTo>
                  <a:pt x="88941" y="264566"/>
                </a:lnTo>
                <a:lnTo>
                  <a:pt x="78767" y="257624"/>
                </a:lnTo>
                <a:lnTo>
                  <a:pt x="58432" y="243137"/>
                </a:lnTo>
                <a:lnTo>
                  <a:pt x="49961" y="235718"/>
                </a:lnTo>
                <a:lnTo>
                  <a:pt x="42621" y="228232"/>
                </a:lnTo>
                <a:lnTo>
                  <a:pt x="36034" y="220701"/>
                </a:lnTo>
                <a:lnTo>
                  <a:pt x="29949" y="212294"/>
                </a:lnTo>
                <a:lnTo>
                  <a:pt x="24199" y="203302"/>
                </a:lnTo>
                <a:lnTo>
                  <a:pt x="18673" y="193921"/>
                </a:lnTo>
                <a:lnTo>
                  <a:pt x="14142" y="185127"/>
                </a:lnTo>
                <a:lnTo>
                  <a:pt x="10274" y="176725"/>
                </a:lnTo>
                <a:lnTo>
                  <a:pt x="6849" y="168583"/>
                </a:lnTo>
                <a:lnTo>
                  <a:pt x="4566" y="161462"/>
                </a:lnTo>
                <a:lnTo>
                  <a:pt x="3044" y="155021"/>
                </a:lnTo>
                <a:lnTo>
                  <a:pt x="0" y="1370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MARTInkAnnotation271"/>
          <p:cNvSpPr/>
          <p:nvPr/>
        </p:nvSpPr>
        <p:spPr>
          <a:xfrm>
            <a:off x="3102120" y="3005280"/>
            <a:ext cx="280800" cy="339480"/>
          </a:xfrm>
          <a:custGeom>
            <a:avLst/>
            <a:gdLst>
              <a:gd name="textAreaLeft" fmla="*/ 0 w 280800"/>
              <a:gd name="textAreaRight" fmla="*/ 281160 w 28080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281941" h="338725">
                <a:moveTo>
                  <a:pt x="0" y="4390"/>
                </a:moveTo>
                <a:lnTo>
                  <a:pt x="0" y="0"/>
                </a:lnTo>
                <a:lnTo>
                  <a:pt x="0" y="21491"/>
                </a:lnTo>
                <a:lnTo>
                  <a:pt x="2258" y="31464"/>
                </a:lnTo>
                <a:lnTo>
                  <a:pt x="4045" y="37679"/>
                </a:lnTo>
                <a:lnTo>
                  <a:pt x="5237" y="45210"/>
                </a:lnTo>
                <a:lnTo>
                  <a:pt x="6032" y="53616"/>
                </a:lnTo>
                <a:lnTo>
                  <a:pt x="6561" y="62608"/>
                </a:lnTo>
                <a:lnTo>
                  <a:pt x="7150" y="81629"/>
                </a:lnTo>
                <a:lnTo>
                  <a:pt x="7579" y="147673"/>
                </a:lnTo>
                <a:lnTo>
                  <a:pt x="7593" y="158332"/>
                </a:lnTo>
                <a:lnTo>
                  <a:pt x="8449" y="169671"/>
                </a:lnTo>
                <a:lnTo>
                  <a:pt x="9866" y="181464"/>
                </a:lnTo>
                <a:lnTo>
                  <a:pt x="11657" y="193560"/>
                </a:lnTo>
                <a:lnTo>
                  <a:pt x="12852" y="205857"/>
                </a:lnTo>
                <a:lnTo>
                  <a:pt x="13648" y="218288"/>
                </a:lnTo>
                <a:lnTo>
                  <a:pt x="14179" y="230809"/>
                </a:lnTo>
                <a:lnTo>
                  <a:pt x="15379" y="242542"/>
                </a:lnTo>
                <a:lnTo>
                  <a:pt x="17026" y="253752"/>
                </a:lnTo>
                <a:lnTo>
                  <a:pt x="18971" y="264611"/>
                </a:lnTo>
                <a:lnTo>
                  <a:pt x="20268" y="274391"/>
                </a:lnTo>
                <a:lnTo>
                  <a:pt x="21132" y="283450"/>
                </a:lnTo>
                <a:lnTo>
                  <a:pt x="21708" y="292030"/>
                </a:lnTo>
                <a:lnTo>
                  <a:pt x="22939" y="299444"/>
                </a:lnTo>
                <a:lnTo>
                  <a:pt x="24606" y="306079"/>
                </a:lnTo>
                <a:lnTo>
                  <a:pt x="26564" y="312196"/>
                </a:lnTo>
                <a:lnTo>
                  <a:pt x="27870" y="317968"/>
                </a:lnTo>
                <a:lnTo>
                  <a:pt x="28740" y="323509"/>
                </a:lnTo>
                <a:lnTo>
                  <a:pt x="30379" y="338724"/>
                </a:lnTo>
                <a:lnTo>
                  <a:pt x="30472" y="328981"/>
                </a:lnTo>
                <a:lnTo>
                  <a:pt x="30480" y="270812"/>
                </a:lnTo>
                <a:lnTo>
                  <a:pt x="31327" y="264132"/>
                </a:lnTo>
                <a:lnTo>
                  <a:pt x="32738" y="257985"/>
                </a:lnTo>
                <a:lnTo>
                  <a:pt x="34525" y="252193"/>
                </a:lnTo>
                <a:lnTo>
                  <a:pt x="37411" y="246639"/>
                </a:lnTo>
                <a:lnTo>
                  <a:pt x="41027" y="241242"/>
                </a:lnTo>
                <a:lnTo>
                  <a:pt x="48715" y="231578"/>
                </a:lnTo>
                <a:lnTo>
                  <a:pt x="54953" y="224460"/>
                </a:lnTo>
                <a:lnTo>
                  <a:pt x="58649" y="222224"/>
                </a:lnTo>
                <a:lnTo>
                  <a:pt x="67271" y="219738"/>
                </a:lnTo>
                <a:lnTo>
                  <a:pt x="72787" y="219076"/>
                </a:lnTo>
                <a:lnTo>
                  <a:pt x="79005" y="218634"/>
                </a:lnTo>
                <a:lnTo>
                  <a:pt x="85690" y="218339"/>
                </a:lnTo>
                <a:lnTo>
                  <a:pt x="91840" y="218990"/>
                </a:lnTo>
                <a:lnTo>
                  <a:pt x="97633" y="220270"/>
                </a:lnTo>
                <a:lnTo>
                  <a:pt x="109433" y="223950"/>
                </a:lnTo>
                <a:lnTo>
                  <a:pt x="123144" y="228408"/>
                </a:lnTo>
                <a:lnTo>
                  <a:pt x="129509" y="230782"/>
                </a:lnTo>
                <a:lnTo>
                  <a:pt x="135446" y="233211"/>
                </a:lnTo>
                <a:lnTo>
                  <a:pt x="141098" y="235678"/>
                </a:lnTo>
                <a:lnTo>
                  <a:pt x="147405" y="239015"/>
                </a:lnTo>
                <a:lnTo>
                  <a:pt x="154150" y="242934"/>
                </a:lnTo>
                <a:lnTo>
                  <a:pt x="168418" y="251803"/>
                </a:lnTo>
                <a:lnTo>
                  <a:pt x="183226" y="261389"/>
                </a:lnTo>
                <a:lnTo>
                  <a:pt x="189884" y="265469"/>
                </a:lnTo>
                <a:lnTo>
                  <a:pt x="196016" y="269036"/>
                </a:lnTo>
                <a:lnTo>
                  <a:pt x="201797" y="272261"/>
                </a:lnTo>
                <a:lnTo>
                  <a:pt x="208192" y="274411"/>
                </a:lnTo>
                <a:lnTo>
                  <a:pt x="214994" y="275844"/>
                </a:lnTo>
                <a:lnTo>
                  <a:pt x="222070" y="276799"/>
                </a:lnTo>
                <a:lnTo>
                  <a:pt x="229326" y="277436"/>
                </a:lnTo>
                <a:lnTo>
                  <a:pt x="236704" y="277861"/>
                </a:lnTo>
                <a:lnTo>
                  <a:pt x="254708" y="278459"/>
                </a:lnTo>
                <a:lnTo>
                  <a:pt x="258705" y="278543"/>
                </a:lnTo>
                <a:lnTo>
                  <a:pt x="263064" y="277752"/>
                </a:lnTo>
                <a:lnTo>
                  <a:pt x="267662" y="276378"/>
                </a:lnTo>
                <a:lnTo>
                  <a:pt x="281940" y="2710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MARTInkAnnotation272"/>
          <p:cNvSpPr/>
          <p:nvPr/>
        </p:nvSpPr>
        <p:spPr>
          <a:xfrm>
            <a:off x="3489480" y="3063960"/>
            <a:ext cx="107640" cy="288720"/>
          </a:xfrm>
          <a:custGeom>
            <a:avLst/>
            <a:gdLst>
              <a:gd name="textAreaLeft" fmla="*/ 0 w 107640"/>
              <a:gd name="textAreaRight" fmla="*/ 108000 w 10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06681" h="289561">
                <a:moveTo>
                  <a:pt x="0" y="0"/>
                </a:moveTo>
                <a:lnTo>
                  <a:pt x="0" y="4045"/>
                </a:lnTo>
                <a:lnTo>
                  <a:pt x="846" y="6084"/>
                </a:lnTo>
                <a:lnTo>
                  <a:pt x="4044" y="10606"/>
                </a:lnTo>
                <a:lnTo>
                  <a:pt x="5237" y="12997"/>
                </a:lnTo>
                <a:lnTo>
                  <a:pt x="6560" y="17912"/>
                </a:lnTo>
                <a:lnTo>
                  <a:pt x="7760" y="22101"/>
                </a:lnTo>
                <a:lnTo>
                  <a:pt x="11351" y="33530"/>
                </a:lnTo>
                <a:lnTo>
                  <a:pt x="12647" y="40133"/>
                </a:lnTo>
                <a:lnTo>
                  <a:pt x="13511" y="47075"/>
                </a:lnTo>
                <a:lnTo>
                  <a:pt x="14088" y="54244"/>
                </a:lnTo>
                <a:lnTo>
                  <a:pt x="15318" y="62409"/>
                </a:lnTo>
                <a:lnTo>
                  <a:pt x="16985" y="71240"/>
                </a:lnTo>
                <a:lnTo>
                  <a:pt x="21096" y="90082"/>
                </a:lnTo>
                <a:lnTo>
                  <a:pt x="28169" y="120577"/>
                </a:lnTo>
                <a:lnTo>
                  <a:pt x="33122" y="143901"/>
                </a:lnTo>
                <a:lnTo>
                  <a:pt x="36475" y="155201"/>
                </a:lnTo>
                <a:lnTo>
                  <a:pt x="40403" y="166120"/>
                </a:lnTo>
                <a:lnTo>
                  <a:pt x="44715" y="176787"/>
                </a:lnTo>
                <a:lnTo>
                  <a:pt x="51764" y="195412"/>
                </a:lnTo>
                <a:lnTo>
                  <a:pt x="54829" y="203935"/>
                </a:lnTo>
                <a:lnTo>
                  <a:pt x="58566" y="213003"/>
                </a:lnTo>
                <a:lnTo>
                  <a:pt x="62750" y="222436"/>
                </a:lnTo>
                <a:lnTo>
                  <a:pt x="74472" y="247376"/>
                </a:lnTo>
                <a:lnTo>
                  <a:pt x="86018" y="270973"/>
                </a:lnTo>
                <a:lnTo>
                  <a:pt x="88672" y="274629"/>
                </a:lnTo>
                <a:lnTo>
                  <a:pt x="91287" y="277066"/>
                </a:lnTo>
                <a:lnTo>
                  <a:pt x="93878" y="278691"/>
                </a:lnTo>
                <a:lnTo>
                  <a:pt x="96452" y="280621"/>
                </a:lnTo>
                <a:lnTo>
                  <a:pt x="99015" y="282754"/>
                </a:lnTo>
                <a:lnTo>
                  <a:pt x="106680" y="2895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MARTInkAnnotation273"/>
          <p:cNvSpPr/>
          <p:nvPr/>
        </p:nvSpPr>
        <p:spPr>
          <a:xfrm>
            <a:off x="3444840" y="3224160"/>
            <a:ext cx="182520" cy="22320"/>
          </a:xfrm>
          <a:custGeom>
            <a:avLst/>
            <a:gdLst>
              <a:gd name="textAreaLeft" fmla="*/ 0 w 182520"/>
              <a:gd name="textAreaRight" fmla="*/ 182880 w 182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81729" h="21802">
                <a:moveTo>
                  <a:pt x="14088" y="6561"/>
                </a:moveTo>
                <a:lnTo>
                  <a:pt x="7527" y="6561"/>
                </a:lnTo>
                <a:lnTo>
                  <a:pt x="6328" y="5714"/>
                </a:lnTo>
                <a:lnTo>
                  <a:pt x="4681" y="4303"/>
                </a:lnTo>
                <a:lnTo>
                  <a:pt x="0" y="0"/>
                </a:lnTo>
                <a:lnTo>
                  <a:pt x="463" y="494"/>
                </a:lnTo>
                <a:lnTo>
                  <a:pt x="3235" y="3300"/>
                </a:lnTo>
                <a:lnTo>
                  <a:pt x="6006" y="4387"/>
                </a:lnTo>
                <a:lnTo>
                  <a:pt x="9548" y="5112"/>
                </a:lnTo>
                <a:lnTo>
                  <a:pt x="13601" y="5595"/>
                </a:lnTo>
                <a:lnTo>
                  <a:pt x="19690" y="5917"/>
                </a:lnTo>
                <a:lnTo>
                  <a:pt x="35487" y="6275"/>
                </a:lnTo>
                <a:lnTo>
                  <a:pt x="44441" y="7217"/>
                </a:lnTo>
                <a:lnTo>
                  <a:pt x="53797" y="8692"/>
                </a:lnTo>
                <a:lnTo>
                  <a:pt x="63421" y="10522"/>
                </a:lnTo>
                <a:lnTo>
                  <a:pt x="74070" y="11741"/>
                </a:lnTo>
                <a:lnTo>
                  <a:pt x="85403" y="12555"/>
                </a:lnTo>
                <a:lnTo>
                  <a:pt x="97191" y="13097"/>
                </a:lnTo>
                <a:lnTo>
                  <a:pt x="109284" y="14305"/>
                </a:lnTo>
                <a:lnTo>
                  <a:pt x="121579" y="15957"/>
                </a:lnTo>
                <a:lnTo>
                  <a:pt x="134009" y="17905"/>
                </a:lnTo>
                <a:lnTo>
                  <a:pt x="144835" y="19204"/>
                </a:lnTo>
                <a:lnTo>
                  <a:pt x="154593" y="20070"/>
                </a:lnTo>
                <a:lnTo>
                  <a:pt x="181728" y="218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MARTInkAnnotation274"/>
          <p:cNvSpPr/>
          <p:nvPr/>
        </p:nvSpPr>
        <p:spPr>
          <a:xfrm>
            <a:off x="4125960" y="3143160"/>
            <a:ext cx="323640" cy="303480"/>
          </a:xfrm>
          <a:custGeom>
            <a:avLst/>
            <a:gdLst>
              <a:gd name="textAreaLeft" fmla="*/ 0 w 323640"/>
              <a:gd name="textAreaRight" fmla="*/ 324000 w 323640"/>
              <a:gd name="textAreaTop" fmla="*/ 0 h 303480"/>
              <a:gd name="textAreaBottom" fmla="*/ 303840 h 303480"/>
            </a:gdLst>
            <a:ahLst/>
            <a:rect l="textAreaLeft" t="textAreaTop" r="textAreaRight" b="textAreaBottom"/>
            <a:pathLst>
              <a:path w="324507" h="303412">
                <a:moveTo>
                  <a:pt x="240686" y="18545"/>
                </a:moveTo>
                <a:lnTo>
                  <a:pt x="240686" y="22590"/>
                </a:lnTo>
                <a:lnTo>
                  <a:pt x="241532" y="24629"/>
                </a:lnTo>
                <a:lnTo>
                  <a:pt x="245923" y="31542"/>
                </a:lnTo>
                <a:lnTo>
                  <a:pt x="247247" y="36457"/>
                </a:lnTo>
                <a:lnTo>
                  <a:pt x="247992" y="43984"/>
                </a:lnTo>
                <a:lnTo>
                  <a:pt x="248213" y="51577"/>
                </a:lnTo>
                <a:lnTo>
                  <a:pt x="248306" y="78000"/>
                </a:lnTo>
                <a:lnTo>
                  <a:pt x="248306" y="64070"/>
                </a:lnTo>
                <a:lnTo>
                  <a:pt x="247459" y="60748"/>
                </a:lnTo>
                <a:lnTo>
                  <a:pt x="244261" y="54800"/>
                </a:lnTo>
                <a:lnTo>
                  <a:pt x="240018" y="47076"/>
                </a:lnTo>
                <a:lnTo>
                  <a:pt x="230394" y="28320"/>
                </a:lnTo>
                <a:lnTo>
                  <a:pt x="226205" y="24215"/>
                </a:lnTo>
                <a:lnTo>
                  <a:pt x="220872" y="20632"/>
                </a:lnTo>
                <a:lnTo>
                  <a:pt x="214777" y="17396"/>
                </a:lnTo>
                <a:lnTo>
                  <a:pt x="208173" y="14393"/>
                </a:lnTo>
                <a:lnTo>
                  <a:pt x="201231" y="11543"/>
                </a:lnTo>
                <a:lnTo>
                  <a:pt x="194062" y="8797"/>
                </a:lnTo>
                <a:lnTo>
                  <a:pt x="179324" y="3488"/>
                </a:lnTo>
                <a:lnTo>
                  <a:pt x="171838" y="887"/>
                </a:lnTo>
                <a:lnTo>
                  <a:pt x="164308" y="0"/>
                </a:lnTo>
                <a:lnTo>
                  <a:pt x="156747" y="255"/>
                </a:lnTo>
                <a:lnTo>
                  <a:pt x="149167" y="1272"/>
                </a:lnTo>
                <a:lnTo>
                  <a:pt x="140726" y="2796"/>
                </a:lnTo>
                <a:lnTo>
                  <a:pt x="131713" y="4659"/>
                </a:lnTo>
                <a:lnTo>
                  <a:pt x="122318" y="6748"/>
                </a:lnTo>
                <a:lnTo>
                  <a:pt x="112667" y="10680"/>
                </a:lnTo>
                <a:lnTo>
                  <a:pt x="102847" y="15842"/>
                </a:lnTo>
                <a:lnTo>
                  <a:pt x="92913" y="21823"/>
                </a:lnTo>
                <a:lnTo>
                  <a:pt x="83750" y="28350"/>
                </a:lnTo>
                <a:lnTo>
                  <a:pt x="75103" y="35242"/>
                </a:lnTo>
                <a:lnTo>
                  <a:pt x="66798" y="42376"/>
                </a:lnTo>
                <a:lnTo>
                  <a:pt x="58720" y="50519"/>
                </a:lnTo>
                <a:lnTo>
                  <a:pt x="50796" y="59335"/>
                </a:lnTo>
                <a:lnTo>
                  <a:pt x="42972" y="68598"/>
                </a:lnTo>
                <a:lnTo>
                  <a:pt x="36064" y="78160"/>
                </a:lnTo>
                <a:lnTo>
                  <a:pt x="29765" y="87922"/>
                </a:lnTo>
                <a:lnTo>
                  <a:pt x="23872" y="97816"/>
                </a:lnTo>
                <a:lnTo>
                  <a:pt x="18250" y="108646"/>
                </a:lnTo>
                <a:lnTo>
                  <a:pt x="12809" y="120099"/>
                </a:lnTo>
                <a:lnTo>
                  <a:pt x="7488" y="131968"/>
                </a:lnTo>
                <a:lnTo>
                  <a:pt x="3941" y="143267"/>
                </a:lnTo>
                <a:lnTo>
                  <a:pt x="1576" y="154186"/>
                </a:lnTo>
                <a:lnTo>
                  <a:pt x="0" y="164852"/>
                </a:lnTo>
                <a:lnTo>
                  <a:pt x="1488" y="176197"/>
                </a:lnTo>
                <a:lnTo>
                  <a:pt x="5021" y="187992"/>
                </a:lnTo>
                <a:lnTo>
                  <a:pt x="9916" y="200090"/>
                </a:lnTo>
                <a:lnTo>
                  <a:pt x="15720" y="210695"/>
                </a:lnTo>
                <a:lnTo>
                  <a:pt x="22129" y="220305"/>
                </a:lnTo>
                <a:lnTo>
                  <a:pt x="28941" y="229252"/>
                </a:lnTo>
                <a:lnTo>
                  <a:pt x="36869" y="238603"/>
                </a:lnTo>
                <a:lnTo>
                  <a:pt x="45542" y="248224"/>
                </a:lnTo>
                <a:lnTo>
                  <a:pt x="54710" y="258024"/>
                </a:lnTo>
                <a:lnTo>
                  <a:pt x="65902" y="266251"/>
                </a:lnTo>
                <a:lnTo>
                  <a:pt x="78443" y="273429"/>
                </a:lnTo>
                <a:lnTo>
                  <a:pt x="91884" y="279908"/>
                </a:lnTo>
                <a:lnTo>
                  <a:pt x="105925" y="285074"/>
                </a:lnTo>
                <a:lnTo>
                  <a:pt x="120365" y="289364"/>
                </a:lnTo>
                <a:lnTo>
                  <a:pt x="135073" y="293071"/>
                </a:lnTo>
                <a:lnTo>
                  <a:pt x="150804" y="296389"/>
                </a:lnTo>
                <a:lnTo>
                  <a:pt x="167218" y="299448"/>
                </a:lnTo>
                <a:lnTo>
                  <a:pt x="184087" y="302334"/>
                </a:lnTo>
                <a:lnTo>
                  <a:pt x="200413" y="303411"/>
                </a:lnTo>
                <a:lnTo>
                  <a:pt x="216377" y="303282"/>
                </a:lnTo>
                <a:lnTo>
                  <a:pt x="232100" y="302350"/>
                </a:lnTo>
                <a:lnTo>
                  <a:pt x="258601" y="301314"/>
                </a:lnTo>
                <a:lnTo>
                  <a:pt x="270410" y="301037"/>
                </a:lnTo>
                <a:lnTo>
                  <a:pt x="281668" y="300007"/>
                </a:lnTo>
                <a:lnTo>
                  <a:pt x="292561" y="298473"/>
                </a:lnTo>
                <a:lnTo>
                  <a:pt x="324506" y="29286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InkAnnotation275"/>
          <p:cNvSpPr/>
          <p:nvPr/>
        </p:nvSpPr>
        <p:spPr>
          <a:xfrm>
            <a:off x="4473720" y="2963880"/>
            <a:ext cx="280800" cy="409680"/>
          </a:xfrm>
          <a:custGeom>
            <a:avLst/>
            <a:gdLst>
              <a:gd name="textAreaLeft" fmla="*/ 0 w 280800"/>
              <a:gd name="textAreaRight" fmla="*/ 281160 w 28080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80741" h="409478">
                <a:moveTo>
                  <a:pt x="75001" y="7306"/>
                </a:moveTo>
                <a:lnTo>
                  <a:pt x="67694" y="0"/>
                </a:lnTo>
                <a:lnTo>
                  <a:pt x="59133" y="8016"/>
                </a:lnTo>
                <a:lnTo>
                  <a:pt x="56802" y="10320"/>
                </a:lnTo>
                <a:lnTo>
                  <a:pt x="49477" y="21652"/>
                </a:lnTo>
                <a:lnTo>
                  <a:pt x="46977" y="27877"/>
                </a:lnTo>
                <a:lnTo>
                  <a:pt x="44466" y="35413"/>
                </a:lnTo>
                <a:lnTo>
                  <a:pt x="41943" y="43824"/>
                </a:lnTo>
                <a:lnTo>
                  <a:pt x="38569" y="53665"/>
                </a:lnTo>
                <a:lnTo>
                  <a:pt x="30304" y="75888"/>
                </a:lnTo>
                <a:lnTo>
                  <a:pt x="26576" y="87741"/>
                </a:lnTo>
                <a:lnTo>
                  <a:pt x="23244" y="99876"/>
                </a:lnTo>
                <a:lnTo>
                  <a:pt x="20176" y="112199"/>
                </a:lnTo>
                <a:lnTo>
                  <a:pt x="14510" y="137181"/>
                </a:lnTo>
                <a:lnTo>
                  <a:pt x="11813" y="149769"/>
                </a:lnTo>
                <a:lnTo>
                  <a:pt x="10015" y="163241"/>
                </a:lnTo>
                <a:lnTo>
                  <a:pt x="8817" y="177303"/>
                </a:lnTo>
                <a:lnTo>
                  <a:pt x="8019" y="191757"/>
                </a:lnTo>
                <a:lnTo>
                  <a:pt x="6638" y="205627"/>
                </a:lnTo>
                <a:lnTo>
                  <a:pt x="4873" y="219107"/>
                </a:lnTo>
                <a:lnTo>
                  <a:pt x="2849" y="232327"/>
                </a:lnTo>
                <a:lnTo>
                  <a:pt x="1499" y="245373"/>
                </a:lnTo>
                <a:lnTo>
                  <a:pt x="599" y="258304"/>
                </a:lnTo>
                <a:lnTo>
                  <a:pt x="0" y="271158"/>
                </a:lnTo>
                <a:lnTo>
                  <a:pt x="447" y="283114"/>
                </a:lnTo>
                <a:lnTo>
                  <a:pt x="1591" y="294471"/>
                </a:lnTo>
                <a:lnTo>
                  <a:pt x="3201" y="305429"/>
                </a:lnTo>
                <a:lnTo>
                  <a:pt x="5121" y="316122"/>
                </a:lnTo>
                <a:lnTo>
                  <a:pt x="7247" y="326637"/>
                </a:lnTo>
                <a:lnTo>
                  <a:pt x="9512" y="337033"/>
                </a:lnTo>
                <a:lnTo>
                  <a:pt x="12714" y="346504"/>
                </a:lnTo>
                <a:lnTo>
                  <a:pt x="16543" y="355358"/>
                </a:lnTo>
                <a:lnTo>
                  <a:pt x="20788" y="363801"/>
                </a:lnTo>
                <a:lnTo>
                  <a:pt x="26159" y="371123"/>
                </a:lnTo>
                <a:lnTo>
                  <a:pt x="32280" y="377697"/>
                </a:lnTo>
                <a:lnTo>
                  <a:pt x="38900" y="383773"/>
                </a:lnTo>
                <a:lnTo>
                  <a:pt x="45853" y="388671"/>
                </a:lnTo>
                <a:lnTo>
                  <a:pt x="53029" y="392783"/>
                </a:lnTo>
                <a:lnTo>
                  <a:pt x="60353" y="396370"/>
                </a:lnTo>
                <a:lnTo>
                  <a:pt x="68622" y="399609"/>
                </a:lnTo>
                <a:lnTo>
                  <a:pt x="77521" y="402615"/>
                </a:lnTo>
                <a:lnTo>
                  <a:pt x="86841" y="405465"/>
                </a:lnTo>
                <a:lnTo>
                  <a:pt x="96441" y="407365"/>
                </a:lnTo>
                <a:lnTo>
                  <a:pt x="106227" y="408632"/>
                </a:lnTo>
                <a:lnTo>
                  <a:pt x="116138" y="409477"/>
                </a:lnTo>
                <a:lnTo>
                  <a:pt x="126132" y="409193"/>
                </a:lnTo>
                <a:lnTo>
                  <a:pt x="136181" y="408158"/>
                </a:lnTo>
                <a:lnTo>
                  <a:pt x="146267" y="406620"/>
                </a:lnTo>
                <a:lnTo>
                  <a:pt x="157225" y="403902"/>
                </a:lnTo>
                <a:lnTo>
                  <a:pt x="168763" y="400397"/>
                </a:lnTo>
                <a:lnTo>
                  <a:pt x="180689" y="396367"/>
                </a:lnTo>
                <a:lnTo>
                  <a:pt x="192026" y="391140"/>
                </a:lnTo>
                <a:lnTo>
                  <a:pt x="202971" y="385115"/>
                </a:lnTo>
                <a:lnTo>
                  <a:pt x="213654" y="378559"/>
                </a:lnTo>
                <a:lnTo>
                  <a:pt x="223316" y="371648"/>
                </a:lnTo>
                <a:lnTo>
                  <a:pt x="232297" y="364500"/>
                </a:lnTo>
                <a:lnTo>
                  <a:pt x="240825" y="357196"/>
                </a:lnTo>
                <a:lnTo>
                  <a:pt x="248203" y="351479"/>
                </a:lnTo>
                <a:lnTo>
                  <a:pt x="254816" y="346822"/>
                </a:lnTo>
                <a:lnTo>
                  <a:pt x="260917" y="342870"/>
                </a:lnTo>
                <a:lnTo>
                  <a:pt x="265831" y="338542"/>
                </a:lnTo>
                <a:lnTo>
                  <a:pt x="269954" y="333963"/>
                </a:lnTo>
                <a:lnTo>
                  <a:pt x="280740" y="31972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InkAnnotation276"/>
          <p:cNvSpPr/>
          <p:nvPr/>
        </p:nvSpPr>
        <p:spPr>
          <a:xfrm>
            <a:off x="4740120" y="3230640"/>
            <a:ext cx="68400" cy="144360"/>
          </a:xfrm>
          <a:custGeom>
            <a:avLst/>
            <a:gdLst>
              <a:gd name="textAreaLeft" fmla="*/ 0 w 68400"/>
              <a:gd name="textAreaRight" fmla="*/ 68760 w 6840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68581" h="144781">
                <a:moveTo>
                  <a:pt x="0" y="0"/>
                </a:moveTo>
                <a:lnTo>
                  <a:pt x="0" y="8091"/>
                </a:lnTo>
                <a:lnTo>
                  <a:pt x="846" y="11320"/>
                </a:lnTo>
                <a:lnTo>
                  <a:pt x="2258" y="14320"/>
                </a:lnTo>
                <a:lnTo>
                  <a:pt x="4045" y="17167"/>
                </a:lnTo>
                <a:lnTo>
                  <a:pt x="5237" y="20758"/>
                </a:lnTo>
                <a:lnTo>
                  <a:pt x="6032" y="24845"/>
                </a:lnTo>
                <a:lnTo>
                  <a:pt x="6561" y="29264"/>
                </a:lnTo>
                <a:lnTo>
                  <a:pt x="7760" y="33902"/>
                </a:lnTo>
                <a:lnTo>
                  <a:pt x="9407" y="38688"/>
                </a:lnTo>
                <a:lnTo>
                  <a:pt x="11352" y="43572"/>
                </a:lnTo>
                <a:lnTo>
                  <a:pt x="15770" y="55772"/>
                </a:lnTo>
                <a:lnTo>
                  <a:pt x="25505" y="84301"/>
                </a:lnTo>
                <a:lnTo>
                  <a:pt x="28010" y="90914"/>
                </a:lnTo>
                <a:lnTo>
                  <a:pt x="30526" y="97016"/>
                </a:lnTo>
                <a:lnTo>
                  <a:pt x="33051" y="102777"/>
                </a:lnTo>
                <a:lnTo>
                  <a:pt x="38113" y="113695"/>
                </a:lnTo>
                <a:lnTo>
                  <a:pt x="40649" y="118976"/>
                </a:lnTo>
                <a:lnTo>
                  <a:pt x="43186" y="123344"/>
                </a:lnTo>
                <a:lnTo>
                  <a:pt x="45724" y="127103"/>
                </a:lnTo>
                <a:lnTo>
                  <a:pt x="48263" y="130455"/>
                </a:lnTo>
                <a:lnTo>
                  <a:pt x="50802" y="133537"/>
                </a:lnTo>
                <a:lnTo>
                  <a:pt x="53342" y="136438"/>
                </a:lnTo>
                <a:lnTo>
                  <a:pt x="55881" y="139219"/>
                </a:lnTo>
                <a:lnTo>
                  <a:pt x="58420" y="141072"/>
                </a:lnTo>
                <a:lnTo>
                  <a:pt x="60961" y="142309"/>
                </a:lnTo>
                <a:lnTo>
                  <a:pt x="68580" y="1447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3"/>
          <p:cNvSpPr/>
          <p:nvPr/>
        </p:nvSpPr>
        <p:spPr>
          <a:xfrm>
            <a:off x="4854600" y="3146400"/>
            <a:ext cx="1440" cy="7920"/>
          </a:xfrm>
          <a:custGeom>
            <a:avLst/>
            <a:gdLst>
              <a:gd name="textAreaLeft" fmla="*/ 0 w 1440"/>
              <a:gd name="textAreaRight" fmla="*/ 1800 w 1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259" h="7613">
                <a:moveTo>
                  <a:pt x="0" y="7612"/>
                </a:moveTo>
                <a:lnTo>
                  <a:pt x="0" y="0"/>
                </a:lnTo>
                <a:lnTo>
                  <a:pt x="0" y="4040"/>
                </a:lnTo>
                <a:lnTo>
                  <a:pt x="846" y="5230"/>
                </a:lnTo>
                <a:lnTo>
                  <a:pt x="2258" y="6024"/>
                </a:lnTo>
                <a:lnTo>
                  <a:pt x="0" y="7612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MARTInkAnnotation278"/>
          <p:cNvSpPr/>
          <p:nvPr/>
        </p:nvSpPr>
        <p:spPr>
          <a:xfrm>
            <a:off x="4923000" y="3238560"/>
            <a:ext cx="326880" cy="128520"/>
          </a:xfrm>
          <a:custGeom>
            <a:avLst/>
            <a:gdLst>
              <a:gd name="textAreaLeft" fmla="*/ 0 w 326880"/>
              <a:gd name="textAreaRight" fmla="*/ 327240 w 3268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327631" h="127666">
                <a:moveTo>
                  <a:pt x="15210" y="22281"/>
                </a:moveTo>
                <a:lnTo>
                  <a:pt x="15210" y="73244"/>
                </a:lnTo>
                <a:lnTo>
                  <a:pt x="14363" y="78270"/>
                </a:lnTo>
                <a:lnTo>
                  <a:pt x="12952" y="83314"/>
                </a:lnTo>
                <a:lnTo>
                  <a:pt x="11165" y="88369"/>
                </a:lnTo>
                <a:lnTo>
                  <a:pt x="9973" y="92587"/>
                </a:lnTo>
                <a:lnTo>
                  <a:pt x="9179" y="96245"/>
                </a:lnTo>
                <a:lnTo>
                  <a:pt x="8648" y="99530"/>
                </a:lnTo>
                <a:lnTo>
                  <a:pt x="7449" y="103414"/>
                </a:lnTo>
                <a:lnTo>
                  <a:pt x="5802" y="107696"/>
                </a:lnTo>
                <a:lnTo>
                  <a:pt x="1121" y="118646"/>
                </a:lnTo>
                <a:lnTo>
                  <a:pt x="481" y="122401"/>
                </a:lnTo>
                <a:lnTo>
                  <a:pt x="70" y="127665"/>
                </a:lnTo>
                <a:lnTo>
                  <a:pt x="0" y="124532"/>
                </a:lnTo>
                <a:lnTo>
                  <a:pt x="836" y="122622"/>
                </a:lnTo>
                <a:lnTo>
                  <a:pt x="2241" y="120502"/>
                </a:lnTo>
                <a:lnTo>
                  <a:pt x="4023" y="118241"/>
                </a:lnTo>
                <a:lnTo>
                  <a:pt x="6059" y="115888"/>
                </a:lnTo>
                <a:lnTo>
                  <a:pt x="8262" y="113472"/>
                </a:lnTo>
                <a:lnTo>
                  <a:pt x="10579" y="111015"/>
                </a:lnTo>
                <a:lnTo>
                  <a:pt x="21928" y="99467"/>
                </a:lnTo>
                <a:lnTo>
                  <a:pt x="25615" y="94058"/>
                </a:lnTo>
                <a:lnTo>
                  <a:pt x="28920" y="87912"/>
                </a:lnTo>
                <a:lnTo>
                  <a:pt x="31970" y="81275"/>
                </a:lnTo>
                <a:lnTo>
                  <a:pt x="35696" y="75157"/>
                </a:lnTo>
                <a:lnTo>
                  <a:pt x="39874" y="69385"/>
                </a:lnTo>
                <a:lnTo>
                  <a:pt x="44353" y="63844"/>
                </a:lnTo>
                <a:lnTo>
                  <a:pt x="49032" y="58457"/>
                </a:lnTo>
                <a:lnTo>
                  <a:pt x="53844" y="53171"/>
                </a:lnTo>
                <a:lnTo>
                  <a:pt x="63707" y="42783"/>
                </a:lnTo>
                <a:lnTo>
                  <a:pt x="73736" y="32522"/>
                </a:lnTo>
                <a:lnTo>
                  <a:pt x="78781" y="28262"/>
                </a:lnTo>
                <a:lnTo>
                  <a:pt x="83836" y="24575"/>
                </a:lnTo>
                <a:lnTo>
                  <a:pt x="88901" y="21270"/>
                </a:lnTo>
                <a:lnTo>
                  <a:pt x="93124" y="18221"/>
                </a:lnTo>
                <a:lnTo>
                  <a:pt x="96785" y="15341"/>
                </a:lnTo>
                <a:lnTo>
                  <a:pt x="100073" y="12574"/>
                </a:lnTo>
                <a:lnTo>
                  <a:pt x="105985" y="9500"/>
                </a:lnTo>
                <a:lnTo>
                  <a:pt x="112633" y="7527"/>
                </a:lnTo>
                <a:lnTo>
                  <a:pt x="114025" y="8211"/>
                </a:lnTo>
                <a:lnTo>
                  <a:pt x="117830" y="11230"/>
                </a:lnTo>
                <a:lnTo>
                  <a:pt x="119183" y="13220"/>
                </a:lnTo>
                <a:lnTo>
                  <a:pt x="120085" y="15394"/>
                </a:lnTo>
                <a:lnTo>
                  <a:pt x="120687" y="17690"/>
                </a:lnTo>
                <a:lnTo>
                  <a:pt x="121088" y="20067"/>
                </a:lnTo>
                <a:lnTo>
                  <a:pt x="121355" y="22498"/>
                </a:lnTo>
                <a:lnTo>
                  <a:pt x="121533" y="24966"/>
                </a:lnTo>
                <a:lnTo>
                  <a:pt x="121652" y="28304"/>
                </a:lnTo>
                <a:lnTo>
                  <a:pt x="121784" y="36529"/>
                </a:lnTo>
                <a:lnTo>
                  <a:pt x="120973" y="41093"/>
                </a:lnTo>
                <a:lnTo>
                  <a:pt x="119585" y="45829"/>
                </a:lnTo>
                <a:lnTo>
                  <a:pt x="117813" y="50680"/>
                </a:lnTo>
                <a:lnTo>
                  <a:pt x="116632" y="55607"/>
                </a:lnTo>
                <a:lnTo>
                  <a:pt x="115845" y="60585"/>
                </a:lnTo>
                <a:lnTo>
                  <a:pt x="115319" y="65597"/>
                </a:lnTo>
                <a:lnTo>
                  <a:pt x="114123" y="69785"/>
                </a:lnTo>
                <a:lnTo>
                  <a:pt x="112478" y="73423"/>
                </a:lnTo>
                <a:lnTo>
                  <a:pt x="110535" y="76696"/>
                </a:lnTo>
                <a:lnTo>
                  <a:pt x="109240" y="79724"/>
                </a:lnTo>
                <a:lnTo>
                  <a:pt x="108377" y="82590"/>
                </a:lnTo>
                <a:lnTo>
                  <a:pt x="107800" y="85347"/>
                </a:lnTo>
                <a:lnTo>
                  <a:pt x="107417" y="88031"/>
                </a:lnTo>
                <a:lnTo>
                  <a:pt x="107161" y="90669"/>
                </a:lnTo>
                <a:lnTo>
                  <a:pt x="106680" y="98024"/>
                </a:lnTo>
                <a:lnTo>
                  <a:pt x="110704" y="94300"/>
                </a:lnTo>
                <a:lnTo>
                  <a:pt x="156848" y="48282"/>
                </a:lnTo>
                <a:lnTo>
                  <a:pt x="161282" y="43002"/>
                </a:lnTo>
                <a:lnTo>
                  <a:pt x="165085" y="37788"/>
                </a:lnTo>
                <a:lnTo>
                  <a:pt x="168467" y="32619"/>
                </a:lnTo>
                <a:lnTo>
                  <a:pt x="172414" y="27479"/>
                </a:lnTo>
                <a:lnTo>
                  <a:pt x="176739" y="22360"/>
                </a:lnTo>
                <a:lnTo>
                  <a:pt x="185214" y="13003"/>
                </a:lnTo>
                <a:lnTo>
                  <a:pt x="191803" y="6022"/>
                </a:lnTo>
                <a:lnTo>
                  <a:pt x="195592" y="3822"/>
                </a:lnTo>
                <a:lnTo>
                  <a:pt x="204317" y="1377"/>
                </a:lnTo>
                <a:lnTo>
                  <a:pt x="210659" y="0"/>
                </a:lnTo>
                <a:lnTo>
                  <a:pt x="212396" y="654"/>
                </a:lnTo>
                <a:lnTo>
                  <a:pt x="216584" y="3638"/>
                </a:lnTo>
                <a:lnTo>
                  <a:pt x="219656" y="6033"/>
                </a:lnTo>
                <a:lnTo>
                  <a:pt x="220087" y="8062"/>
                </a:lnTo>
                <a:lnTo>
                  <a:pt x="220375" y="11108"/>
                </a:lnTo>
                <a:lnTo>
                  <a:pt x="220566" y="14832"/>
                </a:lnTo>
                <a:lnTo>
                  <a:pt x="220780" y="23486"/>
                </a:lnTo>
                <a:lnTo>
                  <a:pt x="220836" y="28164"/>
                </a:lnTo>
                <a:lnTo>
                  <a:pt x="221721" y="32977"/>
                </a:lnTo>
                <a:lnTo>
                  <a:pt x="223157" y="37878"/>
                </a:lnTo>
                <a:lnTo>
                  <a:pt x="224961" y="42839"/>
                </a:lnTo>
                <a:lnTo>
                  <a:pt x="226163" y="47840"/>
                </a:lnTo>
                <a:lnTo>
                  <a:pt x="226966" y="52867"/>
                </a:lnTo>
                <a:lnTo>
                  <a:pt x="227500" y="57912"/>
                </a:lnTo>
                <a:lnTo>
                  <a:pt x="229550" y="62968"/>
                </a:lnTo>
                <a:lnTo>
                  <a:pt x="232610" y="68033"/>
                </a:lnTo>
                <a:lnTo>
                  <a:pt x="236343" y="73102"/>
                </a:lnTo>
                <a:lnTo>
                  <a:pt x="240525" y="78175"/>
                </a:lnTo>
                <a:lnTo>
                  <a:pt x="245007" y="83250"/>
                </a:lnTo>
                <a:lnTo>
                  <a:pt x="249688" y="88327"/>
                </a:lnTo>
                <a:lnTo>
                  <a:pt x="254501" y="92559"/>
                </a:lnTo>
                <a:lnTo>
                  <a:pt x="259405" y="96226"/>
                </a:lnTo>
                <a:lnTo>
                  <a:pt x="264366" y="99518"/>
                </a:lnTo>
                <a:lnTo>
                  <a:pt x="271060" y="101712"/>
                </a:lnTo>
                <a:lnTo>
                  <a:pt x="278911" y="103175"/>
                </a:lnTo>
                <a:lnTo>
                  <a:pt x="287531" y="104151"/>
                </a:lnTo>
                <a:lnTo>
                  <a:pt x="294124" y="105647"/>
                </a:lnTo>
                <a:lnTo>
                  <a:pt x="303707" y="109568"/>
                </a:lnTo>
                <a:lnTo>
                  <a:pt x="308295" y="110106"/>
                </a:lnTo>
                <a:lnTo>
                  <a:pt x="313046" y="109618"/>
                </a:lnTo>
                <a:lnTo>
                  <a:pt x="327630" y="106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MARTInkAnnotation279"/>
          <p:cNvSpPr/>
          <p:nvPr/>
        </p:nvSpPr>
        <p:spPr>
          <a:xfrm>
            <a:off x="5380200" y="3032280"/>
            <a:ext cx="150480" cy="341280"/>
          </a:xfrm>
          <a:custGeom>
            <a:avLst/>
            <a:gdLst>
              <a:gd name="textAreaLeft" fmla="*/ 0 w 150480"/>
              <a:gd name="textAreaRight" fmla="*/ 150840 w 15048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50858" h="341221">
                <a:moveTo>
                  <a:pt x="15239" y="0"/>
                </a:moveTo>
                <a:lnTo>
                  <a:pt x="406" y="0"/>
                </a:lnTo>
                <a:lnTo>
                  <a:pt x="79" y="6930"/>
                </a:lnTo>
                <a:lnTo>
                  <a:pt x="0" y="109720"/>
                </a:lnTo>
                <a:lnTo>
                  <a:pt x="846" y="120560"/>
                </a:lnTo>
                <a:lnTo>
                  <a:pt x="2257" y="132020"/>
                </a:lnTo>
                <a:lnTo>
                  <a:pt x="4045" y="143893"/>
                </a:lnTo>
                <a:lnTo>
                  <a:pt x="5236" y="155196"/>
                </a:lnTo>
                <a:lnTo>
                  <a:pt x="6031" y="166117"/>
                </a:lnTo>
                <a:lnTo>
                  <a:pt x="6560" y="176785"/>
                </a:lnTo>
                <a:lnTo>
                  <a:pt x="7759" y="188130"/>
                </a:lnTo>
                <a:lnTo>
                  <a:pt x="9406" y="199927"/>
                </a:lnTo>
                <a:lnTo>
                  <a:pt x="11350" y="212025"/>
                </a:lnTo>
                <a:lnTo>
                  <a:pt x="12647" y="223477"/>
                </a:lnTo>
                <a:lnTo>
                  <a:pt x="13511" y="234498"/>
                </a:lnTo>
                <a:lnTo>
                  <a:pt x="14087" y="245232"/>
                </a:lnTo>
                <a:lnTo>
                  <a:pt x="15318" y="254928"/>
                </a:lnTo>
                <a:lnTo>
                  <a:pt x="16985" y="263932"/>
                </a:lnTo>
                <a:lnTo>
                  <a:pt x="18943" y="272475"/>
                </a:lnTo>
                <a:lnTo>
                  <a:pt x="20248" y="280709"/>
                </a:lnTo>
                <a:lnTo>
                  <a:pt x="21118" y="288740"/>
                </a:lnTo>
                <a:lnTo>
                  <a:pt x="21699" y="296634"/>
                </a:lnTo>
                <a:lnTo>
                  <a:pt x="22085" y="303589"/>
                </a:lnTo>
                <a:lnTo>
                  <a:pt x="22515" y="315833"/>
                </a:lnTo>
                <a:lnTo>
                  <a:pt x="22791" y="331408"/>
                </a:lnTo>
                <a:lnTo>
                  <a:pt x="22850" y="341220"/>
                </a:lnTo>
                <a:lnTo>
                  <a:pt x="23700" y="340933"/>
                </a:lnTo>
                <a:lnTo>
                  <a:pt x="26901" y="338357"/>
                </a:lnTo>
                <a:lnTo>
                  <a:pt x="28094" y="336485"/>
                </a:lnTo>
                <a:lnTo>
                  <a:pt x="30619" y="328111"/>
                </a:lnTo>
                <a:lnTo>
                  <a:pt x="38629" y="303384"/>
                </a:lnTo>
                <a:lnTo>
                  <a:pt x="40992" y="296236"/>
                </a:lnTo>
                <a:lnTo>
                  <a:pt x="43414" y="289778"/>
                </a:lnTo>
                <a:lnTo>
                  <a:pt x="45876" y="283779"/>
                </a:lnTo>
                <a:lnTo>
                  <a:pt x="48364" y="278086"/>
                </a:lnTo>
                <a:lnTo>
                  <a:pt x="50869" y="271751"/>
                </a:lnTo>
                <a:lnTo>
                  <a:pt x="55910" y="257938"/>
                </a:lnTo>
                <a:lnTo>
                  <a:pt x="59286" y="251546"/>
                </a:lnTo>
                <a:lnTo>
                  <a:pt x="63230" y="245590"/>
                </a:lnTo>
                <a:lnTo>
                  <a:pt x="67554" y="239927"/>
                </a:lnTo>
                <a:lnTo>
                  <a:pt x="72129" y="236151"/>
                </a:lnTo>
                <a:lnTo>
                  <a:pt x="76872" y="233634"/>
                </a:lnTo>
                <a:lnTo>
                  <a:pt x="81728" y="231956"/>
                </a:lnTo>
                <a:lnTo>
                  <a:pt x="85811" y="229991"/>
                </a:lnTo>
                <a:lnTo>
                  <a:pt x="89380" y="227834"/>
                </a:lnTo>
                <a:lnTo>
                  <a:pt x="92607" y="225550"/>
                </a:lnTo>
                <a:lnTo>
                  <a:pt x="96451" y="224026"/>
                </a:lnTo>
                <a:lnTo>
                  <a:pt x="100706" y="223011"/>
                </a:lnTo>
                <a:lnTo>
                  <a:pt x="105238" y="222334"/>
                </a:lnTo>
                <a:lnTo>
                  <a:pt x="109951" y="222729"/>
                </a:lnTo>
                <a:lnTo>
                  <a:pt x="114787" y="223840"/>
                </a:lnTo>
                <a:lnTo>
                  <a:pt x="119705" y="225426"/>
                </a:lnTo>
                <a:lnTo>
                  <a:pt x="123829" y="227331"/>
                </a:lnTo>
                <a:lnTo>
                  <a:pt x="127426" y="229447"/>
                </a:lnTo>
                <a:lnTo>
                  <a:pt x="130670" y="231705"/>
                </a:lnTo>
                <a:lnTo>
                  <a:pt x="133680" y="234056"/>
                </a:lnTo>
                <a:lnTo>
                  <a:pt x="136533" y="236471"/>
                </a:lnTo>
                <a:lnTo>
                  <a:pt x="139281" y="238928"/>
                </a:lnTo>
                <a:lnTo>
                  <a:pt x="141960" y="242258"/>
                </a:lnTo>
                <a:lnTo>
                  <a:pt x="144593" y="246172"/>
                </a:lnTo>
                <a:lnTo>
                  <a:pt x="147195" y="250475"/>
                </a:lnTo>
                <a:lnTo>
                  <a:pt x="150086" y="259771"/>
                </a:lnTo>
                <a:lnTo>
                  <a:pt x="150857" y="264621"/>
                </a:lnTo>
                <a:lnTo>
                  <a:pt x="150524" y="268700"/>
                </a:lnTo>
                <a:lnTo>
                  <a:pt x="149456" y="272267"/>
                </a:lnTo>
                <a:lnTo>
                  <a:pt x="147897" y="275491"/>
                </a:lnTo>
                <a:lnTo>
                  <a:pt x="145164" y="279334"/>
                </a:lnTo>
                <a:lnTo>
                  <a:pt x="141649" y="283590"/>
                </a:lnTo>
                <a:lnTo>
                  <a:pt x="137612" y="288120"/>
                </a:lnTo>
                <a:lnTo>
                  <a:pt x="133228" y="291987"/>
                </a:lnTo>
                <a:lnTo>
                  <a:pt x="128611" y="295411"/>
                </a:lnTo>
                <a:lnTo>
                  <a:pt x="123841" y="298541"/>
                </a:lnTo>
                <a:lnTo>
                  <a:pt x="118967" y="301474"/>
                </a:lnTo>
                <a:lnTo>
                  <a:pt x="114024" y="304276"/>
                </a:lnTo>
                <a:lnTo>
                  <a:pt x="109036" y="306991"/>
                </a:lnTo>
                <a:lnTo>
                  <a:pt x="103170" y="308801"/>
                </a:lnTo>
                <a:lnTo>
                  <a:pt x="96720" y="310007"/>
                </a:lnTo>
                <a:lnTo>
                  <a:pt x="89879" y="310811"/>
                </a:lnTo>
                <a:lnTo>
                  <a:pt x="82779" y="311348"/>
                </a:lnTo>
                <a:lnTo>
                  <a:pt x="75506" y="311705"/>
                </a:lnTo>
                <a:lnTo>
                  <a:pt x="61497" y="312103"/>
                </a:lnTo>
                <a:lnTo>
                  <a:pt x="33424" y="312378"/>
                </a:lnTo>
                <a:lnTo>
                  <a:pt x="8107" y="312420"/>
                </a:lnTo>
                <a:lnTo>
                  <a:pt x="15239" y="3124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InkAnnotation280"/>
          <p:cNvSpPr/>
          <p:nvPr/>
        </p:nvSpPr>
        <p:spPr>
          <a:xfrm>
            <a:off x="5657760" y="3216240"/>
            <a:ext cx="95400" cy="128520"/>
          </a:xfrm>
          <a:custGeom>
            <a:avLst/>
            <a:gdLst>
              <a:gd name="textAreaLeft" fmla="*/ 0 w 95400"/>
              <a:gd name="textAreaRight" fmla="*/ 95760 w 954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95281" h="129541">
                <a:moveTo>
                  <a:pt x="95280" y="0"/>
                </a:moveTo>
                <a:lnTo>
                  <a:pt x="73323" y="0"/>
                </a:lnTo>
                <a:lnTo>
                  <a:pt x="68788" y="847"/>
                </a:lnTo>
                <a:lnTo>
                  <a:pt x="64072" y="2258"/>
                </a:lnTo>
                <a:lnTo>
                  <a:pt x="59235" y="4045"/>
                </a:lnTo>
                <a:lnTo>
                  <a:pt x="53470" y="5237"/>
                </a:lnTo>
                <a:lnTo>
                  <a:pt x="47087" y="6031"/>
                </a:lnTo>
                <a:lnTo>
                  <a:pt x="40291" y="6561"/>
                </a:lnTo>
                <a:lnTo>
                  <a:pt x="34913" y="7760"/>
                </a:lnTo>
                <a:lnTo>
                  <a:pt x="30483" y="9407"/>
                </a:lnTo>
                <a:lnTo>
                  <a:pt x="26681" y="11352"/>
                </a:lnTo>
                <a:lnTo>
                  <a:pt x="22454" y="12648"/>
                </a:lnTo>
                <a:lnTo>
                  <a:pt x="17943" y="13512"/>
                </a:lnTo>
                <a:lnTo>
                  <a:pt x="13242" y="14088"/>
                </a:lnTo>
                <a:lnTo>
                  <a:pt x="10107" y="15319"/>
                </a:lnTo>
                <a:lnTo>
                  <a:pt x="8019" y="16986"/>
                </a:lnTo>
                <a:lnTo>
                  <a:pt x="6625" y="18944"/>
                </a:lnTo>
                <a:lnTo>
                  <a:pt x="4850" y="21096"/>
                </a:lnTo>
                <a:lnTo>
                  <a:pt x="2820" y="23377"/>
                </a:lnTo>
                <a:lnTo>
                  <a:pt x="620" y="25745"/>
                </a:lnTo>
                <a:lnTo>
                  <a:pt x="0" y="27323"/>
                </a:lnTo>
                <a:lnTo>
                  <a:pt x="433" y="28375"/>
                </a:lnTo>
                <a:lnTo>
                  <a:pt x="1568" y="29077"/>
                </a:lnTo>
                <a:lnTo>
                  <a:pt x="2326" y="30392"/>
                </a:lnTo>
                <a:lnTo>
                  <a:pt x="3166" y="34110"/>
                </a:lnTo>
                <a:lnTo>
                  <a:pt x="4238" y="36287"/>
                </a:lnTo>
                <a:lnTo>
                  <a:pt x="5799" y="38584"/>
                </a:lnTo>
                <a:lnTo>
                  <a:pt x="7686" y="40963"/>
                </a:lnTo>
                <a:lnTo>
                  <a:pt x="9790" y="43396"/>
                </a:lnTo>
                <a:lnTo>
                  <a:pt x="12040" y="45863"/>
                </a:lnTo>
                <a:lnTo>
                  <a:pt x="14386" y="48356"/>
                </a:lnTo>
                <a:lnTo>
                  <a:pt x="17645" y="50864"/>
                </a:lnTo>
                <a:lnTo>
                  <a:pt x="21509" y="53383"/>
                </a:lnTo>
                <a:lnTo>
                  <a:pt x="25779" y="55909"/>
                </a:lnTo>
                <a:lnTo>
                  <a:pt x="29473" y="57592"/>
                </a:lnTo>
                <a:lnTo>
                  <a:pt x="32782" y="58715"/>
                </a:lnTo>
                <a:lnTo>
                  <a:pt x="35834" y="59463"/>
                </a:lnTo>
                <a:lnTo>
                  <a:pt x="38717" y="60809"/>
                </a:lnTo>
                <a:lnTo>
                  <a:pt x="41484" y="62553"/>
                </a:lnTo>
                <a:lnTo>
                  <a:pt x="44176" y="64562"/>
                </a:lnTo>
                <a:lnTo>
                  <a:pt x="45124" y="65901"/>
                </a:lnTo>
                <a:lnTo>
                  <a:pt x="44910" y="66794"/>
                </a:lnTo>
                <a:lnTo>
                  <a:pt x="43920" y="67389"/>
                </a:lnTo>
                <a:lnTo>
                  <a:pt x="43260" y="68633"/>
                </a:lnTo>
                <a:lnTo>
                  <a:pt x="42526" y="72273"/>
                </a:lnTo>
                <a:lnTo>
                  <a:pt x="40637" y="74429"/>
                </a:lnTo>
                <a:lnTo>
                  <a:pt x="37685" y="76712"/>
                </a:lnTo>
                <a:lnTo>
                  <a:pt x="34023" y="79082"/>
                </a:lnTo>
                <a:lnTo>
                  <a:pt x="30736" y="81508"/>
                </a:lnTo>
                <a:lnTo>
                  <a:pt x="27697" y="83972"/>
                </a:lnTo>
                <a:lnTo>
                  <a:pt x="24824" y="86461"/>
                </a:lnTo>
                <a:lnTo>
                  <a:pt x="22063" y="88967"/>
                </a:lnTo>
                <a:lnTo>
                  <a:pt x="16737" y="94010"/>
                </a:lnTo>
                <a:lnTo>
                  <a:pt x="8978" y="101609"/>
                </a:lnTo>
                <a:lnTo>
                  <a:pt x="7265" y="104146"/>
                </a:lnTo>
                <a:lnTo>
                  <a:pt x="6123" y="106684"/>
                </a:lnTo>
                <a:lnTo>
                  <a:pt x="5362" y="109223"/>
                </a:lnTo>
                <a:lnTo>
                  <a:pt x="4855" y="111762"/>
                </a:lnTo>
                <a:lnTo>
                  <a:pt x="4517" y="114301"/>
                </a:lnTo>
                <a:lnTo>
                  <a:pt x="4291" y="116841"/>
                </a:lnTo>
                <a:lnTo>
                  <a:pt x="4987" y="118534"/>
                </a:lnTo>
                <a:lnTo>
                  <a:pt x="6298" y="119663"/>
                </a:lnTo>
                <a:lnTo>
                  <a:pt x="8019" y="120415"/>
                </a:lnTo>
                <a:lnTo>
                  <a:pt x="18530" y="125519"/>
                </a:lnTo>
                <a:lnTo>
                  <a:pt x="23793" y="126859"/>
                </a:lnTo>
                <a:lnTo>
                  <a:pt x="29842" y="127753"/>
                </a:lnTo>
                <a:lnTo>
                  <a:pt x="36414" y="128349"/>
                </a:lnTo>
                <a:lnTo>
                  <a:pt x="42490" y="128746"/>
                </a:lnTo>
                <a:lnTo>
                  <a:pt x="48233" y="129011"/>
                </a:lnTo>
                <a:lnTo>
                  <a:pt x="64800" y="1295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InkAnnotation281"/>
          <p:cNvSpPr/>
          <p:nvPr/>
        </p:nvSpPr>
        <p:spPr>
          <a:xfrm>
            <a:off x="5877000" y="2994120"/>
            <a:ext cx="203040" cy="372960"/>
          </a:xfrm>
          <a:custGeom>
            <a:avLst/>
            <a:gdLst>
              <a:gd name="textAreaLeft" fmla="*/ 0 w 203040"/>
              <a:gd name="textAreaRight" fmla="*/ 203400 w 20304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202020" h="372896">
                <a:moveTo>
                  <a:pt x="142345" y="0"/>
                </a:moveTo>
                <a:lnTo>
                  <a:pt x="142345" y="124644"/>
                </a:lnTo>
                <a:lnTo>
                  <a:pt x="143191" y="135590"/>
                </a:lnTo>
                <a:lnTo>
                  <a:pt x="144603" y="147119"/>
                </a:lnTo>
                <a:lnTo>
                  <a:pt x="146391" y="159040"/>
                </a:lnTo>
                <a:lnTo>
                  <a:pt x="147582" y="170373"/>
                </a:lnTo>
                <a:lnTo>
                  <a:pt x="148377" y="181316"/>
                </a:lnTo>
                <a:lnTo>
                  <a:pt x="148906" y="191997"/>
                </a:lnTo>
                <a:lnTo>
                  <a:pt x="150952" y="202505"/>
                </a:lnTo>
                <a:lnTo>
                  <a:pt x="154010" y="212897"/>
                </a:lnTo>
                <a:lnTo>
                  <a:pt x="157742" y="223211"/>
                </a:lnTo>
                <a:lnTo>
                  <a:pt x="161076" y="233474"/>
                </a:lnTo>
                <a:lnTo>
                  <a:pt x="164146" y="243703"/>
                </a:lnTo>
                <a:lnTo>
                  <a:pt x="167039" y="253909"/>
                </a:lnTo>
                <a:lnTo>
                  <a:pt x="169814" y="262406"/>
                </a:lnTo>
                <a:lnTo>
                  <a:pt x="172510" y="269764"/>
                </a:lnTo>
                <a:lnTo>
                  <a:pt x="175156" y="276363"/>
                </a:lnTo>
                <a:lnTo>
                  <a:pt x="178612" y="283302"/>
                </a:lnTo>
                <a:lnTo>
                  <a:pt x="182609" y="290468"/>
                </a:lnTo>
                <a:lnTo>
                  <a:pt x="186968" y="297785"/>
                </a:lnTo>
                <a:lnTo>
                  <a:pt x="191810" y="308174"/>
                </a:lnTo>
                <a:lnTo>
                  <a:pt x="194809" y="316459"/>
                </a:lnTo>
                <a:lnTo>
                  <a:pt x="198965" y="325787"/>
                </a:lnTo>
                <a:lnTo>
                  <a:pt x="202019" y="332467"/>
                </a:lnTo>
                <a:lnTo>
                  <a:pt x="201601" y="332558"/>
                </a:lnTo>
                <a:lnTo>
                  <a:pt x="196121" y="328641"/>
                </a:lnTo>
                <a:lnTo>
                  <a:pt x="192588" y="326621"/>
                </a:lnTo>
                <a:lnTo>
                  <a:pt x="184149" y="322118"/>
                </a:lnTo>
                <a:lnTo>
                  <a:pt x="174753" y="317295"/>
                </a:lnTo>
                <a:lnTo>
                  <a:pt x="169030" y="313977"/>
                </a:lnTo>
                <a:lnTo>
                  <a:pt x="155898" y="305774"/>
                </a:lnTo>
                <a:lnTo>
                  <a:pt x="147994" y="302063"/>
                </a:lnTo>
                <a:lnTo>
                  <a:pt x="139337" y="298742"/>
                </a:lnTo>
                <a:lnTo>
                  <a:pt x="130180" y="295681"/>
                </a:lnTo>
                <a:lnTo>
                  <a:pt x="120688" y="291948"/>
                </a:lnTo>
                <a:lnTo>
                  <a:pt x="110974" y="287765"/>
                </a:lnTo>
                <a:lnTo>
                  <a:pt x="101111" y="283284"/>
                </a:lnTo>
                <a:lnTo>
                  <a:pt x="91149" y="280296"/>
                </a:lnTo>
                <a:lnTo>
                  <a:pt x="81121" y="278304"/>
                </a:lnTo>
                <a:lnTo>
                  <a:pt x="71049" y="276976"/>
                </a:lnTo>
                <a:lnTo>
                  <a:pt x="61794" y="275244"/>
                </a:lnTo>
                <a:lnTo>
                  <a:pt x="53085" y="273242"/>
                </a:lnTo>
                <a:lnTo>
                  <a:pt x="44738" y="271062"/>
                </a:lnTo>
                <a:lnTo>
                  <a:pt x="36634" y="269608"/>
                </a:lnTo>
                <a:lnTo>
                  <a:pt x="28691" y="268638"/>
                </a:lnTo>
                <a:lnTo>
                  <a:pt x="20855" y="267992"/>
                </a:lnTo>
                <a:lnTo>
                  <a:pt x="14785" y="268408"/>
                </a:lnTo>
                <a:lnTo>
                  <a:pt x="9892" y="269532"/>
                </a:lnTo>
                <a:lnTo>
                  <a:pt x="5783" y="271128"/>
                </a:lnTo>
                <a:lnTo>
                  <a:pt x="3044" y="273039"/>
                </a:lnTo>
                <a:lnTo>
                  <a:pt x="1217" y="275159"/>
                </a:lnTo>
                <a:lnTo>
                  <a:pt x="0" y="277420"/>
                </a:lnTo>
                <a:lnTo>
                  <a:pt x="35" y="280620"/>
                </a:lnTo>
                <a:lnTo>
                  <a:pt x="2332" y="288691"/>
                </a:lnTo>
                <a:lnTo>
                  <a:pt x="8432" y="297923"/>
                </a:lnTo>
                <a:lnTo>
                  <a:pt x="12430" y="302755"/>
                </a:lnTo>
                <a:lnTo>
                  <a:pt x="16788" y="307670"/>
                </a:lnTo>
                <a:lnTo>
                  <a:pt x="26147" y="317647"/>
                </a:lnTo>
                <a:lnTo>
                  <a:pt x="32706" y="322678"/>
                </a:lnTo>
                <a:lnTo>
                  <a:pt x="40465" y="327725"/>
                </a:lnTo>
                <a:lnTo>
                  <a:pt x="49026" y="332784"/>
                </a:lnTo>
                <a:lnTo>
                  <a:pt x="65310" y="342920"/>
                </a:lnTo>
                <a:lnTo>
                  <a:pt x="73208" y="347993"/>
                </a:lnTo>
                <a:lnTo>
                  <a:pt x="81860" y="352222"/>
                </a:lnTo>
                <a:lnTo>
                  <a:pt x="91016" y="355888"/>
                </a:lnTo>
                <a:lnTo>
                  <a:pt x="125997" y="367855"/>
                </a:lnTo>
                <a:lnTo>
                  <a:pt x="133140" y="369697"/>
                </a:lnTo>
                <a:lnTo>
                  <a:pt x="139595" y="370925"/>
                </a:lnTo>
                <a:lnTo>
                  <a:pt x="145592" y="371743"/>
                </a:lnTo>
                <a:lnTo>
                  <a:pt x="150436" y="372289"/>
                </a:lnTo>
                <a:lnTo>
                  <a:pt x="154512" y="372653"/>
                </a:lnTo>
                <a:lnTo>
                  <a:pt x="158077" y="372895"/>
                </a:lnTo>
                <a:lnTo>
                  <a:pt x="161300" y="372210"/>
                </a:lnTo>
                <a:lnTo>
                  <a:pt x="167138" y="369191"/>
                </a:lnTo>
                <a:lnTo>
                  <a:pt x="169033" y="367201"/>
                </a:lnTo>
                <a:lnTo>
                  <a:pt x="170297" y="365028"/>
                </a:lnTo>
                <a:lnTo>
                  <a:pt x="172825" y="3581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InkAnnotation282"/>
          <p:cNvSpPr/>
          <p:nvPr/>
        </p:nvSpPr>
        <p:spPr>
          <a:xfrm>
            <a:off x="3170160" y="3801960"/>
            <a:ext cx="281160" cy="30240"/>
          </a:xfrm>
          <a:custGeom>
            <a:avLst/>
            <a:gdLst>
              <a:gd name="textAreaLeft" fmla="*/ 0 w 281160"/>
              <a:gd name="textAreaRight" fmla="*/ 281520 w 2811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81941" h="30481">
                <a:moveTo>
                  <a:pt x="0" y="30480"/>
                </a:moveTo>
                <a:lnTo>
                  <a:pt x="0" y="23174"/>
                </a:lnTo>
                <a:lnTo>
                  <a:pt x="8289" y="22901"/>
                </a:lnTo>
                <a:lnTo>
                  <a:pt x="21957" y="22868"/>
                </a:lnTo>
                <a:lnTo>
                  <a:pt x="26492" y="22019"/>
                </a:lnTo>
                <a:lnTo>
                  <a:pt x="31208" y="20606"/>
                </a:lnTo>
                <a:lnTo>
                  <a:pt x="36046" y="18817"/>
                </a:lnTo>
                <a:lnTo>
                  <a:pt x="40964" y="17625"/>
                </a:lnTo>
                <a:lnTo>
                  <a:pt x="45936" y="16830"/>
                </a:lnTo>
                <a:lnTo>
                  <a:pt x="50944" y="16300"/>
                </a:lnTo>
                <a:lnTo>
                  <a:pt x="56823" y="15947"/>
                </a:lnTo>
                <a:lnTo>
                  <a:pt x="70128" y="15554"/>
                </a:lnTo>
                <a:lnTo>
                  <a:pt x="76385" y="14603"/>
                </a:lnTo>
                <a:lnTo>
                  <a:pt x="82251" y="13122"/>
                </a:lnTo>
                <a:lnTo>
                  <a:pt x="87854" y="11288"/>
                </a:lnTo>
                <a:lnTo>
                  <a:pt x="94976" y="10065"/>
                </a:lnTo>
                <a:lnTo>
                  <a:pt x="103110" y="9250"/>
                </a:lnTo>
                <a:lnTo>
                  <a:pt x="111921" y="8707"/>
                </a:lnTo>
                <a:lnTo>
                  <a:pt x="128483" y="8103"/>
                </a:lnTo>
                <a:lnTo>
                  <a:pt x="159811" y="7715"/>
                </a:lnTo>
                <a:lnTo>
                  <a:pt x="221289" y="7622"/>
                </a:lnTo>
                <a:lnTo>
                  <a:pt x="227959" y="6775"/>
                </a:lnTo>
                <a:lnTo>
                  <a:pt x="234099" y="5363"/>
                </a:lnTo>
                <a:lnTo>
                  <a:pt x="239887" y="3575"/>
                </a:lnTo>
                <a:lnTo>
                  <a:pt x="244591" y="2383"/>
                </a:lnTo>
                <a:lnTo>
                  <a:pt x="248574" y="1589"/>
                </a:lnTo>
                <a:lnTo>
                  <a:pt x="256104" y="706"/>
                </a:lnTo>
                <a:lnTo>
                  <a:pt x="260483" y="471"/>
                </a:lnTo>
                <a:lnTo>
                  <a:pt x="272478" y="139"/>
                </a:lnTo>
                <a:lnTo>
                  <a:pt x="28194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InkAnnotation283"/>
          <p:cNvSpPr/>
          <p:nvPr/>
        </p:nvSpPr>
        <p:spPr>
          <a:xfrm>
            <a:off x="3200400" y="3894120"/>
            <a:ext cx="122400" cy="22320"/>
          </a:xfrm>
          <a:custGeom>
            <a:avLst/>
            <a:gdLst>
              <a:gd name="textAreaLeft" fmla="*/ 0 w 122400"/>
              <a:gd name="textAreaRight" fmla="*/ 122760 w 122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1921" h="22861">
                <a:moveTo>
                  <a:pt x="0" y="22860"/>
                </a:moveTo>
                <a:lnTo>
                  <a:pt x="10607" y="22860"/>
                </a:lnTo>
                <a:lnTo>
                  <a:pt x="12998" y="22014"/>
                </a:lnTo>
                <a:lnTo>
                  <a:pt x="15439" y="20603"/>
                </a:lnTo>
                <a:lnTo>
                  <a:pt x="17912" y="18815"/>
                </a:lnTo>
                <a:lnTo>
                  <a:pt x="21255" y="17623"/>
                </a:lnTo>
                <a:lnTo>
                  <a:pt x="25177" y="16829"/>
                </a:lnTo>
                <a:lnTo>
                  <a:pt x="29485" y="16299"/>
                </a:lnTo>
                <a:lnTo>
                  <a:pt x="34050" y="15946"/>
                </a:lnTo>
                <a:lnTo>
                  <a:pt x="38787" y="15711"/>
                </a:lnTo>
                <a:lnTo>
                  <a:pt x="43638" y="15554"/>
                </a:lnTo>
                <a:lnTo>
                  <a:pt x="47719" y="14603"/>
                </a:lnTo>
                <a:lnTo>
                  <a:pt x="51286" y="13122"/>
                </a:lnTo>
                <a:lnTo>
                  <a:pt x="54511" y="11288"/>
                </a:lnTo>
                <a:lnTo>
                  <a:pt x="58354" y="10065"/>
                </a:lnTo>
                <a:lnTo>
                  <a:pt x="62610" y="9250"/>
                </a:lnTo>
                <a:lnTo>
                  <a:pt x="67140" y="8707"/>
                </a:lnTo>
                <a:lnTo>
                  <a:pt x="71007" y="8345"/>
                </a:lnTo>
                <a:lnTo>
                  <a:pt x="74432" y="8103"/>
                </a:lnTo>
                <a:lnTo>
                  <a:pt x="77562" y="7942"/>
                </a:lnTo>
                <a:lnTo>
                  <a:pt x="81341" y="6988"/>
                </a:lnTo>
                <a:lnTo>
                  <a:pt x="85554" y="5506"/>
                </a:lnTo>
                <a:lnTo>
                  <a:pt x="90056" y="3670"/>
                </a:lnTo>
                <a:lnTo>
                  <a:pt x="94751" y="2447"/>
                </a:lnTo>
                <a:lnTo>
                  <a:pt x="99574" y="1631"/>
                </a:lnTo>
                <a:lnTo>
                  <a:pt x="104483" y="1088"/>
                </a:lnTo>
                <a:lnTo>
                  <a:pt x="108602" y="726"/>
                </a:lnTo>
                <a:lnTo>
                  <a:pt x="112195" y="484"/>
                </a:lnTo>
                <a:lnTo>
                  <a:pt x="12192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InkAnnotation284"/>
          <p:cNvSpPr/>
          <p:nvPr/>
        </p:nvSpPr>
        <p:spPr>
          <a:xfrm>
            <a:off x="3711600" y="3801960"/>
            <a:ext cx="379440" cy="397080"/>
          </a:xfrm>
          <a:custGeom>
            <a:avLst/>
            <a:gdLst>
              <a:gd name="textAreaLeft" fmla="*/ 0 w 379440"/>
              <a:gd name="textAreaRight" fmla="*/ 379800 w 37944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379895" h="395638">
                <a:moveTo>
                  <a:pt x="22516" y="14874"/>
                </a:moveTo>
                <a:lnTo>
                  <a:pt x="22516" y="21435"/>
                </a:lnTo>
                <a:lnTo>
                  <a:pt x="17279" y="33605"/>
                </a:lnTo>
                <a:lnTo>
                  <a:pt x="13109" y="47298"/>
                </a:lnTo>
                <a:lnTo>
                  <a:pt x="9868" y="56378"/>
                </a:lnTo>
                <a:lnTo>
                  <a:pt x="8428" y="66058"/>
                </a:lnTo>
                <a:lnTo>
                  <a:pt x="5531" y="76005"/>
                </a:lnTo>
                <a:lnTo>
                  <a:pt x="3573" y="81028"/>
                </a:lnTo>
                <a:lnTo>
                  <a:pt x="1396" y="93383"/>
                </a:lnTo>
                <a:lnTo>
                  <a:pt x="430" y="106494"/>
                </a:lnTo>
                <a:lnTo>
                  <a:pt x="0" y="117965"/>
                </a:lnTo>
                <a:lnTo>
                  <a:pt x="2067" y="128708"/>
                </a:lnTo>
                <a:lnTo>
                  <a:pt x="5807" y="139127"/>
                </a:lnTo>
                <a:lnTo>
                  <a:pt x="10292" y="149402"/>
                </a:lnTo>
                <a:lnTo>
                  <a:pt x="19623" y="159613"/>
                </a:lnTo>
                <a:lnTo>
                  <a:pt x="31391" y="169796"/>
                </a:lnTo>
                <a:lnTo>
                  <a:pt x="42264" y="179966"/>
                </a:lnTo>
                <a:lnTo>
                  <a:pt x="47535" y="183356"/>
                </a:lnTo>
                <a:lnTo>
                  <a:pt x="57907" y="187121"/>
                </a:lnTo>
                <a:lnTo>
                  <a:pt x="81356" y="193287"/>
                </a:lnTo>
                <a:lnTo>
                  <a:pt x="90530" y="193929"/>
                </a:lnTo>
                <a:lnTo>
                  <a:pt x="100032" y="193510"/>
                </a:lnTo>
                <a:lnTo>
                  <a:pt x="109753" y="192385"/>
                </a:lnTo>
                <a:lnTo>
                  <a:pt x="119621" y="191635"/>
                </a:lnTo>
                <a:lnTo>
                  <a:pt x="129586" y="191135"/>
                </a:lnTo>
                <a:lnTo>
                  <a:pt x="139616" y="190801"/>
                </a:lnTo>
                <a:lnTo>
                  <a:pt x="148843" y="189732"/>
                </a:lnTo>
                <a:lnTo>
                  <a:pt x="157534" y="188173"/>
                </a:lnTo>
                <a:lnTo>
                  <a:pt x="165867" y="186286"/>
                </a:lnTo>
                <a:lnTo>
                  <a:pt x="173964" y="183336"/>
                </a:lnTo>
                <a:lnTo>
                  <a:pt x="181902" y="179675"/>
                </a:lnTo>
                <a:lnTo>
                  <a:pt x="189733" y="175541"/>
                </a:lnTo>
                <a:lnTo>
                  <a:pt x="197494" y="171092"/>
                </a:lnTo>
                <a:lnTo>
                  <a:pt x="205208" y="166433"/>
                </a:lnTo>
                <a:lnTo>
                  <a:pt x="212890" y="161633"/>
                </a:lnTo>
                <a:lnTo>
                  <a:pt x="220552" y="155893"/>
                </a:lnTo>
                <a:lnTo>
                  <a:pt x="228200" y="149527"/>
                </a:lnTo>
                <a:lnTo>
                  <a:pt x="235839" y="142743"/>
                </a:lnTo>
                <a:lnTo>
                  <a:pt x="241778" y="135680"/>
                </a:lnTo>
                <a:lnTo>
                  <a:pt x="246583" y="128431"/>
                </a:lnTo>
                <a:lnTo>
                  <a:pt x="250634" y="121059"/>
                </a:lnTo>
                <a:lnTo>
                  <a:pt x="261908" y="108352"/>
                </a:lnTo>
                <a:lnTo>
                  <a:pt x="268471" y="102592"/>
                </a:lnTo>
                <a:lnTo>
                  <a:pt x="272846" y="96213"/>
                </a:lnTo>
                <a:lnTo>
                  <a:pt x="275763" y="89420"/>
                </a:lnTo>
                <a:lnTo>
                  <a:pt x="277707" y="82351"/>
                </a:lnTo>
                <a:lnTo>
                  <a:pt x="282125" y="67724"/>
                </a:lnTo>
                <a:lnTo>
                  <a:pt x="284489" y="60268"/>
                </a:lnTo>
                <a:lnTo>
                  <a:pt x="289373" y="47467"/>
                </a:lnTo>
                <a:lnTo>
                  <a:pt x="293519" y="36133"/>
                </a:lnTo>
                <a:lnTo>
                  <a:pt x="295362" y="25451"/>
                </a:lnTo>
                <a:lnTo>
                  <a:pt x="298438" y="17318"/>
                </a:lnTo>
                <a:lnTo>
                  <a:pt x="303267" y="9242"/>
                </a:lnTo>
                <a:lnTo>
                  <a:pt x="303928" y="5880"/>
                </a:lnTo>
                <a:lnTo>
                  <a:pt x="304425" y="0"/>
                </a:lnTo>
                <a:lnTo>
                  <a:pt x="304456" y="54624"/>
                </a:lnTo>
                <a:lnTo>
                  <a:pt x="305302" y="61694"/>
                </a:lnTo>
                <a:lnTo>
                  <a:pt x="306713" y="68948"/>
                </a:lnTo>
                <a:lnTo>
                  <a:pt x="308500" y="76323"/>
                </a:lnTo>
                <a:lnTo>
                  <a:pt x="310539" y="83780"/>
                </a:lnTo>
                <a:lnTo>
                  <a:pt x="317453" y="107257"/>
                </a:lnTo>
                <a:lnTo>
                  <a:pt x="322367" y="125642"/>
                </a:lnTo>
                <a:lnTo>
                  <a:pt x="325710" y="135286"/>
                </a:lnTo>
                <a:lnTo>
                  <a:pt x="329632" y="145102"/>
                </a:lnTo>
                <a:lnTo>
                  <a:pt x="333940" y="155033"/>
                </a:lnTo>
                <a:lnTo>
                  <a:pt x="337658" y="165886"/>
                </a:lnTo>
                <a:lnTo>
                  <a:pt x="340985" y="177355"/>
                </a:lnTo>
                <a:lnTo>
                  <a:pt x="352406" y="222135"/>
                </a:lnTo>
                <a:lnTo>
                  <a:pt x="357658" y="245279"/>
                </a:lnTo>
                <a:lnTo>
                  <a:pt x="360244" y="257377"/>
                </a:lnTo>
                <a:lnTo>
                  <a:pt x="363661" y="269676"/>
                </a:lnTo>
                <a:lnTo>
                  <a:pt x="367633" y="282109"/>
                </a:lnTo>
                <a:lnTo>
                  <a:pt x="371974" y="294631"/>
                </a:lnTo>
                <a:lnTo>
                  <a:pt x="374868" y="306365"/>
                </a:lnTo>
                <a:lnTo>
                  <a:pt x="376797" y="317575"/>
                </a:lnTo>
                <a:lnTo>
                  <a:pt x="378084" y="328434"/>
                </a:lnTo>
                <a:lnTo>
                  <a:pt x="378941" y="338214"/>
                </a:lnTo>
                <a:lnTo>
                  <a:pt x="379512" y="347274"/>
                </a:lnTo>
                <a:lnTo>
                  <a:pt x="379894" y="355854"/>
                </a:lnTo>
                <a:lnTo>
                  <a:pt x="379301" y="364114"/>
                </a:lnTo>
                <a:lnTo>
                  <a:pt x="378059" y="372161"/>
                </a:lnTo>
                <a:lnTo>
                  <a:pt x="376385" y="380065"/>
                </a:lnTo>
                <a:lnTo>
                  <a:pt x="370009" y="393363"/>
                </a:lnTo>
                <a:lnTo>
                  <a:pt x="368507" y="39563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InkAnnotation285"/>
          <p:cNvSpPr/>
          <p:nvPr/>
        </p:nvSpPr>
        <p:spPr>
          <a:xfrm>
            <a:off x="3902040" y="4183200"/>
            <a:ext cx="17640" cy="7920"/>
          </a:xfrm>
          <a:custGeom>
            <a:avLst/>
            <a:gdLst>
              <a:gd name="textAreaLeft" fmla="*/ 0 w 17640"/>
              <a:gd name="textAreaRight" fmla="*/ 18000 w 176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7661" h="7829">
                <a:moveTo>
                  <a:pt x="17660" y="7828"/>
                </a:moveTo>
                <a:lnTo>
                  <a:pt x="11163" y="340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InkAnnotation286"/>
          <p:cNvSpPr/>
          <p:nvPr/>
        </p:nvSpPr>
        <p:spPr>
          <a:xfrm>
            <a:off x="1943280" y="5159520"/>
            <a:ext cx="274320" cy="158760"/>
          </a:xfrm>
          <a:custGeom>
            <a:avLst/>
            <a:gdLst>
              <a:gd name="textAreaLeft" fmla="*/ 0 w 274320"/>
              <a:gd name="textAreaRight" fmla="*/ 274680 w 2743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74294" h="160021">
                <a:moveTo>
                  <a:pt x="266700" y="0"/>
                </a:moveTo>
                <a:lnTo>
                  <a:pt x="274293" y="0"/>
                </a:lnTo>
                <a:lnTo>
                  <a:pt x="270267" y="4045"/>
                </a:lnTo>
                <a:lnTo>
                  <a:pt x="269078" y="6084"/>
                </a:lnTo>
                <a:lnTo>
                  <a:pt x="267757" y="10606"/>
                </a:lnTo>
                <a:lnTo>
                  <a:pt x="264912" y="15438"/>
                </a:lnTo>
                <a:lnTo>
                  <a:pt x="262968" y="17912"/>
                </a:lnTo>
                <a:lnTo>
                  <a:pt x="259979" y="20408"/>
                </a:lnTo>
                <a:lnTo>
                  <a:pt x="256292" y="22919"/>
                </a:lnTo>
                <a:lnTo>
                  <a:pt x="252142" y="25439"/>
                </a:lnTo>
                <a:lnTo>
                  <a:pt x="248528" y="27966"/>
                </a:lnTo>
                <a:lnTo>
                  <a:pt x="245272" y="30497"/>
                </a:lnTo>
                <a:lnTo>
                  <a:pt x="242255" y="33031"/>
                </a:lnTo>
                <a:lnTo>
                  <a:pt x="237703" y="36415"/>
                </a:lnTo>
                <a:lnTo>
                  <a:pt x="225873" y="44689"/>
                </a:lnTo>
                <a:lnTo>
                  <a:pt x="220008" y="49266"/>
                </a:lnTo>
                <a:lnTo>
                  <a:pt x="214406" y="54011"/>
                </a:lnTo>
                <a:lnTo>
                  <a:pt x="208977" y="58867"/>
                </a:lnTo>
                <a:lnTo>
                  <a:pt x="202818" y="62951"/>
                </a:lnTo>
                <a:lnTo>
                  <a:pt x="196172" y="66521"/>
                </a:lnTo>
                <a:lnTo>
                  <a:pt x="189201" y="69747"/>
                </a:lnTo>
                <a:lnTo>
                  <a:pt x="182014" y="73591"/>
                </a:lnTo>
                <a:lnTo>
                  <a:pt x="174683" y="77847"/>
                </a:lnTo>
                <a:lnTo>
                  <a:pt x="167255" y="82378"/>
                </a:lnTo>
                <a:lnTo>
                  <a:pt x="160610" y="87093"/>
                </a:lnTo>
                <a:lnTo>
                  <a:pt x="154487" y="91928"/>
                </a:lnTo>
                <a:lnTo>
                  <a:pt x="148711" y="96846"/>
                </a:lnTo>
                <a:lnTo>
                  <a:pt x="142321" y="101817"/>
                </a:lnTo>
                <a:lnTo>
                  <a:pt x="135520" y="106825"/>
                </a:lnTo>
                <a:lnTo>
                  <a:pt x="128447" y="111857"/>
                </a:lnTo>
                <a:lnTo>
                  <a:pt x="121191" y="116057"/>
                </a:lnTo>
                <a:lnTo>
                  <a:pt x="113814" y="119705"/>
                </a:lnTo>
                <a:lnTo>
                  <a:pt x="106356" y="122983"/>
                </a:lnTo>
                <a:lnTo>
                  <a:pt x="98844" y="126016"/>
                </a:lnTo>
                <a:lnTo>
                  <a:pt x="83724" y="131642"/>
                </a:lnTo>
                <a:lnTo>
                  <a:pt x="76136" y="135175"/>
                </a:lnTo>
                <a:lnTo>
                  <a:pt x="68537" y="139223"/>
                </a:lnTo>
                <a:lnTo>
                  <a:pt x="60932" y="143615"/>
                </a:lnTo>
                <a:lnTo>
                  <a:pt x="47965" y="150753"/>
                </a:lnTo>
                <a:lnTo>
                  <a:pt x="42137" y="153842"/>
                </a:lnTo>
                <a:lnTo>
                  <a:pt x="36558" y="155901"/>
                </a:lnTo>
                <a:lnTo>
                  <a:pt x="31145" y="157275"/>
                </a:lnTo>
                <a:lnTo>
                  <a:pt x="25844" y="158190"/>
                </a:lnTo>
                <a:lnTo>
                  <a:pt x="17695" y="159206"/>
                </a:lnTo>
                <a:lnTo>
                  <a:pt x="11251" y="159659"/>
                </a:lnTo>
                <a:lnTo>
                  <a:pt x="0" y="1600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InkAnnotation287"/>
          <p:cNvSpPr/>
          <p:nvPr/>
        </p:nvSpPr>
        <p:spPr>
          <a:xfrm>
            <a:off x="2003400" y="5105520"/>
            <a:ext cx="266760" cy="198360"/>
          </a:xfrm>
          <a:custGeom>
            <a:avLst/>
            <a:gdLst>
              <a:gd name="textAreaLeft" fmla="*/ 0 w 266760"/>
              <a:gd name="textAreaRight" fmla="*/ 267120 w 2667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66701" h="198121">
                <a:moveTo>
                  <a:pt x="0" y="0"/>
                </a:moveTo>
                <a:lnTo>
                  <a:pt x="6561" y="0"/>
                </a:lnTo>
                <a:lnTo>
                  <a:pt x="14341" y="6083"/>
                </a:lnTo>
                <a:lnTo>
                  <a:pt x="22178" y="10606"/>
                </a:lnTo>
                <a:lnTo>
                  <a:pt x="26639" y="13844"/>
                </a:lnTo>
                <a:lnTo>
                  <a:pt x="31306" y="17697"/>
                </a:lnTo>
                <a:lnTo>
                  <a:pt x="36111" y="21957"/>
                </a:lnTo>
                <a:lnTo>
                  <a:pt x="41007" y="25645"/>
                </a:lnTo>
                <a:lnTo>
                  <a:pt x="45965" y="28950"/>
                </a:lnTo>
                <a:lnTo>
                  <a:pt x="50963" y="32000"/>
                </a:lnTo>
                <a:lnTo>
                  <a:pt x="55989" y="35727"/>
                </a:lnTo>
                <a:lnTo>
                  <a:pt x="61033" y="39905"/>
                </a:lnTo>
                <a:lnTo>
                  <a:pt x="66088" y="44383"/>
                </a:lnTo>
                <a:lnTo>
                  <a:pt x="70305" y="49062"/>
                </a:lnTo>
                <a:lnTo>
                  <a:pt x="73964" y="53875"/>
                </a:lnTo>
                <a:lnTo>
                  <a:pt x="89963" y="77811"/>
                </a:lnTo>
                <a:lnTo>
                  <a:pt x="94689" y="84047"/>
                </a:lnTo>
                <a:lnTo>
                  <a:pt x="99533" y="89898"/>
                </a:lnTo>
                <a:lnTo>
                  <a:pt x="104455" y="95492"/>
                </a:lnTo>
                <a:lnTo>
                  <a:pt x="110277" y="100915"/>
                </a:lnTo>
                <a:lnTo>
                  <a:pt x="116698" y="106224"/>
                </a:lnTo>
                <a:lnTo>
                  <a:pt x="123518" y="111456"/>
                </a:lnTo>
                <a:lnTo>
                  <a:pt x="128913" y="117484"/>
                </a:lnTo>
                <a:lnTo>
                  <a:pt x="133355" y="124043"/>
                </a:lnTo>
                <a:lnTo>
                  <a:pt x="137164" y="130955"/>
                </a:lnTo>
                <a:lnTo>
                  <a:pt x="142242" y="137257"/>
                </a:lnTo>
                <a:lnTo>
                  <a:pt x="148168" y="143152"/>
                </a:lnTo>
                <a:lnTo>
                  <a:pt x="154659" y="148775"/>
                </a:lnTo>
                <a:lnTo>
                  <a:pt x="160679" y="153370"/>
                </a:lnTo>
                <a:lnTo>
                  <a:pt x="166386" y="157280"/>
                </a:lnTo>
                <a:lnTo>
                  <a:pt x="171884" y="160733"/>
                </a:lnTo>
                <a:lnTo>
                  <a:pt x="177243" y="164729"/>
                </a:lnTo>
                <a:lnTo>
                  <a:pt x="182509" y="169086"/>
                </a:lnTo>
                <a:lnTo>
                  <a:pt x="187712" y="173684"/>
                </a:lnTo>
                <a:lnTo>
                  <a:pt x="192875" y="176750"/>
                </a:lnTo>
                <a:lnTo>
                  <a:pt x="198010" y="178793"/>
                </a:lnTo>
                <a:lnTo>
                  <a:pt x="203127" y="180155"/>
                </a:lnTo>
                <a:lnTo>
                  <a:pt x="208231" y="182757"/>
                </a:lnTo>
                <a:lnTo>
                  <a:pt x="213328" y="186185"/>
                </a:lnTo>
                <a:lnTo>
                  <a:pt x="218418" y="190163"/>
                </a:lnTo>
                <a:lnTo>
                  <a:pt x="223505" y="192816"/>
                </a:lnTo>
                <a:lnTo>
                  <a:pt x="228591" y="194583"/>
                </a:lnTo>
                <a:lnTo>
                  <a:pt x="233674" y="195762"/>
                </a:lnTo>
                <a:lnTo>
                  <a:pt x="241579" y="197072"/>
                </a:lnTo>
                <a:lnTo>
                  <a:pt x="248762" y="197655"/>
                </a:lnTo>
                <a:lnTo>
                  <a:pt x="266700" y="1981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InkAnnotation288"/>
          <p:cNvSpPr/>
          <p:nvPr/>
        </p:nvSpPr>
        <p:spPr>
          <a:xfrm>
            <a:off x="2354400" y="5241960"/>
            <a:ext cx="236520" cy="7920"/>
          </a:xfrm>
          <a:custGeom>
            <a:avLst/>
            <a:gdLst>
              <a:gd name="textAreaLeft" fmla="*/ 0 w 236520"/>
              <a:gd name="textAreaRight" fmla="*/ 236880 w 236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36221" h="7621">
                <a:moveTo>
                  <a:pt x="0" y="7620"/>
                </a:moveTo>
                <a:lnTo>
                  <a:pt x="210025" y="7620"/>
                </a:lnTo>
                <a:lnTo>
                  <a:pt x="214523" y="6773"/>
                </a:lnTo>
                <a:lnTo>
                  <a:pt x="218369" y="5362"/>
                </a:lnTo>
                <a:lnTo>
                  <a:pt x="221779" y="3575"/>
                </a:lnTo>
                <a:lnTo>
                  <a:pt x="224900" y="2383"/>
                </a:lnTo>
                <a:lnTo>
                  <a:pt x="227827" y="1589"/>
                </a:lnTo>
                <a:lnTo>
                  <a:pt x="2362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InkAnnotation289"/>
          <p:cNvSpPr/>
          <p:nvPr/>
        </p:nvSpPr>
        <p:spPr>
          <a:xfrm>
            <a:off x="2340000" y="5295960"/>
            <a:ext cx="212760" cy="22320"/>
          </a:xfrm>
          <a:custGeom>
            <a:avLst/>
            <a:gdLst>
              <a:gd name="textAreaLeft" fmla="*/ 0 w 212760"/>
              <a:gd name="textAreaRight" fmla="*/ 213120 w 212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13361" h="22768">
                <a:moveTo>
                  <a:pt x="0" y="15240"/>
                </a:moveTo>
                <a:lnTo>
                  <a:pt x="8091" y="15240"/>
                </a:lnTo>
                <a:lnTo>
                  <a:pt x="12167" y="16087"/>
                </a:lnTo>
                <a:lnTo>
                  <a:pt x="16578" y="17497"/>
                </a:lnTo>
                <a:lnTo>
                  <a:pt x="21212" y="19285"/>
                </a:lnTo>
                <a:lnTo>
                  <a:pt x="25995" y="20477"/>
                </a:lnTo>
                <a:lnTo>
                  <a:pt x="30877" y="21271"/>
                </a:lnTo>
                <a:lnTo>
                  <a:pt x="35825" y="21801"/>
                </a:lnTo>
                <a:lnTo>
                  <a:pt x="42510" y="22154"/>
                </a:lnTo>
                <a:lnTo>
                  <a:pt x="58969" y="22546"/>
                </a:lnTo>
                <a:lnTo>
                  <a:pt x="83230" y="22767"/>
                </a:lnTo>
                <a:lnTo>
                  <a:pt x="91047" y="21951"/>
                </a:lnTo>
                <a:lnTo>
                  <a:pt x="98798" y="20561"/>
                </a:lnTo>
                <a:lnTo>
                  <a:pt x="106505" y="18787"/>
                </a:lnTo>
                <a:lnTo>
                  <a:pt x="114184" y="17605"/>
                </a:lnTo>
                <a:lnTo>
                  <a:pt x="121842" y="16817"/>
                </a:lnTo>
                <a:lnTo>
                  <a:pt x="129488" y="16291"/>
                </a:lnTo>
                <a:lnTo>
                  <a:pt x="142499" y="15707"/>
                </a:lnTo>
                <a:lnTo>
                  <a:pt x="148340" y="15552"/>
                </a:lnTo>
                <a:lnTo>
                  <a:pt x="153926" y="14601"/>
                </a:lnTo>
                <a:lnTo>
                  <a:pt x="159344" y="13121"/>
                </a:lnTo>
                <a:lnTo>
                  <a:pt x="164650" y="11287"/>
                </a:lnTo>
                <a:lnTo>
                  <a:pt x="169880" y="10065"/>
                </a:lnTo>
                <a:lnTo>
                  <a:pt x="175060" y="9250"/>
                </a:lnTo>
                <a:lnTo>
                  <a:pt x="180207" y="8706"/>
                </a:lnTo>
                <a:lnTo>
                  <a:pt x="185331" y="8344"/>
                </a:lnTo>
                <a:lnTo>
                  <a:pt x="190441" y="8103"/>
                </a:lnTo>
                <a:lnTo>
                  <a:pt x="195541" y="7942"/>
                </a:lnTo>
                <a:lnTo>
                  <a:pt x="198940" y="6988"/>
                </a:lnTo>
                <a:lnTo>
                  <a:pt x="201207" y="5505"/>
                </a:lnTo>
                <a:lnTo>
                  <a:pt x="202718" y="3671"/>
                </a:lnTo>
                <a:lnTo>
                  <a:pt x="204572" y="2447"/>
                </a:lnTo>
                <a:lnTo>
                  <a:pt x="206655" y="1632"/>
                </a:lnTo>
                <a:lnTo>
                  <a:pt x="2133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InkAnnotation290"/>
          <p:cNvSpPr/>
          <p:nvPr/>
        </p:nvSpPr>
        <p:spPr>
          <a:xfrm>
            <a:off x="2666880" y="5127480"/>
            <a:ext cx="174600" cy="61920"/>
          </a:xfrm>
          <a:custGeom>
            <a:avLst/>
            <a:gdLst>
              <a:gd name="textAreaLeft" fmla="*/ 0 w 174600"/>
              <a:gd name="textAreaRight" fmla="*/ 174960 w 17460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75156" h="60868">
                <a:moveTo>
                  <a:pt x="68475" y="0"/>
                </a:moveTo>
                <a:lnTo>
                  <a:pt x="61914" y="0"/>
                </a:lnTo>
                <a:lnTo>
                  <a:pt x="60715" y="846"/>
                </a:lnTo>
                <a:lnTo>
                  <a:pt x="59068" y="2257"/>
                </a:lnTo>
                <a:lnTo>
                  <a:pt x="54387" y="6561"/>
                </a:lnTo>
                <a:lnTo>
                  <a:pt x="42730" y="18133"/>
                </a:lnTo>
                <a:lnTo>
                  <a:pt x="39458" y="19709"/>
                </a:lnTo>
                <a:lnTo>
                  <a:pt x="35584" y="20759"/>
                </a:lnTo>
                <a:lnTo>
                  <a:pt x="31308" y="21459"/>
                </a:lnTo>
                <a:lnTo>
                  <a:pt x="27610" y="22773"/>
                </a:lnTo>
                <a:lnTo>
                  <a:pt x="24298" y="24495"/>
                </a:lnTo>
                <a:lnTo>
                  <a:pt x="21244" y="26490"/>
                </a:lnTo>
                <a:lnTo>
                  <a:pt x="18361" y="28667"/>
                </a:lnTo>
                <a:lnTo>
                  <a:pt x="15592" y="30965"/>
                </a:lnTo>
                <a:lnTo>
                  <a:pt x="12900" y="33343"/>
                </a:lnTo>
                <a:lnTo>
                  <a:pt x="11105" y="35776"/>
                </a:lnTo>
                <a:lnTo>
                  <a:pt x="9908" y="38243"/>
                </a:lnTo>
                <a:lnTo>
                  <a:pt x="9111" y="40736"/>
                </a:lnTo>
                <a:lnTo>
                  <a:pt x="7732" y="42397"/>
                </a:lnTo>
                <a:lnTo>
                  <a:pt x="5967" y="43504"/>
                </a:lnTo>
                <a:lnTo>
                  <a:pt x="3943" y="44243"/>
                </a:lnTo>
                <a:lnTo>
                  <a:pt x="2594" y="45582"/>
                </a:lnTo>
                <a:lnTo>
                  <a:pt x="1694" y="47321"/>
                </a:lnTo>
                <a:lnTo>
                  <a:pt x="0" y="52988"/>
                </a:lnTo>
                <a:lnTo>
                  <a:pt x="3971" y="53235"/>
                </a:lnTo>
                <a:lnTo>
                  <a:pt x="5999" y="54117"/>
                </a:lnTo>
                <a:lnTo>
                  <a:pt x="8198" y="55551"/>
                </a:lnTo>
                <a:lnTo>
                  <a:pt x="10510" y="57354"/>
                </a:lnTo>
                <a:lnTo>
                  <a:pt x="12899" y="58556"/>
                </a:lnTo>
                <a:lnTo>
                  <a:pt x="17810" y="59892"/>
                </a:lnTo>
                <a:lnTo>
                  <a:pt x="21998" y="60248"/>
                </a:lnTo>
                <a:lnTo>
                  <a:pt x="27331" y="60486"/>
                </a:lnTo>
                <a:lnTo>
                  <a:pt x="44713" y="60820"/>
                </a:lnTo>
                <a:lnTo>
                  <a:pt x="50094" y="60867"/>
                </a:lnTo>
                <a:lnTo>
                  <a:pt x="56221" y="60051"/>
                </a:lnTo>
                <a:lnTo>
                  <a:pt x="62846" y="58661"/>
                </a:lnTo>
                <a:lnTo>
                  <a:pt x="69802" y="56887"/>
                </a:lnTo>
                <a:lnTo>
                  <a:pt x="76133" y="55705"/>
                </a:lnTo>
                <a:lnTo>
                  <a:pt x="82047" y="54916"/>
                </a:lnTo>
                <a:lnTo>
                  <a:pt x="87683" y="54391"/>
                </a:lnTo>
                <a:lnTo>
                  <a:pt x="93980" y="54040"/>
                </a:lnTo>
                <a:lnTo>
                  <a:pt x="107751" y="53652"/>
                </a:lnTo>
                <a:lnTo>
                  <a:pt x="125967" y="53402"/>
                </a:lnTo>
                <a:lnTo>
                  <a:pt x="135232" y="53368"/>
                </a:lnTo>
                <a:lnTo>
                  <a:pt x="139226" y="52512"/>
                </a:lnTo>
                <a:lnTo>
                  <a:pt x="142736" y="51094"/>
                </a:lnTo>
                <a:lnTo>
                  <a:pt x="145922" y="49303"/>
                </a:lnTo>
                <a:lnTo>
                  <a:pt x="148893" y="48109"/>
                </a:lnTo>
                <a:lnTo>
                  <a:pt x="151720" y="47312"/>
                </a:lnTo>
                <a:lnTo>
                  <a:pt x="157120" y="46428"/>
                </a:lnTo>
                <a:lnTo>
                  <a:pt x="162342" y="46034"/>
                </a:lnTo>
                <a:lnTo>
                  <a:pt x="167356" y="45782"/>
                </a:lnTo>
                <a:lnTo>
                  <a:pt x="175155" y="457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InkAnnotation291"/>
          <p:cNvSpPr/>
          <p:nvPr/>
        </p:nvSpPr>
        <p:spPr>
          <a:xfrm>
            <a:off x="2797200" y="5089680"/>
            <a:ext cx="114120" cy="260280"/>
          </a:xfrm>
          <a:custGeom>
            <a:avLst/>
            <a:gdLst>
              <a:gd name="textAreaLeft" fmla="*/ 0 w 114120"/>
              <a:gd name="textAreaRight" fmla="*/ 114480 w 1141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14253" h="259081">
                <a:moveTo>
                  <a:pt x="114252" y="0"/>
                </a:moveTo>
                <a:lnTo>
                  <a:pt x="96119" y="18133"/>
                </a:lnTo>
                <a:lnTo>
                  <a:pt x="93697" y="21402"/>
                </a:lnTo>
                <a:lnTo>
                  <a:pt x="91235" y="25275"/>
                </a:lnTo>
                <a:lnTo>
                  <a:pt x="88747" y="29550"/>
                </a:lnTo>
                <a:lnTo>
                  <a:pt x="86242" y="34093"/>
                </a:lnTo>
                <a:lnTo>
                  <a:pt x="81201" y="43657"/>
                </a:lnTo>
                <a:lnTo>
                  <a:pt x="73603" y="58561"/>
                </a:lnTo>
                <a:lnTo>
                  <a:pt x="70220" y="63594"/>
                </a:lnTo>
                <a:lnTo>
                  <a:pt x="66270" y="68643"/>
                </a:lnTo>
                <a:lnTo>
                  <a:pt x="61944" y="73702"/>
                </a:lnTo>
                <a:lnTo>
                  <a:pt x="58214" y="79615"/>
                </a:lnTo>
                <a:lnTo>
                  <a:pt x="54880" y="86096"/>
                </a:lnTo>
                <a:lnTo>
                  <a:pt x="51810" y="92958"/>
                </a:lnTo>
                <a:lnTo>
                  <a:pt x="48071" y="99225"/>
                </a:lnTo>
                <a:lnTo>
                  <a:pt x="43885" y="105097"/>
                </a:lnTo>
                <a:lnTo>
                  <a:pt x="39401" y="110704"/>
                </a:lnTo>
                <a:lnTo>
                  <a:pt x="35565" y="116983"/>
                </a:lnTo>
                <a:lnTo>
                  <a:pt x="32160" y="123709"/>
                </a:lnTo>
                <a:lnTo>
                  <a:pt x="29044" y="130733"/>
                </a:lnTo>
                <a:lnTo>
                  <a:pt x="25273" y="137955"/>
                </a:lnTo>
                <a:lnTo>
                  <a:pt x="21066" y="145310"/>
                </a:lnTo>
                <a:lnTo>
                  <a:pt x="16568" y="152753"/>
                </a:lnTo>
                <a:lnTo>
                  <a:pt x="12723" y="160255"/>
                </a:lnTo>
                <a:lnTo>
                  <a:pt x="9313" y="167797"/>
                </a:lnTo>
                <a:lnTo>
                  <a:pt x="6192" y="175365"/>
                </a:lnTo>
                <a:lnTo>
                  <a:pt x="4112" y="182103"/>
                </a:lnTo>
                <a:lnTo>
                  <a:pt x="2726" y="188288"/>
                </a:lnTo>
                <a:lnTo>
                  <a:pt x="1801" y="194106"/>
                </a:lnTo>
                <a:lnTo>
                  <a:pt x="1185" y="200524"/>
                </a:lnTo>
                <a:lnTo>
                  <a:pt x="774" y="207342"/>
                </a:lnTo>
                <a:lnTo>
                  <a:pt x="196" y="224559"/>
                </a:lnTo>
                <a:lnTo>
                  <a:pt x="0" y="237962"/>
                </a:lnTo>
                <a:lnTo>
                  <a:pt x="2231" y="245743"/>
                </a:lnTo>
                <a:lnTo>
                  <a:pt x="7572" y="2590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InkAnnotation292"/>
          <p:cNvSpPr/>
          <p:nvPr/>
        </p:nvSpPr>
        <p:spPr>
          <a:xfrm>
            <a:off x="2952720" y="5105520"/>
            <a:ext cx="147600" cy="106200"/>
          </a:xfrm>
          <a:custGeom>
            <a:avLst/>
            <a:gdLst>
              <a:gd name="textAreaLeft" fmla="*/ 0 w 147600"/>
              <a:gd name="textAreaRight" fmla="*/ 147960 w 1476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46505" h="106452">
                <a:moveTo>
                  <a:pt x="109960" y="7619"/>
                </a:moveTo>
                <a:lnTo>
                  <a:pt x="109960" y="7"/>
                </a:lnTo>
                <a:lnTo>
                  <a:pt x="95309" y="0"/>
                </a:lnTo>
                <a:lnTo>
                  <a:pt x="90880" y="846"/>
                </a:lnTo>
                <a:lnTo>
                  <a:pt x="86233" y="2257"/>
                </a:lnTo>
                <a:lnTo>
                  <a:pt x="81442" y="4044"/>
                </a:lnTo>
                <a:lnTo>
                  <a:pt x="76555" y="6082"/>
                </a:lnTo>
                <a:lnTo>
                  <a:pt x="71603" y="8288"/>
                </a:lnTo>
                <a:lnTo>
                  <a:pt x="66609" y="10605"/>
                </a:lnTo>
                <a:lnTo>
                  <a:pt x="60740" y="12996"/>
                </a:lnTo>
                <a:lnTo>
                  <a:pt x="54286" y="15437"/>
                </a:lnTo>
                <a:lnTo>
                  <a:pt x="47444" y="17911"/>
                </a:lnTo>
                <a:lnTo>
                  <a:pt x="41190" y="21254"/>
                </a:lnTo>
                <a:lnTo>
                  <a:pt x="35326" y="25175"/>
                </a:lnTo>
                <a:lnTo>
                  <a:pt x="29724" y="29483"/>
                </a:lnTo>
                <a:lnTo>
                  <a:pt x="25143" y="33202"/>
                </a:lnTo>
                <a:lnTo>
                  <a:pt x="21242" y="36527"/>
                </a:lnTo>
                <a:lnTo>
                  <a:pt x="17795" y="39592"/>
                </a:lnTo>
                <a:lnTo>
                  <a:pt x="14650" y="43327"/>
                </a:lnTo>
                <a:lnTo>
                  <a:pt x="11707" y="47511"/>
                </a:lnTo>
                <a:lnTo>
                  <a:pt x="8898" y="51994"/>
                </a:lnTo>
                <a:lnTo>
                  <a:pt x="6179" y="56675"/>
                </a:lnTo>
                <a:lnTo>
                  <a:pt x="899" y="66393"/>
                </a:lnTo>
                <a:lnTo>
                  <a:pt x="0" y="70508"/>
                </a:lnTo>
                <a:lnTo>
                  <a:pt x="247" y="74099"/>
                </a:lnTo>
                <a:lnTo>
                  <a:pt x="1258" y="77338"/>
                </a:lnTo>
                <a:lnTo>
                  <a:pt x="2779" y="80345"/>
                </a:lnTo>
                <a:lnTo>
                  <a:pt x="4639" y="83197"/>
                </a:lnTo>
                <a:lnTo>
                  <a:pt x="6726" y="85944"/>
                </a:lnTo>
                <a:lnTo>
                  <a:pt x="9811" y="89470"/>
                </a:lnTo>
                <a:lnTo>
                  <a:pt x="13560" y="93512"/>
                </a:lnTo>
                <a:lnTo>
                  <a:pt x="17754" y="97902"/>
                </a:lnTo>
                <a:lnTo>
                  <a:pt x="22242" y="100828"/>
                </a:lnTo>
                <a:lnTo>
                  <a:pt x="26929" y="102778"/>
                </a:lnTo>
                <a:lnTo>
                  <a:pt x="31746" y="104079"/>
                </a:lnTo>
                <a:lnTo>
                  <a:pt x="37497" y="104945"/>
                </a:lnTo>
                <a:lnTo>
                  <a:pt x="43871" y="105523"/>
                </a:lnTo>
                <a:lnTo>
                  <a:pt x="50661" y="105909"/>
                </a:lnTo>
                <a:lnTo>
                  <a:pt x="64978" y="106337"/>
                </a:lnTo>
                <a:lnTo>
                  <a:pt x="72352" y="106451"/>
                </a:lnTo>
                <a:lnTo>
                  <a:pt x="79808" y="104834"/>
                </a:lnTo>
                <a:lnTo>
                  <a:pt x="87319" y="102063"/>
                </a:lnTo>
                <a:lnTo>
                  <a:pt x="107767" y="92329"/>
                </a:lnTo>
                <a:lnTo>
                  <a:pt x="113578" y="89492"/>
                </a:lnTo>
                <a:lnTo>
                  <a:pt x="118299" y="85908"/>
                </a:lnTo>
                <a:lnTo>
                  <a:pt x="122292" y="81825"/>
                </a:lnTo>
                <a:lnTo>
                  <a:pt x="125802" y="77410"/>
                </a:lnTo>
                <a:lnTo>
                  <a:pt x="128988" y="72773"/>
                </a:lnTo>
                <a:lnTo>
                  <a:pt x="131959" y="67988"/>
                </a:lnTo>
                <a:lnTo>
                  <a:pt x="134785" y="63105"/>
                </a:lnTo>
                <a:lnTo>
                  <a:pt x="140185" y="53164"/>
                </a:lnTo>
                <a:lnTo>
                  <a:pt x="142810" y="48143"/>
                </a:lnTo>
                <a:lnTo>
                  <a:pt x="144560" y="43101"/>
                </a:lnTo>
                <a:lnTo>
                  <a:pt x="145727" y="38047"/>
                </a:lnTo>
                <a:lnTo>
                  <a:pt x="146504" y="32985"/>
                </a:lnTo>
                <a:lnTo>
                  <a:pt x="146176" y="28763"/>
                </a:lnTo>
                <a:lnTo>
                  <a:pt x="145111" y="25101"/>
                </a:lnTo>
                <a:lnTo>
                  <a:pt x="143554" y="21814"/>
                </a:lnTo>
                <a:lnTo>
                  <a:pt x="141669" y="18775"/>
                </a:lnTo>
                <a:lnTo>
                  <a:pt x="139566" y="15903"/>
                </a:lnTo>
                <a:lnTo>
                  <a:pt x="137318" y="13142"/>
                </a:lnTo>
                <a:lnTo>
                  <a:pt x="134971" y="11301"/>
                </a:lnTo>
                <a:lnTo>
                  <a:pt x="132561" y="10073"/>
                </a:lnTo>
                <a:lnTo>
                  <a:pt x="126654" y="8104"/>
                </a:lnTo>
                <a:lnTo>
                  <a:pt x="123588" y="7834"/>
                </a:lnTo>
                <a:lnTo>
                  <a:pt x="117580" y="76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5369"/>
          <p:cNvSpPr/>
          <p:nvPr/>
        </p:nvSpPr>
        <p:spPr>
          <a:xfrm>
            <a:off x="2927520" y="5249880"/>
            <a:ext cx="128520" cy="112680"/>
          </a:xfrm>
          <a:custGeom>
            <a:avLst/>
            <a:gdLst>
              <a:gd name="textAreaLeft" fmla="*/ 0 w 128520"/>
              <a:gd name="textAreaRight" fmla="*/ 128880 w 12852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28792" h="112662">
                <a:moveTo>
                  <a:pt x="98482" y="7617"/>
                </a:moveTo>
                <a:lnTo>
                  <a:pt x="98482" y="311"/>
                </a:lnTo>
                <a:lnTo>
                  <a:pt x="96225" y="137"/>
                </a:lnTo>
                <a:lnTo>
                  <a:pt x="91921" y="25"/>
                </a:lnTo>
                <a:lnTo>
                  <a:pt x="76304" y="0"/>
                </a:lnTo>
                <a:lnTo>
                  <a:pt x="71843" y="846"/>
                </a:lnTo>
                <a:lnTo>
                  <a:pt x="67176" y="2256"/>
                </a:lnTo>
                <a:lnTo>
                  <a:pt x="62371" y="4043"/>
                </a:lnTo>
                <a:lnTo>
                  <a:pt x="57475" y="6081"/>
                </a:lnTo>
                <a:lnTo>
                  <a:pt x="52518" y="8287"/>
                </a:lnTo>
                <a:lnTo>
                  <a:pt x="47519" y="10604"/>
                </a:lnTo>
                <a:lnTo>
                  <a:pt x="42494" y="13842"/>
                </a:lnTo>
                <a:lnTo>
                  <a:pt x="37450" y="17694"/>
                </a:lnTo>
                <a:lnTo>
                  <a:pt x="32394" y="21954"/>
                </a:lnTo>
                <a:lnTo>
                  <a:pt x="27330" y="25642"/>
                </a:lnTo>
                <a:lnTo>
                  <a:pt x="22261" y="28947"/>
                </a:lnTo>
                <a:lnTo>
                  <a:pt x="17188" y="31997"/>
                </a:lnTo>
                <a:lnTo>
                  <a:pt x="12959" y="35724"/>
                </a:lnTo>
                <a:lnTo>
                  <a:pt x="9294" y="39902"/>
                </a:lnTo>
                <a:lnTo>
                  <a:pt x="6003" y="44380"/>
                </a:lnTo>
                <a:lnTo>
                  <a:pt x="3810" y="49059"/>
                </a:lnTo>
                <a:lnTo>
                  <a:pt x="2347" y="53872"/>
                </a:lnTo>
                <a:lnTo>
                  <a:pt x="1372" y="58774"/>
                </a:lnTo>
                <a:lnTo>
                  <a:pt x="722" y="63735"/>
                </a:lnTo>
                <a:lnTo>
                  <a:pt x="289" y="68735"/>
                </a:lnTo>
                <a:lnTo>
                  <a:pt x="0" y="73763"/>
                </a:lnTo>
                <a:lnTo>
                  <a:pt x="654" y="78808"/>
                </a:lnTo>
                <a:lnTo>
                  <a:pt x="1937" y="83864"/>
                </a:lnTo>
                <a:lnTo>
                  <a:pt x="3639" y="88928"/>
                </a:lnTo>
                <a:lnTo>
                  <a:pt x="5620" y="93151"/>
                </a:lnTo>
                <a:lnTo>
                  <a:pt x="7787" y="96813"/>
                </a:lnTo>
                <a:lnTo>
                  <a:pt x="10079" y="100101"/>
                </a:lnTo>
                <a:lnTo>
                  <a:pt x="13300" y="103140"/>
                </a:lnTo>
                <a:lnTo>
                  <a:pt x="17141" y="106013"/>
                </a:lnTo>
                <a:lnTo>
                  <a:pt x="21395" y="108774"/>
                </a:lnTo>
                <a:lnTo>
                  <a:pt x="25924" y="110615"/>
                </a:lnTo>
                <a:lnTo>
                  <a:pt x="30636" y="111842"/>
                </a:lnTo>
                <a:lnTo>
                  <a:pt x="35472" y="112661"/>
                </a:lnTo>
                <a:lnTo>
                  <a:pt x="40389" y="112359"/>
                </a:lnTo>
                <a:lnTo>
                  <a:pt x="45360" y="111312"/>
                </a:lnTo>
                <a:lnTo>
                  <a:pt x="50367" y="109767"/>
                </a:lnTo>
                <a:lnTo>
                  <a:pt x="55399" y="107891"/>
                </a:lnTo>
                <a:lnTo>
                  <a:pt x="60447" y="105792"/>
                </a:lnTo>
                <a:lnTo>
                  <a:pt x="65505" y="103548"/>
                </a:lnTo>
                <a:lnTo>
                  <a:pt x="70571" y="100357"/>
                </a:lnTo>
                <a:lnTo>
                  <a:pt x="75641" y="96537"/>
                </a:lnTo>
                <a:lnTo>
                  <a:pt x="80715" y="92297"/>
                </a:lnTo>
                <a:lnTo>
                  <a:pt x="85791" y="87777"/>
                </a:lnTo>
                <a:lnTo>
                  <a:pt x="95946" y="78239"/>
                </a:lnTo>
                <a:lnTo>
                  <a:pt x="111183" y="63350"/>
                </a:lnTo>
                <a:lnTo>
                  <a:pt x="115416" y="58319"/>
                </a:lnTo>
                <a:lnTo>
                  <a:pt x="119085" y="53272"/>
                </a:lnTo>
                <a:lnTo>
                  <a:pt x="122377" y="48213"/>
                </a:lnTo>
                <a:lnTo>
                  <a:pt x="124572" y="43995"/>
                </a:lnTo>
                <a:lnTo>
                  <a:pt x="126036" y="40336"/>
                </a:lnTo>
                <a:lnTo>
                  <a:pt x="127011" y="37050"/>
                </a:lnTo>
                <a:lnTo>
                  <a:pt x="127661" y="33165"/>
                </a:lnTo>
                <a:lnTo>
                  <a:pt x="128095" y="28883"/>
                </a:lnTo>
                <a:lnTo>
                  <a:pt x="128577" y="20455"/>
                </a:lnTo>
                <a:lnTo>
                  <a:pt x="128791" y="13888"/>
                </a:lnTo>
                <a:lnTo>
                  <a:pt x="128001" y="10951"/>
                </a:lnTo>
                <a:lnTo>
                  <a:pt x="126628" y="8147"/>
                </a:lnTo>
                <a:lnTo>
                  <a:pt x="124866" y="5430"/>
                </a:lnTo>
                <a:lnTo>
                  <a:pt x="121998" y="3619"/>
                </a:lnTo>
                <a:lnTo>
                  <a:pt x="118393" y="2412"/>
                </a:lnTo>
                <a:lnTo>
                  <a:pt x="108530" y="474"/>
                </a:lnTo>
                <a:lnTo>
                  <a:pt x="106874" y="1162"/>
                </a:lnTo>
                <a:lnTo>
                  <a:pt x="104923" y="2467"/>
                </a:lnTo>
                <a:lnTo>
                  <a:pt x="102776" y="4183"/>
                </a:lnTo>
                <a:lnTo>
                  <a:pt x="102191" y="5328"/>
                </a:lnTo>
                <a:lnTo>
                  <a:pt x="102648" y="6092"/>
                </a:lnTo>
                <a:lnTo>
                  <a:pt x="98482" y="7617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InkAnnotation294"/>
          <p:cNvSpPr/>
          <p:nvPr/>
        </p:nvSpPr>
        <p:spPr>
          <a:xfrm>
            <a:off x="3170160" y="5083200"/>
            <a:ext cx="166680" cy="318960"/>
          </a:xfrm>
          <a:custGeom>
            <a:avLst/>
            <a:gdLst>
              <a:gd name="textAreaLeft" fmla="*/ 0 w 166680"/>
              <a:gd name="textAreaRight" fmla="*/ 166680 w 1666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167126" h="319457">
                <a:moveTo>
                  <a:pt x="45690" y="0"/>
                </a:moveTo>
                <a:lnTo>
                  <a:pt x="45690" y="6561"/>
                </a:lnTo>
                <a:lnTo>
                  <a:pt x="41645" y="15397"/>
                </a:lnTo>
                <a:lnTo>
                  <a:pt x="39659" y="21801"/>
                </a:lnTo>
                <a:lnTo>
                  <a:pt x="38776" y="28316"/>
                </a:lnTo>
                <a:lnTo>
                  <a:pt x="38384" y="36856"/>
                </a:lnTo>
                <a:lnTo>
                  <a:pt x="37433" y="40657"/>
                </a:lnTo>
                <a:lnTo>
                  <a:pt x="34118" y="47139"/>
                </a:lnTo>
                <a:lnTo>
                  <a:pt x="32080" y="55100"/>
                </a:lnTo>
                <a:lnTo>
                  <a:pt x="31537" y="59593"/>
                </a:lnTo>
                <a:lnTo>
                  <a:pt x="29481" y="64282"/>
                </a:lnTo>
                <a:lnTo>
                  <a:pt x="26418" y="69101"/>
                </a:lnTo>
                <a:lnTo>
                  <a:pt x="22681" y="74008"/>
                </a:lnTo>
                <a:lnTo>
                  <a:pt x="18531" y="81716"/>
                </a:lnTo>
                <a:lnTo>
                  <a:pt x="15839" y="88812"/>
                </a:lnTo>
                <a:lnTo>
                  <a:pt x="11821" y="97610"/>
                </a:lnTo>
                <a:lnTo>
                  <a:pt x="9470" y="107165"/>
                </a:lnTo>
                <a:lnTo>
                  <a:pt x="8843" y="112083"/>
                </a:lnTo>
                <a:lnTo>
                  <a:pt x="5889" y="119806"/>
                </a:lnTo>
                <a:lnTo>
                  <a:pt x="2600" y="126060"/>
                </a:lnTo>
                <a:lnTo>
                  <a:pt x="316" y="135531"/>
                </a:lnTo>
                <a:lnTo>
                  <a:pt x="38" y="141228"/>
                </a:lnTo>
                <a:lnTo>
                  <a:pt x="0" y="139533"/>
                </a:lnTo>
                <a:lnTo>
                  <a:pt x="837" y="138742"/>
                </a:lnTo>
                <a:lnTo>
                  <a:pt x="2241" y="138215"/>
                </a:lnTo>
                <a:lnTo>
                  <a:pt x="4024" y="137863"/>
                </a:lnTo>
                <a:lnTo>
                  <a:pt x="8263" y="135215"/>
                </a:lnTo>
                <a:lnTo>
                  <a:pt x="10579" y="133323"/>
                </a:lnTo>
                <a:lnTo>
                  <a:pt x="15409" y="126706"/>
                </a:lnTo>
                <a:lnTo>
                  <a:pt x="17883" y="122571"/>
                </a:lnTo>
                <a:lnTo>
                  <a:pt x="22072" y="118121"/>
                </a:lnTo>
                <a:lnTo>
                  <a:pt x="27404" y="113461"/>
                </a:lnTo>
                <a:lnTo>
                  <a:pt x="33499" y="108661"/>
                </a:lnTo>
                <a:lnTo>
                  <a:pt x="39257" y="104614"/>
                </a:lnTo>
                <a:lnTo>
                  <a:pt x="44788" y="101069"/>
                </a:lnTo>
                <a:lnTo>
                  <a:pt x="50169" y="97860"/>
                </a:lnTo>
                <a:lnTo>
                  <a:pt x="55449" y="94873"/>
                </a:lnTo>
                <a:lnTo>
                  <a:pt x="65832" y="89297"/>
                </a:lnTo>
                <a:lnTo>
                  <a:pt x="70971" y="87472"/>
                </a:lnTo>
                <a:lnTo>
                  <a:pt x="76090" y="86254"/>
                </a:lnTo>
                <a:lnTo>
                  <a:pt x="81197" y="85443"/>
                </a:lnTo>
                <a:lnTo>
                  <a:pt x="86295" y="84902"/>
                </a:lnTo>
                <a:lnTo>
                  <a:pt x="91386" y="84542"/>
                </a:lnTo>
                <a:lnTo>
                  <a:pt x="96474" y="84301"/>
                </a:lnTo>
                <a:lnTo>
                  <a:pt x="101560" y="84988"/>
                </a:lnTo>
                <a:lnTo>
                  <a:pt x="106643" y="86291"/>
                </a:lnTo>
                <a:lnTo>
                  <a:pt x="111726" y="88008"/>
                </a:lnTo>
                <a:lnTo>
                  <a:pt x="116807" y="90845"/>
                </a:lnTo>
                <a:lnTo>
                  <a:pt x="121888" y="94430"/>
                </a:lnTo>
                <a:lnTo>
                  <a:pt x="126969" y="98514"/>
                </a:lnTo>
                <a:lnTo>
                  <a:pt x="132049" y="102929"/>
                </a:lnTo>
                <a:lnTo>
                  <a:pt x="137130" y="107566"/>
                </a:lnTo>
                <a:lnTo>
                  <a:pt x="142210" y="112351"/>
                </a:lnTo>
                <a:lnTo>
                  <a:pt x="146443" y="118080"/>
                </a:lnTo>
                <a:lnTo>
                  <a:pt x="150112" y="124440"/>
                </a:lnTo>
                <a:lnTo>
                  <a:pt x="153405" y="131220"/>
                </a:lnTo>
                <a:lnTo>
                  <a:pt x="156447" y="138280"/>
                </a:lnTo>
                <a:lnTo>
                  <a:pt x="159321" y="145527"/>
                </a:lnTo>
                <a:lnTo>
                  <a:pt x="162085" y="152898"/>
                </a:lnTo>
                <a:lnTo>
                  <a:pt x="163926" y="160352"/>
                </a:lnTo>
                <a:lnTo>
                  <a:pt x="165154" y="167862"/>
                </a:lnTo>
                <a:lnTo>
                  <a:pt x="165973" y="175408"/>
                </a:lnTo>
                <a:lnTo>
                  <a:pt x="166518" y="182978"/>
                </a:lnTo>
                <a:lnTo>
                  <a:pt x="166883" y="190566"/>
                </a:lnTo>
                <a:lnTo>
                  <a:pt x="167125" y="198164"/>
                </a:lnTo>
                <a:lnTo>
                  <a:pt x="166440" y="205769"/>
                </a:lnTo>
                <a:lnTo>
                  <a:pt x="165137" y="213380"/>
                </a:lnTo>
                <a:lnTo>
                  <a:pt x="161431" y="229456"/>
                </a:lnTo>
                <a:lnTo>
                  <a:pt x="156962" y="247889"/>
                </a:lnTo>
                <a:lnTo>
                  <a:pt x="154584" y="255853"/>
                </a:lnTo>
                <a:lnTo>
                  <a:pt x="152153" y="262855"/>
                </a:lnTo>
                <a:lnTo>
                  <a:pt x="149686" y="269217"/>
                </a:lnTo>
                <a:lnTo>
                  <a:pt x="146347" y="275152"/>
                </a:lnTo>
                <a:lnTo>
                  <a:pt x="142428" y="280800"/>
                </a:lnTo>
                <a:lnTo>
                  <a:pt x="138122" y="286260"/>
                </a:lnTo>
                <a:lnTo>
                  <a:pt x="133558" y="291594"/>
                </a:lnTo>
                <a:lnTo>
                  <a:pt x="128822" y="296843"/>
                </a:lnTo>
                <a:lnTo>
                  <a:pt x="116324" y="310063"/>
                </a:lnTo>
                <a:lnTo>
                  <a:pt x="113100" y="313389"/>
                </a:lnTo>
                <a:lnTo>
                  <a:pt x="110103" y="315605"/>
                </a:lnTo>
                <a:lnTo>
                  <a:pt x="107258" y="317084"/>
                </a:lnTo>
                <a:lnTo>
                  <a:pt x="104516" y="318069"/>
                </a:lnTo>
                <a:lnTo>
                  <a:pt x="100994" y="318726"/>
                </a:lnTo>
                <a:lnTo>
                  <a:pt x="96953" y="319164"/>
                </a:lnTo>
                <a:lnTo>
                  <a:pt x="92565" y="319456"/>
                </a:lnTo>
                <a:lnTo>
                  <a:pt x="88793" y="318804"/>
                </a:lnTo>
                <a:lnTo>
                  <a:pt x="85432" y="317523"/>
                </a:lnTo>
                <a:lnTo>
                  <a:pt x="82345" y="315822"/>
                </a:lnTo>
                <a:lnTo>
                  <a:pt x="79440" y="313841"/>
                </a:lnTo>
                <a:lnTo>
                  <a:pt x="76657" y="311674"/>
                </a:lnTo>
                <a:lnTo>
                  <a:pt x="73955" y="309383"/>
                </a:lnTo>
                <a:lnTo>
                  <a:pt x="70460" y="306162"/>
                </a:lnTo>
                <a:lnTo>
                  <a:pt x="62061" y="298068"/>
                </a:lnTo>
                <a:lnTo>
                  <a:pt x="58297" y="292692"/>
                </a:lnTo>
                <a:lnTo>
                  <a:pt x="54942" y="286568"/>
                </a:lnTo>
                <a:lnTo>
                  <a:pt x="51857" y="279945"/>
                </a:lnTo>
                <a:lnTo>
                  <a:pt x="48431" y="270329"/>
                </a:lnTo>
                <a:lnTo>
                  <a:pt x="46061" y="262386"/>
                </a:lnTo>
                <a:lnTo>
                  <a:pt x="44245" y="257898"/>
                </a:lnTo>
                <a:lnTo>
                  <a:pt x="38070" y="2438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InkAnnotation295"/>
          <p:cNvSpPr/>
          <p:nvPr/>
        </p:nvSpPr>
        <p:spPr>
          <a:xfrm>
            <a:off x="3170160" y="5045040"/>
            <a:ext cx="281160" cy="52560"/>
          </a:xfrm>
          <a:custGeom>
            <a:avLst/>
            <a:gdLst>
              <a:gd name="textAreaLeft" fmla="*/ 0 w 281160"/>
              <a:gd name="textAreaRight" fmla="*/ 281520 w 2811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81941" h="53341">
                <a:moveTo>
                  <a:pt x="0" y="0"/>
                </a:moveTo>
                <a:lnTo>
                  <a:pt x="14652" y="0"/>
                </a:lnTo>
                <a:lnTo>
                  <a:pt x="19081" y="847"/>
                </a:lnTo>
                <a:lnTo>
                  <a:pt x="23727" y="2258"/>
                </a:lnTo>
                <a:lnTo>
                  <a:pt x="28518" y="4045"/>
                </a:lnTo>
                <a:lnTo>
                  <a:pt x="35099" y="5237"/>
                </a:lnTo>
                <a:lnTo>
                  <a:pt x="42872" y="6031"/>
                </a:lnTo>
                <a:lnTo>
                  <a:pt x="51442" y="6561"/>
                </a:lnTo>
                <a:lnTo>
                  <a:pt x="60541" y="7761"/>
                </a:lnTo>
                <a:lnTo>
                  <a:pt x="69994" y="9407"/>
                </a:lnTo>
                <a:lnTo>
                  <a:pt x="79683" y="11351"/>
                </a:lnTo>
                <a:lnTo>
                  <a:pt x="99479" y="15770"/>
                </a:lnTo>
                <a:lnTo>
                  <a:pt x="150762" y="28010"/>
                </a:lnTo>
                <a:lnTo>
                  <a:pt x="174250" y="33051"/>
                </a:lnTo>
                <a:lnTo>
                  <a:pt x="184747" y="35581"/>
                </a:lnTo>
                <a:lnTo>
                  <a:pt x="194285" y="38113"/>
                </a:lnTo>
                <a:lnTo>
                  <a:pt x="203183" y="40649"/>
                </a:lnTo>
                <a:lnTo>
                  <a:pt x="211656" y="42339"/>
                </a:lnTo>
                <a:lnTo>
                  <a:pt x="219844" y="43466"/>
                </a:lnTo>
                <a:lnTo>
                  <a:pt x="227842" y="44217"/>
                </a:lnTo>
                <a:lnTo>
                  <a:pt x="235715" y="45565"/>
                </a:lnTo>
                <a:lnTo>
                  <a:pt x="243503" y="47310"/>
                </a:lnTo>
                <a:lnTo>
                  <a:pt x="251236" y="49320"/>
                </a:lnTo>
                <a:lnTo>
                  <a:pt x="257237" y="50660"/>
                </a:lnTo>
                <a:lnTo>
                  <a:pt x="262084" y="51553"/>
                </a:lnTo>
                <a:lnTo>
                  <a:pt x="269729" y="52546"/>
                </a:lnTo>
                <a:lnTo>
                  <a:pt x="272953" y="52810"/>
                </a:lnTo>
                <a:lnTo>
                  <a:pt x="281940" y="533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InkAnnotation296"/>
          <p:cNvSpPr/>
          <p:nvPr/>
        </p:nvSpPr>
        <p:spPr>
          <a:xfrm>
            <a:off x="3521160" y="4862520"/>
            <a:ext cx="272880" cy="555480"/>
          </a:xfrm>
          <a:custGeom>
            <a:avLst/>
            <a:gdLst>
              <a:gd name="textAreaLeft" fmla="*/ 0 w 272880"/>
              <a:gd name="textAreaRight" fmla="*/ 273240 w 27288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73865" h="554714">
                <a:moveTo>
                  <a:pt x="273864" y="158473"/>
                </a:moveTo>
                <a:lnTo>
                  <a:pt x="273864" y="89175"/>
                </a:lnTo>
                <a:lnTo>
                  <a:pt x="271606" y="74334"/>
                </a:lnTo>
                <a:lnTo>
                  <a:pt x="267780" y="60118"/>
                </a:lnTo>
                <a:lnTo>
                  <a:pt x="263258" y="48155"/>
                </a:lnTo>
                <a:lnTo>
                  <a:pt x="255952" y="31900"/>
                </a:lnTo>
                <a:lnTo>
                  <a:pt x="248425" y="20405"/>
                </a:lnTo>
                <a:lnTo>
                  <a:pt x="240833" y="11637"/>
                </a:lnTo>
                <a:lnTo>
                  <a:pt x="233221" y="3677"/>
                </a:lnTo>
                <a:lnTo>
                  <a:pt x="229835" y="1935"/>
                </a:lnTo>
                <a:lnTo>
                  <a:pt x="221558" y="0"/>
                </a:lnTo>
                <a:lnTo>
                  <a:pt x="216980" y="331"/>
                </a:lnTo>
                <a:lnTo>
                  <a:pt x="212235" y="1398"/>
                </a:lnTo>
                <a:lnTo>
                  <a:pt x="207378" y="2957"/>
                </a:lnTo>
                <a:lnTo>
                  <a:pt x="202446" y="4842"/>
                </a:lnTo>
                <a:lnTo>
                  <a:pt x="197465" y="6945"/>
                </a:lnTo>
                <a:lnTo>
                  <a:pt x="192451" y="9195"/>
                </a:lnTo>
                <a:lnTo>
                  <a:pt x="187416" y="12388"/>
                </a:lnTo>
                <a:lnTo>
                  <a:pt x="182365" y="16210"/>
                </a:lnTo>
                <a:lnTo>
                  <a:pt x="177305" y="20451"/>
                </a:lnTo>
                <a:lnTo>
                  <a:pt x="171391" y="24971"/>
                </a:lnTo>
                <a:lnTo>
                  <a:pt x="164909" y="29679"/>
                </a:lnTo>
                <a:lnTo>
                  <a:pt x="158048" y="34510"/>
                </a:lnTo>
                <a:lnTo>
                  <a:pt x="151779" y="41118"/>
                </a:lnTo>
                <a:lnTo>
                  <a:pt x="145908" y="48909"/>
                </a:lnTo>
                <a:lnTo>
                  <a:pt x="140300" y="57491"/>
                </a:lnTo>
                <a:lnTo>
                  <a:pt x="134021" y="65751"/>
                </a:lnTo>
                <a:lnTo>
                  <a:pt x="127296" y="73799"/>
                </a:lnTo>
                <a:lnTo>
                  <a:pt x="120272" y="81703"/>
                </a:lnTo>
                <a:lnTo>
                  <a:pt x="113896" y="91206"/>
                </a:lnTo>
                <a:lnTo>
                  <a:pt x="107952" y="101775"/>
                </a:lnTo>
                <a:lnTo>
                  <a:pt x="86246" y="145110"/>
                </a:lnTo>
                <a:lnTo>
                  <a:pt x="81052" y="156337"/>
                </a:lnTo>
                <a:lnTo>
                  <a:pt x="70765" y="180101"/>
                </a:lnTo>
                <a:lnTo>
                  <a:pt x="55454" y="217281"/>
                </a:lnTo>
                <a:lnTo>
                  <a:pt x="51211" y="229852"/>
                </a:lnTo>
                <a:lnTo>
                  <a:pt x="47535" y="242465"/>
                </a:lnTo>
                <a:lnTo>
                  <a:pt x="44238" y="255108"/>
                </a:lnTo>
                <a:lnTo>
                  <a:pt x="40347" y="267770"/>
                </a:lnTo>
                <a:lnTo>
                  <a:pt x="36060" y="280444"/>
                </a:lnTo>
                <a:lnTo>
                  <a:pt x="31508" y="293127"/>
                </a:lnTo>
                <a:lnTo>
                  <a:pt x="27627" y="305816"/>
                </a:lnTo>
                <a:lnTo>
                  <a:pt x="24192" y="318509"/>
                </a:lnTo>
                <a:lnTo>
                  <a:pt x="21056" y="331204"/>
                </a:lnTo>
                <a:lnTo>
                  <a:pt x="15315" y="356598"/>
                </a:lnTo>
                <a:lnTo>
                  <a:pt x="9940" y="381148"/>
                </a:lnTo>
                <a:lnTo>
                  <a:pt x="4729" y="403349"/>
                </a:lnTo>
                <a:lnTo>
                  <a:pt x="3001" y="414010"/>
                </a:lnTo>
                <a:lnTo>
                  <a:pt x="1849" y="424505"/>
                </a:lnTo>
                <a:lnTo>
                  <a:pt x="1080" y="434887"/>
                </a:lnTo>
                <a:lnTo>
                  <a:pt x="568" y="445196"/>
                </a:lnTo>
                <a:lnTo>
                  <a:pt x="0" y="465681"/>
                </a:lnTo>
                <a:lnTo>
                  <a:pt x="694" y="475038"/>
                </a:lnTo>
                <a:lnTo>
                  <a:pt x="4871" y="500344"/>
                </a:lnTo>
                <a:lnTo>
                  <a:pt x="6145" y="516155"/>
                </a:lnTo>
                <a:lnTo>
                  <a:pt x="8969" y="527134"/>
                </a:lnTo>
                <a:lnTo>
                  <a:pt x="13046" y="534836"/>
                </a:lnTo>
                <a:lnTo>
                  <a:pt x="19255" y="543932"/>
                </a:lnTo>
                <a:lnTo>
                  <a:pt x="21005" y="549358"/>
                </a:lnTo>
                <a:lnTo>
                  <a:pt x="22318" y="551142"/>
                </a:lnTo>
                <a:lnTo>
                  <a:pt x="24040" y="552333"/>
                </a:lnTo>
                <a:lnTo>
                  <a:pt x="30024" y="5547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InkAnnotation297"/>
          <p:cNvSpPr/>
          <p:nvPr/>
        </p:nvSpPr>
        <p:spPr>
          <a:xfrm>
            <a:off x="3459240" y="5227560"/>
            <a:ext cx="206280" cy="66600"/>
          </a:xfrm>
          <a:custGeom>
            <a:avLst/>
            <a:gdLst>
              <a:gd name="textAreaLeft" fmla="*/ 0 w 206280"/>
              <a:gd name="textAreaRight" fmla="*/ 206640 w 206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205741" h="67289">
                <a:moveTo>
                  <a:pt x="0" y="0"/>
                </a:moveTo>
                <a:lnTo>
                  <a:pt x="4045" y="4045"/>
                </a:lnTo>
                <a:lnTo>
                  <a:pt x="6930" y="6084"/>
                </a:lnTo>
                <a:lnTo>
                  <a:pt x="10546" y="8289"/>
                </a:lnTo>
                <a:lnTo>
                  <a:pt x="14651" y="10606"/>
                </a:lnTo>
                <a:lnTo>
                  <a:pt x="19927" y="12997"/>
                </a:lnTo>
                <a:lnTo>
                  <a:pt x="25985" y="15439"/>
                </a:lnTo>
                <a:lnTo>
                  <a:pt x="32563" y="17912"/>
                </a:lnTo>
                <a:lnTo>
                  <a:pt x="38643" y="21255"/>
                </a:lnTo>
                <a:lnTo>
                  <a:pt x="44388" y="25176"/>
                </a:lnTo>
                <a:lnTo>
                  <a:pt x="49912" y="29485"/>
                </a:lnTo>
                <a:lnTo>
                  <a:pt x="57828" y="33203"/>
                </a:lnTo>
                <a:lnTo>
                  <a:pt x="67339" y="36529"/>
                </a:lnTo>
                <a:lnTo>
                  <a:pt x="77913" y="39593"/>
                </a:lnTo>
                <a:lnTo>
                  <a:pt x="87502" y="43328"/>
                </a:lnTo>
                <a:lnTo>
                  <a:pt x="96435" y="47512"/>
                </a:lnTo>
                <a:lnTo>
                  <a:pt x="104930" y="51995"/>
                </a:lnTo>
                <a:lnTo>
                  <a:pt x="113980" y="54984"/>
                </a:lnTo>
                <a:lnTo>
                  <a:pt x="123400" y="56976"/>
                </a:lnTo>
                <a:lnTo>
                  <a:pt x="133067" y="58304"/>
                </a:lnTo>
                <a:lnTo>
                  <a:pt x="142051" y="60036"/>
                </a:lnTo>
                <a:lnTo>
                  <a:pt x="150581" y="62037"/>
                </a:lnTo>
                <a:lnTo>
                  <a:pt x="158807" y="64219"/>
                </a:lnTo>
                <a:lnTo>
                  <a:pt x="166831" y="65673"/>
                </a:lnTo>
                <a:lnTo>
                  <a:pt x="174721" y="66642"/>
                </a:lnTo>
                <a:lnTo>
                  <a:pt x="182521" y="67288"/>
                </a:lnTo>
                <a:lnTo>
                  <a:pt x="188567" y="66872"/>
                </a:lnTo>
                <a:lnTo>
                  <a:pt x="193445" y="65748"/>
                </a:lnTo>
                <a:lnTo>
                  <a:pt x="205740" y="609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InkAnnotation298"/>
          <p:cNvSpPr/>
          <p:nvPr/>
        </p:nvSpPr>
        <p:spPr>
          <a:xfrm>
            <a:off x="3726000" y="5143680"/>
            <a:ext cx="75960" cy="258480"/>
          </a:xfrm>
          <a:custGeom>
            <a:avLst/>
            <a:gdLst>
              <a:gd name="textAreaLeft" fmla="*/ 0 w 75960"/>
              <a:gd name="textAreaRight" fmla="*/ 76320 w 75960"/>
              <a:gd name="textAreaTop" fmla="*/ 0 h 258480"/>
              <a:gd name="textAreaBottom" fmla="*/ 258840 h 258480"/>
            </a:gdLst>
            <a:ahLst/>
            <a:rect l="textAreaLeft" t="textAreaTop" r="textAreaRight" b="textAreaBottom"/>
            <a:pathLst>
              <a:path w="75887" h="259081">
                <a:moveTo>
                  <a:pt x="68580" y="0"/>
                </a:moveTo>
                <a:lnTo>
                  <a:pt x="75141" y="0"/>
                </a:lnTo>
                <a:lnTo>
                  <a:pt x="75494" y="846"/>
                </a:lnTo>
                <a:lnTo>
                  <a:pt x="75886" y="4045"/>
                </a:lnTo>
                <a:lnTo>
                  <a:pt x="75144" y="6083"/>
                </a:lnTo>
                <a:lnTo>
                  <a:pt x="73802" y="8289"/>
                </a:lnTo>
                <a:lnTo>
                  <a:pt x="72061" y="10606"/>
                </a:lnTo>
                <a:lnTo>
                  <a:pt x="70127" y="17697"/>
                </a:lnTo>
                <a:lnTo>
                  <a:pt x="69612" y="21957"/>
                </a:lnTo>
                <a:lnTo>
                  <a:pt x="68421" y="27338"/>
                </a:lnTo>
                <a:lnTo>
                  <a:pt x="66781" y="33466"/>
                </a:lnTo>
                <a:lnTo>
                  <a:pt x="62700" y="47047"/>
                </a:lnTo>
                <a:lnTo>
                  <a:pt x="45673" y="99138"/>
                </a:lnTo>
                <a:lnTo>
                  <a:pt x="43149" y="106732"/>
                </a:lnTo>
                <a:lnTo>
                  <a:pt x="40620" y="115181"/>
                </a:lnTo>
                <a:lnTo>
                  <a:pt x="33014" y="142407"/>
                </a:lnTo>
                <a:lnTo>
                  <a:pt x="25398" y="167784"/>
                </a:lnTo>
                <a:lnTo>
                  <a:pt x="17779" y="195528"/>
                </a:lnTo>
                <a:lnTo>
                  <a:pt x="12700" y="212208"/>
                </a:lnTo>
                <a:lnTo>
                  <a:pt x="5080" y="235879"/>
                </a:lnTo>
                <a:lnTo>
                  <a:pt x="3387" y="241919"/>
                </a:lnTo>
                <a:lnTo>
                  <a:pt x="2258" y="246793"/>
                </a:lnTo>
                <a:lnTo>
                  <a:pt x="0" y="2590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InkAnnotation299"/>
          <p:cNvSpPr/>
          <p:nvPr/>
        </p:nvSpPr>
        <p:spPr>
          <a:xfrm>
            <a:off x="3665520" y="5303880"/>
            <a:ext cx="152280" cy="60120"/>
          </a:xfrm>
          <a:custGeom>
            <a:avLst/>
            <a:gdLst>
              <a:gd name="textAreaLeft" fmla="*/ 0 w 152280"/>
              <a:gd name="textAreaRight" fmla="*/ 152640 w 15228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52401" h="60961">
                <a:moveTo>
                  <a:pt x="0" y="0"/>
                </a:moveTo>
                <a:lnTo>
                  <a:pt x="0" y="6561"/>
                </a:lnTo>
                <a:lnTo>
                  <a:pt x="847" y="6914"/>
                </a:lnTo>
                <a:lnTo>
                  <a:pt x="4045" y="7307"/>
                </a:lnTo>
                <a:lnTo>
                  <a:pt x="7777" y="8257"/>
                </a:lnTo>
                <a:lnTo>
                  <a:pt x="12805" y="9739"/>
                </a:lnTo>
                <a:lnTo>
                  <a:pt x="32016" y="15868"/>
                </a:lnTo>
                <a:lnTo>
                  <a:pt x="39124" y="18199"/>
                </a:lnTo>
                <a:lnTo>
                  <a:pt x="47249" y="21446"/>
                </a:lnTo>
                <a:lnTo>
                  <a:pt x="56053" y="25304"/>
                </a:lnTo>
                <a:lnTo>
                  <a:pt x="65308" y="29569"/>
                </a:lnTo>
                <a:lnTo>
                  <a:pt x="74020" y="33259"/>
                </a:lnTo>
                <a:lnTo>
                  <a:pt x="82367" y="36566"/>
                </a:lnTo>
                <a:lnTo>
                  <a:pt x="98414" y="42498"/>
                </a:lnTo>
                <a:lnTo>
                  <a:pt x="129412" y="53205"/>
                </a:lnTo>
                <a:lnTo>
                  <a:pt x="152400" y="609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InkAnnotation300"/>
          <p:cNvSpPr/>
          <p:nvPr/>
        </p:nvSpPr>
        <p:spPr>
          <a:xfrm>
            <a:off x="4282920" y="4952880"/>
            <a:ext cx="220680" cy="130320"/>
          </a:xfrm>
          <a:custGeom>
            <a:avLst/>
            <a:gdLst>
              <a:gd name="textAreaLeft" fmla="*/ 0 w 220680"/>
              <a:gd name="textAreaRight" fmla="*/ 221040 w 22068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220845" h="129532">
                <a:moveTo>
                  <a:pt x="106544" y="0"/>
                </a:moveTo>
                <a:lnTo>
                  <a:pt x="95193" y="11352"/>
                </a:lnTo>
                <a:lnTo>
                  <a:pt x="92203" y="13495"/>
                </a:lnTo>
                <a:lnTo>
                  <a:pt x="88518" y="15770"/>
                </a:lnTo>
                <a:lnTo>
                  <a:pt x="84366" y="18133"/>
                </a:lnTo>
                <a:lnTo>
                  <a:pt x="81599" y="20556"/>
                </a:lnTo>
                <a:lnTo>
                  <a:pt x="79754" y="23017"/>
                </a:lnTo>
                <a:lnTo>
                  <a:pt x="78524" y="25505"/>
                </a:lnTo>
                <a:lnTo>
                  <a:pt x="76011" y="28856"/>
                </a:lnTo>
                <a:lnTo>
                  <a:pt x="72643" y="32784"/>
                </a:lnTo>
                <a:lnTo>
                  <a:pt x="65231" y="40818"/>
                </a:lnTo>
                <a:lnTo>
                  <a:pt x="59114" y="47210"/>
                </a:lnTo>
                <a:lnTo>
                  <a:pt x="55451" y="50100"/>
                </a:lnTo>
                <a:lnTo>
                  <a:pt x="51315" y="52874"/>
                </a:lnTo>
                <a:lnTo>
                  <a:pt x="46865" y="55569"/>
                </a:lnTo>
                <a:lnTo>
                  <a:pt x="42205" y="58213"/>
                </a:lnTo>
                <a:lnTo>
                  <a:pt x="32512" y="63408"/>
                </a:lnTo>
                <a:lnTo>
                  <a:pt x="28402" y="66825"/>
                </a:lnTo>
                <a:lnTo>
                  <a:pt x="24817" y="70797"/>
                </a:lnTo>
                <a:lnTo>
                  <a:pt x="21579" y="75138"/>
                </a:lnTo>
                <a:lnTo>
                  <a:pt x="18574" y="78879"/>
                </a:lnTo>
                <a:lnTo>
                  <a:pt x="15724" y="82219"/>
                </a:lnTo>
                <a:lnTo>
                  <a:pt x="12978" y="85292"/>
                </a:lnTo>
                <a:lnTo>
                  <a:pt x="7669" y="90966"/>
                </a:lnTo>
                <a:lnTo>
                  <a:pt x="5067" y="93664"/>
                </a:lnTo>
                <a:lnTo>
                  <a:pt x="3333" y="96309"/>
                </a:lnTo>
                <a:lnTo>
                  <a:pt x="2177" y="98920"/>
                </a:lnTo>
                <a:lnTo>
                  <a:pt x="321" y="105147"/>
                </a:lnTo>
                <a:lnTo>
                  <a:pt x="67" y="108256"/>
                </a:lnTo>
                <a:lnTo>
                  <a:pt x="0" y="110271"/>
                </a:lnTo>
                <a:lnTo>
                  <a:pt x="1649" y="111614"/>
                </a:lnTo>
                <a:lnTo>
                  <a:pt x="12058" y="114351"/>
                </a:lnTo>
                <a:lnTo>
                  <a:pt x="16460" y="116027"/>
                </a:lnTo>
                <a:lnTo>
                  <a:pt x="21088" y="117992"/>
                </a:lnTo>
                <a:lnTo>
                  <a:pt x="25868" y="119301"/>
                </a:lnTo>
                <a:lnTo>
                  <a:pt x="30746" y="120174"/>
                </a:lnTo>
                <a:lnTo>
                  <a:pt x="35693" y="120756"/>
                </a:lnTo>
                <a:lnTo>
                  <a:pt x="41530" y="121991"/>
                </a:lnTo>
                <a:lnTo>
                  <a:pt x="47961" y="123660"/>
                </a:lnTo>
                <a:lnTo>
                  <a:pt x="54789" y="125620"/>
                </a:lnTo>
                <a:lnTo>
                  <a:pt x="61881" y="126927"/>
                </a:lnTo>
                <a:lnTo>
                  <a:pt x="69149" y="127798"/>
                </a:lnTo>
                <a:lnTo>
                  <a:pt x="76534" y="128379"/>
                </a:lnTo>
                <a:lnTo>
                  <a:pt x="84844" y="128766"/>
                </a:lnTo>
                <a:lnTo>
                  <a:pt x="103109" y="129196"/>
                </a:lnTo>
                <a:lnTo>
                  <a:pt x="168474" y="129531"/>
                </a:lnTo>
                <a:lnTo>
                  <a:pt x="174924" y="128687"/>
                </a:lnTo>
                <a:lnTo>
                  <a:pt x="180918" y="127278"/>
                </a:lnTo>
                <a:lnTo>
                  <a:pt x="186607" y="125492"/>
                </a:lnTo>
                <a:lnTo>
                  <a:pt x="191245" y="124301"/>
                </a:lnTo>
                <a:lnTo>
                  <a:pt x="195185" y="123508"/>
                </a:lnTo>
                <a:lnTo>
                  <a:pt x="201820" y="122625"/>
                </a:lnTo>
                <a:lnTo>
                  <a:pt x="207592" y="122234"/>
                </a:lnTo>
                <a:lnTo>
                  <a:pt x="210315" y="121283"/>
                </a:lnTo>
                <a:lnTo>
                  <a:pt x="212979" y="119802"/>
                </a:lnTo>
                <a:lnTo>
                  <a:pt x="220844" y="1143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InkAnnotation301"/>
          <p:cNvSpPr/>
          <p:nvPr/>
        </p:nvSpPr>
        <p:spPr>
          <a:xfrm>
            <a:off x="4435560" y="4975200"/>
            <a:ext cx="98280" cy="274680"/>
          </a:xfrm>
          <a:custGeom>
            <a:avLst/>
            <a:gdLst>
              <a:gd name="textAreaLeft" fmla="*/ 0 w 98280"/>
              <a:gd name="textAreaRight" fmla="*/ 98640 w 982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98679" h="274321">
                <a:moveTo>
                  <a:pt x="98678" y="0"/>
                </a:moveTo>
                <a:lnTo>
                  <a:pt x="94633" y="4045"/>
                </a:lnTo>
                <a:lnTo>
                  <a:pt x="93441" y="6083"/>
                </a:lnTo>
                <a:lnTo>
                  <a:pt x="90918" y="12997"/>
                </a:lnTo>
                <a:lnTo>
                  <a:pt x="89271" y="15438"/>
                </a:lnTo>
                <a:lnTo>
                  <a:pt x="87327" y="17912"/>
                </a:lnTo>
                <a:lnTo>
                  <a:pt x="84337" y="21254"/>
                </a:lnTo>
                <a:lnTo>
                  <a:pt x="76500" y="29484"/>
                </a:lnTo>
                <a:lnTo>
                  <a:pt x="72887" y="34049"/>
                </a:lnTo>
                <a:lnTo>
                  <a:pt x="69630" y="38786"/>
                </a:lnTo>
                <a:lnTo>
                  <a:pt x="66613" y="43637"/>
                </a:lnTo>
                <a:lnTo>
                  <a:pt x="63755" y="49412"/>
                </a:lnTo>
                <a:lnTo>
                  <a:pt x="61003" y="55801"/>
                </a:lnTo>
                <a:lnTo>
                  <a:pt x="58321" y="62601"/>
                </a:lnTo>
                <a:lnTo>
                  <a:pt x="54840" y="69674"/>
                </a:lnTo>
                <a:lnTo>
                  <a:pt x="50827" y="76929"/>
                </a:lnTo>
                <a:lnTo>
                  <a:pt x="46457" y="84306"/>
                </a:lnTo>
                <a:lnTo>
                  <a:pt x="42698" y="91764"/>
                </a:lnTo>
                <a:lnTo>
                  <a:pt x="39344" y="99276"/>
                </a:lnTo>
                <a:lnTo>
                  <a:pt x="36262" y="106824"/>
                </a:lnTo>
                <a:lnTo>
                  <a:pt x="33361" y="114396"/>
                </a:lnTo>
                <a:lnTo>
                  <a:pt x="27879" y="129583"/>
                </a:lnTo>
                <a:lnTo>
                  <a:pt x="24386" y="137188"/>
                </a:lnTo>
                <a:lnTo>
                  <a:pt x="20363" y="144799"/>
                </a:lnTo>
                <a:lnTo>
                  <a:pt x="15989" y="152413"/>
                </a:lnTo>
                <a:lnTo>
                  <a:pt x="13072" y="160028"/>
                </a:lnTo>
                <a:lnTo>
                  <a:pt x="11128" y="167645"/>
                </a:lnTo>
                <a:lnTo>
                  <a:pt x="9831" y="175264"/>
                </a:lnTo>
                <a:lnTo>
                  <a:pt x="8120" y="182883"/>
                </a:lnTo>
                <a:lnTo>
                  <a:pt x="6133" y="190502"/>
                </a:lnTo>
                <a:lnTo>
                  <a:pt x="3962" y="198121"/>
                </a:lnTo>
                <a:lnTo>
                  <a:pt x="2513" y="205741"/>
                </a:lnTo>
                <a:lnTo>
                  <a:pt x="1549" y="213360"/>
                </a:lnTo>
                <a:lnTo>
                  <a:pt x="905" y="220981"/>
                </a:lnTo>
                <a:lnTo>
                  <a:pt x="476" y="227753"/>
                </a:lnTo>
                <a:lnTo>
                  <a:pt x="0" y="239795"/>
                </a:lnTo>
                <a:lnTo>
                  <a:pt x="719" y="245377"/>
                </a:lnTo>
                <a:lnTo>
                  <a:pt x="2046" y="250791"/>
                </a:lnTo>
                <a:lnTo>
                  <a:pt x="3776" y="256094"/>
                </a:lnTo>
                <a:lnTo>
                  <a:pt x="5700" y="264244"/>
                </a:lnTo>
                <a:lnTo>
                  <a:pt x="6213" y="267603"/>
                </a:lnTo>
                <a:lnTo>
                  <a:pt x="7401" y="269842"/>
                </a:lnTo>
                <a:lnTo>
                  <a:pt x="9040" y="271334"/>
                </a:lnTo>
                <a:lnTo>
                  <a:pt x="14859" y="2743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InkAnnotation302"/>
          <p:cNvSpPr/>
          <p:nvPr/>
        </p:nvSpPr>
        <p:spPr>
          <a:xfrm>
            <a:off x="4595760" y="4925880"/>
            <a:ext cx="181080" cy="147600"/>
          </a:xfrm>
          <a:custGeom>
            <a:avLst/>
            <a:gdLst>
              <a:gd name="textAreaLeft" fmla="*/ 0 w 181080"/>
              <a:gd name="textAreaRight" fmla="*/ 181440 w 18108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181690" h="147534">
                <a:moveTo>
                  <a:pt x="136562" y="4390"/>
                </a:moveTo>
                <a:lnTo>
                  <a:pt x="143868" y="4390"/>
                </a:lnTo>
                <a:lnTo>
                  <a:pt x="144090" y="345"/>
                </a:lnTo>
                <a:lnTo>
                  <a:pt x="143274" y="0"/>
                </a:lnTo>
                <a:lnTo>
                  <a:pt x="141883" y="617"/>
                </a:lnTo>
                <a:lnTo>
                  <a:pt x="140110" y="1874"/>
                </a:lnTo>
                <a:lnTo>
                  <a:pt x="135881" y="3272"/>
                </a:lnTo>
                <a:lnTo>
                  <a:pt x="133568" y="3645"/>
                </a:lnTo>
                <a:lnTo>
                  <a:pt x="130333" y="4740"/>
                </a:lnTo>
                <a:lnTo>
                  <a:pt x="126482" y="6316"/>
                </a:lnTo>
                <a:lnTo>
                  <a:pt x="122222" y="8214"/>
                </a:lnTo>
                <a:lnTo>
                  <a:pt x="116843" y="11173"/>
                </a:lnTo>
                <a:lnTo>
                  <a:pt x="110716" y="14839"/>
                </a:lnTo>
                <a:lnTo>
                  <a:pt x="97135" y="23427"/>
                </a:lnTo>
                <a:lnTo>
                  <a:pt x="82633" y="32889"/>
                </a:lnTo>
                <a:lnTo>
                  <a:pt x="74362" y="37782"/>
                </a:lnTo>
                <a:lnTo>
                  <a:pt x="65462" y="42738"/>
                </a:lnTo>
                <a:lnTo>
                  <a:pt x="56143" y="47736"/>
                </a:lnTo>
                <a:lnTo>
                  <a:pt x="48235" y="52760"/>
                </a:lnTo>
                <a:lnTo>
                  <a:pt x="41271" y="57804"/>
                </a:lnTo>
                <a:lnTo>
                  <a:pt x="34935" y="62859"/>
                </a:lnTo>
                <a:lnTo>
                  <a:pt x="29017" y="67923"/>
                </a:lnTo>
                <a:lnTo>
                  <a:pt x="23379" y="72992"/>
                </a:lnTo>
                <a:lnTo>
                  <a:pt x="17926" y="78065"/>
                </a:lnTo>
                <a:lnTo>
                  <a:pt x="13445" y="83140"/>
                </a:lnTo>
                <a:lnTo>
                  <a:pt x="9611" y="88216"/>
                </a:lnTo>
                <a:lnTo>
                  <a:pt x="6208" y="93294"/>
                </a:lnTo>
                <a:lnTo>
                  <a:pt x="3940" y="98373"/>
                </a:lnTo>
                <a:lnTo>
                  <a:pt x="2427" y="103452"/>
                </a:lnTo>
                <a:lnTo>
                  <a:pt x="1419" y="108531"/>
                </a:lnTo>
                <a:lnTo>
                  <a:pt x="747" y="113611"/>
                </a:lnTo>
                <a:lnTo>
                  <a:pt x="298" y="118691"/>
                </a:lnTo>
                <a:lnTo>
                  <a:pt x="0" y="123770"/>
                </a:lnTo>
                <a:lnTo>
                  <a:pt x="1494" y="128004"/>
                </a:lnTo>
                <a:lnTo>
                  <a:pt x="4183" y="131673"/>
                </a:lnTo>
                <a:lnTo>
                  <a:pt x="7670" y="134965"/>
                </a:lnTo>
                <a:lnTo>
                  <a:pt x="12534" y="138006"/>
                </a:lnTo>
                <a:lnTo>
                  <a:pt x="18316" y="140881"/>
                </a:lnTo>
                <a:lnTo>
                  <a:pt x="24712" y="143644"/>
                </a:lnTo>
                <a:lnTo>
                  <a:pt x="31515" y="145486"/>
                </a:lnTo>
                <a:lnTo>
                  <a:pt x="38590" y="146714"/>
                </a:lnTo>
                <a:lnTo>
                  <a:pt x="45847" y="147533"/>
                </a:lnTo>
                <a:lnTo>
                  <a:pt x="54073" y="147231"/>
                </a:lnTo>
                <a:lnTo>
                  <a:pt x="62942" y="146184"/>
                </a:lnTo>
                <a:lnTo>
                  <a:pt x="72243" y="144640"/>
                </a:lnTo>
                <a:lnTo>
                  <a:pt x="81829" y="142763"/>
                </a:lnTo>
                <a:lnTo>
                  <a:pt x="101512" y="138420"/>
                </a:lnTo>
                <a:lnTo>
                  <a:pt x="110656" y="134383"/>
                </a:lnTo>
                <a:lnTo>
                  <a:pt x="119291" y="129152"/>
                </a:lnTo>
                <a:lnTo>
                  <a:pt x="127588" y="123125"/>
                </a:lnTo>
                <a:lnTo>
                  <a:pt x="134813" y="116567"/>
                </a:lnTo>
                <a:lnTo>
                  <a:pt x="141323" y="109654"/>
                </a:lnTo>
                <a:lnTo>
                  <a:pt x="147356" y="102506"/>
                </a:lnTo>
                <a:lnTo>
                  <a:pt x="153072" y="96048"/>
                </a:lnTo>
                <a:lnTo>
                  <a:pt x="163938" y="84356"/>
                </a:lnTo>
                <a:lnTo>
                  <a:pt x="168359" y="78867"/>
                </a:lnTo>
                <a:lnTo>
                  <a:pt x="172153" y="73515"/>
                </a:lnTo>
                <a:lnTo>
                  <a:pt x="175529" y="68253"/>
                </a:lnTo>
                <a:lnTo>
                  <a:pt x="177780" y="63052"/>
                </a:lnTo>
                <a:lnTo>
                  <a:pt x="179281" y="57892"/>
                </a:lnTo>
                <a:lnTo>
                  <a:pt x="180281" y="52758"/>
                </a:lnTo>
                <a:lnTo>
                  <a:pt x="180948" y="47642"/>
                </a:lnTo>
                <a:lnTo>
                  <a:pt x="181393" y="42538"/>
                </a:lnTo>
                <a:lnTo>
                  <a:pt x="181689" y="37442"/>
                </a:lnTo>
                <a:lnTo>
                  <a:pt x="181040" y="33198"/>
                </a:lnTo>
                <a:lnTo>
                  <a:pt x="179761" y="29522"/>
                </a:lnTo>
                <a:lnTo>
                  <a:pt x="178061" y="26225"/>
                </a:lnTo>
                <a:lnTo>
                  <a:pt x="175235" y="24027"/>
                </a:lnTo>
                <a:lnTo>
                  <a:pt x="171658" y="22561"/>
                </a:lnTo>
                <a:lnTo>
                  <a:pt x="167579" y="21584"/>
                </a:lnTo>
                <a:lnTo>
                  <a:pt x="163167" y="20086"/>
                </a:lnTo>
                <a:lnTo>
                  <a:pt x="158532" y="18240"/>
                </a:lnTo>
                <a:lnTo>
                  <a:pt x="153749" y="16164"/>
                </a:lnTo>
                <a:lnTo>
                  <a:pt x="149714" y="15626"/>
                </a:lnTo>
                <a:lnTo>
                  <a:pt x="146176" y="16114"/>
                </a:lnTo>
                <a:lnTo>
                  <a:pt x="136562" y="196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InkAnnotation303"/>
          <p:cNvSpPr/>
          <p:nvPr/>
        </p:nvSpPr>
        <p:spPr>
          <a:xfrm>
            <a:off x="4576680" y="5051520"/>
            <a:ext cx="193680" cy="141120"/>
          </a:xfrm>
          <a:custGeom>
            <a:avLst/>
            <a:gdLst>
              <a:gd name="textAreaLeft" fmla="*/ 0 w 193680"/>
              <a:gd name="textAreaRight" fmla="*/ 194040 w 19368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193567" h="140460">
                <a:moveTo>
                  <a:pt x="132606" y="15240"/>
                </a:moveTo>
                <a:lnTo>
                  <a:pt x="110428" y="15240"/>
                </a:lnTo>
                <a:lnTo>
                  <a:pt x="105967" y="16086"/>
                </a:lnTo>
                <a:lnTo>
                  <a:pt x="101300" y="17498"/>
                </a:lnTo>
                <a:lnTo>
                  <a:pt x="96495" y="19285"/>
                </a:lnTo>
                <a:lnTo>
                  <a:pt x="77598" y="25846"/>
                </a:lnTo>
                <a:lnTo>
                  <a:pt x="55912" y="33152"/>
                </a:lnTo>
                <a:lnTo>
                  <a:pt x="49303" y="36495"/>
                </a:lnTo>
                <a:lnTo>
                  <a:pt x="43204" y="40416"/>
                </a:lnTo>
                <a:lnTo>
                  <a:pt x="37445" y="44724"/>
                </a:lnTo>
                <a:lnTo>
                  <a:pt x="31912" y="48443"/>
                </a:lnTo>
                <a:lnTo>
                  <a:pt x="26530" y="51768"/>
                </a:lnTo>
                <a:lnTo>
                  <a:pt x="21249" y="54833"/>
                </a:lnTo>
                <a:lnTo>
                  <a:pt x="16881" y="58568"/>
                </a:lnTo>
                <a:lnTo>
                  <a:pt x="13123" y="62752"/>
                </a:lnTo>
                <a:lnTo>
                  <a:pt x="9770" y="67235"/>
                </a:lnTo>
                <a:lnTo>
                  <a:pt x="6689" y="71916"/>
                </a:lnTo>
                <a:lnTo>
                  <a:pt x="3788" y="76731"/>
                </a:lnTo>
                <a:lnTo>
                  <a:pt x="1007" y="81634"/>
                </a:lnTo>
                <a:lnTo>
                  <a:pt x="0" y="86596"/>
                </a:lnTo>
                <a:lnTo>
                  <a:pt x="176" y="91597"/>
                </a:lnTo>
                <a:lnTo>
                  <a:pt x="1139" y="96625"/>
                </a:lnTo>
                <a:lnTo>
                  <a:pt x="2628" y="101670"/>
                </a:lnTo>
                <a:lnTo>
                  <a:pt x="4468" y="106727"/>
                </a:lnTo>
                <a:lnTo>
                  <a:pt x="6540" y="111791"/>
                </a:lnTo>
                <a:lnTo>
                  <a:pt x="9615" y="116014"/>
                </a:lnTo>
                <a:lnTo>
                  <a:pt x="13359" y="119676"/>
                </a:lnTo>
                <a:lnTo>
                  <a:pt x="17548" y="122964"/>
                </a:lnTo>
                <a:lnTo>
                  <a:pt x="22880" y="126003"/>
                </a:lnTo>
                <a:lnTo>
                  <a:pt x="28976" y="128875"/>
                </a:lnTo>
                <a:lnTo>
                  <a:pt x="35579" y="131637"/>
                </a:lnTo>
                <a:lnTo>
                  <a:pt x="42521" y="134325"/>
                </a:lnTo>
                <a:lnTo>
                  <a:pt x="57009" y="139569"/>
                </a:lnTo>
                <a:lnTo>
                  <a:pt x="64428" y="140459"/>
                </a:lnTo>
                <a:lnTo>
                  <a:pt x="71914" y="140206"/>
                </a:lnTo>
                <a:lnTo>
                  <a:pt x="79444" y="139191"/>
                </a:lnTo>
                <a:lnTo>
                  <a:pt x="86159" y="137667"/>
                </a:lnTo>
                <a:lnTo>
                  <a:pt x="92327" y="135805"/>
                </a:lnTo>
                <a:lnTo>
                  <a:pt x="98134" y="133716"/>
                </a:lnTo>
                <a:lnTo>
                  <a:pt x="104544" y="130631"/>
                </a:lnTo>
                <a:lnTo>
                  <a:pt x="111359" y="126881"/>
                </a:lnTo>
                <a:lnTo>
                  <a:pt x="118441" y="122687"/>
                </a:lnTo>
                <a:lnTo>
                  <a:pt x="124856" y="118198"/>
                </a:lnTo>
                <a:lnTo>
                  <a:pt x="130826" y="113512"/>
                </a:lnTo>
                <a:lnTo>
                  <a:pt x="136499" y="108695"/>
                </a:lnTo>
                <a:lnTo>
                  <a:pt x="141975" y="103790"/>
                </a:lnTo>
                <a:lnTo>
                  <a:pt x="152575" y="93824"/>
                </a:lnTo>
                <a:lnTo>
                  <a:pt x="156925" y="87950"/>
                </a:lnTo>
                <a:lnTo>
                  <a:pt x="160673" y="81493"/>
                </a:lnTo>
                <a:lnTo>
                  <a:pt x="164017" y="74648"/>
                </a:lnTo>
                <a:lnTo>
                  <a:pt x="167094" y="67546"/>
                </a:lnTo>
                <a:lnTo>
                  <a:pt x="169991" y="60270"/>
                </a:lnTo>
                <a:lnTo>
                  <a:pt x="175468" y="45413"/>
                </a:lnTo>
                <a:lnTo>
                  <a:pt x="180725" y="30344"/>
                </a:lnTo>
                <a:lnTo>
                  <a:pt x="183312" y="24463"/>
                </a:lnTo>
                <a:lnTo>
                  <a:pt x="185884" y="19695"/>
                </a:lnTo>
                <a:lnTo>
                  <a:pt x="188444" y="15670"/>
                </a:lnTo>
                <a:lnTo>
                  <a:pt x="190152" y="12140"/>
                </a:lnTo>
                <a:lnTo>
                  <a:pt x="191290" y="8940"/>
                </a:lnTo>
                <a:lnTo>
                  <a:pt x="19356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InkAnnotation304"/>
          <p:cNvSpPr/>
          <p:nvPr/>
        </p:nvSpPr>
        <p:spPr>
          <a:xfrm>
            <a:off x="4838760" y="4898880"/>
            <a:ext cx="181080" cy="335160"/>
          </a:xfrm>
          <a:custGeom>
            <a:avLst/>
            <a:gdLst>
              <a:gd name="textAreaLeft" fmla="*/ 0 w 181080"/>
              <a:gd name="textAreaRight" fmla="*/ 181440 w 18108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181336" h="334682">
                <a:moveTo>
                  <a:pt x="76169" y="0"/>
                </a:moveTo>
                <a:lnTo>
                  <a:pt x="76169" y="6561"/>
                </a:lnTo>
                <a:lnTo>
                  <a:pt x="75323" y="6914"/>
                </a:lnTo>
                <a:lnTo>
                  <a:pt x="72124" y="7306"/>
                </a:lnTo>
                <a:lnTo>
                  <a:pt x="70086" y="9104"/>
                </a:lnTo>
                <a:lnTo>
                  <a:pt x="65563" y="15617"/>
                </a:lnTo>
                <a:lnTo>
                  <a:pt x="60731" y="21899"/>
                </a:lnTo>
                <a:lnTo>
                  <a:pt x="55761" y="28360"/>
                </a:lnTo>
                <a:lnTo>
                  <a:pt x="50730" y="36876"/>
                </a:lnTo>
                <a:lnTo>
                  <a:pt x="45672" y="46305"/>
                </a:lnTo>
                <a:lnTo>
                  <a:pt x="35526" y="66155"/>
                </a:lnTo>
                <a:lnTo>
                  <a:pt x="32987" y="72044"/>
                </a:lnTo>
                <a:lnTo>
                  <a:pt x="30447" y="78509"/>
                </a:lnTo>
                <a:lnTo>
                  <a:pt x="27908" y="85359"/>
                </a:lnTo>
                <a:lnTo>
                  <a:pt x="25368" y="91619"/>
                </a:lnTo>
                <a:lnTo>
                  <a:pt x="22829" y="97486"/>
                </a:lnTo>
                <a:lnTo>
                  <a:pt x="17749" y="108520"/>
                </a:lnTo>
                <a:lnTo>
                  <a:pt x="12669" y="119069"/>
                </a:lnTo>
                <a:lnTo>
                  <a:pt x="9847" y="129402"/>
                </a:lnTo>
                <a:lnTo>
                  <a:pt x="9094" y="134528"/>
                </a:lnTo>
                <a:lnTo>
                  <a:pt x="6001" y="142481"/>
                </a:lnTo>
                <a:lnTo>
                  <a:pt x="2650" y="148838"/>
                </a:lnTo>
                <a:lnTo>
                  <a:pt x="1160" y="154486"/>
                </a:lnTo>
                <a:lnTo>
                  <a:pt x="204" y="164163"/>
                </a:lnTo>
                <a:lnTo>
                  <a:pt x="0" y="167182"/>
                </a:lnTo>
                <a:lnTo>
                  <a:pt x="4024" y="167504"/>
                </a:lnTo>
                <a:lnTo>
                  <a:pt x="6059" y="165856"/>
                </a:lnTo>
                <a:lnTo>
                  <a:pt x="10578" y="159510"/>
                </a:lnTo>
                <a:lnTo>
                  <a:pt x="15408" y="153302"/>
                </a:lnTo>
                <a:lnTo>
                  <a:pt x="17882" y="150462"/>
                </a:lnTo>
                <a:lnTo>
                  <a:pt x="21224" y="146874"/>
                </a:lnTo>
                <a:lnTo>
                  <a:pt x="29454" y="138373"/>
                </a:lnTo>
                <a:lnTo>
                  <a:pt x="33172" y="132889"/>
                </a:lnTo>
                <a:lnTo>
                  <a:pt x="36498" y="126692"/>
                </a:lnTo>
                <a:lnTo>
                  <a:pt x="39562" y="120022"/>
                </a:lnTo>
                <a:lnTo>
                  <a:pt x="43297" y="114728"/>
                </a:lnTo>
                <a:lnTo>
                  <a:pt x="47481" y="110352"/>
                </a:lnTo>
                <a:lnTo>
                  <a:pt x="51964" y="106588"/>
                </a:lnTo>
                <a:lnTo>
                  <a:pt x="56645" y="102385"/>
                </a:lnTo>
                <a:lnTo>
                  <a:pt x="66363" y="93200"/>
                </a:lnTo>
                <a:lnTo>
                  <a:pt x="71325" y="89227"/>
                </a:lnTo>
                <a:lnTo>
                  <a:pt x="76327" y="85731"/>
                </a:lnTo>
                <a:lnTo>
                  <a:pt x="81354" y="82554"/>
                </a:lnTo>
                <a:lnTo>
                  <a:pt x="85553" y="80436"/>
                </a:lnTo>
                <a:lnTo>
                  <a:pt x="89198" y="79024"/>
                </a:lnTo>
                <a:lnTo>
                  <a:pt x="92475" y="78083"/>
                </a:lnTo>
                <a:lnTo>
                  <a:pt x="96353" y="78302"/>
                </a:lnTo>
                <a:lnTo>
                  <a:pt x="100631" y="79294"/>
                </a:lnTo>
                <a:lnTo>
                  <a:pt x="105177" y="80803"/>
                </a:lnTo>
                <a:lnTo>
                  <a:pt x="109901" y="82655"/>
                </a:lnTo>
                <a:lnTo>
                  <a:pt x="114743" y="84737"/>
                </a:lnTo>
                <a:lnTo>
                  <a:pt x="119666" y="86971"/>
                </a:lnTo>
                <a:lnTo>
                  <a:pt x="123794" y="89308"/>
                </a:lnTo>
                <a:lnTo>
                  <a:pt x="127392" y="91712"/>
                </a:lnTo>
                <a:lnTo>
                  <a:pt x="130638" y="94161"/>
                </a:lnTo>
                <a:lnTo>
                  <a:pt x="134495" y="98334"/>
                </a:lnTo>
                <a:lnTo>
                  <a:pt x="138760" y="103656"/>
                </a:lnTo>
                <a:lnTo>
                  <a:pt x="143296" y="109744"/>
                </a:lnTo>
                <a:lnTo>
                  <a:pt x="147167" y="117189"/>
                </a:lnTo>
                <a:lnTo>
                  <a:pt x="150595" y="125539"/>
                </a:lnTo>
                <a:lnTo>
                  <a:pt x="162178" y="159230"/>
                </a:lnTo>
                <a:lnTo>
                  <a:pt x="164836" y="168807"/>
                </a:lnTo>
                <a:lnTo>
                  <a:pt x="167453" y="179425"/>
                </a:lnTo>
                <a:lnTo>
                  <a:pt x="177738" y="222837"/>
                </a:lnTo>
                <a:lnTo>
                  <a:pt x="179442" y="232378"/>
                </a:lnTo>
                <a:lnTo>
                  <a:pt x="180577" y="241279"/>
                </a:lnTo>
                <a:lnTo>
                  <a:pt x="181335" y="249753"/>
                </a:lnTo>
                <a:lnTo>
                  <a:pt x="180993" y="258788"/>
                </a:lnTo>
                <a:lnTo>
                  <a:pt x="179918" y="268199"/>
                </a:lnTo>
                <a:lnTo>
                  <a:pt x="178356" y="277859"/>
                </a:lnTo>
                <a:lnTo>
                  <a:pt x="176467" y="285993"/>
                </a:lnTo>
                <a:lnTo>
                  <a:pt x="174361" y="293109"/>
                </a:lnTo>
                <a:lnTo>
                  <a:pt x="172110" y="299546"/>
                </a:lnTo>
                <a:lnTo>
                  <a:pt x="169763" y="305531"/>
                </a:lnTo>
                <a:lnTo>
                  <a:pt x="167352" y="311214"/>
                </a:lnTo>
                <a:lnTo>
                  <a:pt x="162415" y="321197"/>
                </a:lnTo>
                <a:lnTo>
                  <a:pt x="157399" y="328457"/>
                </a:lnTo>
                <a:lnTo>
                  <a:pt x="154029" y="330731"/>
                </a:lnTo>
                <a:lnTo>
                  <a:pt x="150089" y="332247"/>
                </a:lnTo>
                <a:lnTo>
                  <a:pt x="145769" y="333258"/>
                </a:lnTo>
                <a:lnTo>
                  <a:pt x="142042" y="333932"/>
                </a:lnTo>
                <a:lnTo>
                  <a:pt x="138712" y="334381"/>
                </a:lnTo>
                <a:lnTo>
                  <a:pt x="135644" y="334681"/>
                </a:lnTo>
                <a:lnTo>
                  <a:pt x="132752" y="334034"/>
                </a:lnTo>
                <a:lnTo>
                  <a:pt x="127282" y="331058"/>
                </a:lnTo>
                <a:lnTo>
                  <a:pt x="123791" y="329078"/>
                </a:lnTo>
                <a:lnTo>
                  <a:pt x="115397" y="324622"/>
                </a:lnTo>
                <a:lnTo>
                  <a:pt x="111634" y="320554"/>
                </a:lnTo>
                <a:lnTo>
                  <a:pt x="108279" y="315303"/>
                </a:lnTo>
                <a:lnTo>
                  <a:pt x="105196" y="309262"/>
                </a:lnTo>
                <a:lnTo>
                  <a:pt x="102294" y="302695"/>
                </a:lnTo>
                <a:lnTo>
                  <a:pt x="99512" y="295776"/>
                </a:lnTo>
                <a:lnTo>
                  <a:pt x="96811" y="288624"/>
                </a:lnTo>
                <a:lnTo>
                  <a:pt x="93810" y="278420"/>
                </a:lnTo>
                <a:lnTo>
                  <a:pt x="91410" y="2667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InkAnnotation305"/>
          <p:cNvSpPr/>
          <p:nvPr/>
        </p:nvSpPr>
        <p:spPr>
          <a:xfrm>
            <a:off x="4952880" y="4892760"/>
            <a:ext cx="220680" cy="30240"/>
          </a:xfrm>
          <a:custGeom>
            <a:avLst/>
            <a:gdLst>
              <a:gd name="textAreaLeft" fmla="*/ 0 w 220680"/>
              <a:gd name="textAreaRight" fmla="*/ 221040 w 2206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20981" h="30481">
                <a:moveTo>
                  <a:pt x="0" y="0"/>
                </a:moveTo>
                <a:lnTo>
                  <a:pt x="10606" y="0"/>
                </a:lnTo>
                <a:lnTo>
                  <a:pt x="13844" y="847"/>
                </a:lnTo>
                <a:lnTo>
                  <a:pt x="17696" y="2258"/>
                </a:lnTo>
                <a:lnTo>
                  <a:pt x="21958" y="4045"/>
                </a:lnTo>
                <a:lnTo>
                  <a:pt x="27339" y="5237"/>
                </a:lnTo>
                <a:lnTo>
                  <a:pt x="33466" y="6031"/>
                </a:lnTo>
                <a:lnTo>
                  <a:pt x="40091" y="6561"/>
                </a:lnTo>
                <a:lnTo>
                  <a:pt x="47894" y="7761"/>
                </a:lnTo>
                <a:lnTo>
                  <a:pt x="56483" y="9407"/>
                </a:lnTo>
                <a:lnTo>
                  <a:pt x="75057" y="13495"/>
                </a:lnTo>
                <a:lnTo>
                  <a:pt x="94601" y="18133"/>
                </a:lnTo>
                <a:lnTo>
                  <a:pt x="104554" y="19709"/>
                </a:lnTo>
                <a:lnTo>
                  <a:pt x="114576" y="20759"/>
                </a:lnTo>
                <a:lnTo>
                  <a:pt x="124644" y="21459"/>
                </a:lnTo>
                <a:lnTo>
                  <a:pt x="133896" y="22773"/>
                </a:lnTo>
                <a:lnTo>
                  <a:pt x="142604" y="24496"/>
                </a:lnTo>
                <a:lnTo>
                  <a:pt x="150950" y="26491"/>
                </a:lnTo>
                <a:lnTo>
                  <a:pt x="159053" y="27820"/>
                </a:lnTo>
                <a:lnTo>
                  <a:pt x="166995" y="28707"/>
                </a:lnTo>
                <a:lnTo>
                  <a:pt x="174830" y="29298"/>
                </a:lnTo>
                <a:lnTo>
                  <a:pt x="182594" y="29692"/>
                </a:lnTo>
                <a:lnTo>
                  <a:pt x="197993" y="30130"/>
                </a:lnTo>
                <a:lnTo>
                  <a:pt x="220980" y="304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InkAnnotation306"/>
          <p:cNvSpPr/>
          <p:nvPr/>
        </p:nvSpPr>
        <p:spPr>
          <a:xfrm>
            <a:off x="5303880" y="4846680"/>
            <a:ext cx="60120" cy="297000"/>
          </a:xfrm>
          <a:custGeom>
            <a:avLst/>
            <a:gdLst>
              <a:gd name="textAreaLeft" fmla="*/ 0 w 60120"/>
              <a:gd name="textAreaRight" fmla="*/ 60480 w 601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59902" h="297181">
                <a:moveTo>
                  <a:pt x="53340" y="0"/>
                </a:moveTo>
                <a:lnTo>
                  <a:pt x="53340" y="6561"/>
                </a:lnTo>
                <a:lnTo>
                  <a:pt x="54186" y="7760"/>
                </a:lnTo>
                <a:lnTo>
                  <a:pt x="55597" y="9408"/>
                </a:lnTo>
                <a:lnTo>
                  <a:pt x="57385" y="11352"/>
                </a:lnTo>
                <a:lnTo>
                  <a:pt x="58577" y="14341"/>
                </a:lnTo>
                <a:lnTo>
                  <a:pt x="59901" y="22178"/>
                </a:lnTo>
                <a:lnTo>
                  <a:pt x="59407" y="25792"/>
                </a:lnTo>
                <a:lnTo>
                  <a:pt x="58231" y="29048"/>
                </a:lnTo>
                <a:lnTo>
                  <a:pt x="56602" y="32066"/>
                </a:lnTo>
                <a:lnTo>
                  <a:pt x="55514" y="36617"/>
                </a:lnTo>
                <a:lnTo>
                  <a:pt x="54789" y="42191"/>
                </a:lnTo>
                <a:lnTo>
                  <a:pt x="54306" y="48448"/>
                </a:lnTo>
                <a:lnTo>
                  <a:pt x="53138" y="55159"/>
                </a:lnTo>
                <a:lnTo>
                  <a:pt x="51511" y="62172"/>
                </a:lnTo>
                <a:lnTo>
                  <a:pt x="49581" y="69388"/>
                </a:lnTo>
                <a:lnTo>
                  <a:pt x="45178" y="84179"/>
                </a:lnTo>
                <a:lnTo>
                  <a:pt x="42819" y="91680"/>
                </a:lnTo>
                <a:lnTo>
                  <a:pt x="37940" y="109045"/>
                </a:lnTo>
                <a:lnTo>
                  <a:pt x="20311" y="177938"/>
                </a:lnTo>
                <a:lnTo>
                  <a:pt x="18620" y="188053"/>
                </a:lnTo>
                <a:lnTo>
                  <a:pt x="17494" y="198181"/>
                </a:lnTo>
                <a:lnTo>
                  <a:pt x="16742" y="208321"/>
                </a:lnTo>
                <a:lnTo>
                  <a:pt x="15395" y="218468"/>
                </a:lnTo>
                <a:lnTo>
                  <a:pt x="13650" y="228618"/>
                </a:lnTo>
                <a:lnTo>
                  <a:pt x="11641" y="238772"/>
                </a:lnTo>
                <a:lnTo>
                  <a:pt x="9453" y="248082"/>
                </a:lnTo>
                <a:lnTo>
                  <a:pt x="7149" y="256828"/>
                </a:lnTo>
                <a:lnTo>
                  <a:pt x="4766" y="265199"/>
                </a:lnTo>
                <a:lnTo>
                  <a:pt x="3177" y="272472"/>
                </a:lnTo>
                <a:lnTo>
                  <a:pt x="2119" y="279015"/>
                </a:lnTo>
                <a:lnTo>
                  <a:pt x="0" y="297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InkAnnotation307"/>
          <p:cNvSpPr/>
          <p:nvPr/>
        </p:nvSpPr>
        <p:spPr>
          <a:xfrm>
            <a:off x="5211720" y="5051520"/>
            <a:ext cx="198360" cy="27000"/>
          </a:xfrm>
          <a:custGeom>
            <a:avLst/>
            <a:gdLst>
              <a:gd name="textAreaLeft" fmla="*/ 0 w 198360"/>
              <a:gd name="textAreaRight" fmla="*/ 198720 w 1983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98121" h="27024">
                <a:moveTo>
                  <a:pt x="0" y="0"/>
                </a:moveTo>
                <a:lnTo>
                  <a:pt x="0" y="6561"/>
                </a:lnTo>
                <a:lnTo>
                  <a:pt x="846" y="6914"/>
                </a:lnTo>
                <a:lnTo>
                  <a:pt x="6083" y="7411"/>
                </a:lnTo>
                <a:lnTo>
                  <a:pt x="10606" y="7527"/>
                </a:lnTo>
                <a:lnTo>
                  <a:pt x="13844" y="8405"/>
                </a:lnTo>
                <a:lnTo>
                  <a:pt x="17696" y="9836"/>
                </a:lnTo>
                <a:lnTo>
                  <a:pt x="21957" y="11638"/>
                </a:lnTo>
                <a:lnTo>
                  <a:pt x="27339" y="12838"/>
                </a:lnTo>
                <a:lnTo>
                  <a:pt x="33466" y="13639"/>
                </a:lnTo>
                <a:lnTo>
                  <a:pt x="40090" y="14173"/>
                </a:lnTo>
                <a:lnTo>
                  <a:pt x="47047" y="15375"/>
                </a:lnTo>
                <a:lnTo>
                  <a:pt x="54225" y="17024"/>
                </a:lnTo>
                <a:lnTo>
                  <a:pt x="61550" y="18969"/>
                </a:lnTo>
                <a:lnTo>
                  <a:pt x="69820" y="20266"/>
                </a:lnTo>
                <a:lnTo>
                  <a:pt x="78720" y="21131"/>
                </a:lnTo>
                <a:lnTo>
                  <a:pt x="88040" y="21707"/>
                </a:lnTo>
                <a:lnTo>
                  <a:pt x="95947" y="22938"/>
                </a:lnTo>
                <a:lnTo>
                  <a:pt x="102911" y="24606"/>
                </a:lnTo>
                <a:lnTo>
                  <a:pt x="109247" y="26564"/>
                </a:lnTo>
                <a:lnTo>
                  <a:pt x="116858" y="27023"/>
                </a:lnTo>
                <a:lnTo>
                  <a:pt x="125319" y="26482"/>
                </a:lnTo>
                <a:lnTo>
                  <a:pt x="134346" y="25274"/>
                </a:lnTo>
                <a:lnTo>
                  <a:pt x="142058" y="24470"/>
                </a:lnTo>
                <a:lnTo>
                  <a:pt x="148891" y="23934"/>
                </a:lnTo>
                <a:lnTo>
                  <a:pt x="155141" y="23576"/>
                </a:lnTo>
                <a:lnTo>
                  <a:pt x="161001" y="22491"/>
                </a:lnTo>
                <a:lnTo>
                  <a:pt x="166601" y="20920"/>
                </a:lnTo>
                <a:lnTo>
                  <a:pt x="172027" y="19027"/>
                </a:lnTo>
                <a:lnTo>
                  <a:pt x="176491" y="16918"/>
                </a:lnTo>
                <a:lnTo>
                  <a:pt x="180314" y="14665"/>
                </a:lnTo>
                <a:lnTo>
                  <a:pt x="183709" y="12317"/>
                </a:lnTo>
                <a:lnTo>
                  <a:pt x="186820" y="10752"/>
                </a:lnTo>
                <a:lnTo>
                  <a:pt x="189740" y="9707"/>
                </a:lnTo>
                <a:lnTo>
                  <a:pt x="198120" y="76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InkAnnotation308"/>
          <p:cNvSpPr/>
          <p:nvPr/>
        </p:nvSpPr>
        <p:spPr>
          <a:xfrm>
            <a:off x="5608800" y="4822920"/>
            <a:ext cx="45720" cy="290520"/>
          </a:xfrm>
          <a:custGeom>
            <a:avLst/>
            <a:gdLst>
              <a:gd name="textAreaLeft" fmla="*/ 0 w 45720"/>
              <a:gd name="textAreaRight" fmla="*/ 46080 w 45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45694" h="289561">
                <a:moveTo>
                  <a:pt x="38100" y="0"/>
                </a:moveTo>
                <a:lnTo>
                  <a:pt x="42145" y="4045"/>
                </a:lnTo>
                <a:lnTo>
                  <a:pt x="43337" y="6083"/>
                </a:lnTo>
                <a:lnTo>
                  <a:pt x="44661" y="10606"/>
                </a:lnTo>
                <a:lnTo>
                  <a:pt x="45250" y="17696"/>
                </a:lnTo>
                <a:lnTo>
                  <a:pt x="45511" y="26491"/>
                </a:lnTo>
                <a:lnTo>
                  <a:pt x="45693" y="54989"/>
                </a:lnTo>
                <a:lnTo>
                  <a:pt x="44855" y="62060"/>
                </a:lnTo>
                <a:lnTo>
                  <a:pt x="43450" y="69313"/>
                </a:lnTo>
                <a:lnTo>
                  <a:pt x="35112" y="103250"/>
                </a:lnTo>
                <a:lnTo>
                  <a:pt x="33568" y="112860"/>
                </a:lnTo>
                <a:lnTo>
                  <a:pt x="32539" y="122654"/>
                </a:lnTo>
                <a:lnTo>
                  <a:pt x="31853" y="132569"/>
                </a:lnTo>
                <a:lnTo>
                  <a:pt x="30549" y="141719"/>
                </a:lnTo>
                <a:lnTo>
                  <a:pt x="28832" y="150359"/>
                </a:lnTo>
                <a:lnTo>
                  <a:pt x="19995" y="186523"/>
                </a:lnTo>
                <a:lnTo>
                  <a:pt x="17563" y="195469"/>
                </a:lnTo>
                <a:lnTo>
                  <a:pt x="12604" y="212181"/>
                </a:lnTo>
                <a:lnTo>
                  <a:pt x="10943" y="220195"/>
                </a:lnTo>
                <a:lnTo>
                  <a:pt x="9836" y="228077"/>
                </a:lnTo>
                <a:lnTo>
                  <a:pt x="9097" y="235871"/>
                </a:lnTo>
                <a:lnTo>
                  <a:pt x="7758" y="243607"/>
                </a:lnTo>
                <a:lnTo>
                  <a:pt x="6019" y="251305"/>
                </a:lnTo>
                <a:lnTo>
                  <a:pt x="4013" y="258977"/>
                </a:lnTo>
                <a:lnTo>
                  <a:pt x="2675" y="264938"/>
                </a:lnTo>
                <a:lnTo>
                  <a:pt x="1784" y="269759"/>
                </a:lnTo>
                <a:lnTo>
                  <a:pt x="793" y="277373"/>
                </a:lnTo>
                <a:lnTo>
                  <a:pt x="528" y="280589"/>
                </a:lnTo>
                <a:lnTo>
                  <a:pt x="0" y="2895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InkAnnotation309"/>
          <p:cNvSpPr/>
          <p:nvPr/>
        </p:nvSpPr>
        <p:spPr>
          <a:xfrm>
            <a:off x="5813280" y="4846680"/>
            <a:ext cx="206640" cy="212760"/>
          </a:xfrm>
          <a:custGeom>
            <a:avLst/>
            <a:gdLst>
              <a:gd name="textAreaLeft" fmla="*/ 0 w 206640"/>
              <a:gd name="textAreaRight" fmla="*/ 207000 w 2066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05493" h="213321">
                <a:moveTo>
                  <a:pt x="7620" y="15239"/>
                </a:moveTo>
                <a:lnTo>
                  <a:pt x="7620" y="7620"/>
                </a:lnTo>
                <a:lnTo>
                  <a:pt x="11665" y="7620"/>
                </a:lnTo>
                <a:lnTo>
                  <a:pt x="13703" y="6773"/>
                </a:lnTo>
                <a:lnTo>
                  <a:pt x="18226" y="3574"/>
                </a:lnTo>
                <a:lnTo>
                  <a:pt x="22311" y="2382"/>
                </a:lnTo>
                <a:lnTo>
                  <a:pt x="27574" y="1588"/>
                </a:lnTo>
                <a:lnTo>
                  <a:pt x="33623" y="1058"/>
                </a:lnTo>
                <a:lnTo>
                  <a:pt x="39348" y="705"/>
                </a:lnTo>
                <a:lnTo>
                  <a:pt x="50226" y="313"/>
                </a:lnTo>
                <a:lnTo>
                  <a:pt x="77090" y="61"/>
                </a:lnTo>
                <a:lnTo>
                  <a:pt x="167337" y="0"/>
                </a:lnTo>
                <a:lnTo>
                  <a:pt x="173365" y="846"/>
                </a:lnTo>
                <a:lnTo>
                  <a:pt x="178230" y="2257"/>
                </a:lnTo>
                <a:lnTo>
                  <a:pt x="182320" y="4044"/>
                </a:lnTo>
                <a:lnTo>
                  <a:pt x="186740" y="5236"/>
                </a:lnTo>
                <a:lnTo>
                  <a:pt x="191380" y="6030"/>
                </a:lnTo>
                <a:lnTo>
                  <a:pt x="196167" y="6560"/>
                </a:lnTo>
                <a:lnTo>
                  <a:pt x="199358" y="7759"/>
                </a:lnTo>
                <a:lnTo>
                  <a:pt x="201486" y="9406"/>
                </a:lnTo>
                <a:lnTo>
                  <a:pt x="204901" y="14087"/>
                </a:lnTo>
                <a:lnTo>
                  <a:pt x="205367" y="16985"/>
                </a:lnTo>
                <a:lnTo>
                  <a:pt x="205492" y="18943"/>
                </a:lnTo>
                <a:lnTo>
                  <a:pt x="204728" y="21095"/>
                </a:lnTo>
                <a:lnTo>
                  <a:pt x="201622" y="25744"/>
                </a:lnTo>
                <a:lnTo>
                  <a:pt x="198761" y="28169"/>
                </a:lnTo>
                <a:lnTo>
                  <a:pt x="195161" y="30632"/>
                </a:lnTo>
                <a:lnTo>
                  <a:pt x="191067" y="33121"/>
                </a:lnTo>
                <a:lnTo>
                  <a:pt x="185799" y="35627"/>
                </a:lnTo>
                <a:lnTo>
                  <a:pt x="179746" y="38144"/>
                </a:lnTo>
                <a:lnTo>
                  <a:pt x="173170" y="40669"/>
                </a:lnTo>
                <a:lnTo>
                  <a:pt x="159092" y="45732"/>
                </a:lnTo>
                <a:lnTo>
                  <a:pt x="129357" y="55882"/>
                </a:lnTo>
                <a:lnTo>
                  <a:pt x="122644" y="58421"/>
                </a:lnTo>
                <a:lnTo>
                  <a:pt x="116476" y="60960"/>
                </a:lnTo>
                <a:lnTo>
                  <a:pt x="110671" y="63500"/>
                </a:lnTo>
                <a:lnTo>
                  <a:pt x="99705" y="68579"/>
                </a:lnTo>
                <a:lnTo>
                  <a:pt x="94410" y="71119"/>
                </a:lnTo>
                <a:lnTo>
                  <a:pt x="90033" y="73659"/>
                </a:lnTo>
                <a:lnTo>
                  <a:pt x="86269" y="76199"/>
                </a:lnTo>
                <a:lnTo>
                  <a:pt x="78189" y="82314"/>
                </a:lnTo>
                <a:lnTo>
                  <a:pt x="77526" y="83662"/>
                </a:lnTo>
                <a:lnTo>
                  <a:pt x="76789" y="87418"/>
                </a:lnTo>
                <a:lnTo>
                  <a:pt x="77440" y="89605"/>
                </a:lnTo>
                <a:lnTo>
                  <a:pt x="80420" y="94293"/>
                </a:lnTo>
                <a:lnTo>
                  <a:pt x="84567" y="99198"/>
                </a:lnTo>
                <a:lnTo>
                  <a:pt x="86858" y="101692"/>
                </a:lnTo>
                <a:lnTo>
                  <a:pt x="90079" y="104201"/>
                </a:lnTo>
                <a:lnTo>
                  <a:pt x="93919" y="106720"/>
                </a:lnTo>
                <a:lnTo>
                  <a:pt x="98173" y="109247"/>
                </a:lnTo>
                <a:lnTo>
                  <a:pt x="103549" y="110931"/>
                </a:lnTo>
                <a:lnTo>
                  <a:pt x="109672" y="112053"/>
                </a:lnTo>
                <a:lnTo>
                  <a:pt x="116295" y="112802"/>
                </a:lnTo>
                <a:lnTo>
                  <a:pt x="122404" y="114148"/>
                </a:lnTo>
                <a:lnTo>
                  <a:pt x="128170" y="115892"/>
                </a:lnTo>
                <a:lnTo>
                  <a:pt x="133706" y="117901"/>
                </a:lnTo>
                <a:lnTo>
                  <a:pt x="139091" y="120934"/>
                </a:lnTo>
                <a:lnTo>
                  <a:pt x="144374" y="124648"/>
                </a:lnTo>
                <a:lnTo>
                  <a:pt x="149590" y="128819"/>
                </a:lnTo>
                <a:lnTo>
                  <a:pt x="155606" y="132445"/>
                </a:lnTo>
                <a:lnTo>
                  <a:pt x="162158" y="135710"/>
                </a:lnTo>
                <a:lnTo>
                  <a:pt x="169065" y="138733"/>
                </a:lnTo>
                <a:lnTo>
                  <a:pt x="173670" y="141595"/>
                </a:lnTo>
                <a:lnTo>
                  <a:pt x="176741" y="144349"/>
                </a:lnTo>
                <a:lnTo>
                  <a:pt x="178787" y="147033"/>
                </a:lnTo>
                <a:lnTo>
                  <a:pt x="180998" y="148821"/>
                </a:lnTo>
                <a:lnTo>
                  <a:pt x="183319" y="150014"/>
                </a:lnTo>
                <a:lnTo>
                  <a:pt x="185713" y="150809"/>
                </a:lnTo>
                <a:lnTo>
                  <a:pt x="187309" y="152186"/>
                </a:lnTo>
                <a:lnTo>
                  <a:pt x="188372" y="153950"/>
                </a:lnTo>
                <a:lnTo>
                  <a:pt x="189082" y="155973"/>
                </a:lnTo>
                <a:lnTo>
                  <a:pt x="188708" y="158168"/>
                </a:lnTo>
                <a:lnTo>
                  <a:pt x="186035" y="162865"/>
                </a:lnTo>
                <a:lnTo>
                  <a:pt x="179767" y="167775"/>
                </a:lnTo>
                <a:lnTo>
                  <a:pt x="175725" y="170269"/>
                </a:lnTo>
                <a:lnTo>
                  <a:pt x="172184" y="172780"/>
                </a:lnTo>
                <a:lnTo>
                  <a:pt x="165990" y="177826"/>
                </a:lnTo>
                <a:lnTo>
                  <a:pt x="162307" y="180357"/>
                </a:lnTo>
                <a:lnTo>
                  <a:pt x="158158" y="182891"/>
                </a:lnTo>
                <a:lnTo>
                  <a:pt x="153699" y="185427"/>
                </a:lnTo>
                <a:lnTo>
                  <a:pt x="148186" y="187964"/>
                </a:lnTo>
                <a:lnTo>
                  <a:pt x="141971" y="190503"/>
                </a:lnTo>
                <a:lnTo>
                  <a:pt x="135287" y="193042"/>
                </a:lnTo>
                <a:lnTo>
                  <a:pt x="121087" y="198120"/>
                </a:lnTo>
                <a:lnTo>
                  <a:pt x="91275" y="208279"/>
                </a:lnTo>
                <a:lnTo>
                  <a:pt x="83711" y="209973"/>
                </a:lnTo>
                <a:lnTo>
                  <a:pt x="76127" y="211101"/>
                </a:lnTo>
                <a:lnTo>
                  <a:pt x="68531" y="211854"/>
                </a:lnTo>
                <a:lnTo>
                  <a:pt x="61774" y="212356"/>
                </a:lnTo>
                <a:lnTo>
                  <a:pt x="55576" y="212690"/>
                </a:lnTo>
                <a:lnTo>
                  <a:pt x="44174" y="213062"/>
                </a:lnTo>
                <a:lnTo>
                  <a:pt x="21956" y="213320"/>
                </a:lnTo>
                <a:lnTo>
                  <a:pt x="18870" y="212486"/>
                </a:lnTo>
                <a:lnTo>
                  <a:pt x="13185" y="209303"/>
                </a:lnTo>
                <a:lnTo>
                  <a:pt x="7835" y="205064"/>
                </a:lnTo>
                <a:lnTo>
                  <a:pt x="5224" y="202749"/>
                </a:lnTo>
                <a:lnTo>
                  <a:pt x="3483" y="200359"/>
                </a:lnTo>
                <a:lnTo>
                  <a:pt x="1548" y="195446"/>
                </a:lnTo>
                <a:lnTo>
                  <a:pt x="688" y="190440"/>
                </a:lnTo>
                <a:lnTo>
                  <a:pt x="0" y="1828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InkAnnotation310"/>
          <p:cNvSpPr/>
          <p:nvPr/>
        </p:nvSpPr>
        <p:spPr>
          <a:xfrm>
            <a:off x="6141960" y="4822920"/>
            <a:ext cx="258840" cy="249120"/>
          </a:xfrm>
          <a:custGeom>
            <a:avLst/>
            <a:gdLst>
              <a:gd name="textAreaLeft" fmla="*/ 0 w 258840"/>
              <a:gd name="textAreaRight" fmla="*/ 259200 w 2588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59081" h="247913">
                <a:moveTo>
                  <a:pt x="0" y="0"/>
                </a:moveTo>
                <a:lnTo>
                  <a:pt x="51442" y="0"/>
                </a:lnTo>
                <a:lnTo>
                  <a:pt x="60541" y="846"/>
                </a:lnTo>
                <a:lnTo>
                  <a:pt x="69994" y="2257"/>
                </a:lnTo>
                <a:lnTo>
                  <a:pt x="79683" y="4045"/>
                </a:lnTo>
                <a:lnTo>
                  <a:pt x="89529" y="5237"/>
                </a:lnTo>
                <a:lnTo>
                  <a:pt x="99479" y="6031"/>
                </a:lnTo>
                <a:lnTo>
                  <a:pt x="109500" y="6561"/>
                </a:lnTo>
                <a:lnTo>
                  <a:pt x="118720" y="7760"/>
                </a:lnTo>
                <a:lnTo>
                  <a:pt x="127407" y="9407"/>
                </a:lnTo>
                <a:lnTo>
                  <a:pt x="135738" y="11351"/>
                </a:lnTo>
                <a:lnTo>
                  <a:pt x="143832" y="13494"/>
                </a:lnTo>
                <a:lnTo>
                  <a:pt x="159599" y="18133"/>
                </a:lnTo>
                <a:lnTo>
                  <a:pt x="165666" y="20556"/>
                </a:lnTo>
                <a:lnTo>
                  <a:pt x="170557" y="23017"/>
                </a:lnTo>
                <a:lnTo>
                  <a:pt x="174665" y="25505"/>
                </a:lnTo>
                <a:lnTo>
                  <a:pt x="179097" y="28010"/>
                </a:lnTo>
                <a:lnTo>
                  <a:pt x="188536" y="33051"/>
                </a:lnTo>
                <a:lnTo>
                  <a:pt x="191731" y="35581"/>
                </a:lnTo>
                <a:lnTo>
                  <a:pt x="193860" y="38113"/>
                </a:lnTo>
                <a:lnTo>
                  <a:pt x="195280" y="40649"/>
                </a:lnTo>
                <a:lnTo>
                  <a:pt x="195380" y="43186"/>
                </a:lnTo>
                <a:lnTo>
                  <a:pt x="194601" y="45724"/>
                </a:lnTo>
                <a:lnTo>
                  <a:pt x="193234" y="48262"/>
                </a:lnTo>
                <a:lnTo>
                  <a:pt x="187200" y="55599"/>
                </a:lnTo>
                <a:lnTo>
                  <a:pt x="179720" y="63658"/>
                </a:lnTo>
                <a:lnTo>
                  <a:pt x="173573" y="70061"/>
                </a:lnTo>
                <a:lnTo>
                  <a:pt x="169056" y="73801"/>
                </a:lnTo>
                <a:lnTo>
                  <a:pt x="163504" y="77987"/>
                </a:lnTo>
                <a:lnTo>
                  <a:pt x="150562" y="87154"/>
                </a:lnTo>
                <a:lnTo>
                  <a:pt x="91369" y="127031"/>
                </a:lnTo>
                <a:lnTo>
                  <a:pt x="84619" y="132101"/>
                </a:lnTo>
                <a:lnTo>
                  <a:pt x="78426" y="137174"/>
                </a:lnTo>
                <a:lnTo>
                  <a:pt x="72605" y="142249"/>
                </a:lnTo>
                <a:lnTo>
                  <a:pt x="67029" y="147326"/>
                </a:lnTo>
                <a:lnTo>
                  <a:pt x="56320" y="157483"/>
                </a:lnTo>
                <a:lnTo>
                  <a:pt x="44816" y="168676"/>
                </a:lnTo>
                <a:lnTo>
                  <a:pt x="41731" y="172564"/>
                </a:lnTo>
                <a:lnTo>
                  <a:pt x="38827" y="176849"/>
                </a:lnTo>
                <a:lnTo>
                  <a:pt x="36045" y="181400"/>
                </a:lnTo>
                <a:lnTo>
                  <a:pt x="34189" y="186126"/>
                </a:lnTo>
                <a:lnTo>
                  <a:pt x="32953" y="190971"/>
                </a:lnTo>
                <a:lnTo>
                  <a:pt x="32129" y="195894"/>
                </a:lnTo>
                <a:lnTo>
                  <a:pt x="32426" y="200023"/>
                </a:lnTo>
                <a:lnTo>
                  <a:pt x="33471" y="203622"/>
                </a:lnTo>
                <a:lnTo>
                  <a:pt x="35014" y="206868"/>
                </a:lnTo>
                <a:lnTo>
                  <a:pt x="38583" y="210725"/>
                </a:lnTo>
                <a:lnTo>
                  <a:pt x="43502" y="214990"/>
                </a:lnTo>
                <a:lnTo>
                  <a:pt x="49321" y="219527"/>
                </a:lnTo>
                <a:lnTo>
                  <a:pt x="55741" y="223398"/>
                </a:lnTo>
                <a:lnTo>
                  <a:pt x="62561" y="226825"/>
                </a:lnTo>
                <a:lnTo>
                  <a:pt x="69648" y="229957"/>
                </a:lnTo>
                <a:lnTo>
                  <a:pt x="76912" y="232891"/>
                </a:lnTo>
                <a:lnTo>
                  <a:pt x="91757" y="238410"/>
                </a:lnTo>
                <a:lnTo>
                  <a:pt x="100964" y="240220"/>
                </a:lnTo>
                <a:lnTo>
                  <a:pt x="111336" y="241427"/>
                </a:lnTo>
                <a:lnTo>
                  <a:pt x="122484" y="242231"/>
                </a:lnTo>
                <a:lnTo>
                  <a:pt x="133303" y="243614"/>
                </a:lnTo>
                <a:lnTo>
                  <a:pt x="143902" y="245383"/>
                </a:lnTo>
                <a:lnTo>
                  <a:pt x="154355" y="247409"/>
                </a:lnTo>
                <a:lnTo>
                  <a:pt x="165556" y="247912"/>
                </a:lnTo>
                <a:lnTo>
                  <a:pt x="177258" y="247402"/>
                </a:lnTo>
                <a:lnTo>
                  <a:pt x="189292" y="246214"/>
                </a:lnTo>
                <a:lnTo>
                  <a:pt x="200702" y="245423"/>
                </a:lnTo>
                <a:lnTo>
                  <a:pt x="211695" y="244895"/>
                </a:lnTo>
                <a:lnTo>
                  <a:pt x="238831" y="244152"/>
                </a:lnTo>
                <a:lnTo>
                  <a:pt x="259080" y="2438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InkAnnotation311"/>
          <p:cNvSpPr/>
          <p:nvPr/>
        </p:nvSpPr>
        <p:spPr>
          <a:xfrm>
            <a:off x="6553080" y="4930920"/>
            <a:ext cx="206640" cy="6120"/>
          </a:xfrm>
          <a:custGeom>
            <a:avLst/>
            <a:gdLst>
              <a:gd name="textAreaLeft" fmla="*/ 0 w 206640"/>
              <a:gd name="textAreaRight" fmla="*/ 207000 w 2066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05741" h="7613">
                <a:moveTo>
                  <a:pt x="0" y="0"/>
                </a:moveTo>
                <a:lnTo>
                  <a:pt x="26969" y="0"/>
                </a:lnTo>
                <a:lnTo>
                  <a:pt x="32373" y="847"/>
                </a:lnTo>
                <a:lnTo>
                  <a:pt x="37668" y="2257"/>
                </a:lnTo>
                <a:lnTo>
                  <a:pt x="42893" y="4045"/>
                </a:lnTo>
                <a:lnTo>
                  <a:pt x="48915" y="5237"/>
                </a:lnTo>
                <a:lnTo>
                  <a:pt x="55470" y="6031"/>
                </a:lnTo>
                <a:lnTo>
                  <a:pt x="62381" y="6561"/>
                </a:lnTo>
                <a:lnTo>
                  <a:pt x="69527" y="6914"/>
                </a:lnTo>
                <a:lnTo>
                  <a:pt x="84241" y="7306"/>
                </a:lnTo>
                <a:lnTo>
                  <a:pt x="148366" y="7612"/>
                </a:lnTo>
                <a:lnTo>
                  <a:pt x="153944" y="6768"/>
                </a:lnTo>
                <a:lnTo>
                  <a:pt x="159357" y="5359"/>
                </a:lnTo>
                <a:lnTo>
                  <a:pt x="164658" y="3572"/>
                </a:lnTo>
                <a:lnTo>
                  <a:pt x="169886" y="2382"/>
                </a:lnTo>
                <a:lnTo>
                  <a:pt x="175064" y="1588"/>
                </a:lnTo>
                <a:lnTo>
                  <a:pt x="180209" y="1059"/>
                </a:lnTo>
                <a:lnTo>
                  <a:pt x="184486" y="706"/>
                </a:lnTo>
                <a:lnTo>
                  <a:pt x="188184" y="471"/>
                </a:lnTo>
                <a:lnTo>
                  <a:pt x="194551" y="209"/>
                </a:lnTo>
                <a:lnTo>
                  <a:pt x="2057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9240" bIns="-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InkAnnotation312"/>
          <p:cNvSpPr/>
          <p:nvPr/>
        </p:nvSpPr>
        <p:spPr>
          <a:xfrm>
            <a:off x="6523200" y="4998960"/>
            <a:ext cx="242640" cy="46080"/>
          </a:xfrm>
          <a:custGeom>
            <a:avLst/>
            <a:gdLst>
              <a:gd name="textAreaLeft" fmla="*/ 0 w 242640"/>
              <a:gd name="textAreaRight" fmla="*/ 243000 w 2426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43841" h="45721">
                <a:moveTo>
                  <a:pt x="0" y="45720"/>
                </a:moveTo>
                <a:lnTo>
                  <a:pt x="8090" y="45720"/>
                </a:lnTo>
                <a:lnTo>
                  <a:pt x="11321" y="44874"/>
                </a:lnTo>
                <a:lnTo>
                  <a:pt x="14320" y="43463"/>
                </a:lnTo>
                <a:lnTo>
                  <a:pt x="17167" y="41675"/>
                </a:lnTo>
                <a:lnTo>
                  <a:pt x="21605" y="40483"/>
                </a:lnTo>
                <a:lnTo>
                  <a:pt x="27103" y="39689"/>
                </a:lnTo>
                <a:lnTo>
                  <a:pt x="33309" y="39159"/>
                </a:lnTo>
                <a:lnTo>
                  <a:pt x="40832" y="37959"/>
                </a:lnTo>
                <a:lnTo>
                  <a:pt x="49235" y="36313"/>
                </a:lnTo>
                <a:lnTo>
                  <a:pt x="67603" y="32226"/>
                </a:lnTo>
                <a:lnTo>
                  <a:pt x="117046" y="20216"/>
                </a:lnTo>
                <a:lnTo>
                  <a:pt x="126290" y="17710"/>
                </a:lnTo>
                <a:lnTo>
                  <a:pt x="143336" y="12669"/>
                </a:lnTo>
                <a:lnTo>
                  <a:pt x="151438" y="10986"/>
                </a:lnTo>
                <a:lnTo>
                  <a:pt x="159378" y="9864"/>
                </a:lnTo>
                <a:lnTo>
                  <a:pt x="167212" y="9116"/>
                </a:lnTo>
                <a:lnTo>
                  <a:pt x="174975" y="7771"/>
                </a:lnTo>
                <a:lnTo>
                  <a:pt x="182689" y="6027"/>
                </a:lnTo>
                <a:lnTo>
                  <a:pt x="190373" y="4018"/>
                </a:lnTo>
                <a:lnTo>
                  <a:pt x="197189" y="2679"/>
                </a:lnTo>
                <a:lnTo>
                  <a:pt x="203426" y="1786"/>
                </a:lnTo>
                <a:lnTo>
                  <a:pt x="209278" y="1191"/>
                </a:lnTo>
                <a:lnTo>
                  <a:pt x="214872" y="794"/>
                </a:lnTo>
                <a:lnTo>
                  <a:pt x="220295" y="530"/>
                </a:lnTo>
                <a:lnTo>
                  <a:pt x="233074" y="105"/>
                </a:lnTo>
                <a:lnTo>
                  <a:pt x="2438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InkAnnotation313"/>
          <p:cNvSpPr/>
          <p:nvPr/>
        </p:nvSpPr>
        <p:spPr>
          <a:xfrm>
            <a:off x="7197840" y="4694400"/>
            <a:ext cx="231840" cy="317160"/>
          </a:xfrm>
          <a:custGeom>
            <a:avLst/>
            <a:gdLst>
              <a:gd name="textAreaLeft" fmla="*/ 0 w 231840"/>
              <a:gd name="textAreaRight" fmla="*/ 232200 w 231840"/>
              <a:gd name="textAreaTop" fmla="*/ 0 h 317160"/>
              <a:gd name="textAreaBottom" fmla="*/ 317520 h 317160"/>
            </a:gdLst>
            <a:ahLst/>
            <a:rect l="textAreaLeft" t="textAreaTop" r="textAreaRight" b="textAreaBottom"/>
            <a:pathLst>
              <a:path w="231671" h="318300">
                <a:moveTo>
                  <a:pt x="147850" y="0"/>
                </a:moveTo>
                <a:lnTo>
                  <a:pt x="140544" y="0"/>
                </a:lnTo>
                <a:lnTo>
                  <a:pt x="140271" y="8289"/>
                </a:lnTo>
                <a:lnTo>
                  <a:pt x="140258" y="10606"/>
                </a:lnTo>
                <a:lnTo>
                  <a:pt x="139402" y="12997"/>
                </a:lnTo>
                <a:lnTo>
                  <a:pt x="136193" y="17912"/>
                </a:lnTo>
                <a:lnTo>
                  <a:pt x="129688" y="25176"/>
                </a:lnTo>
                <a:lnTo>
                  <a:pt x="125582" y="29485"/>
                </a:lnTo>
                <a:lnTo>
                  <a:pt x="121151" y="34896"/>
                </a:lnTo>
                <a:lnTo>
                  <a:pt x="116504" y="41044"/>
                </a:lnTo>
                <a:lnTo>
                  <a:pt x="111713" y="47683"/>
                </a:lnTo>
                <a:lnTo>
                  <a:pt x="105978" y="53802"/>
                </a:lnTo>
                <a:lnTo>
                  <a:pt x="99616" y="59575"/>
                </a:lnTo>
                <a:lnTo>
                  <a:pt x="92834" y="65117"/>
                </a:lnTo>
                <a:lnTo>
                  <a:pt x="86619" y="72198"/>
                </a:lnTo>
                <a:lnTo>
                  <a:pt x="80784" y="80306"/>
                </a:lnTo>
                <a:lnTo>
                  <a:pt x="75199" y="89097"/>
                </a:lnTo>
                <a:lnTo>
                  <a:pt x="68936" y="97498"/>
                </a:lnTo>
                <a:lnTo>
                  <a:pt x="62221" y="105639"/>
                </a:lnTo>
                <a:lnTo>
                  <a:pt x="55204" y="113606"/>
                </a:lnTo>
                <a:lnTo>
                  <a:pt x="48833" y="122304"/>
                </a:lnTo>
                <a:lnTo>
                  <a:pt x="42892" y="131489"/>
                </a:lnTo>
                <a:lnTo>
                  <a:pt x="37238" y="140999"/>
                </a:lnTo>
                <a:lnTo>
                  <a:pt x="31775" y="150726"/>
                </a:lnTo>
                <a:lnTo>
                  <a:pt x="21190" y="170565"/>
                </a:lnTo>
                <a:lnTo>
                  <a:pt x="16844" y="179750"/>
                </a:lnTo>
                <a:lnTo>
                  <a:pt x="13098" y="188414"/>
                </a:lnTo>
                <a:lnTo>
                  <a:pt x="9756" y="196729"/>
                </a:lnTo>
                <a:lnTo>
                  <a:pt x="3784" y="212742"/>
                </a:lnTo>
                <a:lnTo>
                  <a:pt x="1006" y="220568"/>
                </a:lnTo>
                <a:lnTo>
                  <a:pt x="0" y="228325"/>
                </a:lnTo>
                <a:lnTo>
                  <a:pt x="177" y="236037"/>
                </a:lnTo>
                <a:lnTo>
                  <a:pt x="1142" y="243718"/>
                </a:lnTo>
                <a:lnTo>
                  <a:pt x="1785" y="250532"/>
                </a:lnTo>
                <a:lnTo>
                  <a:pt x="2213" y="256768"/>
                </a:lnTo>
                <a:lnTo>
                  <a:pt x="2498" y="262619"/>
                </a:lnTo>
                <a:lnTo>
                  <a:pt x="4382" y="268212"/>
                </a:lnTo>
                <a:lnTo>
                  <a:pt x="7331" y="273635"/>
                </a:lnTo>
                <a:lnTo>
                  <a:pt x="10991" y="278944"/>
                </a:lnTo>
                <a:lnTo>
                  <a:pt x="15971" y="283329"/>
                </a:lnTo>
                <a:lnTo>
                  <a:pt x="21831" y="287099"/>
                </a:lnTo>
                <a:lnTo>
                  <a:pt x="28277" y="290459"/>
                </a:lnTo>
                <a:lnTo>
                  <a:pt x="35115" y="293546"/>
                </a:lnTo>
                <a:lnTo>
                  <a:pt x="42214" y="296451"/>
                </a:lnTo>
                <a:lnTo>
                  <a:pt x="49486" y="299234"/>
                </a:lnTo>
                <a:lnTo>
                  <a:pt x="57721" y="300243"/>
                </a:lnTo>
                <a:lnTo>
                  <a:pt x="66597" y="300069"/>
                </a:lnTo>
                <a:lnTo>
                  <a:pt x="75902" y="299105"/>
                </a:lnTo>
                <a:lnTo>
                  <a:pt x="85491" y="297617"/>
                </a:lnTo>
                <a:lnTo>
                  <a:pt x="95271" y="295778"/>
                </a:lnTo>
                <a:lnTo>
                  <a:pt x="105178" y="293705"/>
                </a:lnTo>
                <a:lnTo>
                  <a:pt x="114322" y="290630"/>
                </a:lnTo>
                <a:lnTo>
                  <a:pt x="122958" y="286887"/>
                </a:lnTo>
                <a:lnTo>
                  <a:pt x="131255" y="282698"/>
                </a:lnTo>
                <a:lnTo>
                  <a:pt x="138480" y="278212"/>
                </a:lnTo>
                <a:lnTo>
                  <a:pt x="144990" y="273528"/>
                </a:lnTo>
                <a:lnTo>
                  <a:pt x="151024" y="268712"/>
                </a:lnTo>
                <a:lnTo>
                  <a:pt x="156739" y="262961"/>
                </a:lnTo>
                <a:lnTo>
                  <a:pt x="162242" y="256588"/>
                </a:lnTo>
                <a:lnTo>
                  <a:pt x="167605" y="249798"/>
                </a:lnTo>
                <a:lnTo>
                  <a:pt x="171180" y="243579"/>
                </a:lnTo>
                <a:lnTo>
                  <a:pt x="173564" y="237739"/>
                </a:lnTo>
                <a:lnTo>
                  <a:pt x="175153" y="232153"/>
                </a:lnTo>
                <a:lnTo>
                  <a:pt x="176211" y="226735"/>
                </a:lnTo>
                <a:lnTo>
                  <a:pt x="176918" y="221430"/>
                </a:lnTo>
                <a:lnTo>
                  <a:pt x="177389" y="216200"/>
                </a:lnTo>
                <a:lnTo>
                  <a:pt x="176856" y="211020"/>
                </a:lnTo>
                <a:lnTo>
                  <a:pt x="175654" y="205874"/>
                </a:lnTo>
                <a:lnTo>
                  <a:pt x="172060" y="196486"/>
                </a:lnTo>
                <a:lnTo>
                  <a:pt x="167641" y="189492"/>
                </a:lnTo>
                <a:lnTo>
                  <a:pt x="162856" y="183561"/>
                </a:lnTo>
                <a:lnTo>
                  <a:pt x="160394" y="180794"/>
                </a:lnTo>
                <a:lnTo>
                  <a:pt x="157059" y="178949"/>
                </a:lnTo>
                <a:lnTo>
                  <a:pt x="153143" y="177719"/>
                </a:lnTo>
                <a:lnTo>
                  <a:pt x="148839" y="176899"/>
                </a:lnTo>
                <a:lnTo>
                  <a:pt x="144275" y="177200"/>
                </a:lnTo>
                <a:lnTo>
                  <a:pt x="139541" y="178247"/>
                </a:lnTo>
                <a:lnTo>
                  <a:pt x="134690" y="179791"/>
                </a:lnTo>
                <a:lnTo>
                  <a:pt x="130610" y="181668"/>
                </a:lnTo>
                <a:lnTo>
                  <a:pt x="123819" y="186010"/>
                </a:lnTo>
                <a:lnTo>
                  <a:pt x="119977" y="189200"/>
                </a:lnTo>
                <a:lnTo>
                  <a:pt x="115721" y="193020"/>
                </a:lnTo>
                <a:lnTo>
                  <a:pt x="111190" y="197260"/>
                </a:lnTo>
                <a:lnTo>
                  <a:pt x="108171" y="201780"/>
                </a:lnTo>
                <a:lnTo>
                  <a:pt x="104815" y="211318"/>
                </a:lnTo>
                <a:lnTo>
                  <a:pt x="103920" y="217078"/>
                </a:lnTo>
                <a:lnTo>
                  <a:pt x="103324" y="223459"/>
                </a:lnTo>
                <a:lnTo>
                  <a:pt x="102925" y="230253"/>
                </a:lnTo>
                <a:lnTo>
                  <a:pt x="104355" y="237322"/>
                </a:lnTo>
                <a:lnTo>
                  <a:pt x="106999" y="244575"/>
                </a:lnTo>
                <a:lnTo>
                  <a:pt x="110456" y="251950"/>
                </a:lnTo>
                <a:lnTo>
                  <a:pt x="114454" y="258560"/>
                </a:lnTo>
                <a:lnTo>
                  <a:pt x="118813" y="264660"/>
                </a:lnTo>
                <a:lnTo>
                  <a:pt x="123411" y="270420"/>
                </a:lnTo>
                <a:lnTo>
                  <a:pt x="129018" y="276800"/>
                </a:lnTo>
                <a:lnTo>
                  <a:pt x="135295" y="283593"/>
                </a:lnTo>
                <a:lnTo>
                  <a:pt x="142020" y="290662"/>
                </a:lnTo>
                <a:lnTo>
                  <a:pt x="149043" y="296222"/>
                </a:lnTo>
                <a:lnTo>
                  <a:pt x="156265" y="300774"/>
                </a:lnTo>
                <a:lnTo>
                  <a:pt x="182062" y="314165"/>
                </a:lnTo>
                <a:lnTo>
                  <a:pt x="187591" y="316123"/>
                </a:lnTo>
                <a:lnTo>
                  <a:pt x="192971" y="317429"/>
                </a:lnTo>
                <a:lnTo>
                  <a:pt x="198251" y="318299"/>
                </a:lnTo>
                <a:lnTo>
                  <a:pt x="203463" y="318033"/>
                </a:lnTo>
                <a:lnTo>
                  <a:pt x="208633" y="317009"/>
                </a:lnTo>
                <a:lnTo>
                  <a:pt x="213772" y="315479"/>
                </a:lnTo>
                <a:lnTo>
                  <a:pt x="218045" y="314460"/>
                </a:lnTo>
                <a:lnTo>
                  <a:pt x="221740" y="313780"/>
                </a:lnTo>
                <a:lnTo>
                  <a:pt x="231670" y="3124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InkAnnotation314"/>
          <p:cNvSpPr/>
          <p:nvPr/>
        </p:nvSpPr>
        <p:spPr>
          <a:xfrm>
            <a:off x="7601040" y="4664160"/>
            <a:ext cx="57240" cy="296640"/>
          </a:xfrm>
          <a:custGeom>
            <a:avLst/>
            <a:gdLst>
              <a:gd name="textAreaLeft" fmla="*/ 0 w 57240"/>
              <a:gd name="textAreaRight" fmla="*/ 57600 w 5724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57641" h="297181">
                <a:moveTo>
                  <a:pt x="57640" y="0"/>
                </a:moveTo>
                <a:lnTo>
                  <a:pt x="57640" y="10606"/>
                </a:lnTo>
                <a:lnTo>
                  <a:pt x="56794" y="12997"/>
                </a:lnTo>
                <a:lnTo>
                  <a:pt x="55382" y="15438"/>
                </a:lnTo>
                <a:lnTo>
                  <a:pt x="53596" y="17912"/>
                </a:lnTo>
                <a:lnTo>
                  <a:pt x="51557" y="21255"/>
                </a:lnTo>
                <a:lnTo>
                  <a:pt x="49352" y="25176"/>
                </a:lnTo>
                <a:lnTo>
                  <a:pt x="47035" y="29484"/>
                </a:lnTo>
                <a:lnTo>
                  <a:pt x="44643" y="34896"/>
                </a:lnTo>
                <a:lnTo>
                  <a:pt x="42203" y="41044"/>
                </a:lnTo>
                <a:lnTo>
                  <a:pt x="39729" y="47683"/>
                </a:lnTo>
                <a:lnTo>
                  <a:pt x="38079" y="54649"/>
                </a:lnTo>
                <a:lnTo>
                  <a:pt x="36980" y="61832"/>
                </a:lnTo>
                <a:lnTo>
                  <a:pt x="36247" y="69162"/>
                </a:lnTo>
                <a:lnTo>
                  <a:pt x="34912" y="76588"/>
                </a:lnTo>
                <a:lnTo>
                  <a:pt x="33175" y="84079"/>
                </a:lnTo>
                <a:lnTo>
                  <a:pt x="31171" y="91612"/>
                </a:lnTo>
                <a:lnTo>
                  <a:pt x="26685" y="106756"/>
                </a:lnTo>
                <a:lnTo>
                  <a:pt x="24304" y="114351"/>
                </a:lnTo>
                <a:lnTo>
                  <a:pt x="19400" y="131821"/>
                </a:lnTo>
                <a:lnTo>
                  <a:pt x="9353" y="170631"/>
                </a:lnTo>
                <a:lnTo>
                  <a:pt x="7670" y="180640"/>
                </a:lnTo>
                <a:lnTo>
                  <a:pt x="6546" y="190700"/>
                </a:lnTo>
                <a:lnTo>
                  <a:pt x="5798" y="200793"/>
                </a:lnTo>
                <a:lnTo>
                  <a:pt x="5299" y="210063"/>
                </a:lnTo>
                <a:lnTo>
                  <a:pt x="4746" y="227135"/>
                </a:lnTo>
                <a:lnTo>
                  <a:pt x="3750" y="235243"/>
                </a:lnTo>
                <a:lnTo>
                  <a:pt x="2241" y="243188"/>
                </a:lnTo>
                <a:lnTo>
                  <a:pt x="388" y="251026"/>
                </a:lnTo>
                <a:lnTo>
                  <a:pt x="0" y="257944"/>
                </a:lnTo>
                <a:lnTo>
                  <a:pt x="586" y="264250"/>
                </a:lnTo>
                <a:lnTo>
                  <a:pt x="1825" y="270147"/>
                </a:lnTo>
                <a:lnTo>
                  <a:pt x="3497" y="274924"/>
                </a:lnTo>
                <a:lnTo>
                  <a:pt x="5458" y="278956"/>
                </a:lnTo>
                <a:lnTo>
                  <a:pt x="7613" y="282491"/>
                </a:lnTo>
                <a:lnTo>
                  <a:pt x="9049" y="285694"/>
                </a:lnTo>
                <a:lnTo>
                  <a:pt x="10645" y="291511"/>
                </a:lnTo>
                <a:lnTo>
                  <a:pt x="11917" y="293400"/>
                </a:lnTo>
                <a:lnTo>
                  <a:pt x="13611" y="294660"/>
                </a:lnTo>
                <a:lnTo>
                  <a:pt x="19541" y="297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InkAnnotation315"/>
          <p:cNvSpPr/>
          <p:nvPr/>
        </p:nvSpPr>
        <p:spPr>
          <a:xfrm>
            <a:off x="7832880" y="4602240"/>
            <a:ext cx="236520" cy="280800"/>
          </a:xfrm>
          <a:custGeom>
            <a:avLst/>
            <a:gdLst>
              <a:gd name="textAreaLeft" fmla="*/ 0 w 236520"/>
              <a:gd name="textAreaRight" fmla="*/ 236880 w 23652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36066" h="280259">
                <a:moveTo>
                  <a:pt x="0" y="60921"/>
                </a:moveTo>
                <a:lnTo>
                  <a:pt x="21957" y="60921"/>
                </a:lnTo>
                <a:lnTo>
                  <a:pt x="26491" y="60075"/>
                </a:lnTo>
                <a:lnTo>
                  <a:pt x="31207" y="58664"/>
                </a:lnTo>
                <a:lnTo>
                  <a:pt x="36046" y="56876"/>
                </a:lnTo>
                <a:lnTo>
                  <a:pt x="41810" y="55684"/>
                </a:lnTo>
                <a:lnTo>
                  <a:pt x="48194" y="54890"/>
                </a:lnTo>
                <a:lnTo>
                  <a:pt x="54989" y="54360"/>
                </a:lnTo>
                <a:lnTo>
                  <a:pt x="62060" y="53161"/>
                </a:lnTo>
                <a:lnTo>
                  <a:pt x="69313" y="51514"/>
                </a:lnTo>
                <a:lnTo>
                  <a:pt x="76688" y="49570"/>
                </a:lnTo>
                <a:lnTo>
                  <a:pt x="84992" y="48273"/>
                </a:lnTo>
                <a:lnTo>
                  <a:pt x="93914" y="47409"/>
                </a:lnTo>
                <a:lnTo>
                  <a:pt x="103249" y="46833"/>
                </a:lnTo>
                <a:lnTo>
                  <a:pt x="112860" y="44755"/>
                </a:lnTo>
                <a:lnTo>
                  <a:pt x="122654" y="41678"/>
                </a:lnTo>
                <a:lnTo>
                  <a:pt x="141720" y="34588"/>
                </a:lnTo>
                <a:lnTo>
                  <a:pt x="174656" y="23139"/>
                </a:lnTo>
                <a:lnTo>
                  <a:pt x="205621" y="12724"/>
                </a:lnTo>
                <a:lnTo>
                  <a:pt x="211588" y="10163"/>
                </a:lnTo>
                <a:lnTo>
                  <a:pt x="216411" y="7609"/>
                </a:lnTo>
                <a:lnTo>
                  <a:pt x="220475" y="5060"/>
                </a:lnTo>
                <a:lnTo>
                  <a:pt x="227247" y="2227"/>
                </a:lnTo>
                <a:lnTo>
                  <a:pt x="236065" y="0"/>
                </a:lnTo>
                <a:lnTo>
                  <a:pt x="232130" y="4018"/>
                </a:lnTo>
                <a:lnTo>
                  <a:pt x="227912" y="10513"/>
                </a:lnTo>
                <a:lnTo>
                  <a:pt x="222368" y="19044"/>
                </a:lnTo>
                <a:lnTo>
                  <a:pt x="218518" y="23690"/>
                </a:lnTo>
                <a:lnTo>
                  <a:pt x="214260" y="28480"/>
                </a:lnTo>
                <a:lnTo>
                  <a:pt x="202753" y="40576"/>
                </a:lnTo>
                <a:lnTo>
                  <a:pt x="196129" y="47358"/>
                </a:lnTo>
                <a:lnTo>
                  <a:pt x="190019" y="54419"/>
                </a:lnTo>
                <a:lnTo>
                  <a:pt x="184253" y="61666"/>
                </a:lnTo>
                <a:lnTo>
                  <a:pt x="178715" y="69038"/>
                </a:lnTo>
                <a:lnTo>
                  <a:pt x="171637" y="77339"/>
                </a:lnTo>
                <a:lnTo>
                  <a:pt x="163532" y="86260"/>
                </a:lnTo>
                <a:lnTo>
                  <a:pt x="154742" y="95594"/>
                </a:lnTo>
                <a:lnTo>
                  <a:pt x="146341" y="105203"/>
                </a:lnTo>
                <a:lnTo>
                  <a:pt x="138200" y="114996"/>
                </a:lnTo>
                <a:lnTo>
                  <a:pt x="130233" y="124911"/>
                </a:lnTo>
                <a:lnTo>
                  <a:pt x="122382" y="134061"/>
                </a:lnTo>
                <a:lnTo>
                  <a:pt x="114609" y="142701"/>
                </a:lnTo>
                <a:lnTo>
                  <a:pt x="106886" y="151001"/>
                </a:lnTo>
                <a:lnTo>
                  <a:pt x="100044" y="159074"/>
                </a:lnTo>
                <a:lnTo>
                  <a:pt x="93789" y="166997"/>
                </a:lnTo>
                <a:lnTo>
                  <a:pt x="67539" y="202007"/>
                </a:lnTo>
                <a:lnTo>
                  <a:pt x="61959" y="210012"/>
                </a:lnTo>
                <a:lnTo>
                  <a:pt x="57393" y="217041"/>
                </a:lnTo>
                <a:lnTo>
                  <a:pt x="53502" y="223421"/>
                </a:lnTo>
                <a:lnTo>
                  <a:pt x="49215" y="229368"/>
                </a:lnTo>
                <a:lnTo>
                  <a:pt x="44664" y="235026"/>
                </a:lnTo>
                <a:lnTo>
                  <a:pt x="39935" y="240491"/>
                </a:lnTo>
                <a:lnTo>
                  <a:pt x="35937" y="245828"/>
                </a:lnTo>
                <a:lnTo>
                  <a:pt x="32425" y="251079"/>
                </a:lnTo>
                <a:lnTo>
                  <a:pt x="29237" y="256273"/>
                </a:lnTo>
                <a:lnTo>
                  <a:pt x="23436" y="264302"/>
                </a:lnTo>
                <a:lnTo>
                  <a:pt x="20704" y="267628"/>
                </a:lnTo>
                <a:lnTo>
                  <a:pt x="17669" y="273582"/>
                </a:lnTo>
                <a:lnTo>
                  <a:pt x="16859" y="276355"/>
                </a:lnTo>
                <a:lnTo>
                  <a:pt x="15473" y="278204"/>
                </a:lnTo>
                <a:lnTo>
                  <a:pt x="13702" y="279436"/>
                </a:lnTo>
                <a:lnTo>
                  <a:pt x="11674" y="280258"/>
                </a:lnTo>
                <a:lnTo>
                  <a:pt x="10323" y="279959"/>
                </a:lnTo>
                <a:lnTo>
                  <a:pt x="9423" y="278913"/>
                </a:lnTo>
                <a:lnTo>
                  <a:pt x="7620" y="2742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InkAnnotation316"/>
          <p:cNvSpPr/>
          <p:nvPr/>
        </p:nvSpPr>
        <p:spPr>
          <a:xfrm>
            <a:off x="7894800" y="4708440"/>
            <a:ext cx="258480" cy="38160"/>
          </a:xfrm>
          <a:custGeom>
            <a:avLst/>
            <a:gdLst>
              <a:gd name="textAreaLeft" fmla="*/ 0 w 258480"/>
              <a:gd name="textAreaRight" fmla="*/ 258840 w 258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59081" h="38005">
                <a:moveTo>
                  <a:pt x="0" y="15144"/>
                </a:moveTo>
                <a:lnTo>
                  <a:pt x="0" y="11099"/>
                </a:lnTo>
                <a:lnTo>
                  <a:pt x="846" y="9907"/>
                </a:lnTo>
                <a:lnTo>
                  <a:pt x="2258" y="9113"/>
                </a:lnTo>
                <a:lnTo>
                  <a:pt x="6083" y="8230"/>
                </a:lnTo>
                <a:lnTo>
                  <a:pt x="10606" y="7838"/>
                </a:lnTo>
                <a:lnTo>
                  <a:pt x="12997" y="6887"/>
                </a:lnTo>
                <a:lnTo>
                  <a:pt x="15438" y="5406"/>
                </a:lnTo>
                <a:lnTo>
                  <a:pt x="17913" y="3572"/>
                </a:lnTo>
                <a:lnTo>
                  <a:pt x="22101" y="2349"/>
                </a:lnTo>
                <a:lnTo>
                  <a:pt x="27433" y="1534"/>
                </a:lnTo>
                <a:lnTo>
                  <a:pt x="33529" y="991"/>
                </a:lnTo>
                <a:lnTo>
                  <a:pt x="40132" y="629"/>
                </a:lnTo>
                <a:lnTo>
                  <a:pt x="54243" y="226"/>
                </a:lnTo>
                <a:lnTo>
                  <a:pt x="80513" y="0"/>
                </a:lnTo>
                <a:lnTo>
                  <a:pt x="90082" y="815"/>
                </a:lnTo>
                <a:lnTo>
                  <a:pt x="99848" y="2204"/>
                </a:lnTo>
                <a:lnTo>
                  <a:pt x="109745" y="3978"/>
                </a:lnTo>
                <a:lnTo>
                  <a:pt x="118884" y="6007"/>
                </a:lnTo>
                <a:lnTo>
                  <a:pt x="127516" y="8206"/>
                </a:lnTo>
                <a:lnTo>
                  <a:pt x="135810" y="10519"/>
                </a:lnTo>
                <a:lnTo>
                  <a:pt x="143881" y="12060"/>
                </a:lnTo>
                <a:lnTo>
                  <a:pt x="151801" y="13088"/>
                </a:lnTo>
                <a:lnTo>
                  <a:pt x="159620" y="13774"/>
                </a:lnTo>
                <a:lnTo>
                  <a:pt x="168220" y="15077"/>
                </a:lnTo>
                <a:lnTo>
                  <a:pt x="177340" y="16793"/>
                </a:lnTo>
                <a:lnTo>
                  <a:pt x="186808" y="18783"/>
                </a:lnTo>
                <a:lnTo>
                  <a:pt x="194812" y="20957"/>
                </a:lnTo>
                <a:lnTo>
                  <a:pt x="201841" y="23253"/>
                </a:lnTo>
                <a:lnTo>
                  <a:pt x="208221" y="25630"/>
                </a:lnTo>
                <a:lnTo>
                  <a:pt x="214167" y="27215"/>
                </a:lnTo>
                <a:lnTo>
                  <a:pt x="219825" y="28271"/>
                </a:lnTo>
                <a:lnTo>
                  <a:pt x="225290" y="28976"/>
                </a:lnTo>
                <a:lnTo>
                  <a:pt x="229780" y="30292"/>
                </a:lnTo>
                <a:lnTo>
                  <a:pt x="233620" y="32016"/>
                </a:lnTo>
                <a:lnTo>
                  <a:pt x="237026" y="34012"/>
                </a:lnTo>
                <a:lnTo>
                  <a:pt x="240145" y="35343"/>
                </a:lnTo>
                <a:lnTo>
                  <a:pt x="243070" y="36230"/>
                </a:lnTo>
                <a:lnTo>
                  <a:pt x="248578" y="37216"/>
                </a:lnTo>
                <a:lnTo>
                  <a:pt x="251232" y="37478"/>
                </a:lnTo>
                <a:lnTo>
                  <a:pt x="259080" y="380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InkAnnotation317"/>
          <p:cNvSpPr/>
          <p:nvPr/>
        </p:nvSpPr>
        <p:spPr>
          <a:xfrm>
            <a:off x="8344080" y="4359240"/>
            <a:ext cx="242640" cy="531720"/>
          </a:xfrm>
          <a:custGeom>
            <a:avLst/>
            <a:gdLst>
              <a:gd name="textAreaLeft" fmla="*/ 0 w 242640"/>
              <a:gd name="textAreaRight" fmla="*/ 243000 w 24264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42223" h="532329">
                <a:moveTo>
                  <a:pt x="106680" y="395658"/>
                </a:moveTo>
                <a:lnTo>
                  <a:pt x="110726" y="395658"/>
                </a:lnTo>
                <a:lnTo>
                  <a:pt x="111917" y="394811"/>
                </a:lnTo>
                <a:lnTo>
                  <a:pt x="112712" y="393401"/>
                </a:lnTo>
                <a:lnTo>
                  <a:pt x="113242" y="391613"/>
                </a:lnTo>
                <a:lnTo>
                  <a:pt x="116087" y="387370"/>
                </a:lnTo>
                <a:lnTo>
                  <a:pt x="122449" y="380220"/>
                </a:lnTo>
                <a:lnTo>
                  <a:pt x="128929" y="374403"/>
                </a:lnTo>
                <a:lnTo>
                  <a:pt x="134213" y="370482"/>
                </a:lnTo>
                <a:lnTo>
                  <a:pt x="140275" y="366174"/>
                </a:lnTo>
                <a:lnTo>
                  <a:pt x="146010" y="361608"/>
                </a:lnTo>
                <a:lnTo>
                  <a:pt x="151526" y="356872"/>
                </a:lnTo>
                <a:lnTo>
                  <a:pt x="156898" y="352021"/>
                </a:lnTo>
                <a:lnTo>
                  <a:pt x="162171" y="346247"/>
                </a:lnTo>
                <a:lnTo>
                  <a:pt x="167381" y="339857"/>
                </a:lnTo>
                <a:lnTo>
                  <a:pt x="172548" y="333057"/>
                </a:lnTo>
                <a:lnTo>
                  <a:pt x="178532" y="325984"/>
                </a:lnTo>
                <a:lnTo>
                  <a:pt x="185062" y="318729"/>
                </a:lnTo>
                <a:lnTo>
                  <a:pt x="191954" y="311352"/>
                </a:lnTo>
                <a:lnTo>
                  <a:pt x="197397" y="304741"/>
                </a:lnTo>
                <a:lnTo>
                  <a:pt x="201871" y="298640"/>
                </a:lnTo>
                <a:lnTo>
                  <a:pt x="219182" y="272636"/>
                </a:lnTo>
                <a:lnTo>
                  <a:pt x="223168" y="264537"/>
                </a:lnTo>
                <a:lnTo>
                  <a:pt x="226672" y="255750"/>
                </a:lnTo>
                <a:lnTo>
                  <a:pt x="238379" y="221360"/>
                </a:lnTo>
                <a:lnTo>
                  <a:pt x="240199" y="212573"/>
                </a:lnTo>
                <a:lnTo>
                  <a:pt x="241413" y="203328"/>
                </a:lnTo>
                <a:lnTo>
                  <a:pt x="242222" y="193778"/>
                </a:lnTo>
                <a:lnTo>
                  <a:pt x="241915" y="184024"/>
                </a:lnTo>
                <a:lnTo>
                  <a:pt x="240864" y="174136"/>
                </a:lnTo>
                <a:lnTo>
                  <a:pt x="239316" y="164157"/>
                </a:lnTo>
                <a:lnTo>
                  <a:pt x="238284" y="154963"/>
                </a:lnTo>
                <a:lnTo>
                  <a:pt x="237596" y="146295"/>
                </a:lnTo>
                <a:lnTo>
                  <a:pt x="237137" y="137976"/>
                </a:lnTo>
                <a:lnTo>
                  <a:pt x="232112" y="121960"/>
                </a:lnTo>
                <a:lnTo>
                  <a:pt x="228402" y="114132"/>
                </a:lnTo>
                <a:lnTo>
                  <a:pt x="224235" y="106374"/>
                </a:lnTo>
                <a:lnTo>
                  <a:pt x="219763" y="98662"/>
                </a:lnTo>
                <a:lnTo>
                  <a:pt x="210280" y="83320"/>
                </a:lnTo>
                <a:lnTo>
                  <a:pt x="200420" y="68035"/>
                </a:lnTo>
                <a:lnTo>
                  <a:pt x="195421" y="61249"/>
                </a:lnTo>
                <a:lnTo>
                  <a:pt x="190393" y="55032"/>
                </a:lnTo>
                <a:lnTo>
                  <a:pt x="185349" y="49194"/>
                </a:lnTo>
                <a:lnTo>
                  <a:pt x="179446" y="43609"/>
                </a:lnTo>
                <a:lnTo>
                  <a:pt x="172971" y="38192"/>
                </a:lnTo>
                <a:lnTo>
                  <a:pt x="166114" y="32887"/>
                </a:lnTo>
                <a:lnTo>
                  <a:pt x="159849" y="27658"/>
                </a:lnTo>
                <a:lnTo>
                  <a:pt x="153980" y="22478"/>
                </a:lnTo>
                <a:lnTo>
                  <a:pt x="148373" y="17331"/>
                </a:lnTo>
                <a:lnTo>
                  <a:pt x="142942" y="13053"/>
                </a:lnTo>
                <a:lnTo>
                  <a:pt x="137629" y="9355"/>
                </a:lnTo>
                <a:lnTo>
                  <a:pt x="132392" y="6043"/>
                </a:lnTo>
                <a:lnTo>
                  <a:pt x="127209" y="3835"/>
                </a:lnTo>
                <a:lnTo>
                  <a:pt x="122058" y="2363"/>
                </a:lnTo>
                <a:lnTo>
                  <a:pt x="116932" y="1381"/>
                </a:lnTo>
                <a:lnTo>
                  <a:pt x="112668" y="727"/>
                </a:lnTo>
                <a:lnTo>
                  <a:pt x="105673" y="0"/>
                </a:lnTo>
                <a:lnTo>
                  <a:pt x="101775" y="653"/>
                </a:lnTo>
                <a:lnTo>
                  <a:pt x="97483" y="1935"/>
                </a:lnTo>
                <a:lnTo>
                  <a:pt x="92929" y="3635"/>
                </a:lnTo>
                <a:lnTo>
                  <a:pt x="89892" y="6463"/>
                </a:lnTo>
                <a:lnTo>
                  <a:pt x="87869" y="10042"/>
                </a:lnTo>
                <a:lnTo>
                  <a:pt x="86519" y="14120"/>
                </a:lnTo>
                <a:lnTo>
                  <a:pt x="80504" y="23168"/>
                </a:lnTo>
                <a:lnTo>
                  <a:pt x="73033" y="33680"/>
                </a:lnTo>
                <a:lnTo>
                  <a:pt x="66890" y="46819"/>
                </a:lnTo>
                <a:lnTo>
                  <a:pt x="63596" y="63382"/>
                </a:lnTo>
                <a:lnTo>
                  <a:pt x="62717" y="72541"/>
                </a:lnTo>
                <a:lnTo>
                  <a:pt x="61285" y="82034"/>
                </a:lnTo>
                <a:lnTo>
                  <a:pt x="59483" y="91748"/>
                </a:lnTo>
                <a:lnTo>
                  <a:pt x="50509" y="135719"/>
                </a:lnTo>
                <a:lnTo>
                  <a:pt x="48913" y="147859"/>
                </a:lnTo>
                <a:lnTo>
                  <a:pt x="47848" y="160185"/>
                </a:lnTo>
                <a:lnTo>
                  <a:pt x="47139" y="172636"/>
                </a:lnTo>
                <a:lnTo>
                  <a:pt x="45820" y="185170"/>
                </a:lnTo>
                <a:lnTo>
                  <a:pt x="44093" y="197760"/>
                </a:lnTo>
                <a:lnTo>
                  <a:pt x="42095" y="210386"/>
                </a:lnTo>
                <a:lnTo>
                  <a:pt x="40763" y="223883"/>
                </a:lnTo>
                <a:lnTo>
                  <a:pt x="39877" y="237962"/>
                </a:lnTo>
                <a:lnTo>
                  <a:pt x="39284" y="252427"/>
                </a:lnTo>
                <a:lnTo>
                  <a:pt x="38043" y="266304"/>
                </a:lnTo>
                <a:lnTo>
                  <a:pt x="36370" y="279789"/>
                </a:lnTo>
                <a:lnTo>
                  <a:pt x="34406" y="293012"/>
                </a:lnTo>
                <a:lnTo>
                  <a:pt x="29968" y="318993"/>
                </a:lnTo>
                <a:lnTo>
                  <a:pt x="12670" y="408331"/>
                </a:lnTo>
                <a:lnTo>
                  <a:pt x="10986" y="420193"/>
                </a:lnTo>
                <a:lnTo>
                  <a:pt x="9865" y="431488"/>
                </a:lnTo>
                <a:lnTo>
                  <a:pt x="9116" y="442405"/>
                </a:lnTo>
                <a:lnTo>
                  <a:pt x="7772" y="452223"/>
                </a:lnTo>
                <a:lnTo>
                  <a:pt x="6028" y="461308"/>
                </a:lnTo>
                <a:lnTo>
                  <a:pt x="2679" y="477329"/>
                </a:lnTo>
                <a:lnTo>
                  <a:pt x="1191" y="490094"/>
                </a:lnTo>
                <a:lnTo>
                  <a:pt x="530" y="501412"/>
                </a:lnTo>
                <a:lnTo>
                  <a:pt x="158" y="515046"/>
                </a:lnTo>
                <a:lnTo>
                  <a:pt x="3" y="532328"/>
                </a:lnTo>
                <a:lnTo>
                  <a:pt x="0" y="525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InkAnnotation318"/>
          <p:cNvSpPr/>
          <p:nvPr/>
        </p:nvSpPr>
        <p:spPr>
          <a:xfrm>
            <a:off x="8321760" y="4708440"/>
            <a:ext cx="204840" cy="68400"/>
          </a:xfrm>
          <a:custGeom>
            <a:avLst/>
            <a:gdLst>
              <a:gd name="textAreaLeft" fmla="*/ 0 w 204840"/>
              <a:gd name="textAreaRight" fmla="*/ 205200 w 2048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05740" h="67046">
                <a:moveTo>
                  <a:pt x="0" y="0"/>
                </a:moveTo>
                <a:lnTo>
                  <a:pt x="6562" y="0"/>
                </a:lnTo>
                <a:lnTo>
                  <a:pt x="7760" y="847"/>
                </a:lnTo>
                <a:lnTo>
                  <a:pt x="9406" y="2258"/>
                </a:lnTo>
                <a:lnTo>
                  <a:pt x="11350" y="4045"/>
                </a:lnTo>
                <a:lnTo>
                  <a:pt x="22178" y="14652"/>
                </a:lnTo>
                <a:lnTo>
                  <a:pt x="28332" y="18234"/>
                </a:lnTo>
                <a:lnTo>
                  <a:pt x="35821" y="21470"/>
                </a:lnTo>
                <a:lnTo>
                  <a:pt x="44200" y="24473"/>
                </a:lnTo>
                <a:lnTo>
                  <a:pt x="52327" y="28169"/>
                </a:lnTo>
                <a:lnTo>
                  <a:pt x="60285" y="32326"/>
                </a:lnTo>
                <a:lnTo>
                  <a:pt x="68129" y="36791"/>
                </a:lnTo>
                <a:lnTo>
                  <a:pt x="75899" y="40614"/>
                </a:lnTo>
                <a:lnTo>
                  <a:pt x="83620" y="44010"/>
                </a:lnTo>
                <a:lnTo>
                  <a:pt x="91306" y="47119"/>
                </a:lnTo>
                <a:lnTo>
                  <a:pt x="106620" y="52833"/>
                </a:lnTo>
                <a:lnTo>
                  <a:pt x="114259" y="55542"/>
                </a:lnTo>
                <a:lnTo>
                  <a:pt x="121046" y="58195"/>
                </a:lnTo>
                <a:lnTo>
                  <a:pt x="127264" y="60810"/>
                </a:lnTo>
                <a:lnTo>
                  <a:pt x="133103" y="63400"/>
                </a:lnTo>
                <a:lnTo>
                  <a:pt x="139536" y="65127"/>
                </a:lnTo>
                <a:lnTo>
                  <a:pt x="146363" y="66278"/>
                </a:lnTo>
                <a:lnTo>
                  <a:pt x="153456" y="67045"/>
                </a:lnTo>
                <a:lnTo>
                  <a:pt x="160723" y="66710"/>
                </a:lnTo>
                <a:lnTo>
                  <a:pt x="168108" y="65640"/>
                </a:lnTo>
                <a:lnTo>
                  <a:pt x="175571" y="64080"/>
                </a:lnTo>
                <a:lnTo>
                  <a:pt x="182241" y="63040"/>
                </a:lnTo>
                <a:lnTo>
                  <a:pt x="188380" y="62346"/>
                </a:lnTo>
                <a:lnTo>
                  <a:pt x="205739" y="609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InkAnnotation319"/>
          <p:cNvSpPr/>
          <p:nvPr/>
        </p:nvSpPr>
        <p:spPr>
          <a:xfrm>
            <a:off x="8613720" y="4610160"/>
            <a:ext cx="57240" cy="258840"/>
          </a:xfrm>
          <a:custGeom>
            <a:avLst/>
            <a:gdLst>
              <a:gd name="textAreaLeft" fmla="*/ 0 w 57240"/>
              <a:gd name="textAreaRight" fmla="*/ 57600 w 572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57581" h="259081">
                <a:moveTo>
                  <a:pt x="57580" y="0"/>
                </a:moveTo>
                <a:lnTo>
                  <a:pt x="57580" y="4045"/>
                </a:lnTo>
                <a:lnTo>
                  <a:pt x="56733" y="7777"/>
                </a:lnTo>
                <a:lnTo>
                  <a:pt x="55322" y="12805"/>
                </a:lnTo>
                <a:lnTo>
                  <a:pt x="53535" y="18697"/>
                </a:lnTo>
                <a:lnTo>
                  <a:pt x="52343" y="24318"/>
                </a:lnTo>
                <a:lnTo>
                  <a:pt x="51549" y="29759"/>
                </a:lnTo>
                <a:lnTo>
                  <a:pt x="51019" y="35079"/>
                </a:lnTo>
                <a:lnTo>
                  <a:pt x="49820" y="41166"/>
                </a:lnTo>
                <a:lnTo>
                  <a:pt x="48173" y="47765"/>
                </a:lnTo>
                <a:lnTo>
                  <a:pt x="46229" y="54703"/>
                </a:lnTo>
                <a:lnTo>
                  <a:pt x="44933" y="61868"/>
                </a:lnTo>
                <a:lnTo>
                  <a:pt x="44068" y="69186"/>
                </a:lnTo>
                <a:lnTo>
                  <a:pt x="43492" y="76604"/>
                </a:lnTo>
                <a:lnTo>
                  <a:pt x="42261" y="84089"/>
                </a:lnTo>
                <a:lnTo>
                  <a:pt x="40595" y="91620"/>
                </a:lnTo>
                <a:lnTo>
                  <a:pt x="38636" y="99180"/>
                </a:lnTo>
                <a:lnTo>
                  <a:pt x="36485" y="106760"/>
                </a:lnTo>
                <a:lnTo>
                  <a:pt x="29411" y="130410"/>
                </a:lnTo>
                <a:lnTo>
                  <a:pt x="24459" y="148836"/>
                </a:lnTo>
                <a:lnTo>
                  <a:pt x="21105" y="157644"/>
                </a:lnTo>
                <a:lnTo>
                  <a:pt x="17177" y="166056"/>
                </a:lnTo>
                <a:lnTo>
                  <a:pt x="12865" y="174204"/>
                </a:lnTo>
                <a:lnTo>
                  <a:pt x="9991" y="182176"/>
                </a:lnTo>
                <a:lnTo>
                  <a:pt x="8074" y="190031"/>
                </a:lnTo>
                <a:lnTo>
                  <a:pt x="6795" y="197807"/>
                </a:lnTo>
                <a:lnTo>
                  <a:pt x="5944" y="204685"/>
                </a:lnTo>
                <a:lnTo>
                  <a:pt x="5376" y="210963"/>
                </a:lnTo>
                <a:lnTo>
                  <a:pt x="4997" y="216842"/>
                </a:lnTo>
                <a:lnTo>
                  <a:pt x="3899" y="221608"/>
                </a:lnTo>
                <a:lnTo>
                  <a:pt x="2318" y="225632"/>
                </a:lnTo>
                <a:lnTo>
                  <a:pt x="419" y="229161"/>
                </a:lnTo>
                <a:lnTo>
                  <a:pt x="0" y="233207"/>
                </a:lnTo>
                <a:lnTo>
                  <a:pt x="567" y="237599"/>
                </a:lnTo>
                <a:lnTo>
                  <a:pt x="1791" y="242219"/>
                </a:lnTo>
                <a:lnTo>
                  <a:pt x="3152" y="249611"/>
                </a:lnTo>
                <a:lnTo>
                  <a:pt x="4240" y="2590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InkAnnotation320"/>
          <p:cNvSpPr/>
          <p:nvPr/>
        </p:nvSpPr>
        <p:spPr>
          <a:xfrm>
            <a:off x="8572680" y="4762440"/>
            <a:ext cx="182520" cy="7920"/>
          </a:xfrm>
          <a:custGeom>
            <a:avLst/>
            <a:gdLst>
              <a:gd name="textAreaLeft" fmla="*/ 0 w 182520"/>
              <a:gd name="textAreaRight" fmla="*/ 182880 w 182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82881" h="7620">
                <a:moveTo>
                  <a:pt x="0" y="7619"/>
                </a:moveTo>
                <a:lnTo>
                  <a:pt x="28519" y="7619"/>
                </a:lnTo>
                <a:lnTo>
                  <a:pt x="34252" y="6773"/>
                </a:lnTo>
                <a:lnTo>
                  <a:pt x="40615" y="5361"/>
                </a:lnTo>
                <a:lnTo>
                  <a:pt x="47397" y="3574"/>
                </a:lnTo>
                <a:lnTo>
                  <a:pt x="54457" y="2383"/>
                </a:lnTo>
                <a:lnTo>
                  <a:pt x="61706" y="1588"/>
                </a:lnTo>
                <a:lnTo>
                  <a:pt x="69077" y="1058"/>
                </a:lnTo>
                <a:lnTo>
                  <a:pt x="75685" y="705"/>
                </a:lnTo>
                <a:lnTo>
                  <a:pt x="87542" y="313"/>
                </a:lnTo>
                <a:lnTo>
                  <a:pt x="125821" y="27"/>
                </a:lnTo>
                <a:lnTo>
                  <a:pt x="168645" y="0"/>
                </a:lnTo>
                <a:lnTo>
                  <a:pt x="171696" y="847"/>
                </a:lnTo>
                <a:lnTo>
                  <a:pt x="174578" y="2257"/>
                </a:lnTo>
                <a:lnTo>
                  <a:pt x="182880" y="761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11"/>
          <p:cNvGrpSpPr/>
          <p:nvPr/>
        </p:nvGrpSpPr>
        <p:grpSpPr>
          <a:xfrm>
            <a:off x="609480" y="3809880"/>
            <a:ext cx="7925040" cy="1295280"/>
            <a:chOff x="609480" y="3809880"/>
            <a:chExt cx="7925040" cy="1295280"/>
          </a:xfrm>
        </p:grpSpPr>
        <p:sp>
          <p:nvSpPr>
            <p:cNvPr id="431" name="Rectangle 13"/>
            <p:cNvSpPr/>
            <p:nvPr/>
          </p:nvSpPr>
          <p:spPr>
            <a:xfrm>
              <a:off x="609480" y="3809880"/>
              <a:ext cx="7925040" cy="129528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9"/>
            <p:cNvSpPr/>
            <p:nvPr/>
          </p:nvSpPr>
          <p:spPr>
            <a:xfrm>
              <a:off x="685800" y="3871800"/>
              <a:ext cx="7620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ing Matrices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To be able to add matrices, they must have the same dimensions.  When adding matrices, add their corresponding elemen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10"/>
          <p:cNvGrpSpPr/>
          <p:nvPr/>
        </p:nvGrpSpPr>
        <p:grpSpPr>
          <a:xfrm>
            <a:off x="609480" y="1143000"/>
            <a:ext cx="7925040" cy="2133720"/>
            <a:chOff x="609480" y="1143000"/>
            <a:chExt cx="7925040" cy="2133720"/>
          </a:xfrm>
        </p:grpSpPr>
        <p:sp>
          <p:nvSpPr>
            <p:cNvPr id="434" name="Rectangle 13"/>
            <p:cNvSpPr/>
            <p:nvPr/>
          </p:nvSpPr>
          <p:spPr>
            <a:xfrm>
              <a:off x="609480" y="1143000"/>
              <a:ext cx="7925040" cy="213372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5"/>
            <p:cNvSpPr/>
            <p:nvPr/>
          </p:nvSpPr>
          <p:spPr>
            <a:xfrm>
              <a:off x="685800" y="1204920"/>
              <a:ext cx="762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trix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 rectangular arrangement of numbers in rows and columns (Plural: matrice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6" name="Object 12"/>
                <p:cNvSpPr txBox="1"/>
                <p:nvPr/>
              </p:nvSpPr>
              <p:spPr>
                <a:xfrm>
                  <a:off x="2155680" y="1819440"/>
                  <a:ext cx="4168800" cy="13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xamples:   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rPr>
                          <m:lit/>
                          <m:nor/>
                        </m:rPr>
                        <m:t xml:space="preserve">   or   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ng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457200" y="12952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10"/>
              <p:cNvSpPr txBox="1"/>
              <p:nvPr/>
            </p:nvSpPr>
            <p:spPr>
              <a:xfrm>
                <a:off x="1336680" y="1295280"/>
                <a:ext cx="30830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9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41" name="Group 10"/>
          <p:cNvGrpSpPr/>
          <p:nvPr/>
        </p:nvGrpSpPr>
        <p:grpSpPr>
          <a:xfrm>
            <a:off x="457200" y="3625920"/>
            <a:ext cx="2971800" cy="1403280"/>
            <a:chOff x="457200" y="3625920"/>
            <a:chExt cx="2971800" cy="1403280"/>
          </a:xfrm>
        </p:grpSpPr>
        <p:sp>
          <p:nvSpPr>
            <p:cNvPr id="442" name="Text Box 11"/>
            <p:cNvSpPr/>
            <p:nvPr/>
          </p:nvSpPr>
          <p:spPr>
            <a:xfrm>
              <a:off x="457200" y="362592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9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3" name="Object 12"/>
                <p:cNvSpPr txBox="1"/>
                <p:nvPr/>
              </p:nvSpPr>
              <p:spPr>
                <a:xfrm>
                  <a:off x="1432080" y="3648240"/>
                  <a:ext cx="1996920" cy="13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5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9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4" name="Line 9"/>
          <p:cNvSpPr/>
          <p:nvPr/>
        </p:nvSpPr>
        <p:spPr>
          <a:xfrm>
            <a:off x="457200" y="3581280"/>
            <a:ext cx="79246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MARTInkAnnotation164"/>
          <p:cNvSpPr/>
          <p:nvPr/>
        </p:nvSpPr>
        <p:spPr>
          <a:xfrm>
            <a:off x="1362240" y="1268280"/>
            <a:ext cx="542880" cy="430200"/>
          </a:xfrm>
          <a:custGeom>
            <a:avLst/>
            <a:gdLst>
              <a:gd name="textAreaLeft" fmla="*/ 0 w 542880"/>
              <a:gd name="textAreaRight" fmla="*/ 543240 w 54288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542932" h="430725">
                <a:moveTo>
                  <a:pt x="147151" y="430724"/>
                </a:moveTo>
                <a:lnTo>
                  <a:pt x="187528" y="430724"/>
                </a:lnTo>
                <a:lnTo>
                  <a:pt x="201503" y="428466"/>
                </a:lnTo>
                <a:lnTo>
                  <a:pt x="216181" y="424641"/>
                </a:lnTo>
                <a:lnTo>
                  <a:pt x="231171" y="420118"/>
                </a:lnTo>
                <a:lnTo>
                  <a:pt x="246300" y="417543"/>
                </a:lnTo>
                <a:lnTo>
                  <a:pt x="253890" y="416857"/>
                </a:lnTo>
                <a:lnTo>
                  <a:pt x="269097" y="411579"/>
                </a:lnTo>
                <a:lnTo>
                  <a:pt x="284323" y="404435"/>
                </a:lnTo>
                <a:lnTo>
                  <a:pt x="299556" y="398438"/>
                </a:lnTo>
                <a:lnTo>
                  <a:pt x="308021" y="394807"/>
                </a:lnTo>
                <a:lnTo>
                  <a:pt x="326458" y="386256"/>
                </a:lnTo>
                <a:lnTo>
                  <a:pt x="336116" y="382452"/>
                </a:lnTo>
                <a:lnTo>
                  <a:pt x="345941" y="379069"/>
                </a:lnTo>
                <a:lnTo>
                  <a:pt x="355878" y="375968"/>
                </a:lnTo>
                <a:lnTo>
                  <a:pt x="365042" y="371360"/>
                </a:lnTo>
                <a:lnTo>
                  <a:pt x="381998" y="359467"/>
                </a:lnTo>
                <a:lnTo>
                  <a:pt x="398001" y="347972"/>
                </a:lnTo>
                <a:lnTo>
                  <a:pt x="428970" y="326795"/>
                </a:lnTo>
                <a:lnTo>
                  <a:pt x="444277" y="314260"/>
                </a:lnTo>
                <a:lnTo>
                  <a:pt x="458701" y="301069"/>
                </a:lnTo>
                <a:lnTo>
                  <a:pt x="470755" y="289562"/>
                </a:lnTo>
                <a:lnTo>
                  <a:pt x="491107" y="269518"/>
                </a:lnTo>
                <a:lnTo>
                  <a:pt x="497529" y="262294"/>
                </a:lnTo>
                <a:lnTo>
                  <a:pt x="503503" y="254937"/>
                </a:lnTo>
                <a:lnTo>
                  <a:pt x="509179" y="247493"/>
                </a:lnTo>
                <a:lnTo>
                  <a:pt x="513810" y="239990"/>
                </a:lnTo>
                <a:lnTo>
                  <a:pt x="517744" y="232448"/>
                </a:lnTo>
                <a:lnTo>
                  <a:pt x="521213" y="224880"/>
                </a:lnTo>
                <a:lnTo>
                  <a:pt x="524372" y="217295"/>
                </a:lnTo>
                <a:lnTo>
                  <a:pt x="527325" y="209698"/>
                </a:lnTo>
                <a:lnTo>
                  <a:pt x="532864" y="194484"/>
                </a:lnTo>
                <a:lnTo>
                  <a:pt x="538148" y="179255"/>
                </a:lnTo>
                <a:lnTo>
                  <a:pt x="539896" y="171638"/>
                </a:lnTo>
                <a:lnTo>
                  <a:pt x="541061" y="164020"/>
                </a:lnTo>
                <a:lnTo>
                  <a:pt x="541838" y="156401"/>
                </a:lnTo>
                <a:lnTo>
                  <a:pt x="542355" y="147936"/>
                </a:lnTo>
                <a:lnTo>
                  <a:pt x="542931" y="129498"/>
                </a:lnTo>
                <a:lnTo>
                  <a:pt x="541391" y="121533"/>
                </a:lnTo>
                <a:lnTo>
                  <a:pt x="535164" y="108168"/>
                </a:lnTo>
                <a:lnTo>
                  <a:pt x="531133" y="101387"/>
                </a:lnTo>
                <a:lnTo>
                  <a:pt x="522139" y="87079"/>
                </a:lnTo>
                <a:lnTo>
                  <a:pt x="512497" y="74511"/>
                </a:lnTo>
                <a:lnTo>
                  <a:pt x="501720" y="63280"/>
                </a:lnTo>
                <a:lnTo>
                  <a:pt x="488464" y="52645"/>
                </a:lnTo>
                <a:lnTo>
                  <a:pt x="474106" y="42273"/>
                </a:lnTo>
                <a:lnTo>
                  <a:pt x="458411" y="32019"/>
                </a:lnTo>
                <a:lnTo>
                  <a:pt x="449484" y="26914"/>
                </a:lnTo>
                <a:lnTo>
                  <a:pt x="440147" y="21818"/>
                </a:lnTo>
                <a:lnTo>
                  <a:pt x="430535" y="17573"/>
                </a:lnTo>
                <a:lnTo>
                  <a:pt x="420740" y="13897"/>
                </a:lnTo>
                <a:lnTo>
                  <a:pt x="410824" y="10599"/>
                </a:lnTo>
                <a:lnTo>
                  <a:pt x="399980" y="8401"/>
                </a:lnTo>
                <a:lnTo>
                  <a:pt x="388517" y="6935"/>
                </a:lnTo>
                <a:lnTo>
                  <a:pt x="376641" y="5958"/>
                </a:lnTo>
                <a:lnTo>
                  <a:pt x="365338" y="4460"/>
                </a:lnTo>
                <a:lnTo>
                  <a:pt x="354416" y="2615"/>
                </a:lnTo>
                <a:lnTo>
                  <a:pt x="343747" y="538"/>
                </a:lnTo>
                <a:lnTo>
                  <a:pt x="332402" y="0"/>
                </a:lnTo>
                <a:lnTo>
                  <a:pt x="320605" y="488"/>
                </a:lnTo>
                <a:lnTo>
                  <a:pt x="308507" y="1660"/>
                </a:lnTo>
                <a:lnTo>
                  <a:pt x="296208" y="3288"/>
                </a:lnTo>
                <a:lnTo>
                  <a:pt x="283776" y="5220"/>
                </a:lnTo>
                <a:lnTo>
                  <a:pt x="271254" y="7355"/>
                </a:lnTo>
                <a:lnTo>
                  <a:pt x="258673" y="10471"/>
                </a:lnTo>
                <a:lnTo>
                  <a:pt x="246052" y="14242"/>
                </a:lnTo>
                <a:lnTo>
                  <a:pt x="233405" y="18449"/>
                </a:lnTo>
                <a:lnTo>
                  <a:pt x="221587" y="22948"/>
                </a:lnTo>
                <a:lnTo>
                  <a:pt x="210322" y="27640"/>
                </a:lnTo>
                <a:lnTo>
                  <a:pt x="199425" y="32461"/>
                </a:lnTo>
                <a:lnTo>
                  <a:pt x="187927" y="38216"/>
                </a:lnTo>
                <a:lnTo>
                  <a:pt x="176028" y="44592"/>
                </a:lnTo>
                <a:lnTo>
                  <a:pt x="163863" y="51382"/>
                </a:lnTo>
                <a:lnTo>
                  <a:pt x="152365" y="59296"/>
                </a:lnTo>
                <a:lnTo>
                  <a:pt x="141314" y="67959"/>
                </a:lnTo>
                <a:lnTo>
                  <a:pt x="130559" y="77121"/>
                </a:lnTo>
                <a:lnTo>
                  <a:pt x="109579" y="94074"/>
                </a:lnTo>
                <a:lnTo>
                  <a:pt x="99243" y="102150"/>
                </a:lnTo>
                <a:lnTo>
                  <a:pt x="89812" y="110922"/>
                </a:lnTo>
                <a:lnTo>
                  <a:pt x="80985" y="120156"/>
                </a:lnTo>
                <a:lnTo>
                  <a:pt x="72560" y="129698"/>
                </a:lnTo>
                <a:lnTo>
                  <a:pt x="64404" y="140294"/>
                </a:lnTo>
                <a:lnTo>
                  <a:pt x="56426" y="151590"/>
                </a:lnTo>
                <a:lnTo>
                  <a:pt x="48568" y="163355"/>
                </a:lnTo>
                <a:lnTo>
                  <a:pt x="41636" y="174585"/>
                </a:lnTo>
                <a:lnTo>
                  <a:pt x="35321" y="185458"/>
                </a:lnTo>
                <a:lnTo>
                  <a:pt x="23789" y="206570"/>
                </a:lnTo>
                <a:lnTo>
                  <a:pt x="13019" y="227242"/>
                </a:lnTo>
                <a:lnTo>
                  <a:pt x="8623" y="237496"/>
                </a:lnTo>
                <a:lnTo>
                  <a:pt x="4846" y="247719"/>
                </a:lnTo>
                <a:lnTo>
                  <a:pt x="1481" y="257921"/>
                </a:lnTo>
                <a:lnTo>
                  <a:pt x="84" y="268108"/>
                </a:lnTo>
                <a:lnTo>
                  <a:pt x="0" y="278287"/>
                </a:lnTo>
                <a:lnTo>
                  <a:pt x="790" y="288459"/>
                </a:lnTo>
                <a:lnTo>
                  <a:pt x="1317" y="297781"/>
                </a:lnTo>
                <a:lnTo>
                  <a:pt x="1903" y="314912"/>
                </a:lnTo>
                <a:lnTo>
                  <a:pt x="3752" y="323036"/>
                </a:lnTo>
                <a:lnTo>
                  <a:pt x="6678" y="330992"/>
                </a:lnTo>
                <a:lnTo>
                  <a:pt x="10323" y="338836"/>
                </a:lnTo>
                <a:lnTo>
                  <a:pt x="15292" y="346605"/>
                </a:lnTo>
                <a:lnTo>
                  <a:pt x="21145" y="354325"/>
                </a:lnTo>
                <a:lnTo>
                  <a:pt x="27587" y="362011"/>
                </a:lnTo>
                <a:lnTo>
                  <a:pt x="43776" y="372809"/>
                </a:lnTo>
                <a:lnTo>
                  <a:pt x="52834" y="376874"/>
                </a:lnTo>
                <a:lnTo>
                  <a:pt x="71930" y="385906"/>
                </a:lnTo>
                <a:lnTo>
                  <a:pt x="81764" y="390686"/>
                </a:lnTo>
                <a:lnTo>
                  <a:pt x="91706" y="393872"/>
                </a:lnTo>
                <a:lnTo>
                  <a:pt x="101721" y="395996"/>
                </a:lnTo>
                <a:lnTo>
                  <a:pt x="123574" y="399203"/>
                </a:lnTo>
                <a:lnTo>
                  <a:pt x="150219" y="403450"/>
                </a:lnTo>
                <a:lnTo>
                  <a:pt x="164436" y="404921"/>
                </a:lnTo>
                <a:lnTo>
                  <a:pt x="178994" y="405902"/>
                </a:lnTo>
                <a:lnTo>
                  <a:pt x="193780" y="406556"/>
                </a:lnTo>
                <a:lnTo>
                  <a:pt x="209564" y="406146"/>
                </a:lnTo>
                <a:lnTo>
                  <a:pt x="226013" y="405025"/>
                </a:lnTo>
                <a:lnTo>
                  <a:pt x="242905" y="403432"/>
                </a:lnTo>
                <a:lnTo>
                  <a:pt x="259248" y="402369"/>
                </a:lnTo>
                <a:lnTo>
                  <a:pt x="275222" y="401661"/>
                </a:lnTo>
                <a:lnTo>
                  <a:pt x="290952" y="401188"/>
                </a:lnTo>
                <a:lnTo>
                  <a:pt x="303978" y="401720"/>
                </a:lnTo>
                <a:lnTo>
                  <a:pt x="315202" y="402921"/>
                </a:lnTo>
                <a:lnTo>
                  <a:pt x="345271" y="40786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MARTInkAnnotation165"/>
          <p:cNvSpPr/>
          <p:nvPr/>
        </p:nvSpPr>
        <p:spPr>
          <a:xfrm>
            <a:off x="2987640" y="1297080"/>
            <a:ext cx="446040" cy="401400"/>
          </a:xfrm>
          <a:custGeom>
            <a:avLst/>
            <a:gdLst>
              <a:gd name="textAreaLeft" fmla="*/ 0 w 446040"/>
              <a:gd name="textAreaRight" fmla="*/ 446400 w 446040"/>
              <a:gd name="textAreaTop" fmla="*/ 0 h 401400"/>
              <a:gd name="textAreaBottom" fmla="*/ 401760 h 401400"/>
            </a:gdLst>
            <a:ahLst/>
            <a:rect l="textAreaLeft" t="textAreaTop" r="textAreaRight" b="textAreaBottom"/>
            <a:pathLst>
              <a:path w="446023" h="402220">
                <a:moveTo>
                  <a:pt x="114385" y="402219"/>
                </a:moveTo>
                <a:lnTo>
                  <a:pt x="144615" y="402219"/>
                </a:lnTo>
                <a:lnTo>
                  <a:pt x="158019" y="399961"/>
                </a:lnTo>
                <a:lnTo>
                  <a:pt x="166334" y="398174"/>
                </a:lnTo>
                <a:lnTo>
                  <a:pt x="174418" y="396136"/>
                </a:lnTo>
                <a:lnTo>
                  <a:pt x="182347" y="393930"/>
                </a:lnTo>
                <a:lnTo>
                  <a:pt x="190173" y="391613"/>
                </a:lnTo>
                <a:lnTo>
                  <a:pt x="198777" y="388375"/>
                </a:lnTo>
                <a:lnTo>
                  <a:pt x="207900" y="384523"/>
                </a:lnTo>
                <a:lnTo>
                  <a:pt x="217368" y="380262"/>
                </a:lnTo>
                <a:lnTo>
                  <a:pt x="227067" y="376574"/>
                </a:lnTo>
                <a:lnTo>
                  <a:pt x="236920" y="373269"/>
                </a:lnTo>
                <a:lnTo>
                  <a:pt x="246875" y="370219"/>
                </a:lnTo>
                <a:lnTo>
                  <a:pt x="256052" y="365646"/>
                </a:lnTo>
                <a:lnTo>
                  <a:pt x="264709" y="360057"/>
                </a:lnTo>
                <a:lnTo>
                  <a:pt x="273021" y="353791"/>
                </a:lnTo>
                <a:lnTo>
                  <a:pt x="281949" y="347920"/>
                </a:lnTo>
                <a:lnTo>
                  <a:pt x="291288" y="342313"/>
                </a:lnTo>
                <a:lnTo>
                  <a:pt x="300900" y="336882"/>
                </a:lnTo>
                <a:lnTo>
                  <a:pt x="309848" y="330721"/>
                </a:lnTo>
                <a:lnTo>
                  <a:pt x="318354" y="324074"/>
                </a:lnTo>
                <a:lnTo>
                  <a:pt x="326564" y="317102"/>
                </a:lnTo>
                <a:lnTo>
                  <a:pt x="335424" y="310761"/>
                </a:lnTo>
                <a:lnTo>
                  <a:pt x="344718" y="304840"/>
                </a:lnTo>
                <a:lnTo>
                  <a:pt x="354300" y="299200"/>
                </a:lnTo>
                <a:lnTo>
                  <a:pt x="363228" y="292053"/>
                </a:lnTo>
                <a:lnTo>
                  <a:pt x="371721" y="283902"/>
                </a:lnTo>
                <a:lnTo>
                  <a:pt x="387930" y="266660"/>
                </a:lnTo>
                <a:lnTo>
                  <a:pt x="403600" y="250531"/>
                </a:lnTo>
                <a:lnTo>
                  <a:pt x="410489" y="241827"/>
                </a:lnTo>
                <a:lnTo>
                  <a:pt x="416774" y="232638"/>
                </a:lnTo>
                <a:lnTo>
                  <a:pt x="422658" y="223125"/>
                </a:lnTo>
                <a:lnTo>
                  <a:pt x="427427" y="214243"/>
                </a:lnTo>
                <a:lnTo>
                  <a:pt x="431453" y="205782"/>
                </a:lnTo>
                <a:lnTo>
                  <a:pt x="434983" y="197601"/>
                </a:lnTo>
                <a:lnTo>
                  <a:pt x="437338" y="188760"/>
                </a:lnTo>
                <a:lnTo>
                  <a:pt x="438906" y="179480"/>
                </a:lnTo>
                <a:lnTo>
                  <a:pt x="439953" y="169906"/>
                </a:lnTo>
                <a:lnTo>
                  <a:pt x="441497" y="160984"/>
                </a:lnTo>
                <a:lnTo>
                  <a:pt x="443373" y="152496"/>
                </a:lnTo>
                <a:lnTo>
                  <a:pt x="445470" y="144297"/>
                </a:lnTo>
                <a:lnTo>
                  <a:pt x="446022" y="136291"/>
                </a:lnTo>
                <a:lnTo>
                  <a:pt x="445543" y="128414"/>
                </a:lnTo>
                <a:lnTo>
                  <a:pt x="444377" y="120622"/>
                </a:lnTo>
                <a:lnTo>
                  <a:pt x="441906" y="112888"/>
                </a:lnTo>
                <a:lnTo>
                  <a:pt x="438566" y="105192"/>
                </a:lnTo>
                <a:lnTo>
                  <a:pt x="434645" y="97521"/>
                </a:lnTo>
                <a:lnTo>
                  <a:pt x="430339" y="89867"/>
                </a:lnTo>
                <a:lnTo>
                  <a:pt x="425774" y="82224"/>
                </a:lnTo>
                <a:lnTo>
                  <a:pt x="421037" y="74589"/>
                </a:lnTo>
                <a:lnTo>
                  <a:pt x="416187" y="67806"/>
                </a:lnTo>
                <a:lnTo>
                  <a:pt x="406281" y="55753"/>
                </a:lnTo>
                <a:lnTo>
                  <a:pt x="393977" y="44752"/>
                </a:lnTo>
                <a:lnTo>
                  <a:pt x="380041" y="34218"/>
                </a:lnTo>
                <a:lnTo>
                  <a:pt x="365381" y="23892"/>
                </a:lnTo>
                <a:lnTo>
                  <a:pt x="357069" y="19615"/>
                </a:lnTo>
                <a:lnTo>
                  <a:pt x="348141" y="15916"/>
                </a:lnTo>
                <a:lnTo>
                  <a:pt x="338802" y="12604"/>
                </a:lnTo>
                <a:lnTo>
                  <a:pt x="329190" y="9549"/>
                </a:lnTo>
                <a:lnTo>
                  <a:pt x="309478" y="3897"/>
                </a:lnTo>
                <a:lnTo>
                  <a:pt x="299481" y="2051"/>
                </a:lnTo>
                <a:lnTo>
                  <a:pt x="289429" y="820"/>
                </a:lnTo>
                <a:lnTo>
                  <a:pt x="279341" y="0"/>
                </a:lnTo>
                <a:lnTo>
                  <a:pt x="268382" y="300"/>
                </a:lnTo>
                <a:lnTo>
                  <a:pt x="256843" y="1346"/>
                </a:lnTo>
                <a:lnTo>
                  <a:pt x="244917" y="2891"/>
                </a:lnTo>
                <a:lnTo>
                  <a:pt x="232733" y="4767"/>
                </a:lnTo>
                <a:lnTo>
                  <a:pt x="207907" y="9109"/>
                </a:lnTo>
                <a:lnTo>
                  <a:pt x="195359" y="12299"/>
                </a:lnTo>
                <a:lnTo>
                  <a:pt x="182762" y="16119"/>
                </a:lnTo>
                <a:lnTo>
                  <a:pt x="170129" y="20359"/>
                </a:lnTo>
                <a:lnTo>
                  <a:pt x="157475" y="25726"/>
                </a:lnTo>
                <a:lnTo>
                  <a:pt x="144805" y="31844"/>
                </a:lnTo>
                <a:lnTo>
                  <a:pt x="132125" y="38462"/>
                </a:lnTo>
                <a:lnTo>
                  <a:pt x="119439" y="46261"/>
                </a:lnTo>
                <a:lnTo>
                  <a:pt x="106748" y="54847"/>
                </a:lnTo>
                <a:lnTo>
                  <a:pt x="94053" y="63958"/>
                </a:lnTo>
                <a:lnTo>
                  <a:pt x="68660" y="83112"/>
                </a:lnTo>
                <a:lnTo>
                  <a:pt x="21909" y="118958"/>
                </a:lnTo>
                <a:lnTo>
                  <a:pt x="12095" y="127865"/>
                </a:lnTo>
                <a:lnTo>
                  <a:pt x="3012" y="137190"/>
                </a:lnTo>
                <a:lnTo>
                  <a:pt x="0" y="14055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MARTInkAnnotation166"/>
          <p:cNvSpPr/>
          <p:nvPr/>
        </p:nvSpPr>
        <p:spPr>
          <a:xfrm>
            <a:off x="3021120" y="1622520"/>
            <a:ext cx="331560" cy="15840"/>
          </a:xfrm>
          <a:custGeom>
            <a:avLst/>
            <a:gdLst>
              <a:gd name="textAreaLeft" fmla="*/ 0 w 331560"/>
              <a:gd name="textAreaRight" fmla="*/ 331920 w 3315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32256" h="15193">
                <a:moveTo>
                  <a:pt x="0" y="10694"/>
                </a:moveTo>
                <a:lnTo>
                  <a:pt x="1850" y="11031"/>
                </a:lnTo>
                <a:lnTo>
                  <a:pt x="13772" y="12434"/>
                </a:lnTo>
                <a:lnTo>
                  <a:pt x="25953" y="13370"/>
                </a:lnTo>
                <a:lnTo>
                  <a:pt x="39154" y="13993"/>
                </a:lnTo>
                <a:lnTo>
                  <a:pt x="67367" y="14686"/>
                </a:lnTo>
                <a:lnTo>
                  <a:pt x="150593" y="15192"/>
                </a:lnTo>
                <a:lnTo>
                  <a:pt x="164580" y="14361"/>
                </a:lnTo>
                <a:lnTo>
                  <a:pt x="178138" y="12961"/>
                </a:lnTo>
                <a:lnTo>
                  <a:pt x="191410" y="11181"/>
                </a:lnTo>
                <a:lnTo>
                  <a:pt x="204492" y="9994"/>
                </a:lnTo>
                <a:lnTo>
                  <a:pt x="217446" y="9203"/>
                </a:lnTo>
                <a:lnTo>
                  <a:pt x="230316" y="8675"/>
                </a:lnTo>
                <a:lnTo>
                  <a:pt x="243128" y="7477"/>
                </a:lnTo>
                <a:lnTo>
                  <a:pt x="255904" y="5831"/>
                </a:lnTo>
                <a:lnTo>
                  <a:pt x="268654" y="3887"/>
                </a:lnTo>
                <a:lnTo>
                  <a:pt x="279695" y="2592"/>
                </a:lnTo>
                <a:lnTo>
                  <a:pt x="289594" y="1728"/>
                </a:lnTo>
                <a:lnTo>
                  <a:pt x="306521" y="768"/>
                </a:lnTo>
                <a:lnTo>
                  <a:pt x="33225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MARTInkAnnotation167"/>
          <p:cNvSpPr/>
          <p:nvPr/>
        </p:nvSpPr>
        <p:spPr>
          <a:xfrm>
            <a:off x="4594320" y="1752480"/>
            <a:ext cx="274680" cy="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74321" h="7613">
                <a:moveTo>
                  <a:pt x="0" y="7612"/>
                </a:moveTo>
                <a:lnTo>
                  <a:pt x="40156" y="7612"/>
                </a:lnTo>
                <a:lnTo>
                  <a:pt x="47091" y="6765"/>
                </a:lnTo>
                <a:lnTo>
                  <a:pt x="54253" y="5354"/>
                </a:lnTo>
                <a:lnTo>
                  <a:pt x="61569" y="3567"/>
                </a:lnTo>
                <a:lnTo>
                  <a:pt x="68986" y="2375"/>
                </a:lnTo>
                <a:lnTo>
                  <a:pt x="76470" y="1581"/>
                </a:lnTo>
                <a:lnTo>
                  <a:pt x="84000" y="1051"/>
                </a:lnTo>
                <a:lnTo>
                  <a:pt x="93254" y="698"/>
                </a:lnTo>
                <a:lnTo>
                  <a:pt x="126503" y="201"/>
                </a:lnTo>
                <a:lnTo>
                  <a:pt x="215534" y="0"/>
                </a:lnTo>
                <a:lnTo>
                  <a:pt x="224969" y="844"/>
                </a:lnTo>
                <a:lnTo>
                  <a:pt x="233800" y="2253"/>
                </a:lnTo>
                <a:lnTo>
                  <a:pt x="242226" y="4040"/>
                </a:lnTo>
                <a:lnTo>
                  <a:pt x="249537" y="5230"/>
                </a:lnTo>
                <a:lnTo>
                  <a:pt x="256105" y="6024"/>
                </a:lnTo>
                <a:lnTo>
                  <a:pt x="274320" y="76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InkAnnotation168"/>
          <p:cNvSpPr/>
          <p:nvPr/>
        </p:nvSpPr>
        <p:spPr>
          <a:xfrm>
            <a:off x="4632480" y="1798560"/>
            <a:ext cx="298440" cy="22320"/>
          </a:xfrm>
          <a:custGeom>
            <a:avLst/>
            <a:gdLst>
              <a:gd name="textAreaLeft" fmla="*/ 0 w 298440"/>
              <a:gd name="textAreaRight" fmla="*/ 298800 w 2984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97182" h="22859">
                <a:moveTo>
                  <a:pt x="0" y="15240"/>
                </a:moveTo>
                <a:lnTo>
                  <a:pt x="0" y="19285"/>
                </a:lnTo>
                <a:lnTo>
                  <a:pt x="846" y="20477"/>
                </a:lnTo>
                <a:lnTo>
                  <a:pt x="2257" y="21271"/>
                </a:lnTo>
                <a:lnTo>
                  <a:pt x="4045" y="21801"/>
                </a:lnTo>
                <a:lnTo>
                  <a:pt x="10546" y="22389"/>
                </a:lnTo>
                <a:lnTo>
                  <a:pt x="14651" y="22546"/>
                </a:lnTo>
                <a:lnTo>
                  <a:pt x="32563" y="22767"/>
                </a:lnTo>
                <a:lnTo>
                  <a:pt x="109720" y="22858"/>
                </a:lnTo>
                <a:lnTo>
                  <a:pt x="120560" y="22012"/>
                </a:lnTo>
                <a:lnTo>
                  <a:pt x="132020" y="20601"/>
                </a:lnTo>
                <a:lnTo>
                  <a:pt x="143893" y="18814"/>
                </a:lnTo>
                <a:lnTo>
                  <a:pt x="155196" y="17623"/>
                </a:lnTo>
                <a:lnTo>
                  <a:pt x="166117" y="16829"/>
                </a:lnTo>
                <a:lnTo>
                  <a:pt x="176784" y="16299"/>
                </a:lnTo>
                <a:lnTo>
                  <a:pt x="187283" y="15099"/>
                </a:lnTo>
                <a:lnTo>
                  <a:pt x="197669" y="13453"/>
                </a:lnTo>
                <a:lnTo>
                  <a:pt x="207979" y="11509"/>
                </a:lnTo>
                <a:lnTo>
                  <a:pt x="218240" y="10212"/>
                </a:lnTo>
                <a:lnTo>
                  <a:pt x="228467" y="9348"/>
                </a:lnTo>
                <a:lnTo>
                  <a:pt x="238671" y="8772"/>
                </a:lnTo>
                <a:lnTo>
                  <a:pt x="248861" y="7541"/>
                </a:lnTo>
                <a:lnTo>
                  <a:pt x="259041" y="5874"/>
                </a:lnTo>
                <a:lnTo>
                  <a:pt x="269214" y="3916"/>
                </a:lnTo>
                <a:lnTo>
                  <a:pt x="276843" y="2611"/>
                </a:lnTo>
                <a:lnTo>
                  <a:pt x="282776" y="1740"/>
                </a:lnTo>
                <a:lnTo>
                  <a:pt x="29718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InkAnnotation169"/>
          <p:cNvSpPr/>
          <p:nvPr/>
        </p:nvSpPr>
        <p:spPr>
          <a:xfrm>
            <a:off x="5189400" y="1319040"/>
            <a:ext cx="427320" cy="814680"/>
          </a:xfrm>
          <a:custGeom>
            <a:avLst/>
            <a:gdLst>
              <a:gd name="textAreaLeft" fmla="*/ 0 w 427320"/>
              <a:gd name="textAreaRight" fmla="*/ 427680 w 427320"/>
              <a:gd name="textAreaTop" fmla="*/ 0 h 814680"/>
              <a:gd name="textAreaBottom" fmla="*/ 815040 h 814680"/>
            </a:gdLst>
            <a:ahLst/>
            <a:rect l="textAreaLeft" t="textAreaTop" r="textAreaRight" b="textAreaBottom"/>
            <a:pathLst>
              <a:path w="426629" h="814987">
                <a:moveTo>
                  <a:pt x="327568" y="60607"/>
                </a:moveTo>
                <a:lnTo>
                  <a:pt x="323523" y="60607"/>
                </a:lnTo>
                <a:lnTo>
                  <a:pt x="312916" y="56562"/>
                </a:lnTo>
                <a:lnTo>
                  <a:pt x="303095" y="54046"/>
                </a:lnTo>
                <a:lnTo>
                  <a:pt x="292984" y="48942"/>
                </a:lnTo>
                <a:lnTo>
                  <a:pt x="280024" y="41876"/>
                </a:lnTo>
                <a:lnTo>
                  <a:pt x="273012" y="38806"/>
                </a:lnTo>
                <a:lnTo>
                  <a:pt x="265797" y="35913"/>
                </a:lnTo>
                <a:lnTo>
                  <a:pt x="257601" y="33138"/>
                </a:lnTo>
                <a:lnTo>
                  <a:pt x="248749" y="30441"/>
                </a:lnTo>
                <a:lnTo>
                  <a:pt x="229883" y="25186"/>
                </a:lnTo>
                <a:lnTo>
                  <a:pt x="180094" y="12365"/>
                </a:lnTo>
                <a:lnTo>
                  <a:pt x="169985" y="10666"/>
                </a:lnTo>
                <a:lnTo>
                  <a:pt x="159859" y="9533"/>
                </a:lnTo>
                <a:lnTo>
                  <a:pt x="149722" y="8778"/>
                </a:lnTo>
                <a:lnTo>
                  <a:pt x="139577" y="7427"/>
                </a:lnTo>
                <a:lnTo>
                  <a:pt x="129427" y="5681"/>
                </a:lnTo>
                <a:lnTo>
                  <a:pt x="119274" y="3669"/>
                </a:lnTo>
                <a:lnTo>
                  <a:pt x="109119" y="2328"/>
                </a:lnTo>
                <a:lnTo>
                  <a:pt x="98961" y="1435"/>
                </a:lnTo>
                <a:lnTo>
                  <a:pt x="88804" y="839"/>
                </a:lnTo>
                <a:lnTo>
                  <a:pt x="70743" y="177"/>
                </a:lnTo>
                <a:lnTo>
                  <a:pt x="62371" y="0"/>
                </a:lnTo>
                <a:lnTo>
                  <a:pt x="54250" y="729"/>
                </a:lnTo>
                <a:lnTo>
                  <a:pt x="46296" y="2062"/>
                </a:lnTo>
                <a:lnTo>
                  <a:pt x="38453" y="3797"/>
                </a:lnTo>
                <a:lnTo>
                  <a:pt x="25223" y="5725"/>
                </a:lnTo>
                <a:lnTo>
                  <a:pt x="11023" y="6962"/>
                </a:lnTo>
                <a:lnTo>
                  <a:pt x="9011" y="8757"/>
                </a:lnTo>
                <a:lnTo>
                  <a:pt x="1273" y="20362"/>
                </a:lnTo>
                <a:lnTo>
                  <a:pt x="1665" y="22770"/>
                </a:lnTo>
                <a:lnTo>
                  <a:pt x="5414" y="34250"/>
                </a:lnTo>
                <a:lnTo>
                  <a:pt x="6588" y="43531"/>
                </a:lnTo>
                <a:lnTo>
                  <a:pt x="8595" y="48376"/>
                </a:lnTo>
                <a:lnTo>
                  <a:pt x="21724" y="68320"/>
                </a:lnTo>
                <a:lnTo>
                  <a:pt x="32336" y="85752"/>
                </a:lnTo>
                <a:lnTo>
                  <a:pt x="43947" y="107004"/>
                </a:lnTo>
                <a:lnTo>
                  <a:pt x="55007" y="129388"/>
                </a:lnTo>
                <a:lnTo>
                  <a:pt x="59500" y="136941"/>
                </a:lnTo>
                <a:lnTo>
                  <a:pt x="64493" y="154364"/>
                </a:lnTo>
                <a:lnTo>
                  <a:pt x="67559" y="173397"/>
                </a:lnTo>
                <a:lnTo>
                  <a:pt x="71743" y="193145"/>
                </a:lnTo>
                <a:lnTo>
                  <a:pt x="71910" y="213210"/>
                </a:lnTo>
                <a:lnTo>
                  <a:pt x="70009" y="233417"/>
                </a:lnTo>
                <a:lnTo>
                  <a:pt x="69164" y="253687"/>
                </a:lnTo>
                <a:lnTo>
                  <a:pt x="66530" y="276243"/>
                </a:lnTo>
                <a:lnTo>
                  <a:pt x="62537" y="299532"/>
                </a:lnTo>
                <a:lnTo>
                  <a:pt x="32921" y="443370"/>
                </a:lnTo>
                <a:lnTo>
                  <a:pt x="27845" y="465533"/>
                </a:lnTo>
                <a:lnTo>
                  <a:pt x="25024" y="488930"/>
                </a:lnTo>
                <a:lnTo>
                  <a:pt x="23770" y="513439"/>
                </a:lnTo>
                <a:lnTo>
                  <a:pt x="23213" y="538443"/>
                </a:lnTo>
                <a:lnTo>
                  <a:pt x="22768" y="696562"/>
                </a:lnTo>
                <a:lnTo>
                  <a:pt x="20510" y="714094"/>
                </a:lnTo>
                <a:lnTo>
                  <a:pt x="16737" y="738244"/>
                </a:lnTo>
                <a:lnTo>
                  <a:pt x="15618" y="759228"/>
                </a:lnTo>
                <a:lnTo>
                  <a:pt x="15461" y="765114"/>
                </a:lnTo>
                <a:lnTo>
                  <a:pt x="14510" y="769885"/>
                </a:lnTo>
                <a:lnTo>
                  <a:pt x="9972" y="781492"/>
                </a:lnTo>
                <a:lnTo>
                  <a:pt x="7622" y="805496"/>
                </a:lnTo>
                <a:lnTo>
                  <a:pt x="7535" y="813764"/>
                </a:lnTo>
                <a:lnTo>
                  <a:pt x="6686" y="814172"/>
                </a:lnTo>
                <a:lnTo>
                  <a:pt x="0" y="814978"/>
                </a:lnTo>
                <a:lnTo>
                  <a:pt x="6476" y="814986"/>
                </a:lnTo>
                <a:lnTo>
                  <a:pt x="6826" y="814140"/>
                </a:lnTo>
                <a:lnTo>
                  <a:pt x="7216" y="810942"/>
                </a:lnTo>
                <a:lnTo>
                  <a:pt x="8167" y="809750"/>
                </a:lnTo>
                <a:lnTo>
                  <a:pt x="9647" y="808956"/>
                </a:lnTo>
                <a:lnTo>
                  <a:pt x="11481" y="808426"/>
                </a:lnTo>
                <a:lnTo>
                  <a:pt x="15775" y="805580"/>
                </a:lnTo>
                <a:lnTo>
                  <a:pt x="18106" y="803636"/>
                </a:lnTo>
                <a:lnTo>
                  <a:pt x="21353" y="802339"/>
                </a:lnTo>
                <a:lnTo>
                  <a:pt x="34014" y="799668"/>
                </a:lnTo>
                <a:lnTo>
                  <a:pt x="43570" y="796043"/>
                </a:lnTo>
                <a:lnTo>
                  <a:pt x="50183" y="794738"/>
                </a:lnTo>
                <a:lnTo>
                  <a:pt x="57978" y="793867"/>
                </a:lnTo>
                <a:lnTo>
                  <a:pt x="66560" y="793287"/>
                </a:lnTo>
                <a:lnTo>
                  <a:pt x="74823" y="792054"/>
                </a:lnTo>
                <a:lnTo>
                  <a:pt x="82871" y="790385"/>
                </a:lnTo>
                <a:lnTo>
                  <a:pt x="90777" y="788426"/>
                </a:lnTo>
                <a:lnTo>
                  <a:pt x="100280" y="787119"/>
                </a:lnTo>
                <a:lnTo>
                  <a:pt x="110850" y="786249"/>
                </a:lnTo>
                <a:lnTo>
                  <a:pt x="122128" y="785668"/>
                </a:lnTo>
                <a:lnTo>
                  <a:pt x="143692" y="785023"/>
                </a:lnTo>
                <a:lnTo>
                  <a:pt x="196203" y="784575"/>
                </a:lnTo>
                <a:lnTo>
                  <a:pt x="426628" y="78450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MARTInkAnnotation170"/>
          <p:cNvSpPr/>
          <p:nvPr/>
        </p:nvSpPr>
        <p:spPr>
          <a:xfrm>
            <a:off x="5380200" y="1508040"/>
            <a:ext cx="204480" cy="360"/>
          </a:xfrm>
          <a:custGeom>
            <a:avLst/>
            <a:gdLst>
              <a:gd name="textAreaLeft" fmla="*/ 0 w 204480"/>
              <a:gd name="textAreaRight" fmla="*/ 204840 w 2044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05648" h="1">
                <a:moveTo>
                  <a:pt x="7528" y="0"/>
                </a:moveTo>
                <a:lnTo>
                  <a:pt x="0" y="0"/>
                </a:lnTo>
                <a:lnTo>
                  <a:pt x="20564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MARTInkAnnotation171"/>
          <p:cNvSpPr/>
          <p:nvPr/>
        </p:nvSpPr>
        <p:spPr>
          <a:xfrm>
            <a:off x="5716440" y="1341360"/>
            <a:ext cx="120960" cy="122400"/>
          </a:xfrm>
          <a:custGeom>
            <a:avLst/>
            <a:gdLst>
              <a:gd name="textAreaLeft" fmla="*/ 0 w 120960"/>
              <a:gd name="textAreaRight" fmla="*/ 121320 w 120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20349" h="121537">
                <a:moveTo>
                  <a:pt x="120348" y="22518"/>
                </a:moveTo>
                <a:lnTo>
                  <a:pt x="120348" y="8365"/>
                </a:lnTo>
                <a:lnTo>
                  <a:pt x="118091" y="5503"/>
                </a:lnTo>
                <a:lnTo>
                  <a:pt x="116303" y="3555"/>
                </a:lnTo>
                <a:lnTo>
                  <a:pt x="114265" y="2256"/>
                </a:lnTo>
                <a:lnTo>
                  <a:pt x="112060" y="1390"/>
                </a:lnTo>
                <a:lnTo>
                  <a:pt x="109743" y="813"/>
                </a:lnTo>
                <a:lnTo>
                  <a:pt x="107351" y="428"/>
                </a:lnTo>
                <a:lnTo>
                  <a:pt x="104910" y="171"/>
                </a:lnTo>
                <a:lnTo>
                  <a:pt x="102436" y="0"/>
                </a:lnTo>
                <a:lnTo>
                  <a:pt x="99940" y="733"/>
                </a:lnTo>
                <a:lnTo>
                  <a:pt x="97429" y="2068"/>
                </a:lnTo>
                <a:lnTo>
                  <a:pt x="94909" y="3805"/>
                </a:lnTo>
                <a:lnTo>
                  <a:pt x="91535" y="4963"/>
                </a:lnTo>
                <a:lnTo>
                  <a:pt x="87593" y="5734"/>
                </a:lnTo>
                <a:lnTo>
                  <a:pt x="83272" y="6249"/>
                </a:lnTo>
                <a:lnTo>
                  <a:pt x="78697" y="8285"/>
                </a:lnTo>
                <a:lnTo>
                  <a:pt x="73954" y="11336"/>
                </a:lnTo>
                <a:lnTo>
                  <a:pt x="69099" y="15064"/>
                </a:lnTo>
                <a:lnTo>
                  <a:pt x="64169" y="19242"/>
                </a:lnTo>
                <a:lnTo>
                  <a:pt x="59189" y="23720"/>
                </a:lnTo>
                <a:lnTo>
                  <a:pt x="54175" y="28400"/>
                </a:lnTo>
                <a:lnTo>
                  <a:pt x="48292" y="33212"/>
                </a:lnTo>
                <a:lnTo>
                  <a:pt x="41832" y="38114"/>
                </a:lnTo>
                <a:lnTo>
                  <a:pt x="34984" y="43076"/>
                </a:lnTo>
                <a:lnTo>
                  <a:pt x="29572" y="48076"/>
                </a:lnTo>
                <a:lnTo>
                  <a:pt x="25117" y="53104"/>
                </a:lnTo>
                <a:lnTo>
                  <a:pt x="21301" y="58148"/>
                </a:lnTo>
                <a:lnTo>
                  <a:pt x="17909" y="62358"/>
                </a:lnTo>
                <a:lnTo>
                  <a:pt x="14803" y="66012"/>
                </a:lnTo>
                <a:lnTo>
                  <a:pt x="11885" y="69294"/>
                </a:lnTo>
                <a:lnTo>
                  <a:pt x="9092" y="73175"/>
                </a:lnTo>
                <a:lnTo>
                  <a:pt x="6384" y="77456"/>
                </a:lnTo>
                <a:lnTo>
                  <a:pt x="3732" y="82004"/>
                </a:lnTo>
                <a:lnTo>
                  <a:pt x="1964" y="86728"/>
                </a:lnTo>
                <a:lnTo>
                  <a:pt x="785" y="91572"/>
                </a:lnTo>
                <a:lnTo>
                  <a:pt x="0" y="96494"/>
                </a:lnTo>
                <a:lnTo>
                  <a:pt x="322" y="100622"/>
                </a:lnTo>
                <a:lnTo>
                  <a:pt x="1384" y="104221"/>
                </a:lnTo>
                <a:lnTo>
                  <a:pt x="2939" y="107466"/>
                </a:lnTo>
                <a:lnTo>
                  <a:pt x="4822" y="110477"/>
                </a:lnTo>
                <a:lnTo>
                  <a:pt x="6924" y="113331"/>
                </a:lnTo>
                <a:lnTo>
                  <a:pt x="9172" y="116080"/>
                </a:lnTo>
                <a:lnTo>
                  <a:pt x="12364" y="117913"/>
                </a:lnTo>
                <a:lnTo>
                  <a:pt x="16185" y="119134"/>
                </a:lnTo>
                <a:lnTo>
                  <a:pt x="20426" y="119949"/>
                </a:lnTo>
                <a:lnTo>
                  <a:pt x="25793" y="120492"/>
                </a:lnTo>
                <a:lnTo>
                  <a:pt x="31912" y="120854"/>
                </a:lnTo>
                <a:lnTo>
                  <a:pt x="44637" y="121256"/>
                </a:lnTo>
                <a:lnTo>
                  <a:pt x="66603" y="121514"/>
                </a:lnTo>
                <a:lnTo>
                  <a:pt x="71818" y="121536"/>
                </a:lnTo>
                <a:lnTo>
                  <a:pt x="76988" y="120703"/>
                </a:lnTo>
                <a:lnTo>
                  <a:pt x="82128" y="119302"/>
                </a:lnTo>
                <a:lnTo>
                  <a:pt x="87249" y="117520"/>
                </a:lnTo>
                <a:lnTo>
                  <a:pt x="92355" y="114640"/>
                </a:lnTo>
                <a:lnTo>
                  <a:pt x="97453" y="111026"/>
                </a:lnTo>
                <a:lnTo>
                  <a:pt x="102545" y="106923"/>
                </a:lnTo>
                <a:lnTo>
                  <a:pt x="106786" y="103342"/>
                </a:lnTo>
                <a:lnTo>
                  <a:pt x="110460" y="100107"/>
                </a:lnTo>
                <a:lnTo>
                  <a:pt x="113756" y="97104"/>
                </a:lnTo>
                <a:lnTo>
                  <a:pt x="115954" y="93409"/>
                </a:lnTo>
                <a:lnTo>
                  <a:pt x="117418" y="89252"/>
                </a:lnTo>
                <a:lnTo>
                  <a:pt x="118395" y="84787"/>
                </a:lnTo>
                <a:lnTo>
                  <a:pt x="119046" y="80118"/>
                </a:lnTo>
                <a:lnTo>
                  <a:pt x="119480" y="75311"/>
                </a:lnTo>
                <a:lnTo>
                  <a:pt x="119962" y="66302"/>
                </a:lnTo>
                <a:lnTo>
                  <a:pt x="120177" y="59475"/>
                </a:lnTo>
                <a:lnTo>
                  <a:pt x="119388" y="55623"/>
                </a:lnTo>
                <a:lnTo>
                  <a:pt x="118014" y="51361"/>
                </a:lnTo>
                <a:lnTo>
                  <a:pt x="116252" y="46827"/>
                </a:lnTo>
                <a:lnTo>
                  <a:pt x="114231" y="42957"/>
                </a:lnTo>
                <a:lnTo>
                  <a:pt x="112037" y="39531"/>
                </a:lnTo>
                <a:lnTo>
                  <a:pt x="106478" y="31993"/>
                </a:lnTo>
                <a:lnTo>
                  <a:pt x="103459" y="28705"/>
                </a:lnTo>
                <a:lnTo>
                  <a:pt x="101469" y="26643"/>
                </a:lnTo>
                <a:lnTo>
                  <a:pt x="99295" y="25268"/>
                </a:lnTo>
                <a:lnTo>
                  <a:pt x="97000" y="24351"/>
                </a:lnTo>
                <a:lnTo>
                  <a:pt x="94623" y="23740"/>
                </a:lnTo>
                <a:lnTo>
                  <a:pt x="92191" y="24180"/>
                </a:lnTo>
                <a:lnTo>
                  <a:pt x="89724" y="25319"/>
                </a:lnTo>
                <a:lnTo>
                  <a:pt x="82248" y="3013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InkAnnotation172"/>
          <p:cNvSpPr/>
          <p:nvPr/>
        </p:nvSpPr>
        <p:spPr>
          <a:xfrm>
            <a:off x="5761080" y="1486080"/>
            <a:ext cx="98280" cy="102960"/>
          </a:xfrm>
          <a:custGeom>
            <a:avLst/>
            <a:gdLst>
              <a:gd name="textAreaLeft" fmla="*/ 0 w 98280"/>
              <a:gd name="textAreaRight" fmla="*/ 98640 w 982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98455" h="102442">
                <a:moveTo>
                  <a:pt x="37657" y="0"/>
                </a:moveTo>
                <a:lnTo>
                  <a:pt x="33612" y="4045"/>
                </a:lnTo>
                <a:lnTo>
                  <a:pt x="32421" y="6930"/>
                </a:lnTo>
                <a:lnTo>
                  <a:pt x="31626" y="10547"/>
                </a:lnTo>
                <a:lnTo>
                  <a:pt x="31096" y="14651"/>
                </a:lnTo>
                <a:lnTo>
                  <a:pt x="29897" y="18234"/>
                </a:lnTo>
                <a:lnTo>
                  <a:pt x="28250" y="21470"/>
                </a:lnTo>
                <a:lnTo>
                  <a:pt x="26306" y="24473"/>
                </a:lnTo>
                <a:lnTo>
                  <a:pt x="24163" y="28169"/>
                </a:lnTo>
                <a:lnTo>
                  <a:pt x="19524" y="36791"/>
                </a:lnTo>
                <a:lnTo>
                  <a:pt x="17102" y="40614"/>
                </a:lnTo>
                <a:lnTo>
                  <a:pt x="14640" y="44009"/>
                </a:lnTo>
                <a:lnTo>
                  <a:pt x="12152" y="47119"/>
                </a:lnTo>
                <a:lnTo>
                  <a:pt x="9647" y="50886"/>
                </a:lnTo>
                <a:lnTo>
                  <a:pt x="7131" y="55091"/>
                </a:lnTo>
                <a:lnTo>
                  <a:pt x="4606" y="59587"/>
                </a:lnTo>
                <a:lnTo>
                  <a:pt x="2923" y="63432"/>
                </a:lnTo>
                <a:lnTo>
                  <a:pt x="1801" y="66841"/>
                </a:lnTo>
                <a:lnTo>
                  <a:pt x="1053" y="69961"/>
                </a:lnTo>
                <a:lnTo>
                  <a:pt x="555" y="72887"/>
                </a:lnTo>
                <a:lnTo>
                  <a:pt x="222" y="75685"/>
                </a:lnTo>
                <a:lnTo>
                  <a:pt x="0" y="78397"/>
                </a:lnTo>
                <a:lnTo>
                  <a:pt x="700" y="81051"/>
                </a:lnTo>
                <a:lnTo>
                  <a:pt x="2012" y="83667"/>
                </a:lnTo>
                <a:lnTo>
                  <a:pt x="3734" y="86258"/>
                </a:lnTo>
                <a:lnTo>
                  <a:pt x="5728" y="88832"/>
                </a:lnTo>
                <a:lnTo>
                  <a:pt x="7904" y="91395"/>
                </a:lnTo>
                <a:lnTo>
                  <a:pt x="10202" y="93950"/>
                </a:lnTo>
                <a:lnTo>
                  <a:pt x="15013" y="99047"/>
                </a:lnTo>
                <a:lnTo>
                  <a:pt x="17480" y="101591"/>
                </a:lnTo>
                <a:lnTo>
                  <a:pt x="20820" y="102441"/>
                </a:lnTo>
                <a:lnTo>
                  <a:pt x="24739" y="102161"/>
                </a:lnTo>
                <a:lnTo>
                  <a:pt x="29045" y="101127"/>
                </a:lnTo>
                <a:lnTo>
                  <a:pt x="33609" y="100438"/>
                </a:lnTo>
                <a:lnTo>
                  <a:pt x="38345" y="99979"/>
                </a:lnTo>
                <a:lnTo>
                  <a:pt x="43196" y="99673"/>
                </a:lnTo>
                <a:lnTo>
                  <a:pt x="53101" y="99332"/>
                </a:lnTo>
                <a:lnTo>
                  <a:pt x="58113" y="99242"/>
                </a:lnTo>
                <a:lnTo>
                  <a:pt x="62301" y="98334"/>
                </a:lnTo>
                <a:lnTo>
                  <a:pt x="65940" y="96883"/>
                </a:lnTo>
                <a:lnTo>
                  <a:pt x="69212" y="95069"/>
                </a:lnTo>
                <a:lnTo>
                  <a:pt x="77364" y="90795"/>
                </a:lnTo>
                <a:lnTo>
                  <a:pt x="81909" y="88470"/>
                </a:lnTo>
                <a:lnTo>
                  <a:pt x="85785" y="86073"/>
                </a:lnTo>
                <a:lnTo>
                  <a:pt x="89216" y="83629"/>
                </a:lnTo>
                <a:lnTo>
                  <a:pt x="92349" y="81153"/>
                </a:lnTo>
                <a:lnTo>
                  <a:pt x="94438" y="77808"/>
                </a:lnTo>
                <a:lnTo>
                  <a:pt x="95832" y="73886"/>
                </a:lnTo>
                <a:lnTo>
                  <a:pt x="96760" y="69577"/>
                </a:lnTo>
                <a:lnTo>
                  <a:pt x="97379" y="65858"/>
                </a:lnTo>
                <a:lnTo>
                  <a:pt x="97792" y="62532"/>
                </a:lnTo>
                <a:lnTo>
                  <a:pt x="98067" y="59468"/>
                </a:lnTo>
                <a:lnTo>
                  <a:pt x="98250" y="56579"/>
                </a:lnTo>
                <a:lnTo>
                  <a:pt x="98454" y="51111"/>
                </a:lnTo>
                <a:lnTo>
                  <a:pt x="97662" y="47620"/>
                </a:lnTo>
                <a:lnTo>
                  <a:pt x="96287" y="43600"/>
                </a:lnTo>
                <a:lnTo>
                  <a:pt x="94524" y="39227"/>
                </a:lnTo>
                <a:lnTo>
                  <a:pt x="92502" y="35465"/>
                </a:lnTo>
                <a:lnTo>
                  <a:pt x="90307" y="32110"/>
                </a:lnTo>
                <a:lnTo>
                  <a:pt x="87997" y="29027"/>
                </a:lnTo>
                <a:lnTo>
                  <a:pt x="85611" y="26971"/>
                </a:lnTo>
                <a:lnTo>
                  <a:pt x="83172" y="25601"/>
                </a:lnTo>
                <a:lnTo>
                  <a:pt x="80701" y="24687"/>
                </a:lnTo>
                <a:lnTo>
                  <a:pt x="79053" y="23231"/>
                </a:lnTo>
                <a:lnTo>
                  <a:pt x="77954" y="21414"/>
                </a:lnTo>
                <a:lnTo>
                  <a:pt x="77222" y="19356"/>
                </a:lnTo>
                <a:lnTo>
                  <a:pt x="75887" y="17984"/>
                </a:lnTo>
                <a:lnTo>
                  <a:pt x="74150" y="17069"/>
                </a:lnTo>
                <a:lnTo>
                  <a:pt x="72146" y="16460"/>
                </a:lnTo>
                <a:lnTo>
                  <a:pt x="69963" y="16053"/>
                </a:lnTo>
                <a:lnTo>
                  <a:pt x="67661" y="15782"/>
                </a:lnTo>
                <a:lnTo>
                  <a:pt x="60517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InkAnnotation173"/>
          <p:cNvSpPr/>
          <p:nvPr/>
        </p:nvSpPr>
        <p:spPr>
          <a:xfrm>
            <a:off x="1981080" y="134136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" h="22">
                <a:moveTo>
                  <a:pt x="0" y="0"/>
                </a:moveTo>
                <a:lnTo>
                  <a:pt x="1" y="2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InkAnnotation174"/>
          <p:cNvSpPr/>
          <p:nvPr/>
        </p:nvSpPr>
        <p:spPr>
          <a:xfrm>
            <a:off x="1969920" y="1274760"/>
            <a:ext cx="528840" cy="382680"/>
          </a:xfrm>
          <a:custGeom>
            <a:avLst/>
            <a:gdLst>
              <a:gd name="textAreaLeft" fmla="*/ 0 w 528840"/>
              <a:gd name="textAreaRight" fmla="*/ 529200 w 52884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528689" h="383460">
                <a:moveTo>
                  <a:pt x="18294" y="51795"/>
                </a:moveTo>
                <a:lnTo>
                  <a:pt x="18294" y="103050"/>
                </a:lnTo>
                <a:lnTo>
                  <a:pt x="19141" y="108825"/>
                </a:lnTo>
                <a:lnTo>
                  <a:pt x="20552" y="115215"/>
                </a:lnTo>
                <a:lnTo>
                  <a:pt x="22339" y="122015"/>
                </a:lnTo>
                <a:lnTo>
                  <a:pt x="23531" y="128242"/>
                </a:lnTo>
                <a:lnTo>
                  <a:pt x="24855" y="139676"/>
                </a:lnTo>
                <a:lnTo>
                  <a:pt x="25208" y="145942"/>
                </a:lnTo>
                <a:lnTo>
                  <a:pt x="25600" y="159678"/>
                </a:lnTo>
                <a:lnTo>
                  <a:pt x="25906" y="224571"/>
                </a:lnTo>
                <a:lnTo>
                  <a:pt x="26755" y="233019"/>
                </a:lnTo>
                <a:lnTo>
                  <a:pt x="28168" y="241191"/>
                </a:lnTo>
                <a:lnTo>
                  <a:pt x="29957" y="249179"/>
                </a:lnTo>
                <a:lnTo>
                  <a:pt x="32842" y="257044"/>
                </a:lnTo>
                <a:lnTo>
                  <a:pt x="36460" y="264828"/>
                </a:lnTo>
                <a:lnTo>
                  <a:pt x="40565" y="272557"/>
                </a:lnTo>
                <a:lnTo>
                  <a:pt x="44994" y="280250"/>
                </a:lnTo>
                <a:lnTo>
                  <a:pt x="49641" y="287918"/>
                </a:lnTo>
                <a:lnTo>
                  <a:pt x="54432" y="295570"/>
                </a:lnTo>
                <a:lnTo>
                  <a:pt x="59320" y="302365"/>
                </a:lnTo>
                <a:lnTo>
                  <a:pt x="64271" y="308589"/>
                </a:lnTo>
                <a:lnTo>
                  <a:pt x="74289" y="320019"/>
                </a:lnTo>
                <a:lnTo>
                  <a:pt x="84385" y="330743"/>
                </a:lnTo>
                <a:lnTo>
                  <a:pt x="99032" y="341154"/>
                </a:lnTo>
                <a:lnTo>
                  <a:pt x="107680" y="346301"/>
                </a:lnTo>
                <a:lnTo>
                  <a:pt x="124061" y="356536"/>
                </a:lnTo>
                <a:lnTo>
                  <a:pt x="131985" y="361636"/>
                </a:lnTo>
                <a:lnTo>
                  <a:pt x="140655" y="365882"/>
                </a:lnTo>
                <a:lnTo>
                  <a:pt x="149821" y="369560"/>
                </a:lnTo>
                <a:lnTo>
                  <a:pt x="159319" y="372858"/>
                </a:lnTo>
                <a:lnTo>
                  <a:pt x="169037" y="375057"/>
                </a:lnTo>
                <a:lnTo>
                  <a:pt x="178903" y="376523"/>
                </a:lnTo>
                <a:lnTo>
                  <a:pt x="188867" y="377500"/>
                </a:lnTo>
                <a:lnTo>
                  <a:pt x="199743" y="378999"/>
                </a:lnTo>
                <a:lnTo>
                  <a:pt x="223116" y="382921"/>
                </a:lnTo>
                <a:lnTo>
                  <a:pt x="235275" y="383459"/>
                </a:lnTo>
                <a:lnTo>
                  <a:pt x="247615" y="382971"/>
                </a:lnTo>
                <a:lnTo>
                  <a:pt x="260075" y="381799"/>
                </a:lnTo>
                <a:lnTo>
                  <a:pt x="272614" y="381018"/>
                </a:lnTo>
                <a:lnTo>
                  <a:pt x="297836" y="380149"/>
                </a:lnTo>
                <a:lnTo>
                  <a:pt x="309643" y="379071"/>
                </a:lnTo>
                <a:lnTo>
                  <a:pt x="320900" y="377506"/>
                </a:lnTo>
                <a:lnTo>
                  <a:pt x="331791" y="375616"/>
                </a:lnTo>
                <a:lnTo>
                  <a:pt x="341592" y="373509"/>
                </a:lnTo>
                <a:lnTo>
                  <a:pt x="350666" y="371257"/>
                </a:lnTo>
                <a:lnTo>
                  <a:pt x="359255" y="368910"/>
                </a:lnTo>
                <a:lnTo>
                  <a:pt x="369215" y="365652"/>
                </a:lnTo>
                <a:lnTo>
                  <a:pt x="380088" y="361786"/>
                </a:lnTo>
                <a:lnTo>
                  <a:pt x="391570" y="357516"/>
                </a:lnTo>
                <a:lnTo>
                  <a:pt x="401764" y="352976"/>
                </a:lnTo>
                <a:lnTo>
                  <a:pt x="411101" y="348255"/>
                </a:lnTo>
                <a:lnTo>
                  <a:pt x="419865" y="343415"/>
                </a:lnTo>
                <a:lnTo>
                  <a:pt x="436377" y="333522"/>
                </a:lnTo>
                <a:lnTo>
                  <a:pt x="451335" y="323480"/>
                </a:lnTo>
                <a:lnTo>
                  <a:pt x="463628" y="313373"/>
                </a:lnTo>
                <a:lnTo>
                  <a:pt x="470123" y="307460"/>
                </a:lnTo>
                <a:lnTo>
                  <a:pt x="484114" y="294117"/>
                </a:lnTo>
                <a:lnTo>
                  <a:pt x="502225" y="276370"/>
                </a:lnTo>
                <a:lnTo>
                  <a:pt x="506861" y="270092"/>
                </a:lnTo>
                <a:lnTo>
                  <a:pt x="510799" y="263366"/>
                </a:lnTo>
                <a:lnTo>
                  <a:pt x="514271" y="256343"/>
                </a:lnTo>
                <a:lnTo>
                  <a:pt x="517432" y="248273"/>
                </a:lnTo>
                <a:lnTo>
                  <a:pt x="520386" y="239507"/>
                </a:lnTo>
                <a:lnTo>
                  <a:pt x="523202" y="230277"/>
                </a:lnTo>
                <a:lnTo>
                  <a:pt x="525079" y="221583"/>
                </a:lnTo>
                <a:lnTo>
                  <a:pt x="526331" y="213247"/>
                </a:lnTo>
                <a:lnTo>
                  <a:pt x="527166" y="205150"/>
                </a:lnTo>
                <a:lnTo>
                  <a:pt x="527722" y="197211"/>
                </a:lnTo>
                <a:lnTo>
                  <a:pt x="528093" y="189379"/>
                </a:lnTo>
                <a:lnTo>
                  <a:pt x="528505" y="173904"/>
                </a:lnTo>
                <a:lnTo>
                  <a:pt x="528688" y="158559"/>
                </a:lnTo>
                <a:lnTo>
                  <a:pt x="527890" y="150911"/>
                </a:lnTo>
                <a:lnTo>
                  <a:pt x="526511" y="143272"/>
                </a:lnTo>
                <a:lnTo>
                  <a:pt x="524746" y="135640"/>
                </a:lnTo>
                <a:lnTo>
                  <a:pt x="522722" y="128858"/>
                </a:lnTo>
                <a:lnTo>
                  <a:pt x="520526" y="122644"/>
                </a:lnTo>
                <a:lnTo>
                  <a:pt x="518215" y="116808"/>
                </a:lnTo>
                <a:lnTo>
                  <a:pt x="513390" y="103550"/>
                </a:lnTo>
                <a:lnTo>
                  <a:pt x="510918" y="96458"/>
                </a:lnTo>
                <a:lnTo>
                  <a:pt x="507577" y="90037"/>
                </a:lnTo>
                <a:lnTo>
                  <a:pt x="499349" y="78387"/>
                </a:lnTo>
                <a:lnTo>
                  <a:pt x="487789" y="67565"/>
                </a:lnTo>
                <a:lnTo>
                  <a:pt x="475032" y="57110"/>
                </a:lnTo>
                <a:lnTo>
                  <a:pt x="463717" y="46820"/>
                </a:lnTo>
                <a:lnTo>
                  <a:pt x="450787" y="36601"/>
                </a:lnTo>
                <a:lnTo>
                  <a:pt x="436573" y="27262"/>
                </a:lnTo>
                <a:lnTo>
                  <a:pt x="421789" y="20289"/>
                </a:lnTo>
                <a:lnTo>
                  <a:pt x="413444" y="17245"/>
                </a:lnTo>
                <a:lnTo>
                  <a:pt x="404494" y="14368"/>
                </a:lnTo>
                <a:lnTo>
                  <a:pt x="395141" y="11604"/>
                </a:lnTo>
                <a:lnTo>
                  <a:pt x="384672" y="8914"/>
                </a:lnTo>
                <a:lnTo>
                  <a:pt x="361751" y="3668"/>
                </a:lnTo>
                <a:lnTo>
                  <a:pt x="350559" y="1930"/>
                </a:lnTo>
                <a:lnTo>
                  <a:pt x="339711" y="772"/>
                </a:lnTo>
                <a:lnTo>
                  <a:pt x="329092" y="0"/>
                </a:lnTo>
                <a:lnTo>
                  <a:pt x="318626" y="331"/>
                </a:lnTo>
                <a:lnTo>
                  <a:pt x="308262" y="1399"/>
                </a:lnTo>
                <a:lnTo>
                  <a:pt x="297966" y="2958"/>
                </a:lnTo>
                <a:lnTo>
                  <a:pt x="286869" y="3997"/>
                </a:lnTo>
                <a:lnTo>
                  <a:pt x="275237" y="4689"/>
                </a:lnTo>
                <a:lnTo>
                  <a:pt x="263249" y="5151"/>
                </a:lnTo>
                <a:lnTo>
                  <a:pt x="251024" y="6306"/>
                </a:lnTo>
                <a:lnTo>
                  <a:pt x="238641" y="7922"/>
                </a:lnTo>
                <a:lnTo>
                  <a:pt x="226152" y="9847"/>
                </a:lnTo>
                <a:lnTo>
                  <a:pt x="213593" y="12822"/>
                </a:lnTo>
                <a:lnTo>
                  <a:pt x="200986" y="16500"/>
                </a:lnTo>
                <a:lnTo>
                  <a:pt x="188349" y="20645"/>
                </a:lnTo>
                <a:lnTo>
                  <a:pt x="176537" y="24255"/>
                </a:lnTo>
                <a:lnTo>
                  <a:pt x="154382" y="30524"/>
                </a:lnTo>
                <a:lnTo>
                  <a:pt x="142886" y="35074"/>
                </a:lnTo>
                <a:lnTo>
                  <a:pt x="130989" y="40648"/>
                </a:lnTo>
                <a:lnTo>
                  <a:pt x="85522" y="63798"/>
                </a:lnTo>
                <a:lnTo>
                  <a:pt x="75813" y="69957"/>
                </a:lnTo>
                <a:lnTo>
                  <a:pt x="66800" y="76603"/>
                </a:lnTo>
                <a:lnTo>
                  <a:pt x="58251" y="83574"/>
                </a:lnTo>
                <a:lnTo>
                  <a:pt x="50859" y="90761"/>
                </a:lnTo>
                <a:lnTo>
                  <a:pt x="44237" y="98092"/>
                </a:lnTo>
                <a:lnTo>
                  <a:pt x="38129" y="105520"/>
                </a:lnTo>
                <a:lnTo>
                  <a:pt x="32364" y="113011"/>
                </a:lnTo>
                <a:lnTo>
                  <a:pt x="26828" y="120546"/>
                </a:lnTo>
                <a:lnTo>
                  <a:pt x="21443" y="128109"/>
                </a:lnTo>
                <a:lnTo>
                  <a:pt x="17007" y="135691"/>
                </a:lnTo>
                <a:lnTo>
                  <a:pt x="13203" y="143286"/>
                </a:lnTo>
                <a:lnTo>
                  <a:pt x="9820" y="150889"/>
                </a:lnTo>
                <a:lnTo>
                  <a:pt x="6718" y="159344"/>
                </a:lnTo>
                <a:lnTo>
                  <a:pt x="3803" y="168368"/>
                </a:lnTo>
                <a:lnTo>
                  <a:pt x="1014" y="177770"/>
                </a:lnTo>
                <a:lnTo>
                  <a:pt x="0" y="186579"/>
                </a:lnTo>
                <a:lnTo>
                  <a:pt x="171" y="194991"/>
                </a:lnTo>
                <a:lnTo>
                  <a:pt x="1133" y="203139"/>
                </a:lnTo>
                <a:lnTo>
                  <a:pt x="2620" y="211958"/>
                </a:lnTo>
                <a:lnTo>
                  <a:pt x="4458" y="221223"/>
                </a:lnTo>
                <a:lnTo>
                  <a:pt x="6530" y="230787"/>
                </a:lnTo>
                <a:lnTo>
                  <a:pt x="9605" y="239703"/>
                </a:lnTo>
                <a:lnTo>
                  <a:pt x="13348" y="248187"/>
                </a:lnTo>
                <a:lnTo>
                  <a:pt x="17537" y="256383"/>
                </a:lnTo>
                <a:lnTo>
                  <a:pt x="22869" y="264387"/>
                </a:lnTo>
                <a:lnTo>
                  <a:pt x="28964" y="272263"/>
                </a:lnTo>
                <a:lnTo>
                  <a:pt x="35568" y="280054"/>
                </a:lnTo>
                <a:lnTo>
                  <a:pt x="43356" y="287787"/>
                </a:lnTo>
                <a:lnTo>
                  <a:pt x="51936" y="295483"/>
                </a:lnTo>
                <a:lnTo>
                  <a:pt x="61042" y="303154"/>
                </a:lnTo>
                <a:lnTo>
                  <a:pt x="80191" y="318450"/>
                </a:lnTo>
                <a:lnTo>
                  <a:pt x="90039" y="326085"/>
                </a:lnTo>
                <a:lnTo>
                  <a:pt x="99144" y="332022"/>
                </a:lnTo>
                <a:lnTo>
                  <a:pt x="107754" y="336826"/>
                </a:lnTo>
                <a:lnTo>
                  <a:pt x="124094" y="344422"/>
                </a:lnTo>
                <a:lnTo>
                  <a:pt x="132007" y="347633"/>
                </a:lnTo>
                <a:lnTo>
                  <a:pt x="155454" y="3565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InkAnnotation175"/>
          <p:cNvSpPr/>
          <p:nvPr/>
        </p:nvSpPr>
        <p:spPr>
          <a:xfrm>
            <a:off x="3527280" y="1249200"/>
            <a:ext cx="884520" cy="465480"/>
          </a:xfrm>
          <a:custGeom>
            <a:avLst/>
            <a:gdLst>
              <a:gd name="textAreaLeft" fmla="*/ 0 w 884520"/>
              <a:gd name="textAreaRight" fmla="*/ 884880 w 884520"/>
              <a:gd name="textAreaTop" fmla="*/ 0 h 465480"/>
              <a:gd name="textAreaBottom" fmla="*/ 465840 h 465480"/>
            </a:gdLst>
            <a:ahLst/>
            <a:rect l="textAreaLeft" t="textAreaTop" r="textAreaRight" b="textAreaBottom"/>
            <a:pathLst>
              <a:path w="883742" h="464467">
                <a:moveTo>
                  <a:pt x="30445" y="113947"/>
                </a:moveTo>
                <a:lnTo>
                  <a:pt x="23883" y="120508"/>
                </a:lnTo>
                <a:lnTo>
                  <a:pt x="23295" y="123354"/>
                </a:lnTo>
                <a:lnTo>
                  <a:pt x="23138" y="125298"/>
                </a:lnTo>
                <a:lnTo>
                  <a:pt x="22187" y="127441"/>
                </a:lnTo>
                <a:lnTo>
                  <a:pt x="18872" y="132080"/>
                </a:lnTo>
                <a:lnTo>
                  <a:pt x="17649" y="135349"/>
                </a:lnTo>
                <a:lnTo>
                  <a:pt x="15929" y="147194"/>
                </a:lnTo>
                <a:lnTo>
                  <a:pt x="15526" y="153559"/>
                </a:lnTo>
                <a:lnTo>
                  <a:pt x="11255" y="165948"/>
                </a:lnTo>
                <a:lnTo>
                  <a:pt x="6958" y="173183"/>
                </a:lnTo>
                <a:lnTo>
                  <a:pt x="4626" y="176298"/>
                </a:lnTo>
                <a:lnTo>
                  <a:pt x="3072" y="180067"/>
                </a:lnTo>
                <a:lnTo>
                  <a:pt x="1346" y="188772"/>
                </a:lnTo>
                <a:lnTo>
                  <a:pt x="578" y="200543"/>
                </a:lnTo>
                <a:lnTo>
                  <a:pt x="237" y="213394"/>
                </a:lnTo>
                <a:lnTo>
                  <a:pt x="0" y="240664"/>
                </a:lnTo>
                <a:lnTo>
                  <a:pt x="2238" y="253239"/>
                </a:lnTo>
                <a:lnTo>
                  <a:pt x="6055" y="267295"/>
                </a:lnTo>
                <a:lnTo>
                  <a:pt x="10574" y="282008"/>
                </a:lnTo>
                <a:lnTo>
                  <a:pt x="15404" y="294757"/>
                </a:lnTo>
                <a:lnTo>
                  <a:pt x="20373" y="306914"/>
                </a:lnTo>
                <a:lnTo>
                  <a:pt x="25403" y="320783"/>
                </a:lnTo>
                <a:lnTo>
                  <a:pt x="30461" y="333157"/>
                </a:lnTo>
                <a:lnTo>
                  <a:pt x="36379" y="344300"/>
                </a:lnTo>
                <a:lnTo>
                  <a:pt x="44653" y="354897"/>
                </a:lnTo>
                <a:lnTo>
                  <a:pt x="56233" y="367510"/>
                </a:lnTo>
                <a:lnTo>
                  <a:pt x="68999" y="379888"/>
                </a:lnTo>
                <a:lnTo>
                  <a:pt x="86553" y="392464"/>
                </a:lnTo>
                <a:lnTo>
                  <a:pt x="122249" y="416425"/>
                </a:lnTo>
                <a:lnTo>
                  <a:pt x="144852" y="427467"/>
                </a:lnTo>
                <a:lnTo>
                  <a:pt x="171681" y="436100"/>
                </a:lnTo>
                <a:lnTo>
                  <a:pt x="191147" y="441417"/>
                </a:lnTo>
                <a:lnTo>
                  <a:pt x="210241" y="446603"/>
                </a:lnTo>
                <a:lnTo>
                  <a:pt x="236118" y="454282"/>
                </a:lnTo>
                <a:lnTo>
                  <a:pt x="255063" y="459376"/>
                </a:lnTo>
                <a:lnTo>
                  <a:pt x="277031" y="462204"/>
                </a:lnTo>
                <a:lnTo>
                  <a:pt x="300058" y="463461"/>
                </a:lnTo>
                <a:lnTo>
                  <a:pt x="321581" y="464020"/>
                </a:lnTo>
                <a:lnTo>
                  <a:pt x="464781" y="464466"/>
                </a:lnTo>
                <a:lnTo>
                  <a:pt x="485103" y="463620"/>
                </a:lnTo>
                <a:lnTo>
                  <a:pt x="505423" y="460422"/>
                </a:lnTo>
                <a:lnTo>
                  <a:pt x="525744" y="456178"/>
                </a:lnTo>
                <a:lnTo>
                  <a:pt x="545218" y="451470"/>
                </a:lnTo>
                <a:lnTo>
                  <a:pt x="580673" y="441548"/>
                </a:lnTo>
                <a:lnTo>
                  <a:pt x="629246" y="428899"/>
                </a:lnTo>
                <a:lnTo>
                  <a:pt x="654343" y="420438"/>
                </a:lnTo>
                <a:lnTo>
                  <a:pt x="678712" y="407583"/>
                </a:lnTo>
                <a:lnTo>
                  <a:pt x="706159" y="393896"/>
                </a:lnTo>
                <a:lnTo>
                  <a:pt x="730754" y="383256"/>
                </a:lnTo>
                <a:lnTo>
                  <a:pt x="754128" y="369755"/>
                </a:lnTo>
                <a:lnTo>
                  <a:pt x="769488" y="360002"/>
                </a:lnTo>
                <a:lnTo>
                  <a:pt x="782523" y="350023"/>
                </a:lnTo>
                <a:lnTo>
                  <a:pt x="794808" y="339943"/>
                </a:lnTo>
                <a:lnTo>
                  <a:pt x="808735" y="329818"/>
                </a:lnTo>
                <a:lnTo>
                  <a:pt x="821133" y="317417"/>
                </a:lnTo>
                <a:lnTo>
                  <a:pt x="832289" y="304285"/>
                </a:lnTo>
                <a:lnTo>
                  <a:pt x="842891" y="292804"/>
                </a:lnTo>
                <a:lnTo>
                  <a:pt x="858379" y="276820"/>
                </a:lnTo>
                <a:lnTo>
                  <a:pt x="866340" y="264228"/>
                </a:lnTo>
                <a:lnTo>
                  <a:pt x="878349" y="239494"/>
                </a:lnTo>
                <a:lnTo>
                  <a:pt x="881424" y="228730"/>
                </a:lnTo>
                <a:lnTo>
                  <a:pt x="882791" y="217455"/>
                </a:lnTo>
                <a:lnTo>
                  <a:pt x="883398" y="203977"/>
                </a:lnTo>
                <a:lnTo>
                  <a:pt x="883741" y="186155"/>
                </a:lnTo>
                <a:lnTo>
                  <a:pt x="881563" y="173133"/>
                </a:lnTo>
                <a:lnTo>
                  <a:pt x="877773" y="159725"/>
                </a:lnTo>
                <a:lnTo>
                  <a:pt x="868440" y="135063"/>
                </a:lnTo>
                <a:lnTo>
                  <a:pt x="865969" y="128024"/>
                </a:lnTo>
                <a:lnTo>
                  <a:pt x="861780" y="121639"/>
                </a:lnTo>
                <a:lnTo>
                  <a:pt x="850354" y="110028"/>
                </a:lnTo>
                <a:lnTo>
                  <a:pt x="833686" y="93971"/>
                </a:lnTo>
                <a:lnTo>
                  <a:pt x="820934" y="83620"/>
                </a:lnTo>
                <a:lnTo>
                  <a:pt x="805953" y="73375"/>
                </a:lnTo>
                <a:lnTo>
                  <a:pt x="779326" y="58087"/>
                </a:lnTo>
                <a:lnTo>
                  <a:pt x="753279" y="43680"/>
                </a:lnTo>
                <a:lnTo>
                  <a:pt x="731293" y="36715"/>
                </a:lnTo>
                <a:lnTo>
                  <a:pt x="699160" y="28034"/>
                </a:lnTo>
                <a:lnTo>
                  <a:pt x="676196" y="22706"/>
                </a:lnTo>
                <a:lnTo>
                  <a:pt x="652725" y="17515"/>
                </a:lnTo>
                <a:lnTo>
                  <a:pt x="631004" y="12386"/>
                </a:lnTo>
                <a:lnTo>
                  <a:pt x="607805" y="9542"/>
                </a:lnTo>
                <a:lnTo>
                  <a:pt x="583382" y="7432"/>
                </a:lnTo>
                <a:lnTo>
                  <a:pt x="558417" y="3671"/>
                </a:lnTo>
                <a:lnTo>
                  <a:pt x="533210" y="1436"/>
                </a:lnTo>
                <a:lnTo>
                  <a:pt x="507896" y="442"/>
                </a:lnTo>
                <a:lnTo>
                  <a:pt x="482534" y="0"/>
                </a:lnTo>
                <a:lnTo>
                  <a:pt x="457151" y="2062"/>
                </a:lnTo>
                <a:lnTo>
                  <a:pt x="431758" y="5800"/>
                </a:lnTo>
                <a:lnTo>
                  <a:pt x="406361" y="10284"/>
                </a:lnTo>
                <a:lnTo>
                  <a:pt x="383221" y="12841"/>
                </a:lnTo>
                <a:lnTo>
                  <a:pt x="360800" y="15671"/>
                </a:lnTo>
                <a:lnTo>
                  <a:pt x="311913" y="29028"/>
                </a:lnTo>
                <a:lnTo>
                  <a:pt x="287621" y="35565"/>
                </a:lnTo>
                <a:lnTo>
                  <a:pt x="265536" y="44115"/>
                </a:lnTo>
                <a:lnTo>
                  <a:pt x="244431" y="53560"/>
                </a:lnTo>
                <a:lnTo>
                  <a:pt x="222917" y="63402"/>
                </a:lnTo>
                <a:lnTo>
                  <a:pt x="187850" y="78463"/>
                </a:lnTo>
                <a:lnTo>
                  <a:pt x="166160" y="88581"/>
                </a:lnTo>
                <a:lnTo>
                  <a:pt x="147489" y="98722"/>
                </a:lnTo>
                <a:lnTo>
                  <a:pt x="130724" y="108874"/>
                </a:lnTo>
                <a:lnTo>
                  <a:pt x="114807" y="119030"/>
                </a:lnTo>
                <a:lnTo>
                  <a:pt x="101523" y="131446"/>
                </a:lnTo>
                <a:lnTo>
                  <a:pt x="89128" y="144584"/>
                </a:lnTo>
                <a:lnTo>
                  <a:pt x="68717" y="161501"/>
                </a:lnTo>
                <a:lnTo>
                  <a:pt x="57050" y="172053"/>
                </a:lnTo>
                <a:lnTo>
                  <a:pt x="48478" y="184645"/>
                </a:lnTo>
                <a:lnTo>
                  <a:pt x="28068" y="225385"/>
                </a:lnTo>
                <a:lnTo>
                  <a:pt x="27166" y="230572"/>
                </a:lnTo>
                <a:lnTo>
                  <a:pt x="28423" y="240852"/>
                </a:lnTo>
                <a:lnTo>
                  <a:pt x="31804" y="251065"/>
                </a:lnTo>
                <a:lnTo>
                  <a:pt x="35281" y="261248"/>
                </a:lnTo>
                <a:lnTo>
                  <a:pt x="38086" y="275655"/>
                </a:lnTo>
                <a:lnTo>
                  <a:pt x="45684" y="2892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InkAnnotation176"/>
          <p:cNvSpPr/>
          <p:nvPr/>
        </p:nvSpPr>
        <p:spPr>
          <a:xfrm>
            <a:off x="6431040" y="1447920"/>
            <a:ext cx="214200" cy="14040"/>
          </a:xfrm>
          <a:custGeom>
            <a:avLst/>
            <a:gdLst>
              <a:gd name="textAreaLeft" fmla="*/ 0 w 214200"/>
              <a:gd name="textAreaRight" fmla="*/ 214560 w 21420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213361" h="14182">
                <a:moveTo>
                  <a:pt x="0" y="7620"/>
                </a:moveTo>
                <a:lnTo>
                  <a:pt x="0" y="11665"/>
                </a:lnTo>
                <a:lnTo>
                  <a:pt x="846" y="12857"/>
                </a:lnTo>
                <a:lnTo>
                  <a:pt x="2258" y="13651"/>
                </a:lnTo>
                <a:lnTo>
                  <a:pt x="4046" y="14181"/>
                </a:lnTo>
                <a:lnTo>
                  <a:pt x="6083" y="13687"/>
                </a:lnTo>
                <a:lnTo>
                  <a:pt x="8289" y="12512"/>
                </a:lnTo>
                <a:lnTo>
                  <a:pt x="10606" y="10881"/>
                </a:lnTo>
                <a:lnTo>
                  <a:pt x="13844" y="9794"/>
                </a:lnTo>
                <a:lnTo>
                  <a:pt x="17696" y="9069"/>
                </a:lnTo>
                <a:lnTo>
                  <a:pt x="21957" y="8586"/>
                </a:lnTo>
                <a:lnTo>
                  <a:pt x="27338" y="8264"/>
                </a:lnTo>
                <a:lnTo>
                  <a:pt x="40090" y="7906"/>
                </a:lnTo>
                <a:lnTo>
                  <a:pt x="106732" y="7628"/>
                </a:lnTo>
                <a:lnTo>
                  <a:pt x="113488" y="6778"/>
                </a:lnTo>
                <a:lnTo>
                  <a:pt x="119686" y="5366"/>
                </a:lnTo>
                <a:lnTo>
                  <a:pt x="125510" y="3577"/>
                </a:lnTo>
                <a:lnTo>
                  <a:pt x="131933" y="2385"/>
                </a:lnTo>
                <a:lnTo>
                  <a:pt x="138755" y="1590"/>
                </a:lnTo>
                <a:lnTo>
                  <a:pt x="145844" y="1060"/>
                </a:lnTo>
                <a:lnTo>
                  <a:pt x="153110" y="707"/>
                </a:lnTo>
                <a:lnTo>
                  <a:pt x="167956" y="314"/>
                </a:lnTo>
                <a:lnTo>
                  <a:pt x="205203" y="6"/>
                </a:lnTo>
                <a:lnTo>
                  <a:pt x="21336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InkAnnotation177"/>
          <p:cNvSpPr/>
          <p:nvPr/>
        </p:nvSpPr>
        <p:spPr>
          <a:xfrm>
            <a:off x="6773760" y="1333440"/>
            <a:ext cx="46080" cy="244440"/>
          </a:xfrm>
          <a:custGeom>
            <a:avLst/>
            <a:gdLst>
              <a:gd name="textAreaLeft" fmla="*/ 0 w 46080"/>
              <a:gd name="textAreaRight" fmla="*/ 46440 w 460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45684" h="243841">
                <a:moveTo>
                  <a:pt x="45683" y="0"/>
                </a:moveTo>
                <a:lnTo>
                  <a:pt x="39122" y="6561"/>
                </a:lnTo>
                <a:lnTo>
                  <a:pt x="38534" y="9407"/>
                </a:lnTo>
                <a:lnTo>
                  <a:pt x="38376" y="11351"/>
                </a:lnTo>
                <a:lnTo>
                  <a:pt x="37426" y="14341"/>
                </a:lnTo>
                <a:lnTo>
                  <a:pt x="35945" y="18027"/>
                </a:lnTo>
                <a:lnTo>
                  <a:pt x="34111" y="22178"/>
                </a:lnTo>
                <a:lnTo>
                  <a:pt x="32888" y="26639"/>
                </a:lnTo>
                <a:lnTo>
                  <a:pt x="32074" y="31306"/>
                </a:lnTo>
                <a:lnTo>
                  <a:pt x="31530" y="36111"/>
                </a:lnTo>
                <a:lnTo>
                  <a:pt x="31168" y="41007"/>
                </a:lnTo>
                <a:lnTo>
                  <a:pt x="30926" y="45965"/>
                </a:lnTo>
                <a:lnTo>
                  <a:pt x="30765" y="50963"/>
                </a:lnTo>
                <a:lnTo>
                  <a:pt x="29811" y="56836"/>
                </a:lnTo>
                <a:lnTo>
                  <a:pt x="28328" y="63290"/>
                </a:lnTo>
                <a:lnTo>
                  <a:pt x="26493" y="70134"/>
                </a:lnTo>
                <a:lnTo>
                  <a:pt x="24423" y="76389"/>
                </a:lnTo>
                <a:lnTo>
                  <a:pt x="22196" y="82253"/>
                </a:lnTo>
                <a:lnTo>
                  <a:pt x="19865" y="87855"/>
                </a:lnTo>
                <a:lnTo>
                  <a:pt x="18312" y="94130"/>
                </a:lnTo>
                <a:lnTo>
                  <a:pt x="17275" y="100854"/>
                </a:lnTo>
                <a:lnTo>
                  <a:pt x="16585" y="107876"/>
                </a:lnTo>
                <a:lnTo>
                  <a:pt x="15278" y="114250"/>
                </a:lnTo>
                <a:lnTo>
                  <a:pt x="13559" y="120194"/>
                </a:lnTo>
                <a:lnTo>
                  <a:pt x="4719" y="145944"/>
                </a:lnTo>
                <a:lnTo>
                  <a:pt x="3134" y="152330"/>
                </a:lnTo>
                <a:lnTo>
                  <a:pt x="2076" y="158280"/>
                </a:lnTo>
                <a:lnTo>
                  <a:pt x="1373" y="163940"/>
                </a:lnTo>
                <a:lnTo>
                  <a:pt x="903" y="170253"/>
                </a:lnTo>
                <a:lnTo>
                  <a:pt x="590" y="177002"/>
                </a:lnTo>
                <a:lnTo>
                  <a:pt x="87" y="197994"/>
                </a:lnTo>
                <a:lnTo>
                  <a:pt x="0" y="211535"/>
                </a:lnTo>
                <a:lnTo>
                  <a:pt x="834" y="215530"/>
                </a:lnTo>
                <a:lnTo>
                  <a:pt x="2238" y="219040"/>
                </a:lnTo>
                <a:lnTo>
                  <a:pt x="4020" y="222227"/>
                </a:lnTo>
                <a:lnTo>
                  <a:pt x="5207" y="225198"/>
                </a:lnTo>
                <a:lnTo>
                  <a:pt x="6526" y="230757"/>
                </a:lnTo>
                <a:lnTo>
                  <a:pt x="7726" y="233425"/>
                </a:lnTo>
                <a:lnTo>
                  <a:pt x="9372" y="236050"/>
                </a:lnTo>
                <a:lnTo>
                  <a:pt x="15203" y="2438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InkAnnotation178"/>
          <p:cNvSpPr/>
          <p:nvPr/>
        </p:nvSpPr>
        <p:spPr>
          <a:xfrm>
            <a:off x="6904080" y="1523880"/>
            <a:ext cx="38160" cy="38160"/>
          </a:xfrm>
          <a:custGeom>
            <a:avLst/>
            <a:gdLst>
              <a:gd name="textAreaLeft" fmla="*/ 0 w 38160"/>
              <a:gd name="textAreaRight" fmla="*/ 38520 w 381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38008" h="38101">
                <a:moveTo>
                  <a:pt x="30480" y="0"/>
                </a:moveTo>
                <a:lnTo>
                  <a:pt x="-28494" y="0"/>
                </a:lnTo>
                <a:lnTo>
                  <a:pt x="-28142" y="847"/>
                </a:lnTo>
                <a:lnTo>
                  <a:pt x="-27906" y="2258"/>
                </a:lnTo>
                <a:lnTo>
                  <a:pt x="-27529" y="6561"/>
                </a:lnTo>
                <a:lnTo>
                  <a:pt x="-28345" y="6914"/>
                </a:lnTo>
                <a:lnTo>
                  <a:pt x="-29735" y="7149"/>
                </a:lnTo>
                <a:lnTo>
                  <a:pt x="31531" y="7527"/>
                </a:lnTo>
                <a:lnTo>
                  <a:pt x="28689" y="7579"/>
                </a:lnTo>
                <a:lnTo>
                  <a:pt x="26747" y="7592"/>
                </a:lnTo>
                <a:lnTo>
                  <a:pt x="24604" y="8448"/>
                </a:lnTo>
                <a:lnTo>
                  <a:pt x="22329" y="9866"/>
                </a:lnTo>
                <a:lnTo>
                  <a:pt x="19967" y="11657"/>
                </a:lnTo>
                <a:lnTo>
                  <a:pt x="17544" y="12851"/>
                </a:lnTo>
                <a:lnTo>
                  <a:pt x="15083" y="13648"/>
                </a:lnTo>
                <a:lnTo>
                  <a:pt x="12596" y="14178"/>
                </a:lnTo>
                <a:lnTo>
                  <a:pt x="10091" y="15379"/>
                </a:lnTo>
                <a:lnTo>
                  <a:pt x="7574" y="17026"/>
                </a:lnTo>
                <a:lnTo>
                  <a:pt x="1496" y="21708"/>
                </a:lnTo>
                <a:lnTo>
                  <a:pt x="997" y="22938"/>
                </a:lnTo>
                <a:lnTo>
                  <a:pt x="666" y="24606"/>
                </a:lnTo>
                <a:lnTo>
                  <a:pt x="131" y="29320"/>
                </a:lnTo>
                <a:lnTo>
                  <a:pt x="88" y="30553"/>
                </a:lnTo>
                <a:lnTo>
                  <a:pt x="0" y="-274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MARTInkAnnotation179"/>
          <p:cNvSpPr/>
          <p:nvPr/>
        </p:nvSpPr>
        <p:spPr>
          <a:xfrm>
            <a:off x="7108920" y="1341360"/>
            <a:ext cx="176040" cy="239760"/>
          </a:xfrm>
          <a:custGeom>
            <a:avLst/>
            <a:gdLst>
              <a:gd name="textAreaLeft" fmla="*/ 0 w 176040"/>
              <a:gd name="textAreaRight" fmla="*/ 176400 w 1760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75261" h="239982">
                <a:moveTo>
                  <a:pt x="0" y="53015"/>
                </a:moveTo>
                <a:lnTo>
                  <a:pt x="0" y="39148"/>
                </a:lnTo>
                <a:lnTo>
                  <a:pt x="2259" y="36127"/>
                </a:lnTo>
                <a:lnTo>
                  <a:pt x="6083" y="31963"/>
                </a:lnTo>
                <a:lnTo>
                  <a:pt x="10606" y="27290"/>
                </a:lnTo>
                <a:lnTo>
                  <a:pt x="12998" y="25705"/>
                </a:lnTo>
                <a:lnTo>
                  <a:pt x="17913" y="23944"/>
                </a:lnTo>
                <a:lnTo>
                  <a:pt x="22919" y="20903"/>
                </a:lnTo>
                <a:lnTo>
                  <a:pt x="25439" y="18907"/>
                </a:lnTo>
                <a:lnTo>
                  <a:pt x="28813" y="16730"/>
                </a:lnTo>
                <a:lnTo>
                  <a:pt x="32755" y="14432"/>
                </a:lnTo>
                <a:lnTo>
                  <a:pt x="37077" y="12053"/>
                </a:lnTo>
                <a:lnTo>
                  <a:pt x="41652" y="10467"/>
                </a:lnTo>
                <a:lnTo>
                  <a:pt x="46393" y="9409"/>
                </a:lnTo>
                <a:lnTo>
                  <a:pt x="51249" y="8705"/>
                </a:lnTo>
                <a:lnTo>
                  <a:pt x="55332" y="8235"/>
                </a:lnTo>
                <a:lnTo>
                  <a:pt x="58902" y="7921"/>
                </a:lnTo>
                <a:lnTo>
                  <a:pt x="62129" y="7713"/>
                </a:lnTo>
                <a:lnTo>
                  <a:pt x="65125" y="6727"/>
                </a:lnTo>
                <a:lnTo>
                  <a:pt x="67971" y="5223"/>
                </a:lnTo>
                <a:lnTo>
                  <a:pt x="70714" y="3374"/>
                </a:lnTo>
                <a:lnTo>
                  <a:pt x="74236" y="2141"/>
                </a:lnTo>
                <a:lnTo>
                  <a:pt x="78277" y="1319"/>
                </a:lnTo>
                <a:lnTo>
                  <a:pt x="82665" y="771"/>
                </a:lnTo>
                <a:lnTo>
                  <a:pt x="86436" y="406"/>
                </a:lnTo>
                <a:lnTo>
                  <a:pt x="89797" y="162"/>
                </a:lnTo>
                <a:lnTo>
                  <a:pt x="92886" y="0"/>
                </a:lnTo>
                <a:lnTo>
                  <a:pt x="96637" y="738"/>
                </a:lnTo>
                <a:lnTo>
                  <a:pt x="100831" y="2077"/>
                </a:lnTo>
                <a:lnTo>
                  <a:pt x="111640" y="6264"/>
                </a:lnTo>
                <a:lnTo>
                  <a:pt x="115375" y="6837"/>
                </a:lnTo>
                <a:lnTo>
                  <a:pt x="117556" y="6990"/>
                </a:lnTo>
                <a:lnTo>
                  <a:pt x="119011" y="8785"/>
                </a:lnTo>
                <a:lnTo>
                  <a:pt x="119982" y="11675"/>
                </a:lnTo>
                <a:lnTo>
                  <a:pt x="121058" y="18555"/>
                </a:lnTo>
                <a:lnTo>
                  <a:pt x="121537" y="24435"/>
                </a:lnTo>
                <a:lnTo>
                  <a:pt x="121749" y="29871"/>
                </a:lnTo>
                <a:lnTo>
                  <a:pt x="121806" y="32505"/>
                </a:lnTo>
                <a:lnTo>
                  <a:pt x="120997" y="36802"/>
                </a:lnTo>
                <a:lnTo>
                  <a:pt x="119611" y="42206"/>
                </a:lnTo>
                <a:lnTo>
                  <a:pt x="117841" y="48349"/>
                </a:lnTo>
                <a:lnTo>
                  <a:pt x="114967" y="54138"/>
                </a:lnTo>
                <a:lnTo>
                  <a:pt x="111358" y="59690"/>
                </a:lnTo>
                <a:lnTo>
                  <a:pt x="107258" y="65085"/>
                </a:lnTo>
                <a:lnTo>
                  <a:pt x="103680" y="70375"/>
                </a:lnTo>
                <a:lnTo>
                  <a:pt x="100446" y="75595"/>
                </a:lnTo>
                <a:lnTo>
                  <a:pt x="97444" y="80768"/>
                </a:lnTo>
                <a:lnTo>
                  <a:pt x="94596" y="86757"/>
                </a:lnTo>
                <a:lnTo>
                  <a:pt x="91851" y="93290"/>
                </a:lnTo>
                <a:lnTo>
                  <a:pt x="89174" y="100185"/>
                </a:lnTo>
                <a:lnTo>
                  <a:pt x="85695" y="106475"/>
                </a:lnTo>
                <a:lnTo>
                  <a:pt x="81684" y="112362"/>
                </a:lnTo>
                <a:lnTo>
                  <a:pt x="77316" y="117979"/>
                </a:lnTo>
                <a:lnTo>
                  <a:pt x="72710" y="124265"/>
                </a:lnTo>
                <a:lnTo>
                  <a:pt x="63078" y="138022"/>
                </a:lnTo>
                <a:lnTo>
                  <a:pt x="58985" y="144399"/>
                </a:lnTo>
                <a:lnTo>
                  <a:pt x="55410" y="150345"/>
                </a:lnTo>
                <a:lnTo>
                  <a:pt x="52180" y="156001"/>
                </a:lnTo>
                <a:lnTo>
                  <a:pt x="48334" y="162313"/>
                </a:lnTo>
                <a:lnTo>
                  <a:pt x="39544" y="176099"/>
                </a:lnTo>
                <a:lnTo>
                  <a:pt x="36522" y="181637"/>
                </a:lnTo>
                <a:lnTo>
                  <a:pt x="34509" y="186177"/>
                </a:lnTo>
                <a:lnTo>
                  <a:pt x="33165" y="190049"/>
                </a:lnTo>
                <a:lnTo>
                  <a:pt x="31424" y="194325"/>
                </a:lnTo>
                <a:lnTo>
                  <a:pt x="29416" y="198868"/>
                </a:lnTo>
                <a:lnTo>
                  <a:pt x="27231" y="203590"/>
                </a:lnTo>
                <a:lnTo>
                  <a:pt x="24927" y="207585"/>
                </a:lnTo>
                <a:lnTo>
                  <a:pt x="20110" y="214282"/>
                </a:lnTo>
                <a:lnTo>
                  <a:pt x="17404" y="220080"/>
                </a:lnTo>
                <a:lnTo>
                  <a:pt x="16683" y="222812"/>
                </a:lnTo>
                <a:lnTo>
                  <a:pt x="17048" y="225480"/>
                </a:lnTo>
                <a:lnTo>
                  <a:pt x="18138" y="228105"/>
                </a:lnTo>
                <a:lnTo>
                  <a:pt x="19713" y="230702"/>
                </a:lnTo>
                <a:lnTo>
                  <a:pt x="21608" y="232433"/>
                </a:lnTo>
                <a:lnTo>
                  <a:pt x="23719" y="233587"/>
                </a:lnTo>
                <a:lnTo>
                  <a:pt x="25973" y="234356"/>
                </a:lnTo>
                <a:lnTo>
                  <a:pt x="30735" y="237469"/>
                </a:lnTo>
                <a:lnTo>
                  <a:pt x="33189" y="239484"/>
                </a:lnTo>
                <a:lnTo>
                  <a:pt x="36519" y="239981"/>
                </a:lnTo>
                <a:lnTo>
                  <a:pt x="40433" y="239466"/>
                </a:lnTo>
                <a:lnTo>
                  <a:pt x="44736" y="238276"/>
                </a:lnTo>
                <a:lnTo>
                  <a:pt x="49298" y="237482"/>
                </a:lnTo>
                <a:lnTo>
                  <a:pt x="54031" y="236953"/>
                </a:lnTo>
                <a:lnTo>
                  <a:pt x="58881" y="236600"/>
                </a:lnTo>
                <a:lnTo>
                  <a:pt x="63808" y="236365"/>
                </a:lnTo>
                <a:lnTo>
                  <a:pt x="73796" y="236104"/>
                </a:lnTo>
                <a:lnTo>
                  <a:pt x="79677" y="235188"/>
                </a:lnTo>
                <a:lnTo>
                  <a:pt x="86137" y="233730"/>
                </a:lnTo>
                <a:lnTo>
                  <a:pt x="92986" y="231912"/>
                </a:lnTo>
                <a:lnTo>
                  <a:pt x="100090" y="230700"/>
                </a:lnTo>
                <a:lnTo>
                  <a:pt x="107368" y="229891"/>
                </a:lnTo>
                <a:lnTo>
                  <a:pt x="114758" y="229353"/>
                </a:lnTo>
                <a:lnTo>
                  <a:pt x="121378" y="228147"/>
                </a:lnTo>
                <a:lnTo>
                  <a:pt x="127486" y="226496"/>
                </a:lnTo>
                <a:lnTo>
                  <a:pt x="133251" y="224549"/>
                </a:lnTo>
                <a:lnTo>
                  <a:pt x="138787" y="223251"/>
                </a:lnTo>
                <a:lnTo>
                  <a:pt x="144171" y="222386"/>
                </a:lnTo>
                <a:lnTo>
                  <a:pt x="149454" y="221809"/>
                </a:lnTo>
                <a:lnTo>
                  <a:pt x="153823" y="221424"/>
                </a:lnTo>
                <a:lnTo>
                  <a:pt x="157582" y="221168"/>
                </a:lnTo>
                <a:lnTo>
                  <a:pt x="165653" y="220756"/>
                </a:lnTo>
                <a:lnTo>
                  <a:pt x="171096" y="220685"/>
                </a:lnTo>
                <a:lnTo>
                  <a:pt x="175260" y="22065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MARTInkAnnotation180"/>
          <p:cNvSpPr/>
          <p:nvPr/>
        </p:nvSpPr>
        <p:spPr>
          <a:xfrm>
            <a:off x="1058760" y="2301840"/>
            <a:ext cx="785880" cy="928800"/>
          </a:xfrm>
          <a:custGeom>
            <a:avLst/>
            <a:gdLst>
              <a:gd name="textAreaLeft" fmla="*/ 0 w 785880"/>
              <a:gd name="textAreaRight" fmla="*/ 786240 w 7858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784858" h="929630">
                <a:moveTo>
                  <a:pt x="350517" y="22849"/>
                </a:moveTo>
                <a:lnTo>
                  <a:pt x="346472" y="18804"/>
                </a:lnTo>
                <a:lnTo>
                  <a:pt x="344434" y="17612"/>
                </a:lnTo>
                <a:lnTo>
                  <a:pt x="322535" y="9208"/>
                </a:lnTo>
                <a:lnTo>
                  <a:pt x="303279" y="3097"/>
                </a:lnTo>
                <a:lnTo>
                  <a:pt x="281487" y="910"/>
                </a:lnTo>
                <a:lnTo>
                  <a:pt x="257250" y="262"/>
                </a:lnTo>
                <a:lnTo>
                  <a:pt x="179454" y="0"/>
                </a:lnTo>
                <a:lnTo>
                  <a:pt x="159625" y="2251"/>
                </a:lnTo>
                <a:lnTo>
                  <a:pt x="140369" y="5228"/>
                </a:lnTo>
                <a:lnTo>
                  <a:pt x="123345" y="6551"/>
                </a:lnTo>
                <a:lnTo>
                  <a:pt x="99480" y="11341"/>
                </a:lnTo>
                <a:lnTo>
                  <a:pt x="75591" y="14461"/>
                </a:lnTo>
                <a:lnTo>
                  <a:pt x="68025" y="14888"/>
                </a:lnTo>
                <a:lnTo>
                  <a:pt x="64823" y="15848"/>
                </a:lnTo>
                <a:lnTo>
                  <a:pt x="59006" y="19173"/>
                </a:lnTo>
                <a:lnTo>
                  <a:pt x="50972" y="25805"/>
                </a:lnTo>
                <a:lnTo>
                  <a:pt x="49220" y="28206"/>
                </a:lnTo>
                <a:lnTo>
                  <a:pt x="47274" y="33132"/>
                </a:lnTo>
                <a:lnTo>
                  <a:pt x="47602" y="35631"/>
                </a:lnTo>
                <a:lnTo>
                  <a:pt x="48667" y="38144"/>
                </a:lnTo>
                <a:lnTo>
                  <a:pt x="50223" y="40666"/>
                </a:lnTo>
                <a:lnTo>
                  <a:pt x="51953" y="47983"/>
                </a:lnTo>
                <a:lnTo>
                  <a:pt x="53569" y="56880"/>
                </a:lnTo>
                <a:lnTo>
                  <a:pt x="63862" y="85448"/>
                </a:lnTo>
                <a:lnTo>
                  <a:pt x="73729" y="110223"/>
                </a:lnTo>
                <a:lnTo>
                  <a:pt x="80452" y="135568"/>
                </a:lnTo>
                <a:lnTo>
                  <a:pt x="83667" y="161234"/>
                </a:lnTo>
                <a:lnTo>
                  <a:pt x="87419" y="183131"/>
                </a:lnTo>
                <a:lnTo>
                  <a:pt x="89651" y="206975"/>
                </a:lnTo>
                <a:lnTo>
                  <a:pt x="90643" y="230836"/>
                </a:lnTo>
                <a:lnTo>
                  <a:pt x="91202" y="264156"/>
                </a:lnTo>
                <a:lnTo>
                  <a:pt x="91333" y="288141"/>
                </a:lnTo>
                <a:lnTo>
                  <a:pt x="89133" y="312912"/>
                </a:lnTo>
                <a:lnTo>
                  <a:pt x="86179" y="338032"/>
                </a:lnTo>
                <a:lnTo>
                  <a:pt x="84867" y="363308"/>
                </a:lnTo>
                <a:lnTo>
                  <a:pt x="82026" y="390911"/>
                </a:lnTo>
                <a:lnTo>
                  <a:pt x="77941" y="419266"/>
                </a:lnTo>
                <a:lnTo>
                  <a:pt x="73303" y="445979"/>
                </a:lnTo>
                <a:lnTo>
                  <a:pt x="50788" y="561302"/>
                </a:lnTo>
                <a:lnTo>
                  <a:pt x="47971" y="584459"/>
                </a:lnTo>
                <a:lnTo>
                  <a:pt x="45872" y="606887"/>
                </a:lnTo>
                <a:lnTo>
                  <a:pt x="42117" y="630966"/>
                </a:lnTo>
                <a:lnTo>
                  <a:pt x="37626" y="651263"/>
                </a:lnTo>
                <a:lnTo>
                  <a:pt x="27844" y="689035"/>
                </a:lnTo>
                <a:lnTo>
                  <a:pt x="24335" y="714973"/>
                </a:lnTo>
                <a:lnTo>
                  <a:pt x="23295" y="738745"/>
                </a:lnTo>
                <a:lnTo>
                  <a:pt x="18942" y="761875"/>
                </a:lnTo>
                <a:lnTo>
                  <a:pt x="15122" y="785517"/>
                </a:lnTo>
                <a:lnTo>
                  <a:pt x="10217" y="797088"/>
                </a:lnTo>
                <a:lnTo>
                  <a:pt x="6998" y="819588"/>
                </a:lnTo>
                <a:lnTo>
                  <a:pt x="2448" y="827786"/>
                </a:lnTo>
                <a:lnTo>
                  <a:pt x="320" y="836652"/>
                </a:lnTo>
                <a:lnTo>
                  <a:pt x="0" y="845704"/>
                </a:lnTo>
                <a:lnTo>
                  <a:pt x="6558" y="852361"/>
                </a:lnTo>
                <a:lnTo>
                  <a:pt x="9404" y="852954"/>
                </a:lnTo>
                <a:lnTo>
                  <a:pt x="27483" y="854213"/>
                </a:lnTo>
                <a:lnTo>
                  <a:pt x="51993" y="859448"/>
                </a:lnTo>
                <a:lnTo>
                  <a:pt x="70436" y="860575"/>
                </a:lnTo>
                <a:lnTo>
                  <a:pt x="91988" y="860909"/>
                </a:lnTo>
                <a:lnTo>
                  <a:pt x="108615" y="861833"/>
                </a:lnTo>
                <a:lnTo>
                  <a:pt x="130116" y="865066"/>
                </a:lnTo>
                <a:lnTo>
                  <a:pt x="151526" y="867068"/>
                </a:lnTo>
                <a:lnTo>
                  <a:pt x="172330" y="867957"/>
                </a:lnTo>
                <a:lnTo>
                  <a:pt x="192865" y="868353"/>
                </a:lnTo>
                <a:lnTo>
                  <a:pt x="215538" y="870786"/>
                </a:lnTo>
                <a:lnTo>
                  <a:pt x="227511" y="872621"/>
                </a:lnTo>
                <a:lnTo>
                  <a:pt x="240573" y="873843"/>
                </a:lnTo>
                <a:lnTo>
                  <a:pt x="254361" y="874658"/>
                </a:lnTo>
                <a:lnTo>
                  <a:pt x="268633" y="875202"/>
                </a:lnTo>
                <a:lnTo>
                  <a:pt x="282381" y="876411"/>
                </a:lnTo>
                <a:lnTo>
                  <a:pt x="295780" y="878063"/>
                </a:lnTo>
                <a:lnTo>
                  <a:pt x="308946" y="880012"/>
                </a:lnTo>
                <a:lnTo>
                  <a:pt x="322803" y="881311"/>
                </a:lnTo>
                <a:lnTo>
                  <a:pt x="337121" y="882177"/>
                </a:lnTo>
                <a:lnTo>
                  <a:pt x="351746" y="882754"/>
                </a:lnTo>
                <a:lnTo>
                  <a:pt x="366577" y="883986"/>
                </a:lnTo>
                <a:lnTo>
                  <a:pt x="381543" y="885654"/>
                </a:lnTo>
                <a:lnTo>
                  <a:pt x="396601" y="887612"/>
                </a:lnTo>
                <a:lnTo>
                  <a:pt x="411720" y="888918"/>
                </a:lnTo>
                <a:lnTo>
                  <a:pt x="426879" y="889788"/>
                </a:lnTo>
                <a:lnTo>
                  <a:pt x="442065" y="890368"/>
                </a:lnTo>
                <a:lnTo>
                  <a:pt x="457269" y="891602"/>
                </a:lnTo>
                <a:lnTo>
                  <a:pt x="472485" y="893271"/>
                </a:lnTo>
                <a:lnTo>
                  <a:pt x="487709" y="895230"/>
                </a:lnTo>
                <a:lnTo>
                  <a:pt x="502092" y="896537"/>
                </a:lnTo>
                <a:lnTo>
                  <a:pt x="515914" y="897407"/>
                </a:lnTo>
                <a:lnTo>
                  <a:pt x="529361" y="897988"/>
                </a:lnTo>
                <a:lnTo>
                  <a:pt x="543407" y="899221"/>
                </a:lnTo>
                <a:lnTo>
                  <a:pt x="557851" y="900891"/>
                </a:lnTo>
                <a:lnTo>
                  <a:pt x="572559" y="902850"/>
                </a:lnTo>
                <a:lnTo>
                  <a:pt x="586599" y="904156"/>
                </a:lnTo>
                <a:lnTo>
                  <a:pt x="600191" y="905027"/>
                </a:lnTo>
                <a:lnTo>
                  <a:pt x="613487" y="905608"/>
                </a:lnTo>
                <a:lnTo>
                  <a:pt x="626584" y="906842"/>
                </a:lnTo>
                <a:lnTo>
                  <a:pt x="639548" y="908511"/>
                </a:lnTo>
                <a:lnTo>
                  <a:pt x="663549" y="911776"/>
                </a:lnTo>
                <a:lnTo>
                  <a:pt x="682683" y="913228"/>
                </a:lnTo>
                <a:lnTo>
                  <a:pt x="701911" y="916131"/>
                </a:lnTo>
                <a:lnTo>
                  <a:pt x="720052" y="919396"/>
                </a:lnTo>
                <a:lnTo>
                  <a:pt x="739785" y="922082"/>
                </a:lnTo>
                <a:lnTo>
                  <a:pt x="762783" y="928468"/>
                </a:lnTo>
                <a:lnTo>
                  <a:pt x="784857" y="9296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MARTInkAnnotation181"/>
          <p:cNvSpPr/>
          <p:nvPr/>
        </p:nvSpPr>
        <p:spPr>
          <a:xfrm>
            <a:off x="1219320" y="2476440"/>
            <a:ext cx="190440" cy="360"/>
          </a:xfrm>
          <a:custGeom>
            <a:avLst/>
            <a:gdLst>
              <a:gd name="textAreaLeft" fmla="*/ 0 w 190440"/>
              <a:gd name="textAreaRight" fmla="*/ 190800 w 1904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90501" h="1">
                <a:moveTo>
                  <a:pt x="0" y="0"/>
                </a:moveTo>
                <a:lnTo>
                  <a:pt x="19050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MARTInkAnnotation182"/>
          <p:cNvSpPr/>
          <p:nvPr/>
        </p:nvSpPr>
        <p:spPr>
          <a:xfrm>
            <a:off x="1432080" y="2400480"/>
            <a:ext cx="190440" cy="196560"/>
          </a:xfrm>
          <a:custGeom>
            <a:avLst/>
            <a:gdLst>
              <a:gd name="textAreaLeft" fmla="*/ 0 w 190440"/>
              <a:gd name="textAreaRight" fmla="*/ 190800 w 1904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191212" h="196577">
                <a:moveTo>
                  <a:pt x="92749" y="0"/>
                </a:moveTo>
                <a:lnTo>
                  <a:pt x="92749" y="4045"/>
                </a:lnTo>
                <a:lnTo>
                  <a:pt x="91056" y="6084"/>
                </a:lnTo>
                <a:lnTo>
                  <a:pt x="88234" y="8289"/>
                </a:lnTo>
                <a:lnTo>
                  <a:pt x="84659" y="10606"/>
                </a:lnTo>
                <a:lnTo>
                  <a:pt x="81429" y="12997"/>
                </a:lnTo>
                <a:lnTo>
                  <a:pt x="75582" y="17912"/>
                </a:lnTo>
                <a:lnTo>
                  <a:pt x="71145" y="20408"/>
                </a:lnTo>
                <a:lnTo>
                  <a:pt x="65646" y="22919"/>
                </a:lnTo>
                <a:lnTo>
                  <a:pt x="59440" y="25439"/>
                </a:lnTo>
                <a:lnTo>
                  <a:pt x="53610" y="28813"/>
                </a:lnTo>
                <a:lnTo>
                  <a:pt x="48030" y="32755"/>
                </a:lnTo>
                <a:lnTo>
                  <a:pt x="42616" y="37077"/>
                </a:lnTo>
                <a:lnTo>
                  <a:pt x="37314" y="39958"/>
                </a:lnTo>
                <a:lnTo>
                  <a:pt x="32086" y="41879"/>
                </a:lnTo>
                <a:lnTo>
                  <a:pt x="26907" y="43159"/>
                </a:lnTo>
                <a:lnTo>
                  <a:pt x="22608" y="44859"/>
                </a:lnTo>
                <a:lnTo>
                  <a:pt x="18895" y="46840"/>
                </a:lnTo>
                <a:lnTo>
                  <a:pt x="15573" y="49006"/>
                </a:lnTo>
                <a:lnTo>
                  <a:pt x="11665" y="51298"/>
                </a:lnTo>
                <a:lnTo>
                  <a:pt x="7367" y="53672"/>
                </a:lnTo>
                <a:lnTo>
                  <a:pt x="2807" y="56101"/>
                </a:lnTo>
                <a:lnTo>
                  <a:pt x="615" y="57721"/>
                </a:lnTo>
                <a:lnTo>
                  <a:pt x="0" y="58801"/>
                </a:lnTo>
                <a:lnTo>
                  <a:pt x="436" y="59520"/>
                </a:lnTo>
                <a:lnTo>
                  <a:pt x="1574" y="60000"/>
                </a:lnTo>
                <a:lnTo>
                  <a:pt x="5096" y="60534"/>
                </a:lnTo>
                <a:lnTo>
                  <a:pt x="8067" y="61522"/>
                </a:lnTo>
                <a:lnTo>
                  <a:pt x="11741" y="63028"/>
                </a:lnTo>
                <a:lnTo>
                  <a:pt x="15884" y="64879"/>
                </a:lnTo>
                <a:lnTo>
                  <a:pt x="21186" y="66112"/>
                </a:lnTo>
                <a:lnTo>
                  <a:pt x="27260" y="66935"/>
                </a:lnTo>
                <a:lnTo>
                  <a:pt x="33850" y="67483"/>
                </a:lnTo>
                <a:lnTo>
                  <a:pt x="40783" y="67849"/>
                </a:lnTo>
                <a:lnTo>
                  <a:pt x="55260" y="68255"/>
                </a:lnTo>
                <a:lnTo>
                  <a:pt x="106984" y="68552"/>
                </a:lnTo>
                <a:lnTo>
                  <a:pt x="115785" y="69408"/>
                </a:lnTo>
                <a:lnTo>
                  <a:pt x="125040" y="70825"/>
                </a:lnTo>
                <a:lnTo>
                  <a:pt x="134596" y="72617"/>
                </a:lnTo>
                <a:lnTo>
                  <a:pt x="142661" y="74658"/>
                </a:lnTo>
                <a:lnTo>
                  <a:pt x="149730" y="76865"/>
                </a:lnTo>
                <a:lnTo>
                  <a:pt x="156137" y="79184"/>
                </a:lnTo>
                <a:lnTo>
                  <a:pt x="162101" y="81576"/>
                </a:lnTo>
                <a:lnTo>
                  <a:pt x="167770" y="84017"/>
                </a:lnTo>
                <a:lnTo>
                  <a:pt x="173243" y="86491"/>
                </a:lnTo>
                <a:lnTo>
                  <a:pt x="177739" y="88988"/>
                </a:lnTo>
                <a:lnTo>
                  <a:pt x="181582" y="91498"/>
                </a:lnTo>
                <a:lnTo>
                  <a:pt x="184991" y="94019"/>
                </a:lnTo>
                <a:lnTo>
                  <a:pt x="187264" y="97393"/>
                </a:lnTo>
                <a:lnTo>
                  <a:pt x="188779" y="101335"/>
                </a:lnTo>
                <a:lnTo>
                  <a:pt x="189789" y="105657"/>
                </a:lnTo>
                <a:lnTo>
                  <a:pt x="190462" y="110231"/>
                </a:lnTo>
                <a:lnTo>
                  <a:pt x="190911" y="114974"/>
                </a:lnTo>
                <a:lnTo>
                  <a:pt x="191211" y="119830"/>
                </a:lnTo>
                <a:lnTo>
                  <a:pt x="190563" y="124760"/>
                </a:lnTo>
                <a:lnTo>
                  <a:pt x="189285" y="129740"/>
                </a:lnTo>
                <a:lnTo>
                  <a:pt x="187586" y="134753"/>
                </a:lnTo>
                <a:lnTo>
                  <a:pt x="185607" y="139789"/>
                </a:lnTo>
                <a:lnTo>
                  <a:pt x="183441" y="144839"/>
                </a:lnTo>
                <a:lnTo>
                  <a:pt x="178777" y="154967"/>
                </a:lnTo>
                <a:lnTo>
                  <a:pt x="173881" y="165112"/>
                </a:lnTo>
                <a:lnTo>
                  <a:pt x="170544" y="169341"/>
                </a:lnTo>
                <a:lnTo>
                  <a:pt x="166626" y="173008"/>
                </a:lnTo>
                <a:lnTo>
                  <a:pt x="162320" y="176299"/>
                </a:lnTo>
                <a:lnTo>
                  <a:pt x="156910" y="179339"/>
                </a:lnTo>
                <a:lnTo>
                  <a:pt x="150763" y="182213"/>
                </a:lnTo>
                <a:lnTo>
                  <a:pt x="144125" y="184975"/>
                </a:lnTo>
                <a:lnTo>
                  <a:pt x="138006" y="187664"/>
                </a:lnTo>
                <a:lnTo>
                  <a:pt x="126692" y="192908"/>
                </a:lnTo>
                <a:lnTo>
                  <a:pt x="121304" y="194645"/>
                </a:lnTo>
                <a:lnTo>
                  <a:pt x="116019" y="195804"/>
                </a:lnTo>
                <a:lnTo>
                  <a:pt x="110803" y="196576"/>
                </a:lnTo>
                <a:lnTo>
                  <a:pt x="105632" y="196244"/>
                </a:lnTo>
                <a:lnTo>
                  <a:pt x="100491" y="195176"/>
                </a:lnTo>
                <a:lnTo>
                  <a:pt x="95370" y="193617"/>
                </a:lnTo>
                <a:lnTo>
                  <a:pt x="90263" y="192578"/>
                </a:lnTo>
                <a:lnTo>
                  <a:pt x="85165" y="191886"/>
                </a:lnTo>
                <a:lnTo>
                  <a:pt x="80073" y="191424"/>
                </a:lnTo>
                <a:lnTo>
                  <a:pt x="75832" y="191116"/>
                </a:lnTo>
                <a:lnTo>
                  <a:pt x="72158" y="190910"/>
                </a:lnTo>
                <a:lnTo>
                  <a:pt x="62269" y="1905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MARTInkAnnotation183"/>
          <p:cNvSpPr/>
          <p:nvPr/>
        </p:nvSpPr>
        <p:spPr>
          <a:xfrm>
            <a:off x="1477800" y="2332080"/>
            <a:ext cx="214560" cy="22320"/>
          </a:xfrm>
          <a:custGeom>
            <a:avLst/>
            <a:gdLst>
              <a:gd name="textAreaLeft" fmla="*/ 0 w 214560"/>
              <a:gd name="textAreaRight" fmla="*/ 214920 w 2145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13361" h="22861">
                <a:moveTo>
                  <a:pt x="0" y="22860"/>
                </a:moveTo>
                <a:lnTo>
                  <a:pt x="8091" y="18815"/>
                </a:lnTo>
                <a:lnTo>
                  <a:pt x="11320" y="17623"/>
                </a:lnTo>
                <a:lnTo>
                  <a:pt x="14320" y="16829"/>
                </a:lnTo>
                <a:lnTo>
                  <a:pt x="17167" y="16299"/>
                </a:lnTo>
                <a:lnTo>
                  <a:pt x="20758" y="15946"/>
                </a:lnTo>
                <a:lnTo>
                  <a:pt x="24846" y="15711"/>
                </a:lnTo>
                <a:lnTo>
                  <a:pt x="29264" y="15554"/>
                </a:lnTo>
                <a:lnTo>
                  <a:pt x="35596" y="14603"/>
                </a:lnTo>
                <a:lnTo>
                  <a:pt x="43204" y="13122"/>
                </a:lnTo>
                <a:lnTo>
                  <a:pt x="51663" y="11288"/>
                </a:lnTo>
                <a:lnTo>
                  <a:pt x="60689" y="10065"/>
                </a:lnTo>
                <a:lnTo>
                  <a:pt x="70092" y="9250"/>
                </a:lnTo>
                <a:lnTo>
                  <a:pt x="79748" y="8707"/>
                </a:lnTo>
                <a:lnTo>
                  <a:pt x="101766" y="8103"/>
                </a:lnTo>
                <a:lnTo>
                  <a:pt x="113564" y="7942"/>
                </a:lnTo>
                <a:lnTo>
                  <a:pt x="124816" y="6988"/>
                </a:lnTo>
                <a:lnTo>
                  <a:pt x="135704" y="5506"/>
                </a:lnTo>
                <a:lnTo>
                  <a:pt x="146349" y="3670"/>
                </a:lnTo>
                <a:lnTo>
                  <a:pt x="156833" y="2447"/>
                </a:lnTo>
                <a:lnTo>
                  <a:pt x="167209" y="1632"/>
                </a:lnTo>
                <a:lnTo>
                  <a:pt x="186075" y="725"/>
                </a:lnTo>
                <a:lnTo>
                  <a:pt x="21336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MARTInkAnnotation184"/>
          <p:cNvSpPr/>
          <p:nvPr/>
        </p:nvSpPr>
        <p:spPr>
          <a:xfrm>
            <a:off x="1706400" y="2508120"/>
            <a:ext cx="182880" cy="6480"/>
          </a:xfrm>
          <a:custGeom>
            <a:avLst/>
            <a:gdLst>
              <a:gd name="textAreaLeft" fmla="*/ 0 w 182880"/>
              <a:gd name="textAreaRight" fmla="*/ 183240 w 1828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82881" h="6562">
                <a:moveTo>
                  <a:pt x="0" y="6561"/>
                </a:moveTo>
                <a:lnTo>
                  <a:pt x="55009" y="6561"/>
                </a:lnTo>
                <a:lnTo>
                  <a:pt x="62919" y="5715"/>
                </a:lnTo>
                <a:lnTo>
                  <a:pt x="71580" y="4303"/>
                </a:lnTo>
                <a:lnTo>
                  <a:pt x="80740" y="2516"/>
                </a:lnTo>
                <a:lnTo>
                  <a:pt x="90233" y="1324"/>
                </a:lnTo>
                <a:lnTo>
                  <a:pt x="99949" y="530"/>
                </a:lnTo>
                <a:lnTo>
                  <a:pt x="109812" y="0"/>
                </a:lnTo>
                <a:lnTo>
                  <a:pt x="118929" y="494"/>
                </a:lnTo>
                <a:lnTo>
                  <a:pt x="127546" y="1669"/>
                </a:lnTo>
                <a:lnTo>
                  <a:pt x="135831" y="3300"/>
                </a:lnTo>
                <a:lnTo>
                  <a:pt x="143047" y="4387"/>
                </a:lnTo>
                <a:lnTo>
                  <a:pt x="149551" y="5112"/>
                </a:lnTo>
                <a:lnTo>
                  <a:pt x="155581" y="5595"/>
                </a:lnTo>
                <a:lnTo>
                  <a:pt x="161294" y="5917"/>
                </a:lnTo>
                <a:lnTo>
                  <a:pt x="182880" y="656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MARTInkAnnotation185"/>
          <p:cNvSpPr/>
          <p:nvPr/>
        </p:nvSpPr>
        <p:spPr>
          <a:xfrm>
            <a:off x="1959120" y="2378160"/>
            <a:ext cx="249120" cy="242640"/>
          </a:xfrm>
          <a:custGeom>
            <a:avLst/>
            <a:gdLst>
              <a:gd name="textAreaLeft" fmla="*/ 0 w 249120"/>
              <a:gd name="textAreaRight" fmla="*/ 249480 w 24912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249689" h="243605">
                <a:moveTo>
                  <a:pt x="0" y="30376"/>
                </a:moveTo>
                <a:lnTo>
                  <a:pt x="0" y="26331"/>
                </a:lnTo>
                <a:lnTo>
                  <a:pt x="847" y="25139"/>
                </a:lnTo>
                <a:lnTo>
                  <a:pt x="2258" y="24345"/>
                </a:lnTo>
                <a:lnTo>
                  <a:pt x="6084" y="23462"/>
                </a:lnTo>
                <a:lnTo>
                  <a:pt x="10606" y="23070"/>
                </a:lnTo>
                <a:lnTo>
                  <a:pt x="17696" y="20638"/>
                </a:lnTo>
                <a:lnTo>
                  <a:pt x="21958" y="18804"/>
                </a:lnTo>
                <a:lnTo>
                  <a:pt x="31208" y="14508"/>
                </a:lnTo>
                <a:lnTo>
                  <a:pt x="36045" y="12178"/>
                </a:lnTo>
                <a:lnTo>
                  <a:pt x="41810" y="10624"/>
                </a:lnTo>
                <a:lnTo>
                  <a:pt x="48194" y="9588"/>
                </a:lnTo>
                <a:lnTo>
                  <a:pt x="54989" y="8898"/>
                </a:lnTo>
                <a:lnTo>
                  <a:pt x="62906" y="7590"/>
                </a:lnTo>
                <a:lnTo>
                  <a:pt x="71571" y="5872"/>
                </a:lnTo>
                <a:lnTo>
                  <a:pt x="80734" y="3880"/>
                </a:lnTo>
                <a:lnTo>
                  <a:pt x="89383" y="2552"/>
                </a:lnTo>
                <a:lnTo>
                  <a:pt x="97688" y="1667"/>
                </a:lnTo>
                <a:lnTo>
                  <a:pt x="105766" y="1077"/>
                </a:lnTo>
                <a:lnTo>
                  <a:pt x="114537" y="683"/>
                </a:lnTo>
                <a:lnTo>
                  <a:pt x="133314" y="246"/>
                </a:lnTo>
                <a:lnTo>
                  <a:pt x="158881" y="0"/>
                </a:lnTo>
                <a:lnTo>
                  <a:pt x="166034" y="812"/>
                </a:lnTo>
                <a:lnTo>
                  <a:pt x="172496" y="2200"/>
                </a:lnTo>
                <a:lnTo>
                  <a:pt x="178497" y="3972"/>
                </a:lnTo>
                <a:lnTo>
                  <a:pt x="183345" y="5153"/>
                </a:lnTo>
                <a:lnTo>
                  <a:pt x="190989" y="6466"/>
                </a:lnTo>
                <a:lnTo>
                  <a:pt x="197209" y="9307"/>
                </a:lnTo>
                <a:lnTo>
                  <a:pt x="200052" y="11250"/>
                </a:lnTo>
                <a:lnTo>
                  <a:pt x="201102" y="13392"/>
                </a:lnTo>
                <a:lnTo>
                  <a:pt x="200955" y="15667"/>
                </a:lnTo>
                <a:lnTo>
                  <a:pt x="198533" y="21299"/>
                </a:lnTo>
                <a:lnTo>
                  <a:pt x="194635" y="29446"/>
                </a:lnTo>
                <a:lnTo>
                  <a:pt x="191563" y="33143"/>
                </a:lnTo>
                <a:lnTo>
                  <a:pt x="187822" y="36454"/>
                </a:lnTo>
                <a:lnTo>
                  <a:pt x="183635" y="39508"/>
                </a:lnTo>
                <a:lnTo>
                  <a:pt x="179150" y="43237"/>
                </a:lnTo>
                <a:lnTo>
                  <a:pt x="174467" y="47417"/>
                </a:lnTo>
                <a:lnTo>
                  <a:pt x="169651" y="51897"/>
                </a:lnTo>
                <a:lnTo>
                  <a:pt x="163901" y="56576"/>
                </a:lnTo>
                <a:lnTo>
                  <a:pt x="157527" y="61390"/>
                </a:lnTo>
                <a:lnTo>
                  <a:pt x="150738" y="66292"/>
                </a:lnTo>
                <a:lnTo>
                  <a:pt x="143672" y="70407"/>
                </a:lnTo>
                <a:lnTo>
                  <a:pt x="136422" y="73996"/>
                </a:lnTo>
                <a:lnTo>
                  <a:pt x="122439" y="80243"/>
                </a:lnTo>
                <a:lnTo>
                  <a:pt x="105046" y="88519"/>
                </a:lnTo>
                <a:lnTo>
                  <a:pt x="94383" y="93753"/>
                </a:lnTo>
                <a:lnTo>
                  <a:pt x="90862" y="97181"/>
                </a:lnTo>
                <a:lnTo>
                  <a:pt x="88515" y="101159"/>
                </a:lnTo>
                <a:lnTo>
                  <a:pt x="86950" y="105505"/>
                </a:lnTo>
                <a:lnTo>
                  <a:pt x="85211" y="112591"/>
                </a:lnTo>
                <a:lnTo>
                  <a:pt x="84748" y="115666"/>
                </a:lnTo>
                <a:lnTo>
                  <a:pt x="86132" y="117716"/>
                </a:lnTo>
                <a:lnTo>
                  <a:pt x="88748" y="119083"/>
                </a:lnTo>
                <a:lnTo>
                  <a:pt x="92185" y="119994"/>
                </a:lnTo>
                <a:lnTo>
                  <a:pt x="98263" y="123264"/>
                </a:lnTo>
                <a:lnTo>
                  <a:pt x="101069" y="125322"/>
                </a:lnTo>
                <a:lnTo>
                  <a:pt x="106326" y="127540"/>
                </a:lnTo>
                <a:lnTo>
                  <a:pt x="113217" y="129865"/>
                </a:lnTo>
                <a:lnTo>
                  <a:pt x="121198" y="132262"/>
                </a:lnTo>
                <a:lnTo>
                  <a:pt x="139097" y="137183"/>
                </a:lnTo>
                <a:lnTo>
                  <a:pt x="148611" y="139681"/>
                </a:lnTo>
                <a:lnTo>
                  <a:pt x="165956" y="144714"/>
                </a:lnTo>
                <a:lnTo>
                  <a:pt x="190001" y="152307"/>
                </a:lnTo>
                <a:lnTo>
                  <a:pt x="220882" y="162458"/>
                </a:lnTo>
                <a:lnTo>
                  <a:pt x="226841" y="164998"/>
                </a:lnTo>
                <a:lnTo>
                  <a:pt x="231661" y="167537"/>
                </a:lnTo>
                <a:lnTo>
                  <a:pt x="239274" y="172617"/>
                </a:lnTo>
                <a:lnTo>
                  <a:pt x="245479" y="177696"/>
                </a:lnTo>
                <a:lnTo>
                  <a:pt x="247473" y="181083"/>
                </a:lnTo>
                <a:lnTo>
                  <a:pt x="248802" y="185034"/>
                </a:lnTo>
                <a:lnTo>
                  <a:pt x="249688" y="189361"/>
                </a:lnTo>
                <a:lnTo>
                  <a:pt x="249432" y="193093"/>
                </a:lnTo>
                <a:lnTo>
                  <a:pt x="248415" y="196427"/>
                </a:lnTo>
                <a:lnTo>
                  <a:pt x="246890" y="199497"/>
                </a:lnTo>
                <a:lnTo>
                  <a:pt x="244180" y="202390"/>
                </a:lnTo>
                <a:lnTo>
                  <a:pt x="236653" y="207862"/>
                </a:lnTo>
                <a:lnTo>
                  <a:pt x="232276" y="210507"/>
                </a:lnTo>
                <a:lnTo>
                  <a:pt x="227664" y="213116"/>
                </a:lnTo>
                <a:lnTo>
                  <a:pt x="222896" y="215703"/>
                </a:lnTo>
                <a:lnTo>
                  <a:pt x="217177" y="218274"/>
                </a:lnTo>
                <a:lnTo>
                  <a:pt x="210825" y="220835"/>
                </a:lnTo>
                <a:lnTo>
                  <a:pt x="196994" y="225938"/>
                </a:lnTo>
                <a:lnTo>
                  <a:pt x="159872" y="238654"/>
                </a:lnTo>
                <a:lnTo>
                  <a:pt x="151454" y="240348"/>
                </a:lnTo>
                <a:lnTo>
                  <a:pt x="142456" y="241477"/>
                </a:lnTo>
                <a:lnTo>
                  <a:pt x="133071" y="242230"/>
                </a:lnTo>
                <a:lnTo>
                  <a:pt x="125121" y="242732"/>
                </a:lnTo>
                <a:lnTo>
                  <a:pt x="111772" y="243290"/>
                </a:lnTo>
                <a:lnTo>
                  <a:pt x="94736" y="243604"/>
                </a:lnTo>
                <a:lnTo>
                  <a:pt x="90251" y="242801"/>
                </a:lnTo>
                <a:lnTo>
                  <a:pt x="83009" y="239652"/>
                </a:lnTo>
                <a:lnTo>
                  <a:pt x="76969" y="237687"/>
                </a:lnTo>
                <a:lnTo>
                  <a:pt x="70237" y="236427"/>
                </a:lnTo>
                <a:lnTo>
                  <a:pt x="69685" y="235477"/>
                </a:lnTo>
                <a:lnTo>
                  <a:pt x="69071" y="232163"/>
                </a:lnTo>
                <a:lnTo>
                  <a:pt x="69754" y="230094"/>
                </a:lnTo>
                <a:lnTo>
                  <a:pt x="71056" y="227868"/>
                </a:lnTo>
                <a:lnTo>
                  <a:pt x="76200" y="2208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MARTInkAnnotation186"/>
          <p:cNvSpPr/>
          <p:nvPr/>
        </p:nvSpPr>
        <p:spPr>
          <a:xfrm>
            <a:off x="3051000" y="2438280"/>
            <a:ext cx="187560" cy="198720"/>
          </a:xfrm>
          <a:custGeom>
            <a:avLst/>
            <a:gdLst>
              <a:gd name="textAreaLeft" fmla="*/ 0 w 187560"/>
              <a:gd name="textAreaRight" fmla="*/ 187920 w 18756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187565" h="197540">
                <a:moveTo>
                  <a:pt x="19924" y="68134"/>
                </a:moveTo>
                <a:lnTo>
                  <a:pt x="12618" y="68134"/>
                </a:lnTo>
                <a:lnTo>
                  <a:pt x="8352" y="64089"/>
                </a:lnTo>
                <a:lnTo>
                  <a:pt x="7129" y="62051"/>
                </a:lnTo>
                <a:lnTo>
                  <a:pt x="5771" y="57528"/>
                </a:lnTo>
                <a:lnTo>
                  <a:pt x="5167" y="52696"/>
                </a:lnTo>
                <a:lnTo>
                  <a:pt x="5006" y="50222"/>
                </a:lnTo>
                <a:lnTo>
                  <a:pt x="5746" y="48573"/>
                </a:lnTo>
                <a:lnTo>
                  <a:pt x="7085" y="47473"/>
                </a:lnTo>
                <a:lnTo>
                  <a:pt x="8825" y="46740"/>
                </a:lnTo>
                <a:lnTo>
                  <a:pt x="9984" y="45405"/>
                </a:lnTo>
                <a:lnTo>
                  <a:pt x="10758" y="43668"/>
                </a:lnTo>
                <a:lnTo>
                  <a:pt x="11273" y="41663"/>
                </a:lnTo>
                <a:lnTo>
                  <a:pt x="13310" y="39480"/>
                </a:lnTo>
                <a:lnTo>
                  <a:pt x="16362" y="37178"/>
                </a:lnTo>
                <a:lnTo>
                  <a:pt x="20089" y="34797"/>
                </a:lnTo>
                <a:lnTo>
                  <a:pt x="24267" y="32362"/>
                </a:lnTo>
                <a:lnTo>
                  <a:pt x="28747" y="29893"/>
                </a:lnTo>
                <a:lnTo>
                  <a:pt x="38238" y="24891"/>
                </a:lnTo>
                <a:lnTo>
                  <a:pt x="48102" y="19846"/>
                </a:lnTo>
                <a:lnTo>
                  <a:pt x="53949" y="17316"/>
                </a:lnTo>
                <a:lnTo>
                  <a:pt x="60388" y="14782"/>
                </a:lnTo>
                <a:lnTo>
                  <a:pt x="67220" y="12246"/>
                </a:lnTo>
                <a:lnTo>
                  <a:pt x="73468" y="9709"/>
                </a:lnTo>
                <a:lnTo>
                  <a:pt x="79327" y="7170"/>
                </a:lnTo>
                <a:lnTo>
                  <a:pt x="84926" y="4632"/>
                </a:lnTo>
                <a:lnTo>
                  <a:pt x="91199" y="2939"/>
                </a:lnTo>
                <a:lnTo>
                  <a:pt x="97920" y="1811"/>
                </a:lnTo>
                <a:lnTo>
                  <a:pt x="104942" y="1059"/>
                </a:lnTo>
                <a:lnTo>
                  <a:pt x="111316" y="557"/>
                </a:lnTo>
                <a:lnTo>
                  <a:pt x="117259" y="223"/>
                </a:lnTo>
                <a:lnTo>
                  <a:pt x="122913" y="0"/>
                </a:lnTo>
                <a:lnTo>
                  <a:pt x="127531" y="698"/>
                </a:lnTo>
                <a:lnTo>
                  <a:pt x="131455" y="2010"/>
                </a:lnTo>
                <a:lnTo>
                  <a:pt x="134918" y="3731"/>
                </a:lnTo>
                <a:lnTo>
                  <a:pt x="138920" y="4879"/>
                </a:lnTo>
                <a:lnTo>
                  <a:pt x="143282" y="5644"/>
                </a:lnTo>
                <a:lnTo>
                  <a:pt x="154358" y="6872"/>
                </a:lnTo>
                <a:lnTo>
                  <a:pt x="154420" y="8666"/>
                </a:lnTo>
                <a:lnTo>
                  <a:pt x="153615" y="11556"/>
                </a:lnTo>
                <a:lnTo>
                  <a:pt x="152231" y="15175"/>
                </a:lnTo>
                <a:lnTo>
                  <a:pt x="150462" y="18435"/>
                </a:lnTo>
                <a:lnTo>
                  <a:pt x="146239" y="24315"/>
                </a:lnTo>
                <a:lnTo>
                  <a:pt x="143080" y="27914"/>
                </a:lnTo>
                <a:lnTo>
                  <a:pt x="139282" y="32008"/>
                </a:lnTo>
                <a:lnTo>
                  <a:pt x="125845" y="45859"/>
                </a:lnTo>
                <a:lnTo>
                  <a:pt x="64440" y="107436"/>
                </a:lnTo>
                <a:lnTo>
                  <a:pt x="57222" y="113809"/>
                </a:lnTo>
                <a:lnTo>
                  <a:pt x="49869" y="119751"/>
                </a:lnTo>
                <a:lnTo>
                  <a:pt x="42428" y="125405"/>
                </a:lnTo>
                <a:lnTo>
                  <a:pt x="35773" y="130868"/>
                </a:lnTo>
                <a:lnTo>
                  <a:pt x="29644" y="136204"/>
                </a:lnTo>
                <a:lnTo>
                  <a:pt x="23864" y="141454"/>
                </a:lnTo>
                <a:lnTo>
                  <a:pt x="18317" y="145801"/>
                </a:lnTo>
                <a:lnTo>
                  <a:pt x="12927" y="149545"/>
                </a:lnTo>
                <a:lnTo>
                  <a:pt x="7639" y="152888"/>
                </a:lnTo>
                <a:lnTo>
                  <a:pt x="4114" y="156810"/>
                </a:lnTo>
                <a:lnTo>
                  <a:pt x="1764" y="161118"/>
                </a:lnTo>
                <a:lnTo>
                  <a:pt x="198" y="165683"/>
                </a:lnTo>
                <a:lnTo>
                  <a:pt x="0" y="169574"/>
                </a:lnTo>
                <a:lnTo>
                  <a:pt x="715" y="173014"/>
                </a:lnTo>
                <a:lnTo>
                  <a:pt x="2038" y="176154"/>
                </a:lnTo>
                <a:lnTo>
                  <a:pt x="4614" y="179094"/>
                </a:lnTo>
                <a:lnTo>
                  <a:pt x="8024" y="181901"/>
                </a:lnTo>
                <a:lnTo>
                  <a:pt x="11991" y="184618"/>
                </a:lnTo>
                <a:lnTo>
                  <a:pt x="17175" y="187277"/>
                </a:lnTo>
                <a:lnTo>
                  <a:pt x="23172" y="189896"/>
                </a:lnTo>
                <a:lnTo>
                  <a:pt x="29709" y="192489"/>
                </a:lnTo>
                <a:lnTo>
                  <a:pt x="37454" y="194217"/>
                </a:lnTo>
                <a:lnTo>
                  <a:pt x="46004" y="195370"/>
                </a:lnTo>
                <a:lnTo>
                  <a:pt x="55091" y="196138"/>
                </a:lnTo>
                <a:lnTo>
                  <a:pt x="64535" y="196650"/>
                </a:lnTo>
                <a:lnTo>
                  <a:pt x="84060" y="197219"/>
                </a:lnTo>
                <a:lnTo>
                  <a:pt x="114093" y="197539"/>
                </a:lnTo>
                <a:lnTo>
                  <a:pt x="125036" y="196737"/>
                </a:lnTo>
                <a:lnTo>
                  <a:pt x="136566" y="195356"/>
                </a:lnTo>
                <a:lnTo>
                  <a:pt x="148485" y="193589"/>
                </a:lnTo>
                <a:lnTo>
                  <a:pt x="158125" y="192411"/>
                </a:lnTo>
                <a:lnTo>
                  <a:pt x="166245" y="191625"/>
                </a:lnTo>
                <a:lnTo>
                  <a:pt x="187564" y="1900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MARTInkAnnotation187"/>
          <p:cNvSpPr/>
          <p:nvPr/>
        </p:nvSpPr>
        <p:spPr>
          <a:xfrm>
            <a:off x="3322800" y="2568600"/>
            <a:ext cx="14040" cy="30240"/>
          </a:xfrm>
          <a:custGeom>
            <a:avLst/>
            <a:gdLst>
              <a:gd name="textAreaLeft" fmla="*/ 0 w 14040"/>
              <a:gd name="textAreaRight" fmla="*/ 14400 w 140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239" h="30481">
                <a:moveTo>
                  <a:pt x="7619" y="0"/>
                </a:moveTo>
                <a:lnTo>
                  <a:pt x="7" y="0"/>
                </a:lnTo>
                <a:lnTo>
                  <a:pt x="0" y="4045"/>
                </a:lnTo>
                <a:lnTo>
                  <a:pt x="847" y="5237"/>
                </a:lnTo>
                <a:lnTo>
                  <a:pt x="2257" y="6031"/>
                </a:lnTo>
                <a:lnTo>
                  <a:pt x="4044" y="6561"/>
                </a:lnTo>
                <a:lnTo>
                  <a:pt x="5235" y="7761"/>
                </a:lnTo>
                <a:lnTo>
                  <a:pt x="6030" y="9407"/>
                </a:lnTo>
                <a:lnTo>
                  <a:pt x="7305" y="14088"/>
                </a:lnTo>
                <a:lnTo>
                  <a:pt x="7409" y="15319"/>
                </a:lnTo>
                <a:lnTo>
                  <a:pt x="7479" y="16986"/>
                </a:lnTo>
                <a:lnTo>
                  <a:pt x="7610" y="22516"/>
                </a:lnTo>
                <a:lnTo>
                  <a:pt x="8460" y="23478"/>
                </a:lnTo>
                <a:lnTo>
                  <a:pt x="15238" y="304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MARTInkAnnotation188"/>
          <p:cNvSpPr/>
          <p:nvPr/>
        </p:nvSpPr>
        <p:spPr>
          <a:xfrm>
            <a:off x="3421080" y="2422440"/>
            <a:ext cx="198360" cy="212760"/>
          </a:xfrm>
          <a:custGeom>
            <a:avLst/>
            <a:gdLst>
              <a:gd name="textAreaLeft" fmla="*/ 0 w 198360"/>
              <a:gd name="textAreaRight" fmla="*/ 198720 w 1983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97747" h="212138">
                <a:moveTo>
                  <a:pt x="0" y="7620"/>
                </a:moveTo>
                <a:lnTo>
                  <a:pt x="61484" y="7620"/>
                </a:lnTo>
                <a:lnTo>
                  <a:pt x="68929" y="6773"/>
                </a:lnTo>
                <a:lnTo>
                  <a:pt x="76433" y="5362"/>
                </a:lnTo>
                <a:lnTo>
                  <a:pt x="83975" y="3575"/>
                </a:lnTo>
                <a:lnTo>
                  <a:pt x="91544" y="2383"/>
                </a:lnTo>
                <a:lnTo>
                  <a:pt x="99129" y="1589"/>
                </a:lnTo>
                <a:lnTo>
                  <a:pt x="106726" y="1059"/>
                </a:lnTo>
                <a:lnTo>
                  <a:pt x="114331" y="706"/>
                </a:lnTo>
                <a:lnTo>
                  <a:pt x="129554" y="314"/>
                </a:lnTo>
                <a:lnTo>
                  <a:pt x="178836" y="12"/>
                </a:lnTo>
                <a:lnTo>
                  <a:pt x="196859" y="0"/>
                </a:lnTo>
                <a:lnTo>
                  <a:pt x="197279" y="847"/>
                </a:lnTo>
                <a:lnTo>
                  <a:pt x="197746" y="4045"/>
                </a:lnTo>
                <a:lnTo>
                  <a:pt x="197024" y="6084"/>
                </a:lnTo>
                <a:lnTo>
                  <a:pt x="191963" y="13844"/>
                </a:lnTo>
                <a:lnTo>
                  <a:pt x="189782" y="17696"/>
                </a:lnTo>
                <a:lnTo>
                  <a:pt x="185101" y="26492"/>
                </a:lnTo>
                <a:lnTo>
                  <a:pt x="180198" y="36045"/>
                </a:lnTo>
                <a:lnTo>
                  <a:pt x="176859" y="40963"/>
                </a:lnTo>
                <a:lnTo>
                  <a:pt x="172939" y="45936"/>
                </a:lnTo>
                <a:lnTo>
                  <a:pt x="168633" y="50944"/>
                </a:lnTo>
                <a:lnTo>
                  <a:pt x="164915" y="55976"/>
                </a:lnTo>
                <a:lnTo>
                  <a:pt x="161590" y="61024"/>
                </a:lnTo>
                <a:lnTo>
                  <a:pt x="158527" y="66083"/>
                </a:lnTo>
                <a:lnTo>
                  <a:pt x="150607" y="78477"/>
                </a:lnTo>
                <a:lnTo>
                  <a:pt x="146125" y="85338"/>
                </a:lnTo>
                <a:lnTo>
                  <a:pt x="141444" y="91605"/>
                </a:lnTo>
                <a:lnTo>
                  <a:pt x="136629" y="97477"/>
                </a:lnTo>
                <a:lnTo>
                  <a:pt x="131726" y="103085"/>
                </a:lnTo>
                <a:lnTo>
                  <a:pt x="126764" y="109363"/>
                </a:lnTo>
                <a:lnTo>
                  <a:pt x="121762" y="116089"/>
                </a:lnTo>
                <a:lnTo>
                  <a:pt x="111690" y="130335"/>
                </a:lnTo>
                <a:lnTo>
                  <a:pt x="101569" y="145133"/>
                </a:lnTo>
                <a:lnTo>
                  <a:pt x="97346" y="151789"/>
                </a:lnTo>
                <a:lnTo>
                  <a:pt x="93684" y="157919"/>
                </a:lnTo>
                <a:lnTo>
                  <a:pt x="90396" y="163700"/>
                </a:lnTo>
                <a:lnTo>
                  <a:pt x="87357" y="168400"/>
                </a:lnTo>
                <a:lnTo>
                  <a:pt x="84485" y="172380"/>
                </a:lnTo>
                <a:lnTo>
                  <a:pt x="81723" y="175880"/>
                </a:lnTo>
                <a:lnTo>
                  <a:pt x="78189" y="179907"/>
                </a:lnTo>
                <a:lnTo>
                  <a:pt x="74139" y="184285"/>
                </a:lnTo>
                <a:lnTo>
                  <a:pt x="59518" y="199432"/>
                </a:lnTo>
                <a:lnTo>
                  <a:pt x="56612" y="201535"/>
                </a:lnTo>
                <a:lnTo>
                  <a:pt x="51125" y="203871"/>
                </a:lnTo>
                <a:lnTo>
                  <a:pt x="49324" y="205341"/>
                </a:lnTo>
                <a:lnTo>
                  <a:pt x="48122" y="207167"/>
                </a:lnTo>
                <a:lnTo>
                  <a:pt x="47322" y="209232"/>
                </a:lnTo>
                <a:lnTo>
                  <a:pt x="45941" y="210608"/>
                </a:lnTo>
                <a:lnTo>
                  <a:pt x="44174" y="211525"/>
                </a:lnTo>
                <a:lnTo>
                  <a:pt x="42149" y="212137"/>
                </a:lnTo>
                <a:lnTo>
                  <a:pt x="40799" y="211698"/>
                </a:lnTo>
                <a:lnTo>
                  <a:pt x="39899" y="210559"/>
                </a:lnTo>
                <a:lnTo>
                  <a:pt x="38100" y="2057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MARTInkAnnotation189"/>
          <p:cNvSpPr/>
          <p:nvPr/>
        </p:nvSpPr>
        <p:spPr>
          <a:xfrm>
            <a:off x="3444840" y="2536920"/>
            <a:ext cx="190440" cy="23760"/>
          </a:xfrm>
          <a:custGeom>
            <a:avLst/>
            <a:gdLst>
              <a:gd name="textAreaLeft" fmla="*/ 0 w 190440"/>
              <a:gd name="textAreaRight" fmla="*/ 190800 w 1904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90501" h="22861">
                <a:moveTo>
                  <a:pt x="0" y="22860"/>
                </a:moveTo>
                <a:lnTo>
                  <a:pt x="13121" y="16299"/>
                </a:lnTo>
                <a:lnTo>
                  <a:pt x="16556" y="15711"/>
                </a:lnTo>
                <a:lnTo>
                  <a:pt x="18657" y="15554"/>
                </a:lnTo>
                <a:lnTo>
                  <a:pt x="27766" y="15379"/>
                </a:lnTo>
                <a:lnTo>
                  <a:pt x="33750" y="15333"/>
                </a:lnTo>
                <a:lnTo>
                  <a:pt x="40280" y="14455"/>
                </a:lnTo>
                <a:lnTo>
                  <a:pt x="47173" y="13023"/>
                </a:lnTo>
                <a:lnTo>
                  <a:pt x="54309" y="11222"/>
                </a:lnTo>
                <a:lnTo>
                  <a:pt x="60759" y="10021"/>
                </a:lnTo>
                <a:lnTo>
                  <a:pt x="66752" y="9221"/>
                </a:lnTo>
                <a:lnTo>
                  <a:pt x="72441" y="8687"/>
                </a:lnTo>
                <a:lnTo>
                  <a:pt x="79621" y="8332"/>
                </a:lnTo>
                <a:lnTo>
                  <a:pt x="96629" y="7936"/>
                </a:lnTo>
                <a:lnTo>
                  <a:pt x="121200" y="7714"/>
                </a:lnTo>
                <a:lnTo>
                  <a:pt x="129060" y="6836"/>
                </a:lnTo>
                <a:lnTo>
                  <a:pt x="136840" y="5404"/>
                </a:lnTo>
                <a:lnTo>
                  <a:pt x="144566" y="3603"/>
                </a:lnTo>
                <a:lnTo>
                  <a:pt x="152258" y="2402"/>
                </a:lnTo>
                <a:lnTo>
                  <a:pt x="159925" y="1601"/>
                </a:lnTo>
                <a:lnTo>
                  <a:pt x="173524" y="712"/>
                </a:lnTo>
                <a:lnTo>
                  <a:pt x="19050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MARTInkAnnotation190"/>
          <p:cNvSpPr/>
          <p:nvPr/>
        </p:nvSpPr>
        <p:spPr>
          <a:xfrm>
            <a:off x="3787920" y="2536920"/>
            <a:ext cx="190440" cy="15840"/>
          </a:xfrm>
          <a:custGeom>
            <a:avLst/>
            <a:gdLst>
              <a:gd name="textAreaLeft" fmla="*/ 0 w 190440"/>
              <a:gd name="textAreaRight" fmla="*/ 190800 w 1904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90501" h="15241">
                <a:moveTo>
                  <a:pt x="0" y="15240"/>
                </a:moveTo>
                <a:lnTo>
                  <a:pt x="4044" y="15240"/>
                </a:lnTo>
                <a:lnTo>
                  <a:pt x="6083" y="14393"/>
                </a:lnTo>
                <a:lnTo>
                  <a:pt x="8288" y="12982"/>
                </a:lnTo>
                <a:lnTo>
                  <a:pt x="10605" y="11195"/>
                </a:lnTo>
                <a:lnTo>
                  <a:pt x="12996" y="10003"/>
                </a:lnTo>
                <a:lnTo>
                  <a:pt x="15438" y="9209"/>
                </a:lnTo>
                <a:lnTo>
                  <a:pt x="17911" y="8679"/>
                </a:lnTo>
                <a:lnTo>
                  <a:pt x="22101" y="8326"/>
                </a:lnTo>
                <a:lnTo>
                  <a:pt x="27434" y="8091"/>
                </a:lnTo>
                <a:lnTo>
                  <a:pt x="33529" y="7934"/>
                </a:lnTo>
                <a:lnTo>
                  <a:pt x="39286" y="6983"/>
                </a:lnTo>
                <a:lnTo>
                  <a:pt x="44817" y="5502"/>
                </a:lnTo>
                <a:lnTo>
                  <a:pt x="50198" y="3668"/>
                </a:lnTo>
                <a:lnTo>
                  <a:pt x="56325" y="2445"/>
                </a:lnTo>
                <a:lnTo>
                  <a:pt x="62950" y="1630"/>
                </a:lnTo>
                <a:lnTo>
                  <a:pt x="69906" y="1087"/>
                </a:lnTo>
                <a:lnTo>
                  <a:pt x="77084" y="724"/>
                </a:lnTo>
                <a:lnTo>
                  <a:pt x="91833" y="322"/>
                </a:lnTo>
                <a:lnTo>
                  <a:pt x="169247" y="2"/>
                </a:lnTo>
                <a:lnTo>
                  <a:pt x="19050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MARTInkAnnotation191"/>
          <p:cNvSpPr/>
          <p:nvPr/>
        </p:nvSpPr>
        <p:spPr>
          <a:xfrm>
            <a:off x="4038480" y="2416320"/>
            <a:ext cx="235080" cy="204480"/>
          </a:xfrm>
          <a:custGeom>
            <a:avLst/>
            <a:gdLst>
              <a:gd name="textAreaLeft" fmla="*/ 0 w 235080"/>
              <a:gd name="textAreaRight" fmla="*/ 235440 w 235080"/>
              <a:gd name="textAreaTop" fmla="*/ 0 h 204480"/>
              <a:gd name="textAreaBottom" fmla="*/ 204840 h 204480"/>
            </a:gdLst>
            <a:ahLst/>
            <a:rect l="textAreaLeft" t="textAreaTop" r="textAreaRight" b="textAreaBottom"/>
            <a:pathLst>
              <a:path w="235730" h="205606">
                <a:moveTo>
                  <a:pt x="0" y="37996"/>
                </a:moveTo>
                <a:lnTo>
                  <a:pt x="0" y="33951"/>
                </a:lnTo>
                <a:lnTo>
                  <a:pt x="846" y="32759"/>
                </a:lnTo>
                <a:lnTo>
                  <a:pt x="2258" y="31965"/>
                </a:lnTo>
                <a:lnTo>
                  <a:pt x="8608" y="29739"/>
                </a:lnTo>
                <a:lnTo>
                  <a:pt x="15396" y="26424"/>
                </a:lnTo>
                <a:lnTo>
                  <a:pt x="20424" y="24355"/>
                </a:lnTo>
                <a:lnTo>
                  <a:pt x="26316" y="22128"/>
                </a:lnTo>
                <a:lnTo>
                  <a:pt x="39636" y="17397"/>
                </a:lnTo>
                <a:lnTo>
                  <a:pt x="54023" y="12472"/>
                </a:lnTo>
                <a:lnTo>
                  <a:pt x="62262" y="10820"/>
                </a:lnTo>
                <a:lnTo>
                  <a:pt x="71141" y="9719"/>
                </a:lnTo>
                <a:lnTo>
                  <a:pt x="80447" y="8985"/>
                </a:lnTo>
                <a:lnTo>
                  <a:pt x="90039" y="7648"/>
                </a:lnTo>
                <a:lnTo>
                  <a:pt x="99819" y="5911"/>
                </a:lnTo>
                <a:lnTo>
                  <a:pt x="109726" y="3906"/>
                </a:lnTo>
                <a:lnTo>
                  <a:pt x="119717" y="2569"/>
                </a:lnTo>
                <a:lnTo>
                  <a:pt x="129765" y="1678"/>
                </a:lnTo>
                <a:lnTo>
                  <a:pt x="139850" y="1084"/>
                </a:lnTo>
                <a:lnTo>
                  <a:pt x="160087" y="424"/>
                </a:lnTo>
                <a:lnTo>
                  <a:pt x="196628" y="0"/>
                </a:lnTo>
                <a:lnTo>
                  <a:pt x="203899" y="812"/>
                </a:lnTo>
                <a:lnTo>
                  <a:pt x="210439" y="2200"/>
                </a:lnTo>
                <a:lnTo>
                  <a:pt x="225013" y="6466"/>
                </a:lnTo>
                <a:lnTo>
                  <a:pt x="229264" y="9307"/>
                </a:lnTo>
                <a:lnTo>
                  <a:pt x="231582" y="11250"/>
                </a:lnTo>
                <a:lnTo>
                  <a:pt x="232282" y="13392"/>
                </a:lnTo>
                <a:lnTo>
                  <a:pt x="231901" y="15667"/>
                </a:lnTo>
                <a:lnTo>
                  <a:pt x="230801" y="18030"/>
                </a:lnTo>
                <a:lnTo>
                  <a:pt x="225063" y="22913"/>
                </a:lnTo>
                <a:lnTo>
                  <a:pt x="221162" y="25401"/>
                </a:lnTo>
                <a:lnTo>
                  <a:pt x="216868" y="28753"/>
                </a:lnTo>
                <a:lnTo>
                  <a:pt x="212312" y="32680"/>
                </a:lnTo>
                <a:lnTo>
                  <a:pt x="207582" y="36992"/>
                </a:lnTo>
                <a:lnTo>
                  <a:pt x="201888" y="40714"/>
                </a:lnTo>
                <a:lnTo>
                  <a:pt x="195552" y="44041"/>
                </a:lnTo>
                <a:lnTo>
                  <a:pt x="188788" y="47106"/>
                </a:lnTo>
                <a:lnTo>
                  <a:pt x="181739" y="50843"/>
                </a:lnTo>
                <a:lnTo>
                  <a:pt x="174499" y="55027"/>
                </a:lnTo>
                <a:lnTo>
                  <a:pt x="167133" y="59510"/>
                </a:lnTo>
                <a:lnTo>
                  <a:pt x="159682" y="63345"/>
                </a:lnTo>
                <a:lnTo>
                  <a:pt x="152175" y="66749"/>
                </a:lnTo>
                <a:lnTo>
                  <a:pt x="144630" y="69865"/>
                </a:lnTo>
                <a:lnTo>
                  <a:pt x="137907" y="73635"/>
                </a:lnTo>
                <a:lnTo>
                  <a:pt x="131731" y="77842"/>
                </a:lnTo>
                <a:lnTo>
                  <a:pt x="125921" y="82340"/>
                </a:lnTo>
                <a:lnTo>
                  <a:pt x="120354" y="86185"/>
                </a:lnTo>
                <a:lnTo>
                  <a:pt x="114949" y="89596"/>
                </a:lnTo>
                <a:lnTo>
                  <a:pt x="109653" y="92716"/>
                </a:lnTo>
                <a:lnTo>
                  <a:pt x="105275" y="95643"/>
                </a:lnTo>
                <a:lnTo>
                  <a:pt x="98154" y="101152"/>
                </a:lnTo>
                <a:lnTo>
                  <a:pt x="95916" y="103807"/>
                </a:lnTo>
                <a:lnTo>
                  <a:pt x="94424" y="106423"/>
                </a:lnTo>
                <a:lnTo>
                  <a:pt x="93429" y="109014"/>
                </a:lnTo>
                <a:lnTo>
                  <a:pt x="94459" y="111588"/>
                </a:lnTo>
                <a:lnTo>
                  <a:pt x="96839" y="114151"/>
                </a:lnTo>
                <a:lnTo>
                  <a:pt x="100120" y="116706"/>
                </a:lnTo>
                <a:lnTo>
                  <a:pt x="106022" y="119545"/>
                </a:lnTo>
                <a:lnTo>
                  <a:pt x="113161" y="121653"/>
                </a:lnTo>
                <a:lnTo>
                  <a:pt x="145634" y="132289"/>
                </a:lnTo>
                <a:lnTo>
                  <a:pt x="153816" y="133878"/>
                </a:lnTo>
                <a:lnTo>
                  <a:pt x="162658" y="134938"/>
                </a:lnTo>
                <a:lnTo>
                  <a:pt x="171938" y="135644"/>
                </a:lnTo>
                <a:lnTo>
                  <a:pt x="179819" y="136961"/>
                </a:lnTo>
                <a:lnTo>
                  <a:pt x="186765" y="138686"/>
                </a:lnTo>
                <a:lnTo>
                  <a:pt x="193091" y="140683"/>
                </a:lnTo>
                <a:lnTo>
                  <a:pt x="199001" y="142861"/>
                </a:lnTo>
                <a:lnTo>
                  <a:pt x="204634" y="145159"/>
                </a:lnTo>
                <a:lnTo>
                  <a:pt x="210083" y="147538"/>
                </a:lnTo>
                <a:lnTo>
                  <a:pt x="214562" y="149124"/>
                </a:lnTo>
                <a:lnTo>
                  <a:pt x="221796" y="150887"/>
                </a:lnTo>
                <a:lnTo>
                  <a:pt x="227834" y="153927"/>
                </a:lnTo>
                <a:lnTo>
                  <a:pt x="230629" y="155923"/>
                </a:lnTo>
                <a:lnTo>
                  <a:pt x="232493" y="158101"/>
                </a:lnTo>
                <a:lnTo>
                  <a:pt x="233735" y="160399"/>
                </a:lnTo>
                <a:lnTo>
                  <a:pt x="235116" y="165211"/>
                </a:lnTo>
                <a:lnTo>
                  <a:pt x="235729" y="170171"/>
                </a:lnTo>
                <a:lnTo>
                  <a:pt x="235046" y="172680"/>
                </a:lnTo>
                <a:lnTo>
                  <a:pt x="232030" y="177724"/>
                </a:lnTo>
                <a:lnTo>
                  <a:pt x="225608" y="182789"/>
                </a:lnTo>
                <a:lnTo>
                  <a:pt x="221526" y="185325"/>
                </a:lnTo>
                <a:lnTo>
                  <a:pt x="217110" y="187862"/>
                </a:lnTo>
                <a:lnTo>
                  <a:pt x="207689" y="192939"/>
                </a:lnTo>
                <a:lnTo>
                  <a:pt x="201959" y="194631"/>
                </a:lnTo>
                <a:lnTo>
                  <a:pt x="195600" y="195759"/>
                </a:lnTo>
                <a:lnTo>
                  <a:pt x="188820" y="196512"/>
                </a:lnTo>
                <a:lnTo>
                  <a:pt x="181760" y="197860"/>
                </a:lnTo>
                <a:lnTo>
                  <a:pt x="174513" y="199605"/>
                </a:lnTo>
                <a:lnTo>
                  <a:pt x="167142" y="201616"/>
                </a:lnTo>
                <a:lnTo>
                  <a:pt x="159688" y="202956"/>
                </a:lnTo>
                <a:lnTo>
                  <a:pt x="152179" y="203849"/>
                </a:lnTo>
                <a:lnTo>
                  <a:pt x="144633" y="204445"/>
                </a:lnTo>
                <a:lnTo>
                  <a:pt x="137062" y="204842"/>
                </a:lnTo>
                <a:lnTo>
                  <a:pt x="121876" y="205283"/>
                </a:lnTo>
                <a:lnTo>
                  <a:pt x="80241" y="205605"/>
                </a:lnTo>
                <a:lnTo>
                  <a:pt x="75508" y="204769"/>
                </a:lnTo>
                <a:lnTo>
                  <a:pt x="71505" y="203365"/>
                </a:lnTo>
                <a:lnTo>
                  <a:pt x="67990" y="201582"/>
                </a:lnTo>
                <a:lnTo>
                  <a:pt x="65647" y="199546"/>
                </a:lnTo>
                <a:lnTo>
                  <a:pt x="64084" y="197343"/>
                </a:lnTo>
                <a:lnTo>
                  <a:pt x="62349" y="192637"/>
                </a:lnTo>
                <a:lnTo>
                  <a:pt x="61577" y="187723"/>
                </a:lnTo>
                <a:lnTo>
                  <a:pt x="60960" y="1827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MARTInkAnnotation192"/>
          <p:cNvSpPr/>
          <p:nvPr/>
        </p:nvSpPr>
        <p:spPr>
          <a:xfrm>
            <a:off x="4327560" y="2568600"/>
            <a:ext cx="15840" cy="22320"/>
          </a:xfrm>
          <a:custGeom>
            <a:avLst/>
            <a:gdLst>
              <a:gd name="textAreaLeft" fmla="*/ 0 w 15840"/>
              <a:gd name="textAreaRight" fmla="*/ 16200 w 15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5241" h="22861">
                <a:moveTo>
                  <a:pt x="15240" y="0"/>
                </a:moveTo>
                <a:lnTo>
                  <a:pt x="15240" y="4045"/>
                </a:lnTo>
                <a:lnTo>
                  <a:pt x="14394" y="5237"/>
                </a:lnTo>
                <a:lnTo>
                  <a:pt x="12982" y="6031"/>
                </a:lnTo>
                <a:lnTo>
                  <a:pt x="11195" y="6561"/>
                </a:lnTo>
                <a:lnTo>
                  <a:pt x="10003" y="7761"/>
                </a:lnTo>
                <a:lnTo>
                  <a:pt x="9209" y="9407"/>
                </a:lnTo>
                <a:lnTo>
                  <a:pt x="7934" y="14088"/>
                </a:lnTo>
                <a:lnTo>
                  <a:pt x="6983" y="15319"/>
                </a:lnTo>
                <a:lnTo>
                  <a:pt x="5501" y="16986"/>
                </a:lnTo>
                <a:lnTo>
                  <a:pt x="0" y="228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MARTInkAnnotation193"/>
          <p:cNvSpPr/>
          <p:nvPr/>
        </p:nvSpPr>
        <p:spPr>
          <a:xfrm>
            <a:off x="4383000" y="2392200"/>
            <a:ext cx="204840" cy="236880"/>
          </a:xfrm>
          <a:custGeom>
            <a:avLst/>
            <a:gdLst>
              <a:gd name="textAreaLeft" fmla="*/ 0 w 204840"/>
              <a:gd name="textAreaRight" fmla="*/ 205200 w 204840"/>
              <a:gd name="textAreaTop" fmla="*/ 0 h 236880"/>
              <a:gd name="textAreaBottom" fmla="*/ 237240 h 236880"/>
            </a:gdLst>
            <a:ahLst/>
            <a:rect l="textAreaLeft" t="textAreaTop" r="textAreaRight" b="textAreaBottom"/>
            <a:pathLst>
              <a:path w="204812" h="235896">
                <a:moveTo>
                  <a:pt x="151470" y="22535"/>
                </a:moveTo>
                <a:lnTo>
                  <a:pt x="151470" y="8668"/>
                </a:lnTo>
                <a:lnTo>
                  <a:pt x="150624" y="8210"/>
                </a:lnTo>
                <a:lnTo>
                  <a:pt x="144540" y="6719"/>
                </a:lnTo>
                <a:lnTo>
                  <a:pt x="140924" y="5218"/>
                </a:lnTo>
                <a:lnTo>
                  <a:pt x="136819" y="3370"/>
                </a:lnTo>
                <a:lnTo>
                  <a:pt x="133236" y="2139"/>
                </a:lnTo>
                <a:lnTo>
                  <a:pt x="126997" y="770"/>
                </a:lnTo>
                <a:lnTo>
                  <a:pt x="122455" y="405"/>
                </a:lnTo>
                <a:lnTo>
                  <a:pt x="116887" y="162"/>
                </a:lnTo>
                <a:lnTo>
                  <a:pt x="110634" y="0"/>
                </a:lnTo>
                <a:lnTo>
                  <a:pt x="103926" y="738"/>
                </a:lnTo>
                <a:lnTo>
                  <a:pt x="96914" y="2077"/>
                </a:lnTo>
                <a:lnTo>
                  <a:pt x="89699" y="3817"/>
                </a:lnTo>
                <a:lnTo>
                  <a:pt x="82349" y="6669"/>
                </a:lnTo>
                <a:lnTo>
                  <a:pt x="74910" y="10265"/>
                </a:lnTo>
                <a:lnTo>
                  <a:pt x="67410" y="14355"/>
                </a:lnTo>
                <a:lnTo>
                  <a:pt x="59870" y="18775"/>
                </a:lnTo>
                <a:lnTo>
                  <a:pt x="37970" y="32240"/>
                </a:lnTo>
                <a:lnTo>
                  <a:pt x="31777" y="35778"/>
                </a:lnTo>
                <a:lnTo>
                  <a:pt x="25954" y="38984"/>
                </a:lnTo>
                <a:lnTo>
                  <a:pt x="20379" y="42814"/>
                </a:lnTo>
                <a:lnTo>
                  <a:pt x="14969" y="47061"/>
                </a:lnTo>
                <a:lnTo>
                  <a:pt x="9669" y="51586"/>
                </a:lnTo>
                <a:lnTo>
                  <a:pt x="6136" y="56295"/>
                </a:lnTo>
                <a:lnTo>
                  <a:pt x="3781" y="61129"/>
                </a:lnTo>
                <a:lnTo>
                  <a:pt x="2210" y="66044"/>
                </a:lnTo>
                <a:lnTo>
                  <a:pt x="1164" y="70168"/>
                </a:lnTo>
                <a:lnTo>
                  <a:pt x="0" y="77007"/>
                </a:lnTo>
                <a:lnTo>
                  <a:pt x="1384" y="80017"/>
                </a:lnTo>
                <a:lnTo>
                  <a:pt x="3999" y="82869"/>
                </a:lnTo>
                <a:lnTo>
                  <a:pt x="7436" y="85618"/>
                </a:lnTo>
                <a:lnTo>
                  <a:pt x="11421" y="88297"/>
                </a:lnTo>
                <a:lnTo>
                  <a:pt x="15770" y="90930"/>
                </a:lnTo>
                <a:lnTo>
                  <a:pt x="20363" y="93532"/>
                </a:lnTo>
                <a:lnTo>
                  <a:pt x="25966" y="95266"/>
                </a:lnTo>
                <a:lnTo>
                  <a:pt x="32240" y="96423"/>
                </a:lnTo>
                <a:lnTo>
                  <a:pt x="38963" y="97193"/>
                </a:lnTo>
                <a:lnTo>
                  <a:pt x="45986" y="96860"/>
                </a:lnTo>
                <a:lnTo>
                  <a:pt x="53207" y="95792"/>
                </a:lnTo>
                <a:lnTo>
                  <a:pt x="60562" y="94233"/>
                </a:lnTo>
                <a:lnTo>
                  <a:pt x="87093" y="87994"/>
                </a:lnTo>
                <a:lnTo>
                  <a:pt x="116403" y="80783"/>
                </a:lnTo>
                <a:lnTo>
                  <a:pt x="125552" y="77454"/>
                </a:lnTo>
                <a:lnTo>
                  <a:pt x="134192" y="73541"/>
                </a:lnTo>
                <a:lnTo>
                  <a:pt x="162262" y="59139"/>
                </a:lnTo>
                <a:lnTo>
                  <a:pt x="167978" y="55404"/>
                </a:lnTo>
                <a:lnTo>
                  <a:pt x="173483" y="51221"/>
                </a:lnTo>
                <a:lnTo>
                  <a:pt x="178845" y="46739"/>
                </a:lnTo>
                <a:lnTo>
                  <a:pt x="183267" y="42058"/>
                </a:lnTo>
                <a:lnTo>
                  <a:pt x="187061" y="37244"/>
                </a:lnTo>
                <a:lnTo>
                  <a:pt x="195190" y="25440"/>
                </a:lnTo>
                <a:lnTo>
                  <a:pt x="196301" y="21569"/>
                </a:lnTo>
                <a:lnTo>
                  <a:pt x="197015" y="16229"/>
                </a:lnTo>
                <a:lnTo>
                  <a:pt x="197139" y="19350"/>
                </a:lnTo>
                <a:lnTo>
                  <a:pt x="196309" y="20412"/>
                </a:lnTo>
                <a:lnTo>
                  <a:pt x="194909" y="21119"/>
                </a:lnTo>
                <a:lnTo>
                  <a:pt x="193129" y="21591"/>
                </a:lnTo>
                <a:lnTo>
                  <a:pt x="191943" y="23599"/>
                </a:lnTo>
                <a:lnTo>
                  <a:pt x="190625" y="30346"/>
                </a:lnTo>
                <a:lnTo>
                  <a:pt x="189427" y="34515"/>
                </a:lnTo>
                <a:lnTo>
                  <a:pt x="187782" y="38989"/>
                </a:lnTo>
                <a:lnTo>
                  <a:pt x="185838" y="43664"/>
                </a:lnTo>
                <a:lnTo>
                  <a:pt x="183696" y="47628"/>
                </a:lnTo>
                <a:lnTo>
                  <a:pt x="179057" y="54290"/>
                </a:lnTo>
                <a:lnTo>
                  <a:pt x="177481" y="58945"/>
                </a:lnTo>
                <a:lnTo>
                  <a:pt x="176431" y="64588"/>
                </a:lnTo>
                <a:lnTo>
                  <a:pt x="175731" y="70891"/>
                </a:lnTo>
                <a:lnTo>
                  <a:pt x="175264" y="77632"/>
                </a:lnTo>
                <a:lnTo>
                  <a:pt x="174952" y="84666"/>
                </a:lnTo>
                <a:lnTo>
                  <a:pt x="174607" y="99256"/>
                </a:lnTo>
                <a:lnTo>
                  <a:pt x="174453" y="114206"/>
                </a:lnTo>
                <a:lnTo>
                  <a:pt x="175259" y="120903"/>
                </a:lnTo>
                <a:lnTo>
                  <a:pt x="176643" y="127060"/>
                </a:lnTo>
                <a:lnTo>
                  <a:pt x="178412" y="132858"/>
                </a:lnTo>
                <a:lnTo>
                  <a:pt x="179592" y="139264"/>
                </a:lnTo>
                <a:lnTo>
                  <a:pt x="180378" y="146075"/>
                </a:lnTo>
                <a:lnTo>
                  <a:pt x="180902" y="153155"/>
                </a:lnTo>
                <a:lnTo>
                  <a:pt x="182098" y="159568"/>
                </a:lnTo>
                <a:lnTo>
                  <a:pt x="183742" y="165537"/>
                </a:lnTo>
                <a:lnTo>
                  <a:pt x="185685" y="171210"/>
                </a:lnTo>
                <a:lnTo>
                  <a:pt x="186979" y="176685"/>
                </a:lnTo>
                <a:lnTo>
                  <a:pt x="187843" y="182029"/>
                </a:lnTo>
                <a:lnTo>
                  <a:pt x="188419" y="187284"/>
                </a:lnTo>
                <a:lnTo>
                  <a:pt x="189649" y="192481"/>
                </a:lnTo>
                <a:lnTo>
                  <a:pt x="191317" y="197639"/>
                </a:lnTo>
                <a:lnTo>
                  <a:pt x="193274" y="202771"/>
                </a:lnTo>
                <a:lnTo>
                  <a:pt x="194580" y="207886"/>
                </a:lnTo>
                <a:lnTo>
                  <a:pt x="195450" y="212989"/>
                </a:lnTo>
                <a:lnTo>
                  <a:pt x="196030" y="218084"/>
                </a:lnTo>
                <a:lnTo>
                  <a:pt x="197263" y="222328"/>
                </a:lnTo>
                <a:lnTo>
                  <a:pt x="198932" y="226004"/>
                </a:lnTo>
                <a:lnTo>
                  <a:pt x="204811" y="2358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MARTInkAnnotation194"/>
          <p:cNvSpPr/>
          <p:nvPr/>
        </p:nvSpPr>
        <p:spPr>
          <a:xfrm>
            <a:off x="1249200" y="2803680"/>
            <a:ext cx="198720" cy="274320"/>
          </a:xfrm>
          <a:custGeom>
            <a:avLst/>
            <a:gdLst>
              <a:gd name="textAreaLeft" fmla="*/ 0 w 198720"/>
              <a:gd name="textAreaRight" fmla="*/ 199080 w 19872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198005" h="274310">
                <a:moveTo>
                  <a:pt x="0" y="38089"/>
                </a:moveTo>
                <a:lnTo>
                  <a:pt x="14652" y="38089"/>
                </a:lnTo>
                <a:lnTo>
                  <a:pt x="19081" y="37242"/>
                </a:lnTo>
                <a:lnTo>
                  <a:pt x="23727" y="35831"/>
                </a:lnTo>
                <a:lnTo>
                  <a:pt x="28518" y="34044"/>
                </a:lnTo>
                <a:lnTo>
                  <a:pt x="34252" y="32852"/>
                </a:lnTo>
                <a:lnTo>
                  <a:pt x="40615" y="32058"/>
                </a:lnTo>
                <a:lnTo>
                  <a:pt x="47397" y="31528"/>
                </a:lnTo>
                <a:lnTo>
                  <a:pt x="53611" y="30329"/>
                </a:lnTo>
                <a:lnTo>
                  <a:pt x="59447" y="28682"/>
                </a:lnTo>
                <a:lnTo>
                  <a:pt x="65032" y="26738"/>
                </a:lnTo>
                <a:lnTo>
                  <a:pt x="71295" y="25441"/>
                </a:lnTo>
                <a:lnTo>
                  <a:pt x="78009" y="24577"/>
                </a:lnTo>
                <a:lnTo>
                  <a:pt x="85027" y="24001"/>
                </a:lnTo>
                <a:lnTo>
                  <a:pt x="91398" y="22770"/>
                </a:lnTo>
                <a:lnTo>
                  <a:pt x="97338" y="21103"/>
                </a:lnTo>
                <a:lnTo>
                  <a:pt x="102992" y="19145"/>
                </a:lnTo>
                <a:lnTo>
                  <a:pt x="108455" y="17840"/>
                </a:lnTo>
                <a:lnTo>
                  <a:pt x="113790" y="16970"/>
                </a:lnTo>
                <a:lnTo>
                  <a:pt x="119040" y="16389"/>
                </a:lnTo>
                <a:lnTo>
                  <a:pt x="124234" y="15156"/>
                </a:lnTo>
                <a:lnTo>
                  <a:pt x="129389" y="13487"/>
                </a:lnTo>
                <a:lnTo>
                  <a:pt x="134519" y="11528"/>
                </a:lnTo>
                <a:lnTo>
                  <a:pt x="139633" y="9375"/>
                </a:lnTo>
                <a:lnTo>
                  <a:pt x="144735" y="7093"/>
                </a:lnTo>
                <a:lnTo>
                  <a:pt x="149830" y="4725"/>
                </a:lnTo>
                <a:lnTo>
                  <a:pt x="154920" y="3146"/>
                </a:lnTo>
                <a:lnTo>
                  <a:pt x="160007" y="2094"/>
                </a:lnTo>
                <a:lnTo>
                  <a:pt x="165091" y="1392"/>
                </a:lnTo>
                <a:lnTo>
                  <a:pt x="170174" y="925"/>
                </a:lnTo>
                <a:lnTo>
                  <a:pt x="175256" y="613"/>
                </a:lnTo>
                <a:lnTo>
                  <a:pt x="187489" y="112"/>
                </a:lnTo>
                <a:lnTo>
                  <a:pt x="196134" y="6"/>
                </a:lnTo>
                <a:lnTo>
                  <a:pt x="196797" y="0"/>
                </a:lnTo>
                <a:lnTo>
                  <a:pt x="197238" y="843"/>
                </a:lnTo>
                <a:lnTo>
                  <a:pt x="198004" y="6551"/>
                </a:lnTo>
                <a:lnTo>
                  <a:pt x="195811" y="11655"/>
                </a:lnTo>
                <a:lnTo>
                  <a:pt x="192860" y="18720"/>
                </a:lnTo>
                <a:lnTo>
                  <a:pt x="191549" y="24683"/>
                </a:lnTo>
                <a:lnTo>
                  <a:pt x="188709" y="32413"/>
                </a:lnTo>
                <a:lnTo>
                  <a:pt x="186766" y="36845"/>
                </a:lnTo>
                <a:lnTo>
                  <a:pt x="183777" y="41493"/>
                </a:lnTo>
                <a:lnTo>
                  <a:pt x="180091" y="46285"/>
                </a:lnTo>
                <a:lnTo>
                  <a:pt x="175941" y="51173"/>
                </a:lnTo>
                <a:lnTo>
                  <a:pt x="172327" y="56972"/>
                </a:lnTo>
                <a:lnTo>
                  <a:pt x="169072" y="63378"/>
                </a:lnTo>
                <a:lnTo>
                  <a:pt x="166054" y="70188"/>
                </a:lnTo>
                <a:lnTo>
                  <a:pt x="162350" y="77268"/>
                </a:lnTo>
                <a:lnTo>
                  <a:pt x="158187" y="84528"/>
                </a:lnTo>
                <a:lnTo>
                  <a:pt x="153718" y="91909"/>
                </a:lnTo>
                <a:lnTo>
                  <a:pt x="149045" y="98522"/>
                </a:lnTo>
                <a:lnTo>
                  <a:pt x="144237" y="104625"/>
                </a:lnTo>
                <a:lnTo>
                  <a:pt x="139338" y="110386"/>
                </a:lnTo>
                <a:lnTo>
                  <a:pt x="134379" y="117614"/>
                </a:lnTo>
                <a:lnTo>
                  <a:pt x="129379" y="125819"/>
                </a:lnTo>
                <a:lnTo>
                  <a:pt x="120155" y="142274"/>
                </a:lnTo>
                <a:lnTo>
                  <a:pt x="113234" y="155231"/>
                </a:lnTo>
                <a:lnTo>
                  <a:pt x="109356" y="161904"/>
                </a:lnTo>
                <a:lnTo>
                  <a:pt x="100531" y="176091"/>
                </a:lnTo>
                <a:lnTo>
                  <a:pt x="86044" y="198359"/>
                </a:lnTo>
                <a:lnTo>
                  <a:pt x="81915" y="205049"/>
                </a:lnTo>
                <a:lnTo>
                  <a:pt x="78317" y="211202"/>
                </a:lnTo>
                <a:lnTo>
                  <a:pt x="72061" y="222555"/>
                </a:lnTo>
                <a:lnTo>
                  <a:pt x="66458" y="233245"/>
                </a:lnTo>
                <a:lnTo>
                  <a:pt x="61146" y="241383"/>
                </a:lnTo>
                <a:lnTo>
                  <a:pt x="55963" y="248668"/>
                </a:lnTo>
                <a:lnTo>
                  <a:pt x="53395" y="252982"/>
                </a:lnTo>
                <a:lnTo>
                  <a:pt x="48285" y="261444"/>
                </a:lnTo>
                <a:lnTo>
                  <a:pt x="43191" y="268027"/>
                </a:lnTo>
                <a:lnTo>
                  <a:pt x="40648" y="270121"/>
                </a:lnTo>
                <a:lnTo>
                  <a:pt x="38105" y="271517"/>
                </a:lnTo>
                <a:lnTo>
                  <a:pt x="30480" y="27430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MARTInkAnnotation195"/>
          <p:cNvSpPr/>
          <p:nvPr/>
        </p:nvSpPr>
        <p:spPr>
          <a:xfrm>
            <a:off x="1241280" y="2979720"/>
            <a:ext cx="176400" cy="360"/>
          </a:xfrm>
          <a:custGeom>
            <a:avLst/>
            <a:gdLst>
              <a:gd name="textAreaLeft" fmla="*/ 0 w 176400"/>
              <a:gd name="textAreaRight" fmla="*/ 176760 w 1764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75261" h="1">
                <a:moveTo>
                  <a:pt x="0" y="0"/>
                </a:moveTo>
                <a:lnTo>
                  <a:pt x="17526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MARTInkAnnotation196"/>
          <p:cNvSpPr/>
          <p:nvPr/>
        </p:nvSpPr>
        <p:spPr>
          <a:xfrm>
            <a:off x="1440000" y="2963880"/>
            <a:ext cx="220680" cy="15840"/>
          </a:xfrm>
          <a:custGeom>
            <a:avLst/>
            <a:gdLst>
              <a:gd name="textAreaLeft" fmla="*/ 0 w 220680"/>
              <a:gd name="textAreaRight" fmla="*/ 221040 w 2206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20981" h="15241">
                <a:moveTo>
                  <a:pt x="0" y="0"/>
                </a:moveTo>
                <a:lnTo>
                  <a:pt x="76695" y="0"/>
                </a:lnTo>
                <a:lnTo>
                  <a:pt x="84150" y="847"/>
                </a:lnTo>
                <a:lnTo>
                  <a:pt x="91660" y="2258"/>
                </a:lnTo>
                <a:lnTo>
                  <a:pt x="99207" y="4045"/>
                </a:lnTo>
                <a:lnTo>
                  <a:pt x="107625" y="5237"/>
                </a:lnTo>
                <a:lnTo>
                  <a:pt x="116623" y="6032"/>
                </a:lnTo>
                <a:lnTo>
                  <a:pt x="126009" y="6561"/>
                </a:lnTo>
                <a:lnTo>
                  <a:pt x="143211" y="7149"/>
                </a:lnTo>
                <a:lnTo>
                  <a:pt x="170905" y="7527"/>
                </a:lnTo>
                <a:lnTo>
                  <a:pt x="176590" y="8405"/>
                </a:lnTo>
                <a:lnTo>
                  <a:pt x="182073" y="9837"/>
                </a:lnTo>
                <a:lnTo>
                  <a:pt x="187422" y="11638"/>
                </a:lnTo>
                <a:lnTo>
                  <a:pt x="192682" y="12839"/>
                </a:lnTo>
                <a:lnTo>
                  <a:pt x="197881" y="13639"/>
                </a:lnTo>
                <a:lnTo>
                  <a:pt x="203041" y="14173"/>
                </a:lnTo>
                <a:lnTo>
                  <a:pt x="207327" y="14529"/>
                </a:lnTo>
                <a:lnTo>
                  <a:pt x="211032" y="14766"/>
                </a:lnTo>
                <a:lnTo>
                  <a:pt x="220980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MARTInkAnnotation197"/>
          <p:cNvSpPr/>
          <p:nvPr/>
        </p:nvSpPr>
        <p:spPr>
          <a:xfrm>
            <a:off x="1749600" y="2865600"/>
            <a:ext cx="139680" cy="106200"/>
          </a:xfrm>
          <a:custGeom>
            <a:avLst/>
            <a:gdLst>
              <a:gd name="textAreaLeft" fmla="*/ 0 w 139680"/>
              <a:gd name="textAreaRight" fmla="*/ 140040 w 13968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41044" h="106235">
                <a:moveTo>
                  <a:pt x="72463" y="0"/>
                </a:moveTo>
                <a:lnTo>
                  <a:pt x="65902" y="0"/>
                </a:lnTo>
                <a:lnTo>
                  <a:pt x="65549" y="847"/>
                </a:lnTo>
                <a:lnTo>
                  <a:pt x="65157" y="4046"/>
                </a:lnTo>
                <a:lnTo>
                  <a:pt x="64206" y="6084"/>
                </a:lnTo>
                <a:lnTo>
                  <a:pt x="62725" y="8289"/>
                </a:lnTo>
                <a:lnTo>
                  <a:pt x="60891" y="10606"/>
                </a:lnTo>
                <a:lnTo>
                  <a:pt x="59668" y="12998"/>
                </a:lnTo>
                <a:lnTo>
                  <a:pt x="58853" y="15438"/>
                </a:lnTo>
                <a:lnTo>
                  <a:pt x="58310" y="17912"/>
                </a:lnTo>
                <a:lnTo>
                  <a:pt x="56254" y="20408"/>
                </a:lnTo>
                <a:lnTo>
                  <a:pt x="53191" y="22919"/>
                </a:lnTo>
                <a:lnTo>
                  <a:pt x="49455" y="25439"/>
                </a:lnTo>
                <a:lnTo>
                  <a:pt x="46118" y="27966"/>
                </a:lnTo>
                <a:lnTo>
                  <a:pt x="43046" y="30498"/>
                </a:lnTo>
                <a:lnTo>
                  <a:pt x="40152" y="33032"/>
                </a:lnTo>
                <a:lnTo>
                  <a:pt x="37375" y="36414"/>
                </a:lnTo>
                <a:lnTo>
                  <a:pt x="34678" y="40363"/>
                </a:lnTo>
                <a:lnTo>
                  <a:pt x="32033" y="44689"/>
                </a:lnTo>
                <a:lnTo>
                  <a:pt x="29423" y="48419"/>
                </a:lnTo>
                <a:lnTo>
                  <a:pt x="26836" y="51753"/>
                </a:lnTo>
                <a:lnTo>
                  <a:pt x="24265" y="54822"/>
                </a:lnTo>
                <a:lnTo>
                  <a:pt x="20858" y="57715"/>
                </a:lnTo>
                <a:lnTo>
                  <a:pt x="16893" y="60490"/>
                </a:lnTo>
                <a:lnTo>
                  <a:pt x="12556" y="63187"/>
                </a:lnTo>
                <a:lnTo>
                  <a:pt x="9665" y="65831"/>
                </a:lnTo>
                <a:lnTo>
                  <a:pt x="7738" y="68441"/>
                </a:lnTo>
                <a:lnTo>
                  <a:pt x="6453" y="71027"/>
                </a:lnTo>
                <a:lnTo>
                  <a:pt x="4750" y="73598"/>
                </a:lnTo>
                <a:lnTo>
                  <a:pt x="2768" y="76159"/>
                </a:lnTo>
                <a:lnTo>
                  <a:pt x="599" y="78712"/>
                </a:lnTo>
                <a:lnTo>
                  <a:pt x="0" y="81262"/>
                </a:lnTo>
                <a:lnTo>
                  <a:pt x="448" y="83808"/>
                </a:lnTo>
                <a:lnTo>
                  <a:pt x="1593" y="86352"/>
                </a:lnTo>
                <a:lnTo>
                  <a:pt x="3203" y="88894"/>
                </a:lnTo>
                <a:lnTo>
                  <a:pt x="5123" y="91437"/>
                </a:lnTo>
                <a:lnTo>
                  <a:pt x="7250" y="93978"/>
                </a:lnTo>
                <a:lnTo>
                  <a:pt x="9514" y="96519"/>
                </a:lnTo>
                <a:lnTo>
                  <a:pt x="14288" y="101599"/>
                </a:lnTo>
                <a:lnTo>
                  <a:pt x="18440" y="103293"/>
                </a:lnTo>
                <a:lnTo>
                  <a:pt x="23748" y="104422"/>
                </a:lnTo>
                <a:lnTo>
                  <a:pt x="29826" y="105174"/>
                </a:lnTo>
                <a:lnTo>
                  <a:pt x="35572" y="105676"/>
                </a:lnTo>
                <a:lnTo>
                  <a:pt x="41095" y="106011"/>
                </a:lnTo>
                <a:lnTo>
                  <a:pt x="46471" y="106234"/>
                </a:lnTo>
                <a:lnTo>
                  <a:pt x="52595" y="105536"/>
                </a:lnTo>
                <a:lnTo>
                  <a:pt x="59218" y="104224"/>
                </a:lnTo>
                <a:lnTo>
                  <a:pt x="66173" y="102503"/>
                </a:lnTo>
                <a:lnTo>
                  <a:pt x="73349" y="101355"/>
                </a:lnTo>
                <a:lnTo>
                  <a:pt x="80674" y="100590"/>
                </a:lnTo>
                <a:lnTo>
                  <a:pt x="88097" y="100080"/>
                </a:lnTo>
                <a:lnTo>
                  <a:pt x="96432" y="98893"/>
                </a:lnTo>
                <a:lnTo>
                  <a:pt x="105376" y="97256"/>
                </a:lnTo>
                <a:lnTo>
                  <a:pt x="114725" y="95317"/>
                </a:lnTo>
                <a:lnTo>
                  <a:pt x="121804" y="94025"/>
                </a:lnTo>
                <a:lnTo>
                  <a:pt x="127371" y="93163"/>
                </a:lnTo>
                <a:lnTo>
                  <a:pt x="141043" y="914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MARTInkAnnotation198"/>
          <p:cNvSpPr/>
          <p:nvPr/>
        </p:nvSpPr>
        <p:spPr>
          <a:xfrm>
            <a:off x="1889280" y="2857680"/>
            <a:ext cx="37800" cy="258480"/>
          </a:xfrm>
          <a:custGeom>
            <a:avLst/>
            <a:gdLst>
              <a:gd name="textAreaLeft" fmla="*/ 0 w 37800"/>
              <a:gd name="textAreaRight" fmla="*/ 38160 w 37800"/>
              <a:gd name="textAreaTop" fmla="*/ 0 h 258480"/>
              <a:gd name="textAreaBottom" fmla="*/ 258840 h 258480"/>
            </a:gdLst>
            <a:ahLst/>
            <a:rect l="textAreaLeft" t="textAreaTop" r="textAreaRight" b="textAreaBottom"/>
            <a:pathLst>
              <a:path w="38070" h="259081">
                <a:moveTo>
                  <a:pt x="38069" y="0"/>
                </a:moveTo>
                <a:lnTo>
                  <a:pt x="38069" y="21957"/>
                </a:lnTo>
                <a:lnTo>
                  <a:pt x="36376" y="26492"/>
                </a:lnTo>
                <a:lnTo>
                  <a:pt x="33553" y="31208"/>
                </a:lnTo>
                <a:lnTo>
                  <a:pt x="29979" y="36045"/>
                </a:lnTo>
                <a:lnTo>
                  <a:pt x="27595" y="40963"/>
                </a:lnTo>
                <a:lnTo>
                  <a:pt x="26007" y="45936"/>
                </a:lnTo>
                <a:lnTo>
                  <a:pt x="24947" y="50944"/>
                </a:lnTo>
                <a:lnTo>
                  <a:pt x="23395" y="55976"/>
                </a:lnTo>
                <a:lnTo>
                  <a:pt x="21513" y="61024"/>
                </a:lnTo>
                <a:lnTo>
                  <a:pt x="19411" y="66082"/>
                </a:lnTo>
                <a:lnTo>
                  <a:pt x="17164" y="71995"/>
                </a:lnTo>
                <a:lnTo>
                  <a:pt x="12409" y="85338"/>
                </a:lnTo>
                <a:lnTo>
                  <a:pt x="10802" y="92452"/>
                </a:lnTo>
                <a:lnTo>
                  <a:pt x="9731" y="99735"/>
                </a:lnTo>
                <a:lnTo>
                  <a:pt x="9017" y="107130"/>
                </a:lnTo>
                <a:lnTo>
                  <a:pt x="7695" y="114600"/>
                </a:lnTo>
                <a:lnTo>
                  <a:pt x="5966" y="122120"/>
                </a:lnTo>
                <a:lnTo>
                  <a:pt x="3967" y="129673"/>
                </a:lnTo>
                <a:lnTo>
                  <a:pt x="2634" y="137249"/>
                </a:lnTo>
                <a:lnTo>
                  <a:pt x="1746" y="144839"/>
                </a:lnTo>
                <a:lnTo>
                  <a:pt x="1154" y="152440"/>
                </a:lnTo>
                <a:lnTo>
                  <a:pt x="759" y="160893"/>
                </a:lnTo>
                <a:lnTo>
                  <a:pt x="320" y="179317"/>
                </a:lnTo>
                <a:lnTo>
                  <a:pt x="0" y="221726"/>
                </a:lnTo>
                <a:lnTo>
                  <a:pt x="836" y="228251"/>
                </a:lnTo>
                <a:lnTo>
                  <a:pt x="2240" y="234294"/>
                </a:lnTo>
                <a:lnTo>
                  <a:pt x="4023" y="240016"/>
                </a:lnTo>
                <a:lnTo>
                  <a:pt x="5212" y="244678"/>
                </a:lnTo>
                <a:lnTo>
                  <a:pt x="6004" y="248632"/>
                </a:lnTo>
                <a:lnTo>
                  <a:pt x="7589" y="2590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MARTInkAnnotation199"/>
          <p:cNvSpPr/>
          <p:nvPr/>
        </p:nvSpPr>
        <p:spPr>
          <a:xfrm>
            <a:off x="2835360" y="3070080"/>
            <a:ext cx="228600" cy="360"/>
          </a:xfrm>
          <a:custGeom>
            <a:avLst/>
            <a:gdLst>
              <a:gd name="textAreaLeft" fmla="*/ 0 w 228600"/>
              <a:gd name="textAreaRight" fmla="*/ 228960 w 2286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8601" h="1">
                <a:moveTo>
                  <a:pt x="0" y="0"/>
                </a:moveTo>
                <a:lnTo>
                  <a:pt x="22860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MARTInkAnnotation200"/>
          <p:cNvSpPr/>
          <p:nvPr/>
        </p:nvSpPr>
        <p:spPr>
          <a:xfrm>
            <a:off x="3170160" y="2955960"/>
            <a:ext cx="204840" cy="228600"/>
          </a:xfrm>
          <a:custGeom>
            <a:avLst/>
            <a:gdLst>
              <a:gd name="textAreaLeft" fmla="*/ 0 w 204840"/>
              <a:gd name="textAreaRight" fmla="*/ 205200 w 2048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05225" h="228275">
                <a:moveTo>
                  <a:pt x="15240" y="38099"/>
                </a:moveTo>
                <a:lnTo>
                  <a:pt x="21801" y="38099"/>
                </a:lnTo>
                <a:lnTo>
                  <a:pt x="22154" y="37253"/>
                </a:lnTo>
                <a:lnTo>
                  <a:pt x="22546" y="34054"/>
                </a:lnTo>
                <a:lnTo>
                  <a:pt x="23497" y="32862"/>
                </a:lnTo>
                <a:lnTo>
                  <a:pt x="24979" y="32068"/>
                </a:lnTo>
                <a:lnTo>
                  <a:pt x="26813" y="31538"/>
                </a:lnTo>
                <a:lnTo>
                  <a:pt x="28035" y="30339"/>
                </a:lnTo>
                <a:lnTo>
                  <a:pt x="28850" y="28692"/>
                </a:lnTo>
                <a:lnTo>
                  <a:pt x="29393" y="26748"/>
                </a:lnTo>
                <a:lnTo>
                  <a:pt x="32255" y="22330"/>
                </a:lnTo>
                <a:lnTo>
                  <a:pt x="34203" y="19966"/>
                </a:lnTo>
                <a:lnTo>
                  <a:pt x="36349" y="18391"/>
                </a:lnTo>
                <a:lnTo>
                  <a:pt x="40991" y="16640"/>
                </a:lnTo>
                <a:lnTo>
                  <a:pt x="44261" y="15326"/>
                </a:lnTo>
                <a:lnTo>
                  <a:pt x="48134" y="13604"/>
                </a:lnTo>
                <a:lnTo>
                  <a:pt x="52409" y="11609"/>
                </a:lnTo>
                <a:lnTo>
                  <a:pt x="56106" y="10279"/>
                </a:lnTo>
                <a:lnTo>
                  <a:pt x="67048" y="7561"/>
                </a:lnTo>
                <a:lnTo>
                  <a:pt x="78906" y="3925"/>
                </a:lnTo>
                <a:lnTo>
                  <a:pt x="84777" y="2616"/>
                </a:lnTo>
                <a:lnTo>
                  <a:pt x="90385" y="1744"/>
                </a:lnTo>
                <a:lnTo>
                  <a:pt x="95817" y="1162"/>
                </a:lnTo>
                <a:lnTo>
                  <a:pt x="101978" y="775"/>
                </a:lnTo>
                <a:lnTo>
                  <a:pt x="108625" y="516"/>
                </a:lnTo>
                <a:lnTo>
                  <a:pt x="127859" y="153"/>
                </a:lnTo>
                <a:lnTo>
                  <a:pt x="187702" y="0"/>
                </a:lnTo>
                <a:lnTo>
                  <a:pt x="189482" y="846"/>
                </a:lnTo>
                <a:lnTo>
                  <a:pt x="193716" y="4045"/>
                </a:lnTo>
                <a:lnTo>
                  <a:pt x="195184" y="6083"/>
                </a:lnTo>
                <a:lnTo>
                  <a:pt x="196815" y="10606"/>
                </a:lnTo>
                <a:lnTo>
                  <a:pt x="196404" y="12150"/>
                </a:lnTo>
                <a:lnTo>
                  <a:pt x="195283" y="13180"/>
                </a:lnTo>
                <a:lnTo>
                  <a:pt x="190933" y="15170"/>
                </a:lnTo>
                <a:lnTo>
                  <a:pt x="169568" y="25725"/>
                </a:lnTo>
                <a:lnTo>
                  <a:pt x="163846" y="29003"/>
                </a:lnTo>
                <a:lnTo>
                  <a:pt x="157490" y="32882"/>
                </a:lnTo>
                <a:lnTo>
                  <a:pt x="150714" y="37161"/>
                </a:lnTo>
                <a:lnTo>
                  <a:pt x="143656" y="40860"/>
                </a:lnTo>
                <a:lnTo>
                  <a:pt x="136410" y="44173"/>
                </a:lnTo>
                <a:lnTo>
                  <a:pt x="129041" y="47229"/>
                </a:lnTo>
                <a:lnTo>
                  <a:pt x="121587" y="50112"/>
                </a:lnTo>
                <a:lnTo>
                  <a:pt x="106532" y="55574"/>
                </a:lnTo>
                <a:lnTo>
                  <a:pt x="99808" y="59062"/>
                </a:lnTo>
                <a:lnTo>
                  <a:pt x="93632" y="63081"/>
                </a:lnTo>
                <a:lnTo>
                  <a:pt x="87821" y="67454"/>
                </a:lnTo>
                <a:lnTo>
                  <a:pt x="82254" y="71216"/>
                </a:lnTo>
                <a:lnTo>
                  <a:pt x="76849" y="74570"/>
                </a:lnTo>
                <a:lnTo>
                  <a:pt x="71553" y="77653"/>
                </a:lnTo>
                <a:lnTo>
                  <a:pt x="67176" y="80555"/>
                </a:lnTo>
                <a:lnTo>
                  <a:pt x="63410" y="83337"/>
                </a:lnTo>
                <a:lnTo>
                  <a:pt x="60054" y="86037"/>
                </a:lnTo>
                <a:lnTo>
                  <a:pt x="57816" y="88685"/>
                </a:lnTo>
                <a:lnTo>
                  <a:pt x="56324" y="91296"/>
                </a:lnTo>
                <a:lnTo>
                  <a:pt x="55329" y="93884"/>
                </a:lnTo>
                <a:lnTo>
                  <a:pt x="54666" y="97303"/>
                </a:lnTo>
                <a:lnTo>
                  <a:pt x="54224" y="101275"/>
                </a:lnTo>
                <a:lnTo>
                  <a:pt x="53930" y="105616"/>
                </a:lnTo>
                <a:lnTo>
                  <a:pt x="55427" y="109357"/>
                </a:lnTo>
                <a:lnTo>
                  <a:pt x="58118" y="112698"/>
                </a:lnTo>
                <a:lnTo>
                  <a:pt x="61605" y="115772"/>
                </a:lnTo>
                <a:lnTo>
                  <a:pt x="65624" y="118668"/>
                </a:lnTo>
                <a:lnTo>
                  <a:pt x="69996" y="121445"/>
                </a:lnTo>
                <a:lnTo>
                  <a:pt x="74604" y="124143"/>
                </a:lnTo>
                <a:lnTo>
                  <a:pt x="79369" y="126788"/>
                </a:lnTo>
                <a:lnTo>
                  <a:pt x="89180" y="131986"/>
                </a:lnTo>
                <a:lnTo>
                  <a:pt x="95860" y="134557"/>
                </a:lnTo>
                <a:lnTo>
                  <a:pt x="103700" y="137118"/>
                </a:lnTo>
                <a:lnTo>
                  <a:pt x="120596" y="142221"/>
                </a:lnTo>
                <a:lnTo>
                  <a:pt x="136572" y="147311"/>
                </a:lnTo>
                <a:lnTo>
                  <a:pt x="143541" y="149854"/>
                </a:lnTo>
                <a:lnTo>
                  <a:pt x="149881" y="152396"/>
                </a:lnTo>
                <a:lnTo>
                  <a:pt x="155801" y="154937"/>
                </a:lnTo>
                <a:lnTo>
                  <a:pt x="162287" y="157478"/>
                </a:lnTo>
                <a:lnTo>
                  <a:pt x="176268" y="162559"/>
                </a:lnTo>
                <a:lnTo>
                  <a:pt x="181859" y="165099"/>
                </a:lnTo>
                <a:lnTo>
                  <a:pt x="186433" y="167639"/>
                </a:lnTo>
                <a:lnTo>
                  <a:pt x="190329" y="170179"/>
                </a:lnTo>
                <a:lnTo>
                  <a:pt x="193773" y="172719"/>
                </a:lnTo>
                <a:lnTo>
                  <a:pt x="199857" y="177799"/>
                </a:lnTo>
                <a:lnTo>
                  <a:pt x="201818" y="180339"/>
                </a:lnTo>
                <a:lnTo>
                  <a:pt x="203997" y="185420"/>
                </a:lnTo>
                <a:lnTo>
                  <a:pt x="204965" y="190499"/>
                </a:lnTo>
                <a:lnTo>
                  <a:pt x="205224" y="193039"/>
                </a:lnTo>
                <a:lnTo>
                  <a:pt x="204549" y="195579"/>
                </a:lnTo>
                <a:lnTo>
                  <a:pt x="201542" y="200659"/>
                </a:lnTo>
                <a:lnTo>
                  <a:pt x="198708" y="203199"/>
                </a:lnTo>
                <a:lnTo>
                  <a:pt x="195125" y="205739"/>
                </a:lnTo>
                <a:lnTo>
                  <a:pt x="191044" y="208280"/>
                </a:lnTo>
                <a:lnTo>
                  <a:pt x="186629" y="210819"/>
                </a:lnTo>
                <a:lnTo>
                  <a:pt x="177209" y="215899"/>
                </a:lnTo>
                <a:lnTo>
                  <a:pt x="171479" y="217593"/>
                </a:lnTo>
                <a:lnTo>
                  <a:pt x="165119" y="218721"/>
                </a:lnTo>
                <a:lnTo>
                  <a:pt x="158340" y="219474"/>
                </a:lnTo>
                <a:lnTo>
                  <a:pt x="151280" y="219976"/>
                </a:lnTo>
                <a:lnTo>
                  <a:pt x="144033" y="220310"/>
                </a:lnTo>
                <a:lnTo>
                  <a:pt x="136662" y="220533"/>
                </a:lnTo>
                <a:lnTo>
                  <a:pt x="129208" y="221529"/>
                </a:lnTo>
                <a:lnTo>
                  <a:pt x="121699" y="223039"/>
                </a:lnTo>
                <a:lnTo>
                  <a:pt x="114153" y="224892"/>
                </a:lnTo>
                <a:lnTo>
                  <a:pt x="106582" y="226128"/>
                </a:lnTo>
                <a:lnTo>
                  <a:pt x="98995" y="226952"/>
                </a:lnTo>
                <a:lnTo>
                  <a:pt x="91397" y="227501"/>
                </a:lnTo>
                <a:lnTo>
                  <a:pt x="83791" y="227867"/>
                </a:lnTo>
                <a:lnTo>
                  <a:pt x="68567" y="228274"/>
                </a:lnTo>
                <a:lnTo>
                  <a:pt x="61798" y="227536"/>
                </a:lnTo>
                <a:lnTo>
                  <a:pt x="55592" y="226197"/>
                </a:lnTo>
                <a:lnTo>
                  <a:pt x="49761" y="224458"/>
                </a:lnTo>
                <a:lnTo>
                  <a:pt x="43334" y="223298"/>
                </a:lnTo>
                <a:lnTo>
                  <a:pt x="36510" y="222525"/>
                </a:lnTo>
                <a:lnTo>
                  <a:pt x="23847" y="221666"/>
                </a:lnTo>
                <a:lnTo>
                  <a:pt x="15397" y="221285"/>
                </a:lnTo>
                <a:lnTo>
                  <a:pt x="8819" y="221115"/>
                </a:lnTo>
                <a:lnTo>
                  <a:pt x="5879" y="221070"/>
                </a:lnTo>
                <a:lnTo>
                  <a:pt x="3920" y="220193"/>
                </a:lnTo>
                <a:lnTo>
                  <a:pt x="2613" y="218762"/>
                </a:lnTo>
                <a:lnTo>
                  <a:pt x="0" y="2133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MARTInkAnnotation201"/>
          <p:cNvSpPr/>
          <p:nvPr/>
        </p:nvSpPr>
        <p:spPr>
          <a:xfrm>
            <a:off x="3581280" y="2903400"/>
            <a:ext cx="60480" cy="258840"/>
          </a:xfrm>
          <a:custGeom>
            <a:avLst/>
            <a:gdLst>
              <a:gd name="textAreaLeft" fmla="*/ 0 w 60480"/>
              <a:gd name="textAreaRight" fmla="*/ 60840 w 604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60860" h="259053">
                <a:moveTo>
                  <a:pt x="30480" y="7592"/>
                </a:moveTo>
                <a:lnTo>
                  <a:pt x="34525" y="7592"/>
                </a:lnTo>
                <a:lnTo>
                  <a:pt x="35717" y="6746"/>
                </a:lnTo>
                <a:lnTo>
                  <a:pt x="36511" y="5334"/>
                </a:lnTo>
                <a:lnTo>
                  <a:pt x="37042" y="3547"/>
                </a:lnTo>
                <a:lnTo>
                  <a:pt x="38241" y="2355"/>
                </a:lnTo>
                <a:lnTo>
                  <a:pt x="39888" y="1561"/>
                </a:lnTo>
                <a:lnTo>
                  <a:pt x="44569" y="286"/>
                </a:lnTo>
                <a:lnTo>
                  <a:pt x="45799" y="182"/>
                </a:lnTo>
                <a:lnTo>
                  <a:pt x="47466" y="112"/>
                </a:lnTo>
                <a:lnTo>
                  <a:pt x="52180" y="0"/>
                </a:lnTo>
                <a:lnTo>
                  <a:pt x="53413" y="837"/>
                </a:lnTo>
                <a:lnTo>
                  <a:pt x="55082" y="2242"/>
                </a:lnTo>
                <a:lnTo>
                  <a:pt x="57042" y="4026"/>
                </a:lnTo>
                <a:lnTo>
                  <a:pt x="58348" y="6061"/>
                </a:lnTo>
                <a:lnTo>
                  <a:pt x="59799" y="10581"/>
                </a:lnTo>
                <a:lnTo>
                  <a:pt x="60445" y="17669"/>
                </a:lnTo>
                <a:lnTo>
                  <a:pt x="60616" y="21930"/>
                </a:lnTo>
                <a:lnTo>
                  <a:pt x="60808" y="31180"/>
                </a:lnTo>
                <a:lnTo>
                  <a:pt x="60859" y="36017"/>
                </a:lnTo>
                <a:lnTo>
                  <a:pt x="60046" y="41782"/>
                </a:lnTo>
                <a:lnTo>
                  <a:pt x="58657" y="48165"/>
                </a:lnTo>
                <a:lnTo>
                  <a:pt x="56885" y="54961"/>
                </a:lnTo>
                <a:lnTo>
                  <a:pt x="54857" y="62031"/>
                </a:lnTo>
                <a:lnTo>
                  <a:pt x="50345" y="76661"/>
                </a:lnTo>
                <a:lnTo>
                  <a:pt x="20317" y="167616"/>
                </a:lnTo>
                <a:lnTo>
                  <a:pt x="18625" y="175235"/>
                </a:lnTo>
                <a:lnTo>
                  <a:pt x="17497" y="182854"/>
                </a:lnTo>
                <a:lnTo>
                  <a:pt x="16745" y="190473"/>
                </a:lnTo>
                <a:lnTo>
                  <a:pt x="15396" y="197246"/>
                </a:lnTo>
                <a:lnTo>
                  <a:pt x="13651" y="203455"/>
                </a:lnTo>
                <a:lnTo>
                  <a:pt x="11641" y="209287"/>
                </a:lnTo>
                <a:lnTo>
                  <a:pt x="9454" y="214869"/>
                </a:lnTo>
                <a:lnTo>
                  <a:pt x="7150" y="220283"/>
                </a:lnTo>
                <a:lnTo>
                  <a:pt x="4767" y="225586"/>
                </a:lnTo>
                <a:lnTo>
                  <a:pt x="3178" y="229968"/>
                </a:lnTo>
                <a:lnTo>
                  <a:pt x="1412" y="237095"/>
                </a:lnTo>
                <a:lnTo>
                  <a:pt x="628" y="243084"/>
                </a:lnTo>
                <a:lnTo>
                  <a:pt x="279" y="248569"/>
                </a:lnTo>
                <a:lnTo>
                  <a:pt x="0" y="25905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MARTInkAnnotation202"/>
          <p:cNvSpPr/>
          <p:nvPr/>
        </p:nvSpPr>
        <p:spPr>
          <a:xfrm>
            <a:off x="3521160" y="3040200"/>
            <a:ext cx="250920" cy="23760"/>
          </a:xfrm>
          <a:custGeom>
            <a:avLst/>
            <a:gdLst>
              <a:gd name="textAreaLeft" fmla="*/ 0 w 250920"/>
              <a:gd name="textAreaRight" fmla="*/ 251280 w 2509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51461" h="22861">
                <a:moveTo>
                  <a:pt x="0" y="22860"/>
                </a:moveTo>
                <a:lnTo>
                  <a:pt x="4044" y="22860"/>
                </a:lnTo>
                <a:lnTo>
                  <a:pt x="5237" y="22014"/>
                </a:lnTo>
                <a:lnTo>
                  <a:pt x="6031" y="20602"/>
                </a:lnTo>
                <a:lnTo>
                  <a:pt x="6561" y="18815"/>
                </a:lnTo>
                <a:lnTo>
                  <a:pt x="8607" y="17623"/>
                </a:lnTo>
                <a:lnTo>
                  <a:pt x="11665" y="16829"/>
                </a:lnTo>
                <a:lnTo>
                  <a:pt x="15397" y="16299"/>
                </a:lnTo>
                <a:lnTo>
                  <a:pt x="20424" y="15946"/>
                </a:lnTo>
                <a:lnTo>
                  <a:pt x="26316" y="15711"/>
                </a:lnTo>
                <a:lnTo>
                  <a:pt x="40482" y="15450"/>
                </a:lnTo>
                <a:lnTo>
                  <a:pt x="117031" y="15248"/>
                </a:lnTo>
                <a:lnTo>
                  <a:pt x="127128" y="14399"/>
                </a:lnTo>
                <a:lnTo>
                  <a:pt x="137245" y="12986"/>
                </a:lnTo>
                <a:lnTo>
                  <a:pt x="147377" y="11197"/>
                </a:lnTo>
                <a:lnTo>
                  <a:pt x="157518" y="10005"/>
                </a:lnTo>
                <a:lnTo>
                  <a:pt x="167665" y="9210"/>
                </a:lnTo>
                <a:lnTo>
                  <a:pt x="177816" y="8680"/>
                </a:lnTo>
                <a:lnTo>
                  <a:pt x="195870" y="8091"/>
                </a:lnTo>
                <a:lnTo>
                  <a:pt x="224110" y="7713"/>
                </a:lnTo>
                <a:lnTo>
                  <a:pt x="228993" y="6835"/>
                </a:lnTo>
                <a:lnTo>
                  <a:pt x="233096" y="5403"/>
                </a:lnTo>
                <a:lnTo>
                  <a:pt x="236677" y="3602"/>
                </a:lnTo>
                <a:lnTo>
                  <a:pt x="239911" y="2402"/>
                </a:lnTo>
                <a:lnTo>
                  <a:pt x="242914" y="1601"/>
                </a:lnTo>
                <a:lnTo>
                  <a:pt x="25146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MARTInkAnnotation203"/>
          <p:cNvSpPr/>
          <p:nvPr/>
        </p:nvSpPr>
        <p:spPr>
          <a:xfrm>
            <a:off x="3946680" y="2887560"/>
            <a:ext cx="266400" cy="236520"/>
          </a:xfrm>
          <a:custGeom>
            <a:avLst/>
            <a:gdLst>
              <a:gd name="textAreaLeft" fmla="*/ 0 w 266400"/>
              <a:gd name="textAreaRight" fmla="*/ 266760 w 2664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66673" h="236171">
                <a:moveTo>
                  <a:pt x="7592" y="114261"/>
                </a:moveTo>
                <a:lnTo>
                  <a:pt x="3548" y="114261"/>
                </a:lnTo>
                <a:lnTo>
                  <a:pt x="2355" y="113414"/>
                </a:lnTo>
                <a:lnTo>
                  <a:pt x="1561" y="112003"/>
                </a:lnTo>
                <a:lnTo>
                  <a:pt x="66" y="106955"/>
                </a:lnTo>
                <a:lnTo>
                  <a:pt x="0" y="102689"/>
                </a:lnTo>
                <a:lnTo>
                  <a:pt x="838" y="100620"/>
                </a:lnTo>
                <a:lnTo>
                  <a:pt x="6061" y="92816"/>
                </a:lnTo>
                <a:lnTo>
                  <a:pt x="8265" y="88958"/>
                </a:lnTo>
                <a:lnTo>
                  <a:pt x="10580" y="84692"/>
                </a:lnTo>
                <a:lnTo>
                  <a:pt x="13154" y="77695"/>
                </a:lnTo>
                <a:lnTo>
                  <a:pt x="13840" y="74643"/>
                </a:lnTo>
                <a:lnTo>
                  <a:pt x="15991" y="70916"/>
                </a:lnTo>
                <a:lnTo>
                  <a:pt x="19118" y="66738"/>
                </a:lnTo>
                <a:lnTo>
                  <a:pt x="22896" y="62259"/>
                </a:lnTo>
                <a:lnTo>
                  <a:pt x="29352" y="55025"/>
                </a:lnTo>
                <a:lnTo>
                  <a:pt x="35043" y="48140"/>
                </a:lnTo>
                <a:lnTo>
                  <a:pt x="37746" y="43934"/>
                </a:lnTo>
                <a:lnTo>
                  <a:pt x="40395" y="39436"/>
                </a:lnTo>
                <a:lnTo>
                  <a:pt x="47853" y="32181"/>
                </a:lnTo>
                <a:lnTo>
                  <a:pt x="55966" y="26135"/>
                </a:lnTo>
                <a:lnTo>
                  <a:pt x="62394" y="20625"/>
                </a:lnTo>
                <a:lnTo>
                  <a:pt x="66987" y="17970"/>
                </a:lnTo>
                <a:lnTo>
                  <a:pt x="72589" y="15354"/>
                </a:lnTo>
                <a:lnTo>
                  <a:pt x="78864" y="12763"/>
                </a:lnTo>
                <a:lnTo>
                  <a:pt x="83892" y="10189"/>
                </a:lnTo>
                <a:lnTo>
                  <a:pt x="91739" y="5071"/>
                </a:lnTo>
                <a:lnTo>
                  <a:pt x="98048" y="2233"/>
                </a:lnTo>
                <a:lnTo>
                  <a:pt x="104522" y="971"/>
                </a:lnTo>
                <a:lnTo>
                  <a:pt x="108618" y="634"/>
                </a:lnTo>
                <a:lnTo>
                  <a:pt x="116839" y="260"/>
                </a:lnTo>
                <a:lnTo>
                  <a:pt x="123315" y="94"/>
                </a:lnTo>
                <a:lnTo>
                  <a:pt x="131721" y="0"/>
                </a:lnTo>
                <a:lnTo>
                  <a:pt x="134372" y="834"/>
                </a:lnTo>
                <a:lnTo>
                  <a:pt x="139574" y="4018"/>
                </a:lnTo>
                <a:lnTo>
                  <a:pt x="141300" y="6052"/>
                </a:lnTo>
                <a:lnTo>
                  <a:pt x="142451" y="8256"/>
                </a:lnTo>
                <a:lnTo>
                  <a:pt x="143729" y="12961"/>
                </a:lnTo>
                <a:lnTo>
                  <a:pt x="144298" y="17874"/>
                </a:lnTo>
                <a:lnTo>
                  <a:pt x="144550" y="22880"/>
                </a:lnTo>
                <a:lnTo>
                  <a:pt x="144662" y="28774"/>
                </a:lnTo>
                <a:lnTo>
                  <a:pt x="144712" y="37038"/>
                </a:lnTo>
                <a:lnTo>
                  <a:pt x="143879" y="41612"/>
                </a:lnTo>
                <a:lnTo>
                  <a:pt x="142477" y="46356"/>
                </a:lnTo>
                <a:lnTo>
                  <a:pt x="138661" y="56987"/>
                </a:lnTo>
                <a:lnTo>
                  <a:pt x="134142" y="70180"/>
                </a:lnTo>
                <a:lnTo>
                  <a:pt x="131753" y="76407"/>
                </a:lnTo>
                <a:lnTo>
                  <a:pt x="129313" y="82252"/>
                </a:lnTo>
                <a:lnTo>
                  <a:pt x="126839" y="87841"/>
                </a:lnTo>
                <a:lnTo>
                  <a:pt x="123496" y="94108"/>
                </a:lnTo>
                <a:lnTo>
                  <a:pt x="119575" y="100826"/>
                </a:lnTo>
                <a:lnTo>
                  <a:pt x="115267" y="107844"/>
                </a:lnTo>
                <a:lnTo>
                  <a:pt x="111549" y="114217"/>
                </a:lnTo>
                <a:lnTo>
                  <a:pt x="105160" y="125812"/>
                </a:lnTo>
                <a:lnTo>
                  <a:pt x="101424" y="132122"/>
                </a:lnTo>
                <a:lnTo>
                  <a:pt x="92757" y="145906"/>
                </a:lnTo>
                <a:lnTo>
                  <a:pt x="88075" y="152291"/>
                </a:lnTo>
                <a:lnTo>
                  <a:pt x="83262" y="158241"/>
                </a:lnTo>
                <a:lnTo>
                  <a:pt x="78358" y="163901"/>
                </a:lnTo>
                <a:lnTo>
                  <a:pt x="74243" y="169368"/>
                </a:lnTo>
                <a:lnTo>
                  <a:pt x="70652" y="174705"/>
                </a:lnTo>
                <a:lnTo>
                  <a:pt x="67413" y="179957"/>
                </a:lnTo>
                <a:lnTo>
                  <a:pt x="64406" y="184305"/>
                </a:lnTo>
                <a:lnTo>
                  <a:pt x="58807" y="191394"/>
                </a:lnTo>
                <a:lnTo>
                  <a:pt x="53496" y="197367"/>
                </a:lnTo>
                <a:lnTo>
                  <a:pt x="48314" y="202844"/>
                </a:lnTo>
                <a:lnTo>
                  <a:pt x="43189" y="208100"/>
                </a:lnTo>
                <a:lnTo>
                  <a:pt x="41483" y="210687"/>
                </a:lnTo>
                <a:lnTo>
                  <a:pt x="39588" y="215819"/>
                </a:lnTo>
                <a:lnTo>
                  <a:pt x="38746" y="220923"/>
                </a:lnTo>
                <a:lnTo>
                  <a:pt x="38371" y="226013"/>
                </a:lnTo>
                <a:lnTo>
                  <a:pt x="38206" y="231097"/>
                </a:lnTo>
                <a:lnTo>
                  <a:pt x="39007" y="232792"/>
                </a:lnTo>
                <a:lnTo>
                  <a:pt x="40389" y="233922"/>
                </a:lnTo>
                <a:lnTo>
                  <a:pt x="42156" y="234675"/>
                </a:lnTo>
                <a:lnTo>
                  <a:pt x="48690" y="235735"/>
                </a:lnTo>
                <a:lnTo>
                  <a:pt x="52771" y="235884"/>
                </a:lnTo>
                <a:lnTo>
                  <a:pt x="70650" y="236093"/>
                </a:lnTo>
                <a:lnTo>
                  <a:pt x="106928" y="236170"/>
                </a:lnTo>
                <a:lnTo>
                  <a:pt x="115303" y="235327"/>
                </a:lnTo>
                <a:lnTo>
                  <a:pt x="124273" y="233918"/>
                </a:lnTo>
                <a:lnTo>
                  <a:pt x="133639" y="232133"/>
                </a:lnTo>
                <a:lnTo>
                  <a:pt x="143270" y="230942"/>
                </a:lnTo>
                <a:lnTo>
                  <a:pt x="153078" y="230149"/>
                </a:lnTo>
                <a:lnTo>
                  <a:pt x="163002" y="229619"/>
                </a:lnTo>
                <a:lnTo>
                  <a:pt x="183061" y="229031"/>
                </a:lnTo>
                <a:lnTo>
                  <a:pt x="248312" y="228573"/>
                </a:lnTo>
                <a:lnTo>
                  <a:pt x="266672" y="22856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MARTInkAnnotation204"/>
          <p:cNvSpPr/>
          <p:nvPr/>
        </p:nvSpPr>
        <p:spPr>
          <a:xfrm>
            <a:off x="4327560" y="2193840"/>
            <a:ext cx="442800" cy="1082880"/>
          </a:xfrm>
          <a:custGeom>
            <a:avLst/>
            <a:gdLst>
              <a:gd name="textAreaLeft" fmla="*/ 0 w 442800"/>
              <a:gd name="textAreaRight" fmla="*/ 443160 w 442800"/>
              <a:gd name="textAreaTop" fmla="*/ 0 h 1082880"/>
              <a:gd name="textAreaBottom" fmla="*/ 1083240 h 1082880"/>
            </a:gdLst>
            <a:ahLst/>
            <a:rect l="textAreaLeft" t="textAreaTop" r="textAreaRight" b="textAreaBottom"/>
            <a:pathLst>
              <a:path w="441961" h="1082037">
                <a:moveTo>
                  <a:pt x="106680" y="38096"/>
                </a:moveTo>
                <a:lnTo>
                  <a:pt x="137714" y="38096"/>
                </a:lnTo>
                <a:lnTo>
                  <a:pt x="150671" y="35838"/>
                </a:lnTo>
                <a:lnTo>
                  <a:pt x="167718" y="32013"/>
                </a:lnTo>
                <a:lnTo>
                  <a:pt x="197203" y="25099"/>
                </a:lnTo>
                <a:lnTo>
                  <a:pt x="220290" y="20184"/>
                </a:lnTo>
                <a:lnTo>
                  <a:pt x="231527" y="18535"/>
                </a:lnTo>
                <a:lnTo>
                  <a:pt x="242404" y="17435"/>
                </a:lnTo>
                <a:lnTo>
                  <a:pt x="253043" y="16702"/>
                </a:lnTo>
                <a:lnTo>
                  <a:pt x="263522" y="15367"/>
                </a:lnTo>
                <a:lnTo>
                  <a:pt x="273894" y="13630"/>
                </a:lnTo>
                <a:lnTo>
                  <a:pt x="284196" y="11626"/>
                </a:lnTo>
                <a:lnTo>
                  <a:pt x="304673" y="7140"/>
                </a:lnTo>
                <a:lnTo>
                  <a:pt x="314876" y="4759"/>
                </a:lnTo>
                <a:lnTo>
                  <a:pt x="324217" y="3171"/>
                </a:lnTo>
                <a:lnTo>
                  <a:pt x="332985" y="2113"/>
                </a:lnTo>
                <a:lnTo>
                  <a:pt x="341370" y="1408"/>
                </a:lnTo>
                <a:lnTo>
                  <a:pt x="349500" y="937"/>
                </a:lnTo>
                <a:lnTo>
                  <a:pt x="365307" y="414"/>
                </a:lnTo>
                <a:lnTo>
                  <a:pt x="403350" y="33"/>
                </a:lnTo>
                <a:lnTo>
                  <a:pt x="421372" y="0"/>
                </a:lnTo>
                <a:lnTo>
                  <a:pt x="423155" y="845"/>
                </a:lnTo>
                <a:lnTo>
                  <a:pt x="424343" y="2255"/>
                </a:lnTo>
                <a:lnTo>
                  <a:pt x="425136" y="4042"/>
                </a:lnTo>
                <a:lnTo>
                  <a:pt x="426016" y="8285"/>
                </a:lnTo>
                <a:lnTo>
                  <a:pt x="426702" y="38783"/>
                </a:lnTo>
                <a:lnTo>
                  <a:pt x="426708" y="43634"/>
                </a:lnTo>
                <a:lnTo>
                  <a:pt x="424457" y="53540"/>
                </a:lnTo>
                <a:lnTo>
                  <a:pt x="413722" y="85693"/>
                </a:lnTo>
                <a:lnTo>
                  <a:pt x="406311" y="113065"/>
                </a:lnTo>
                <a:lnTo>
                  <a:pt x="397907" y="141777"/>
                </a:lnTo>
                <a:lnTo>
                  <a:pt x="385916" y="167594"/>
                </a:lnTo>
                <a:lnTo>
                  <a:pt x="379516" y="186527"/>
                </a:lnTo>
                <a:lnTo>
                  <a:pt x="375198" y="220270"/>
                </a:lnTo>
                <a:lnTo>
                  <a:pt x="373918" y="253034"/>
                </a:lnTo>
                <a:lnTo>
                  <a:pt x="371361" y="276147"/>
                </a:lnTo>
                <a:lnTo>
                  <a:pt x="369096" y="299683"/>
                </a:lnTo>
                <a:lnTo>
                  <a:pt x="370912" y="321433"/>
                </a:lnTo>
                <a:lnTo>
                  <a:pt x="372283" y="346903"/>
                </a:lnTo>
                <a:lnTo>
                  <a:pt x="373055" y="385288"/>
                </a:lnTo>
                <a:lnTo>
                  <a:pt x="373379" y="546118"/>
                </a:lnTo>
                <a:lnTo>
                  <a:pt x="375637" y="571506"/>
                </a:lnTo>
                <a:lnTo>
                  <a:pt x="378617" y="596900"/>
                </a:lnTo>
                <a:lnTo>
                  <a:pt x="379941" y="622298"/>
                </a:lnTo>
                <a:lnTo>
                  <a:pt x="382787" y="647697"/>
                </a:lnTo>
                <a:lnTo>
                  <a:pt x="386027" y="672250"/>
                </a:lnTo>
                <a:lnTo>
                  <a:pt x="387852" y="705959"/>
                </a:lnTo>
                <a:lnTo>
                  <a:pt x="388278" y="730036"/>
                </a:lnTo>
                <a:lnTo>
                  <a:pt x="390726" y="754847"/>
                </a:lnTo>
                <a:lnTo>
                  <a:pt x="393790" y="779139"/>
                </a:lnTo>
                <a:lnTo>
                  <a:pt x="396361" y="811855"/>
                </a:lnTo>
                <a:lnTo>
                  <a:pt x="401262" y="842997"/>
                </a:lnTo>
                <a:lnTo>
                  <a:pt x="403937" y="873673"/>
                </a:lnTo>
                <a:lnTo>
                  <a:pt x="408869" y="903365"/>
                </a:lnTo>
                <a:lnTo>
                  <a:pt x="413223" y="936582"/>
                </a:lnTo>
                <a:lnTo>
                  <a:pt x="420842" y="976886"/>
                </a:lnTo>
                <a:lnTo>
                  <a:pt x="424979" y="996411"/>
                </a:lnTo>
                <a:lnTo>
                  <a:pt x="426792" y="1007574"/>
                </a:lnTo>
                <a:lnTo>
                  <a:pt x="430422" y="1018180"/>
                </a:lnTo>
                <a:lnTo>
                  <a:pt x="434856" y="1026280"/>
                </a:lnTo>
                <a:lnTo>
                  <a:pt x="438803" y="1032702"/>
                </a:lnTo>
                <a:lnTo>
                  <a:pt x="440557" y="1038379"/>
                </a:lnTo>
                <a:lnTo>
                  <a:pt x="441776" y="1051493"/>
                </a:lnTo>
                <a:lnTo>
                  <a:pt x="441960" y="1059165"/>
                </a:lnTo>
                <a:lnTo>
                  <a:pt x="433870" y="1059173"/>
                </a:lnTo>
                <a:lnTo>
                  <a:pt x="425382" y="1056917"/>
                </a:lnTo>
                <a:lnTo>
                  <a:pt x="420748" y="1055130"/>
                </a:lnTo>
                <a:lnTo>
                  <a:pt x="408826" y="1053144"/>
                </a:lnTo>
                <a:lnTo>
                  <a:pt x="395061" y="1051415"/>
                </a:lnTo>
                <a:lnTo>
                  <a:pt x="387834" y="1049769"/>
                </a:lnTo>
                <a:lnTo>
                  <a:pt x="380476" y="1047825"/>
                </a:lnTo>
                <a:lnTo>
                  <a:pt x="372184" y="1046529"/>
                </a:lnTo>
                <a:lnTo>
                  <a:pt x="363269" y="1045664"/>
                </a:lnTo>
                <a:lnTo>
                  <a:pt x="353939" y="1045088"/>
                </a:lnTo>
                <a:lnTo>
                  <a:pt x="332284" y="1044448"/>
                </a:lnTo>
                <a:lnTo>
                  <a:pt x="279843" y="1044037"/>
                </a:lnTo>
                <a:lnTo>
                  <a:pt x="266148" y="1044850"/>
                </a:lnTo>
                <a:lnTo>
                  <a:pt x="252786" y="1046239"/>
                </a:lnTo>
                <a:lnTo>
                  <a:pt x="239644" y="1048011"/>
                </a:lnTo>
                <a:lnTo>
                  <a:pt x="225803" y="1049193"/>
                </a:lnTo>
                <a:lnTo>
                  <a:pt x="211495" y="1049981"/>
                </a:lnTo>
                <a:lnTo>
                  <a:pt x="196877" y="1050506"/>
                </a:lnTo>
                <a:lnTo>
                  <a:pt x="182898" y="1051702"/>
                </a:lnTo>
                <a:lnTo>
                  <a:pt x="169346" y="1053347"/>
                </a:lnTo>
                <a:lnTo>
                  <a:pt x="156077" y="1055290"/>
                </a:lnTo>
                <a:lnTo>
                  <a:pt x="142151" y="1056585"/>
                </a:lnTo>
                <a:lnTo>
                  <a:pt x="127787" y="1057449"/>
                </a:lnTo>
                <a:lnTo>
                  <a:pt x="113132" y="1058025"/>
                </a:lnTo>
                <a:lnTo>
                  <a:pt x="99974" y="1059255"/>
                </a:lnTo>
                <a:lnTo>
                  <a:pt x="87817" y="1060922"/>
                </a:lnTo>
                <a:lnTo>
                  <a:pt x="76324" y="1062880"/>
                </a:lnTo>
                <a:lnTo>
                  <a:pt x="66123" y="1065032"/>
                </a:lnTo>
                <a:lnTo>
                  <a:pt x="56782" y="1067313"/>
                </a:lnTo>
                <a:lnTo>
                  <a:pt x="48015" y="1069681"/>
                </a:lnTo>
                <a:lnTo>
                  <a:pt x="39629" y="1071260"/>
                </a:lnTo>
                <a:lnTo>
                  <a:pt x="31499" y="1072312"/>
                </a:lnTo>
                <a:lnTo>
                  <a:pt x="23540" y="1073013"/>
                </a:lnTo>
                <a:lnTo>
                  <a:pt x="12438" y="1076050"/>
                </a:lnTo>
                <a:lnTo>
                  <a:pt x="0" y="10820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MARTInkAnnotation205"/>
          <p:cNvSpPr/>
          <p:nvPr/>
        </p:nvSpPr>
        <p:spPr>
          <a:xfrm>
            <a:off x="1282680" y="1776240"/>
            <a:ext cx="582480" cy="379440"/>
          </a:xfrm>
          <a:custGeom>
            <a:avLst/>
            <a:gdLst>
              <a:gd name="textAreaLeft" fmla="*/ 0 w 582480"/>
              <a:gd name="textAreaRight" fmla="*/ 582480 w 58248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582960" h="379425">
                <a:moveTo>
                  <a:pt x="112292" y="295604"/>
                </a:moveTo>
                <a:lnTo>
                  <a:pt x="123644" y="306955"/>
                </a:lnTo>
                <a:lnTo>
                  <a:pt x="134470" y="313737"/>
                </a:lnTo>
                <a:lnTo>
                  <a:pt x="141340" y="316363"/>
                </a:lnTo>
                <a:lnTo>
                  <a:pt x="148062" y="318377"/>
                </a:lnTo>
                <a:lnTo>
                  <a:pt x="162214" y="324271"/>
                </a:lnTo>
                <a:lnTo>
                  <a:pt x="175120" y="328947"/>
                </a:lnTo>
                <a:lnTo>
                  <a:pt x="189322" y="331590"/>
                </a:lnTo>
                <a:lnTo>
                  <a:pt x="204101" y="332764"/>
                </a:lnTo>
                <a:lnTo>
                  <a:pt x="219136" y="333286"/>
                </a:lnTo>
                <a:lnTo>
                  <a:pt x="267640" y="333649"/>
                </a:lnTo>
                <a:lnTo>
                  <a:pt x="279357" y="333668"/>
                </a:lnTo>
                <a:lnTo>
                  <a:pt x="290556" y="332833"/>
                </a:lnTo>
                <a:lnTo>
                  <a:pt x="301408" y="331430"/>
                </a:lnTo>
                <a:lnTo>
                  <a:pt x="323343" y="327613"/>
                </a:lnTo>
                <a:lnTo>
                  <a:pt x="347204" y="323095"/>
                </a:lnTo>
                <a:lnTo>
                  <a:pt x="369661" y="318264"/>
                </a:lnTo>
                <a:lnTo>
                  <a:pt x="380392" y="315791"/>
                </a:lnTo>
                <a:lnTo>
                  <a:pt x="391778" y="312449"/>
                </a:lnTo>
                <a:lnTo>
                  <a:pt x="403603" y="308527"/>
                </a:lnTo>
                <a:lnTo>
                  <a:pt x="415719" y="304220"/>
                </a:lnTo>
                <a:lnTo>
                  <a:pt x="427183" y="299654"/>
                </a:lnTo>
                <a:lnTo>
                  <a:pt x="438213" y="294918"/>
                </a:lnTo>
                <a:lnTo>
                  <a:pt x="459499" y="285139"/>
                </a:lnTo>
                <a:lnTo>
                  <a:pt x="480248" y="275149"/>
                </a:lnTo>
                <a:lnTo>
                  <a:pt x="489676" y="269267"/>
                </a:lnTo>
                <a:lnTo>
                  <a:pt x="498501" y="262806"/>
                </a:lnTo>
                <a:lnTo>
                  <a:pt x="506925" y="255959"/>
                </a:lnTo>
                <a:lnTo>
                  <a:pt x="515080" y="249701"/>
                </a:lnTo>
                <a:lnTo>
                  <a:pt x="530916" y="238231"/>
                </a:lnTo>
                <a:lnTo>
                  <a:pt x="538694" y="231956"/>
                </a:lnTo>
                <a:lnTo>
                  <a:pt x="546420" y="225232"/>
                </a:lnTo>
                <a:lnTo>
                  <a:pt x="554111" y="218209"/>
                </a:lnTo>
                <a:lnTo>
                  <a:pt x="560084" y="210987"/>
                </a:lnTo>
                <a:lnTo>
                  <a:pt x="564914" y="203633"/>
                </a:lnTo>
                <a:lnTo>
                  <a:pt x="568979" y="196190"/>
                </a:lnTo>
                <a:lnTo>
                  <a:pt x="572537" y="188688"/>
                </a:lnTo>
                <a:lnTo>
                  <a:pt x="575755" y="181147"/>
                </a:lnTo>
                <a:lnTo>
                  <a:pt x="578747" y="173579"/>
                </a:lnTo>
                <a:lnTo>
                  <a:pt x="580742" y="165148"/>
                </a:lnTo>
                <a:lnTo>
                  <a:pt x="582072" y="156140"/>
                </a:lnTo>
                <a:lnTo>
                  <a:pt x="582959" y="146748"/>
                </a:lnTo>
                <a:lnTo>
                  <a:pt x="582703" y="137947"/>
                </a:lnTo>
                <a:lnTo>
                  <a:pt x="581686" y="129539"/>
                </a:lnTo>
                <a:lnTo>
                  <a:pt x="580161" y="121394"/>
                </a:lnTo>
                <a:lnTo>
                  <a:pt x="577452" y="113424"/>
                </a:lnTo>
                <a:lnTo>
                  <a:pt x="573952" y="105571"/>
                </a:lnTo>
                <a:lnTo>
                  <a:pt x="569925" y="97795"/>
                </a:lnTo>
                <a:lnTo>
                  <a:pt x="563854" y="90072"/>
                </a:lnTo>
                <a:lnTo>
                  <a:pt x="556420" y="82382"/>
                </a:lnTo>
                <a:lnTo>
                  <a:pt x="548077" y="74716"/>
                </a:lnTo>
                <a:lnTo>
                  <a:pt x="539976" y="67912"/>
                </a:lnTo>
                <a:lnTo>
                  <a:pt x="532034" y="61683"/>
                </a:lnTo>
                <a:lnTo>
                  <a:pt x="524200" y="55837"/>
                </a:lnTo>
                <a:lnTo>
                  <a:pt x="514744" y="49399"/>
                </a:lnTo>
                <a:lnTo>
                  <a:pt x="492948" y="35473"/>
                </a:lnTo>
                <a:lnTo>
                  <a:pt x="481209" y="29897"/>
                </a:lnTo>
                <a:lnTo>
                  <a:pt x="469150" y="25332"/>
                </a:lnTo>
                <a:lnTo>
                  <a:pt x="456878" y="21443"/>
                </a:lnTo>
                <a:lnTo>
                  <a:pt x="444462" y="18003"/>
                </a:lnTo>
                <a:lnTo>
                  <a:pt x="431952" y="14864"/>
                </a:lnTo>
                <a:lnTo>
                  <a:pt x="419379" y="11924"/>
                </a:lnTo>
                <a:lnTo>
                  <a:pt x="405917" y="9117"/>
                </a:lnTo>
                <a:lnTo>
                  <a:pt x="377412" y="3741"/>
                </a:lnTo>
                <a:lnTo>
                  <a:pt x="362698" y="1969"/>
                </a:lnTo>
                <a:lnTo>
                  <a:pt x="347810" y="787"/>
                </a:lnTo>
                <a:lnTo>
                  <a:pt x="332804" y="0"/>
                </a:lnTo>
                <a:lnTo>
                  <a:pt x="317720" y="321"/>
                </a:lnTo>
                <a:lnTo>
                  <a:pt x="302584" y="1382"/>
                </a:lnTo>
                <a:lnTo>
                  <a:pt x="287413" y="2936"/>
                </a:lnTo>
                <a:lnTo>
                  <a:pt x="257011" y="6921"/>
                </a:lnTo>
                <a:lnTo>
                  <a:pt x="241791" y="9169"/>
                </a:lnTo>
                <a:lnTo>
                  <a:pt x="227411" y="12360"/>
                </a:lnTo>
                <a:lnTo>
                  <a:pt x="213592" y="16182"/>
                </a:lnTo>
                <a:lnTo>
                  <a:pt x="200145" y="20423"/>
                </a:lnTo>
                <a:lnTo>
                  <a:pt x="186947" y="24943"/>
                </a:lnTo>
                <a:lnTo>
                  <a:pt x="160994" y="34481"/>
                </a:lnTo>
                <a:lnTo>
                  <a:pt x="147300" y="41089"/>
                </a:lnTo>
                <a:lnTo>
                  <a:pt x="133091" y="48881"/>
                </a:lnTo>
                <a:lnTo>
                  <a:pt x="118538" y="57462"/>
                </a:lnTo>
                <a:lnTo>
                  <a:pt x="105449" y="65723"/>
                </a:lnTo>
                <a:lnTo>
                  <a:pt x="93337" y="73770"/>
                </a:lnTo>
                <a:lnTo>
                  <a:pt x="81875" y="81675"/>
                </a:lnTo>
                <a:lnTo>
                  <a:pt x="71694" y="90331"/>
                </a:lnTo>
                <a:lnTo>
                  <a:pt x="62367" y="99489"/>
                </a:lnTo>
                <a:lnTo>
                  <a:pt x="53609" y="108980"/>
                </a:lnTo>
                <a:lnTo>
                  <a:pt x="46077" y="118695"/>
                </a:lnTo>
                <a:lnTo>
                  <a:pt x="39362" y="128558"/>
                </a:lnTo>
                <a:lnTo>
                  <a:pt x="33192" y="138520"/>
                </a:lnTo>
                <a:lnTo>
                  <a:pt x="27385" y="148548"/>
                </a:lnTo>
                <a:lnTo>
                  <a:pt x="16418" y="168721"/>
                </a:lnTo>
                <a:lnTo>
                  <a:pt x="11969" y="178842"/>
                </a:lnTo>
                <a:lnTo>
                  <a:pt x="8157" y="188976"/>
                </a:lnTo>
                <a:lnTo>
                  <a:pt x="4769" y="199119"/>
                </a:lnTo>
                <a:lnTo>
                  <a:pt x="2510" y="209267"/>
                </a:lnTo>
                <a:lnTo>
                  <a:pt x="1004" y="219420"/>
                </a:lnTo>
                <a:lnTo>
                  <a:pt x="0" y="229574"/>
                </a:lnTo>
                <a:lnTo>
                  <a:pt x="177" y="238884"/>
                </a:lnTo>
                <a:lnTo>
                  <a:pt x="1142" y="247631"/>
                </a:lnTo>
                <a:lnTo>
                  <a:pt x="2632" y="256002"/>
                </a:lnTo>
                <a:lnTo>
                  <a:pt x="5319" y="264123"/>
                </a:lnTo>
                <a:lnTo>
                  <a:pt x="8803" y="272077"/>
                </a:lnTo>
                <a:lnTo>
                  <a:pt x="12820" y="279919"/>
                </a:lnTo>
                <a:lnTo>
                  <a:pt x="18037" y="287687"/>
                </a:lnTo>
                <a:lnTo>
                  <a:pt x="24055" y="295406"/>
                </a:lnTo>
                <a:lnTo>
                  <a:pt x="30608" y="303092"/>
                </a:lnTo>
                <a:lnTo>
                  <a:pt x="38362" y="309909"/>
                </a:lnTo>
                <a:lnTo>
                  <a:pt x="46919" y="316148"/>
                </a:lnTo>
                <a:lnTo>
                  <a:pt x="56010" y="322000"/>
                </a:lnTo>
                <a:lnTo>
                  <a:pt x="65457" y="327595"/>
                </a:lnTo>
                <a:lnTo>
                  <a:pt x="75142" y="333018"/>
                </a:lnTo>
                <a:lnTo>
                  <a:pt x="84986" y="338327"/>
                </a:lnTo>
                <a:lnTo>
                  <a:pt x="95781" y="343559"/>
                </a:lnTo>
                <a:lnTo>
                  <a:pt x="107211" y="348741"/>
                </a:lnTo>
                <a:lnTo>
                  <a:pt x="119065" y="353889"/>
                </a:lnTo>
                <a:lnTo>
                  <a:pt x="132047" y="358167"/>
                </a:lnTo>
                <a:lnTo>
                  <a:pt x="145782" y="361866"/>
                </a:lnTo>
                <a:lnTo>
                  <a:pt x="160019" y="365179"/>
                </a:lnTo>
                <a:lnTo>
                  <a:pt x="174590" y="367387"/>
                </a:lnTo>
                <a:lnTo>
                  <a:pt x="189384" y="368860"/>
                </a:lnTo>
                <a:lnTo>
                  <a:pt x="204327" y="369841"/>
                </a:lnTo>
                <a:lnTo>
                  <a:pt x="220215" y="371342"/>
                </a:lnTo>
                <a:lnTo>
                  <a:pt x="253674" y="375268"/>
                </a:lnTo>
                <a:lnTo>
                  <a:pt x="270893" y="376653"/>
                </a:lnTo>
                <a:lnTo>
                  <a:pt x="288299" y="377577"/>
                </a:lnTo>
                <a:lnTo>
                  <a:pt x="320904" y="378603"/>
                </a:lnTo>
                <a:lnTo>
                  <a:pt x="371372" y="3794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MARTInkAnnotation206"/>
          <p:cNvSpPr/>
          <p:nvPr/>
        </p:nvSpPr>
        <p:spPr>
          <a:xfrm>
            <a:off x="2968560" y="1790640"/>
            <a:ext cx="550800" cy="358920"/>
          </a:xfrm>
          <a:custGeom>
            <a:avLst/>
            <a:gdLst>
              <a:gd name="textAreaLeft" fmla="*/ 0 w 550800"/>
              <a:gd name="textAreaRight" fmla="*/ 551160 w 550800"/>
              <a:gd name="textAreaTop" fmla="*/ 0 h 358920"/>
              <a:gd name="textAreaBottom" fmla="*/ 358920 h 358920"/>
            </a:gdLst>
            <a:ahLst/>
            <a:rect l="textAreaLeft" t="textAreaTop" r="textAreaRight" b="textAreaBottom"/>
            <a:pathLst>
              <a:path w="550986" h="357517">
                <a:moveTo>
                  <a:pt x="56325" y="304210"/>
                </a:moveTo>
                <a:lnTo>
                  <a:pt x="60370" y="308255"/>
                </a:lnTo>
                <a:lnTo>
                  <a:pt x="62408" y="309447"/>
                </a:lnTo>
                <a:lnTo>
                  <a:pt x="66931" y="310771"/>
                </a:lnTo>
                <a:lnTo>
                  <a:pt x="83760" y="313948"/>
                </a:lnTo>
                <a:lnTo>
                  <a:pt x="96458" y="317005"/>
                </a:lnTo>
                <a:lnTo>
                  <a:pt x="110569" y="318364"/>
                </a:lnTo>
                <a:lnTo>
                  <a:pt x="127565" y="318967"/>
                </a:lnTo>
                <a:lnTo>
                  <a:pt x="170115" y="319355"/>
                </a:lnTo>
                <a:lnTo>
                  <a:pt x="181292" y="320233"/>
                </a:lnTo>
                <a:lnTo>
                  <a:pt x="192129" y="321666"/>
                </a:lnTo>
                <a:lnTo>
                  <a:pt x="202741" y="323467"/>
                </a:lnTo>
                <a:lnTo>
                  <a:pt x="214050" y="324668"/>
                </a:lnTo>
                <a:lnTo>
                  <a:pt x="225821" y="325469"/>
                </a:lnTo>
                <a:lnTo>
                  <a:pt x="237902" y="326003"/>
                </a:lnTo>
                <a:lnTo>
                  <a:pt x="249343" y="325512"/>
                </a:lnTo>
                <a:lnTo>
                  <a:pt x="260357" y="324338"/>
                </a:lnTo>
                <a:lnTo>
                  <a:pt x="271086" y="322709"/>
                </a:lnTo>
                <a:lnTo>
                  <a:pt x="281626" y="321623"/>
                </a:lnTo>
                <a:lnTo>
                  <a:pt x="292039" y="320899"/>
                </a:lnTo>
                <a:lnTo>
                  <a:pt x="302368" y="320416"/>
                </a:lnTo>
                <a:lnTo>
                  <a:pt x="312640" y="319247"/>
                </a:lnTo>
                <a:lnTo>
                  <a:pt x="322875" y="317622"/>
                </a:lnTo>
                <a:lnTo>
                  <a:pt x="333085" y="315691"/>
                </a:lnTo>
                <a:lnTo>
                  <a:pt x="344125" y="312711"/>
                </a:lnTo>
                <a:lnTo>
                  <a:pt x="355719" y="309031"/>
                </a:lnTo>
                <a:lnTo>
                  <a:pt x="367681" y="304884"/>
                </a:lnTo>
                <a:lnTo>
                  <a:pt x="379042" y="301273"/>
                </a:lnTo>
                <a:lnTo>
                  <a:pt x="400698" y="295002"/>
                </a:lnTo>
                <a:lnTo>
                  <a:pt x="411213" y="291298"/>
                </a:lnTo>
                <a:lnTo>
                  <a:pt x="421611" y="287136"/>
                </a:lnTo>
                <a:lnTo>
                  <a:pt x="431929" y="282667"/>
                </a:lnTo>
                <a:lnTo>
                  <a:pt x="452425" y="273187"/>
                </a:lnTo>
                <a:lnTo>
                  <a:pt x="462631" y="268288"/>
                </a:lnTo>
                <a:lnTo>
                  <a:pt x="471129" y="262482"/>
                </a:lnTo>
                <a:lnTo>
                  <a:pt x="478488" y="256071"/>
                </a:lnTo>
                <a:lnTo>
                  <a:pt x="485088" y="249258"/>
                </a:lnTo>
                <a:lnTo>
                  <a:pt x="492873" y="243022"/>
                </a:lnTo>
                <a:lnTo>
                  <a:pt x="501451" y="237171"/>
                </a:lnTo>
                <a:lnTo>
                  <a:pt x="510556" y="231577"/>
                </a:lnTo>
                <a:lnTo>
                  <a:pt x="518319" y="225308"/>
                </a:lnTo>
                <a:lnTo>
                  <a:pt x="525188" y="218589"/>
                </a:lnTo>
                <a:lnTo>
                  <a:pt x="531460" y="211569"/>
                </a:lnTo>
                <a:lnTo>
                  <a:pt x="536488" y="204350"/>
                </a:lnTo>
                <a:lnTo>
                  <a:pt x="540688" y="196997"/>
                </a:lnTo>
                <a:lnTo>
                  <a:pt x="544334" y="189554"/>
                </a:lnTo>
                <a:lnTo>
                  <a:pt x="546764" y="182053"/>
                </a:lnTo>
                <a:lnTo>
                  <a:pt x="548385" y="174512"/>
                </a:lnTo>
                <a:lnTo>
                  <a:pt x="549465" y="166945"/>
                </a:lnTo>
                <a:lnTo>
                  <a:pt x="550185" y="159360"/>
                </a:lnTo>
                <a:lnTo>
                  <a:pt x="550665" y="151763"/>
                </a:lnTo>
                <a:lnTo>
                  <a:pt x="550985" y="144159"/>
                </a:lnTo>
                <a:lnTo>
                  <a:pt x="549505" y="136549"/>
                </a:lnTo>
                <a:lnTo>
                  <a:pt x="546825" y="128936"/>
                </a:lnTo>
                <a:lnTo>
                  <a:pt x="543345" y="121321"/>
                </a:lnTo>
                <a:lnTo>
                  <a:pt x="538485" y="113704"/>
                </a:lnTo>
                <a:lnTo>
                  <a:pt x="532705" y="106086"/>
                </a:lnTo>
                <a:lnTo>
                  <a:pt x="526312" y="98467"/>
                </a:lnTo>
                <a:lnTo>
                  <a:pt x="519510" y="90848"/>
                </a:lnTo>
                <a:lnTo>
                  <a:pt x="505178" y="75609"/>
                </a:lnTo>
                <a:lnTo>
                  <a:pt x="496107" y="67990"/>
                </a:lnTo>
                <a:lnTo>
                  <a:pt x="485826" y="60370"/>
                </a:lnTo>
                <a:lnTo>
                  <a:pt x="474740" y="52750"/>
                </a:lnTo>
                <a:lnTo>
                  <a:pt x="463115" y="45977"/>
                </a:lnTo>
                <a:lnTo>
                  <a:pt x="451132" y="39768"/>
                </a:lnTo>
                <a:lnTo>
                  <a:pt x="438909" y="33935"/>
                </a:lnTo>
                <a:lnTo>
                  <a:pt x="425681" y="28353"/>
                </a:lnTo>
                <a:lnTo>
                  <a:pt x="411783" y="22939"/>
                </a:lnTo>
                <a:lnTo>
                  <a:pt x="397437" y="17636"/>
                </a:lnTo>
                <a:lnTo>
                  <a:pt x="382793" y="13254"/>
                </a:lnTo>
                <a:lnTo>
                  <a:pt x="367951" y="9486"/>
                </a:lnTo>
                <a:lnTo>
                  <a:pt x="352975" y="6127"/>
                </a:lnTo>
                <a:lnTo>
                  <a:pt x="337912" y="3888"/>
                </a:lnTo>
                <a:lnTo>
                  <a:pt x="322790" y="2396"/>
                </a:lnTo>
                <a:lnTo>
                  <a:pt x="307628" y="1400"/>
                </a:lnTo>
                <a:lnTo>
                  <a:pt x="292441" y="737"/>
                </a:lnTo>
                <a:lnTo>
                  <a:pt x="262019" y="0"/>
                </a:lnTo>
                <a:lnTo>
                  <a:pt x="247641" y="650"/>
                </a:lnTo>
                <a:lnTo>
                  <a:pt x="233822" y="1930"/>
                </a:lnTo>
                <a:lnTo>
                  <a:pt x="220377" y="3630"/>
                </a:lnTo>
                <a:lnTo>
                  <a:pt x="206333" y="6457"/>
                </a:lnTo>
                <a:lnTo>
                  <a:pt x="191891" y="10035"/>
                </a:lnTo>
                <a:lnTo>
                  <a:pt x="177182" y="14113"/>
                </a:lnTo>
                <a:lnTo>
                  <a:pt x="163143" y="18525"/>
                </a:lnTo>
                <a:lnTo>
                  <a:pt x="149550" y="23160"/>
                </a:lnTo>
                <a:lnTo>
                  <a:pt x="136255" y="27944"/>
                </a:lnTo>
                <a:lnTo>
                  <a:pt x="123159" y="33672"/>
                </a:lnTo>
                <a:lnTo>
                  <a:pt x="110194" y="40032"/>
                </a:lnTo>
                <a:lnTo>
                  <a:pt x="97318" y="46811"/>
                </a:lnTo>
                <a:lnTo>
                  <a:pt x="86194" y="53871"/>
                </a:lnTo>
                <a:lnTo>
                  <a:pt x="76238" y="61117"/>
                </a:lnTo>
                <a:lnTo>
                  <a:pt x="67060" y="68488"/>
                </a:lnTo>
                <a:lnTo>
                  <a:pt x="58402" y="76789"/>
                </a:lnTo>
                <a:lnTo>
                  <a:pt x="50089" y="85709"/>
                </a:lnTo>
                <a:lnTo>
                  <a:pt x="42008" y="95043"/>
                </a:lnTo>
                <a:lnTo>
                  <a:pt x="34927" y="103805"/>
                </a:lnTo>
                <a:lnTo>
                  <a:pt x="28513" y="112187"/>
                </a:lnTo>
                <a:lnTo>
                  <a:pt x="22544" y="120315"/>
                </a:lnTo>
                <a:lnTo>
                  <a:pt x="17718" y="129120"/>
                </a:lnTo>
                <a:lnTo>
                  <a:pt x="13654" y="138377"/>
                </a:lnTo>
                <a:lnTo>
                  <a:pt x="10097" y="147934"/>
                </a:lnTo>
                <a:lnTo>
                  <a:pt x="6880" y="157693"/>
                </a:lnTo>
                <a:lnTo>
                  <a:pt x="3888" y="167585"/>
                </a:lnTo>
                <a:lnTo>
                  <a:pt x="1047" y="177567"/>
                </a:lnTo>
                <a:lnTo>
                  <a:pt x="0" y="186761"/>
                </a:lnTo>
                <a:lnTo>
                  <a:pt x="148" y="195431"/>
                </a:lnTo>
                <a:lnTo>
                  <a:pt x="1094" y="203751"/>
                </a:lnTo>
                <a:lnTo>
                  <a:pt x="1724" y="212684"/>
                </a:lnTo>
                <a:lnTo>
                  <a:pt x="2145" y="222026"/>
                </a:lnTo>
                <a:lnTo>
                  <a:pt x="2425" y="231641"/>
                </a:lnTo>
                <a:lnTo>
                  <a:pt x="4305" y="240590"/>
                </a:lnTo>
                <a:lnTo>
                  <a:pt x="7252" y="249097"/>
                </a:lnTo>
                <a:lnTo>
                  <a:pt x="10909" y="257308"/>
                </a:lnTo>
                <a:lnTo>
                  <a:pt x="15888" y="264475"/>
                </a:lnTo>
                <a:lnTo>
                  <a:pt x="21747" y="270947"/>
                </a:lnTo>
                <a:lnTo>
                  <a:pt x="35031" y="283500"/>
                </a:lnTo>
                <a:lnTo>
                  <a:pt x="49401" y="297545"/>
                </a:lnTo>
                <a:lnTo>
                  <a:pt x="64255" y="307739"/>
                </a:lnTo>
                <a:lnTo>
                  <a:pt x="81016" y="315939"/>
                </a:lnTo>
                <a:lnTo>
                  <a:pt x="102577" y="325227"/>
                </a:lnTo>
                <a:lnTo>
                  <a:pt x="138515" y="339977"/>
                </a:lnTo>
                <a:lnTo>
                  <a:pt x="150912" y="343295"/>
                </a:lnTo>
                <a:lnTo>
                  <a:pt x="163409" y="345507"/>
                </a:lnTo>
                <a:lnTo>
                  <a:pt x="175975" y="346981"/>
                </a:lnTo>
                <a:lnTo>
                  <a:pt x="188585" y="348811"/>
                </a:lnTo>
                <a:lnTo>
                  <a:pt x="213885" y="353102"/>
                </a:lnTo>
                <a:lnTo>
                  <a:pt x="227405" y="354585"/>
                </a:lnTo>
                <a:lnTo>
                  <a:pt x="241499" y="355573"/>
                </a:lnTo>
                <a:lnTo>
                  <a:pt x="269011" y="356671"/>
                </a:lnTo>
                <a:lnTo>
                  <a:pt x="304387" y="357290"/>
                </a:lnTo>
                <a:lnTo>
                  <a:pt x="362381" y="357516"/>
                </a:lnTo>
                <a:lnTo>
                  <a:pt x="378899" y="355277"/>
                </a:lnTo>
                <a:lnTo>
                  <a:pt x="399226" y="3499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MARTInkAnnotation207"/>
          <p:cNvSpPr/>
          <p:nvPr/>
        </p:nvSpPr>
        <p:spPr>
          <a:xfrm>
            <a:off x="5478480" y="1776240"/>
            <a:ext cx="303120" cy="235080"/>
          </a:xfrm>
          <a:custGeom>
            <a:avLst/>
            <a:gdLst>
              <a:gd name="textAreaLeft" fmla="*/ 0 w 303120"/>
              <a:gd name="textAreaRight" fmla="*/ 303480 w 3031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302551" h="236059">
                <a:moveTo>
                  <a:pt x="0" y="83658"/>
                </a:moveTo>
                <a:lnTo>
                  <a:pt x="0" y="73052"/>
                </a:lnTo>
                <a:lnTo>
                  <a:pt x="846" y="70661"/>
                </a:lnTo>
                <a:lnTo>
                  <a:pt x="4045" y="65746"/>
                </a:lnTo>
                <a:lnTo>
                  <a:pt x="10546" y="60739"/>
                </a:lnTo>
                <a:lnTo>
                  <a:pt x="19081" y="55692"/>
                </a:lnTo>
                <a:lnTo>
                  <a:pt x="28518" y="50627"/>
                </a:lnTo>
                <a:lnTo>
                  <a:pt x="33405" y="47244"/>
                </a:lnTo>
                <a:lnTo>
                  <a:pt x="38356" y="43295"/>
                </a:lnTo>
                <a:lnTo>
                  <a:pt x="43352" y="38969"/>
                </a:lnTo>
                <a:lnTo>
                  <a:pt x="50067" y="35239"/>
                </a:lnTo>
                <a:lnTo>
                  <a:pt x="57932" y="31905"/>
                </a:lnTo>
                <a:lnTo>
                  <a:pt x="66561" y="28836"/>
                </a:lnTo>
                <a:lnTo>
                  <a:pt x="75701" y="25097"/>
                </a:lnTo>
                <a:lnTo>
                  <a:pt x="85180" y="20911"/>
                </a:lnTo>
                <a:lnTo>
                  <a:pt x="94887" y="16427"/>
                </a:lnTo>
                <a:lnTo>
                  <a:pt x="104744" y="12590"/>
                </a:lnTo>
                <a:lnTo>
                  <a:pt x="114703" y="9186"/>
                </a:lnTo>
                <a:lnTo>
                  <a:pt x="124729" y="6070"/>
                </a:lnTo>
                <a:lnTo>
                  <a:pt x="135646" y="3993"/>
                </a:lnTo>
                <a:lnTo>
                  <a:pt x="147157" y="2608"/>
                </a:lnTo>
                <a:lnTo>
                  <a:pt x="159065" y="1685"/>
                </a:lnTo>
                <a:lnTo>
                  <a:pt x="170390" y="1069"/>
                </a:lnTo>
                <a:lnTo>
                  <a:pt x="192004" y="385"/>
                </a:lnTo>
                <a:lnTo>
                  <a:pt x="219168" y="0"/>
                </a:lnTo>
                <a:lnTo>
                  <a:pt x="226545" y="793"/>
                </a:lnTo>
                <a:lnTo>
                  <a:pt x="233157" y="2168"/>
                </a:lnTo>
                <a:lnTo>
                  <a:pt x="239258" y="3931"/>
                </a:lnTo>
                <a:lnTo>
                  <a:pt x="248294" y="8149"/>
                </a:lnTo>
                <a:lnTo>
                  <a:pt x="251890" y="10458"/>
                </a:lnTo>
                <a:lnTo>
                  <a:pt x="254286" y="12845"/>
                </a:lnTo>
                <a:lnTo>
                  <a:pt x="255884" y="15283"/>
                </a:lnTo>
                <a:lnTo>
                  <a:pt x="256949" y="17755"/>
                </a:lnTo>
                <a:lnTo>
                  <a:pt x="256813" y="21096"/>
                </a:lnTo>
                <a:lnTo>
                  <a:pt x="255875" y="25017"/>
                </a:lnTo>
                <a:lnTo>
                  <a:pt x="254404" y="29324"/>
                </a:lnTo>
                <a:lnTo>
                  <a:pt x="250882" y="33888"/>
                </a:lnTo>
                <a:lnTo>
                  <a:pt x="245995" y="38625"/>
                </a:lnTo>
                <a:lnTo>
                  <a:pt x="240197" y="43476"/>
                </a:lnTo>
                <a:lnTo>
                  <a:pt x="233791" y="49250"/>
                </a:lnTo>
                <a:lnTo>
                  <a:pt x="219900" y="62439"/>
                </a:lnTo>
                <a:lnTo>
                  <a:pt x="211794" y="68665"/>
                </a:lnTo>
                <a:lnTo>
                  <a:pt x="203002" y="74509"/>
                </a:lnTo>
                <a:lnTo>
                  <a:pt x="193755" y="80099"/>
                </a:lnTo>
                <a:lnTo>
                  <a:pt x="184203" y="85519"/>
                </a:lnTo>
                <a:lnTo>
                  <a:pt x="164559" y="96056"/>
                </a:lnTo>
                <a:lnTo>
                  <a:pt x="155426" y="101237"/>
                </a:lnTo>
                <a:lnTo>
                  <a:pt x="146798" y="106384"/>
                </a:lnTo>
                <a:lnTo>
                  <a:pt x="138505" y="111509"/>
                </a:lnTo>
                <a:lnTo>
                  <a:pt x="131283" y="115772"/>
                </a:lnTo>
                <a:lnTo>
                  <a:pt x="124776" y="119461"/>
                </a:lnTo>
                <a:lnTo>
                  <a:pt x="118743" y="122767"/>
                </a:lnTo>
                <a:lnTo>
                  <a:pt x="114723" y="125817"/>
                </a:lnTo>
                <a:lnTo>
                  <a:pt x="112042" y="128698"/>
                </a:lnTo>
                <a:lnTo>
                  <a:pt x="110254" y="131464"/>
                </a:lnTo>
                <a:lnTo>
                  <a:pt x="110756" y="134156"/>
                </a:lnTo>
                <a:lnTo>
                  <a:pt x="112784" y="136796"/>
                </a:lnTo>
                <a:lnTo>
                  <a:pt x="115830" y="139404"/>
                </a:lnTo>
                <a:lnTo>
                  <a:pt x="120399" y="141142"/>
                </a:lnTo>
                <a:lnTo>
                  <a:pt x="125986" y="142300"/>
                </a:lnTo>
                <a:lnTo>
                  <a:pt x="132251" y="143073"/>
                </a:lnTo>
                <a:lnTo>
                  <a:pt x="139814" y="144435"/>
                </a:lnTo>
                <a:lnTo>
                  <a:pt x="148243" y="146189"/>
                </a:lnTo>
                <a:lnTo>
                  <a:pt x="157248" y="148206"/>
                </a:lnTo>
                <a:lnTo>
                  <a:pt x="167485" y="149550"/>
                </a:lnTo>
                <a:lnTo>
                  <a:pt x="178543" y="150446"/>
                </a:lnTo>
                <a:lnTo>
                  <a:pt x="190149" y="151043"/>
                </a:lnTo>
                <a:lnTo>
                  <a:pt x="214333" y="151707"/>
                </a:lnTo>
                <a:lnTo>
                  <a:pt x="260307" y="152133"/>
                </a:lnTo>
                <a:lnTo>
                  <a:pt x="269211" y="153015"/>
                </a:lnTo>
                <a:lnTo>
                  <a:pt x="276841" y="154449"/>
                </a:lnTo>
                <a:lnTo>
                  <a:pt x="283621" y="156252"/>
                </a:lnTo>
                <a:lnTo>
                  <a:pt x="288987" y="157454"/>
                </a:lnTo>
                <a:lnTo>
                  <a:pt x="297207" y="158790"/>
                </a:lnTo>
                <a:lnTo>
                  <a:pt x="302550" y="159542"/>
                </a:lnTo>
                <a:lnTo>
                  <a:pt x="301607" y="160494"/>
                </a:lnTo>
                <a:lnTo>
                  <a:pt x="296043" y="163809"/>
                </a:lnTo>
                <a:lnTo>
                  <a:pt x="290495" y="165879"/>
                </a:lnTo>
                <a:lnTo>
                  <a:pt x="283410" y="168106"/>
                </a:lnTo>
                <a:lnTo>
                  <a:pt x="266507" y="172837"/>
                </a:lnTo>
                <a:lnTo>
                  <a:pt x="247705" y="177762"/>
                </a:lnTo>
                <a:lnTo>
                  <a:pt x="237951" y="181107"/>
                </a:lnTo>
                <a:lnTo>
                  <a:pt x="228060" y="185031"/>
                </a:lnTo>
                <a:lnTo>
                  <a:pt x="218080" y="189340"/>
                </a:lnTo>
                <a:lnTo>
                  <a:pt x="207193" y="193059"/>
                </a:lnTo>
                <a:lnTo>
                  <a:pt x="195702" y="196386"/>
                </a:lnTo>
                <a:lnTo>
                  <a:pt x="183808" y="199450"/>
                </a:lnTo>
                <a:lnTo>
                  <a:pt x="159304" y="205112"/>
                </a:lnTo>
                <a:lnTo>
                  <a:pt x="135148" y="210451"/>
                </a:lnTo>
                <a:lnTo>
                  <a:pt x="113124" y="215646"/>
                </a:lnTo>
                <a:lnTo>
                  <a:pt x="103356" y="218217"/>
                </a:lnTo>
                <a:lnTo>
                  <a:pt x="85729" y="223331"/>
                </a:lnTo>
                <a:lnTo>
                  <a:pt x="78320" y="225880"/>
                </a:lnTo>
                <a:lnTo>
                  <a:pt x="71686" y="228426"/>
                </a:lnTo>
                <a:lnTo>
                  <a:pt x="65571" y="230970"/>
                </a:lnTo>
                <a:lnTo>
                  <a:pt x="56518" y="233797"/>
                </a:lnTo>
                <a:lnTo>
                  <a:pt x="45720" y="2360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MARTInkAnnotation208"/>
          <p:cNvSpPr/>
          <p:nvPr/>
        </p:nvSpPr>
        <p:spPr>
          <a:xfrm>
            <a:off x="2031840" y="1828800"/>
            <a:ext cx="486000" cy="282600"/>
          </a:xfrm>
          <a:custGeom>
            <a:avLst/>
            <a:gdLst>
              <a:gd name="textAreaLeft" fmla="*/ 0 w 486000"/>
              <a:gd name="textAreaRight" fmla="*/ 486360 w 4860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85189" h="281445">
                <a:moveTo>
                  <a:pt x="17884" y="281444"/>
                </a:moveTo>
                <a:lnTo>
                  <a:pt x="97652" y="281444"/>
                </a:lnTo>
                <a:lnTo>
                  <a:pt x="108316" y="280597"/>
                </a:lnTo>
                <a:lnTo>
                  <a:pt x="119659" y="279186"/>
                </a:lnTo>
                <a:lnTo>
                  <a:pt x="131454" y="277399"/>
                </a:lnTo>
                <a:lnTo>
                  <a:pt x="155848" y="273155"/>
                </a:lnTo>
                <a:lnTo>
                  <a:pt x="168280" y="270838"/>
                </a:lnTo>
                <a:lnTo>
                  <a:pt x="181648" y="269293"/>
                </a:lnTo>
                <a:lnTo>
                  <a:pt x="195640" y="268264"/>
                </a:lnTo>
                <a:lnTo>
                  <a:pt x="210048" y="267577"/>
                </a:lnTo>
                <a:lnTo>
                  <a:pt x="223887" y="265426"/>
                </a:lnTo>
                <a:lnTo>
                  <a:pt x="237346" y="262299"/>
                </a:lnTo>
                <a:lnTo>
                  <a:pt x="250552" y="258521"/>
                </a:lnTo>
                <a:lnTo>
                  <a:pt x="278772" y="249807"/>
                </a:lnTo>
                <a:lnTo>
                  <a:pt x="338281" y="230415"/>
                </a:lnTo>
                <a:lnTo>
                  <a:pt x="351709" y="225412"/>
                </a:lnTo>
                <a:lnTo>
                  <a:pt x="364047" y="220382"/>
                </a:lnTo>
                <a:lnTo>
                  <a:pt x="375659" y="215336"/>
                </a:lnTo>
                <a:lnTo>
                  <a:pt x="387634" y="209432"/>
                </a:lnTo>
                <a:lnTo>
                  <a:pt x="399851" y="202957"/>
                </a:lnTo>
                <a:lnTo>
                  <a:pt x="412229" y="196099"/>
                </a:lnTo>
                <a:lnTo>
                  <a:pt x="423021" y="188987"/>
                </a:lnTo>
                <a:lnTo>
                  <a:pt x="432755" y="181706"/>
                </a:lnTo>
                <a:lnTo>
                  <a:pt x="441785" y="174312"/>
                </a:lnTo>
                <a:lnTo>
                  <a:pt x="448651" y="166843"/>
                </a:lnTo>
                <a:lnTo>
                  <a:pt x="454075" y="159323"/>
                </a:lnTo>
                <a:lnTo>
                  <a:pt x="458538" y="151770"/>
                </a:lnTo>
                <a:lnTo>
                  <a:pt x="468013" y="136605"/>
                </a:lnTo>
                <a:lnTo>
                  <a:pt x="472910" y="129004"/>
                </a:lnTo>
                <a:lnTo>
                  <a:pt x="477021" y="122244"/>
                </a:lnTo>
                <a:lnTo>
                  <a:pt x="480609" y="116044"/>
                </a:lnTo>
                <a:lnTo>
                  <a:pt x="483847" y="110217"/>
                </a:lnTo>
                <a:lnTo>
                  <a:pt x="485159" y="103793"/>
                </a:lnTo>
                <a:lnTo>
                  <a:pt x="485188" y="96970"/>
                </a:lnTo>
                <a:lnTo>
                  <a:pt x="484360" y="89881"/>
                </a:lnTo>
                <a:lnTo>
                  <a:pt x="482115" y="82616"/>
                </a:lnTo>
                <a:lnTo>
                  <a:pt x="478925" y="75232"/>
                </a:lnTo>
                <a:lnTo>
                  <a:pt x="475104" y="67769"/>
                </a:lnTo>
                <a:lnTo>
                  <a:pt x="470018" y="60254"/>
                </a:lnTo>
                <a:lnTo>
                  <a:pt x="464087" y="52704"/>
                </a:lnTo>
                <a:lnTo>
                  <a:pt x="457592" y="45131"/>
                </a:lnTo>
                <a:lnTo>
                  <a:pt x="450723" y="38389"/>
                </a:lnTo>
                <a:lnTo>
                  <a:pt x="443603" y="32200"/>
                </a:lnTo>
                <a:lnTo>
                  <a:pt x="436317" y="26382"/>
                </a:lnTo>
                <a:lnTo>
                  <a:pt x="426379" y="21656"/>
                </a:lnTo>
                <a:lnTo>
                  <a:pt x="414674" y="17659"/>
                </a:lnTo>
                <a:lnTo>
                  <a:pt x="401791" y="14147"/>
                </a:lnTo>
                <a:lnTo>
                  <a:pt x="387275" y="10959"/>
                </a:lnTo>
                <a:lnTo>
                  <a:pt x="371672" y="7988"/>
                </a:lnTo>
                <a:lnTo>
                  <a:pt x="355342" y="5160"/>
                </a:lnTo>
                <a:lnTo>
                  <a:pt x="338529" y="3275"/>
                </a:lnTo>
                <a:lnTo>
                  <a:pt x="321394" y="2018"/>
                </a:lnTo>
                <a:lnTo>
                  <a:pt x="304044" y="1180"/>
                </a:lnTo>
                <a:lnTo>
                  <a:pt x="268962" y="249"/>
                </a:lnTo>
                <a:lnTo>
                  <a:pt x="251309" y="0"/>
                </a:lnTo>
                <a:lnTo>
                  <a:pt x="233614" y="682"/>
                </a:lnTo>
                <a:lnTo>
                  <a:pt x="215891" y="1983"/>
                </a:lnTo>
                <a:lnTo>
                  <a:pt x="198149" y="3696"/>
                </a:lnTo>
                <a:lnTo>
                  <a:pt x="180394" y="7379"/>
                </a:lnTo>
                <a:lnTo>
                  <a:pt x="162631" y="12374"/>
                </a:lnTo>
                <a:lnTo>
                  <a:pt x="95582" y="34596"/>
                </a:lnTo>
                <a:lnTo>
                  <a:pt x="81537" y="40679"/>
                </a:lnTo>
                <a:lnTo>
                  <a:pt x="68786" y="47274"/>
                </a:lnTo>
                <a:lnTo>
                  <a:pt x="56899" y="54211"/>
                </a:lnTo>
                <a:lnTo>
                  <a:pt x="46434" y="61375"/>
                </a:lnTo>
                <a:lnTo>
                  <a:pt x="36917" y="68691"/>
                </a:lnTo>
                <a:lnTo>
                  <a:pt x="28033" y="76109"/>
                </a:lnTo>
                <a:lnTo>
                  <a:pt x="21263" y="84440"/>
                </a:lnTo>
                <a:lnTo>
                  <a:pt x="15903" y="93382"/>
                </a:lnTo>
                <a:lnTo>
                  <a:pt x="11483" y="102729"/>
                </a:lnTo>
                <a:lnTo>
                  <a:pt x="7691" y="111501"/>
                </a:lnTo>
                <a:lnTo>
                  <a:pt x="4315" y="119889"/>
                </a:lnTo>
                <a:lnTo>
                  <a:pt x="1218" y="128020"/>
                </a:lnTo>
                <a:lnTo>
                  <a:pt x="0" y="136828"/>
                </a:lnTo>
                <a:lnTo>
                  <a:pt x="35" y="146087"/>
                </a:lnTo>
                <a:lnTo>
                  <a:pt x="905" y="155646"/>
                </a:lnTo>
                <a:lnTo>
                  <a:pt x="3178" y="164559"/>
                </a:lnTo>
                <a:lnTo>
                  <a:pt x="6386" y="173041"/>
                </a:lnTo>
                <a:lnTo>
                  <a:pt x="10219" y="181235"/>
                </a:lnTo>
                <a:lnTo>
                  <a:pt x="16161" y="188391"/>
                </a:lnTo>
                <a:lnTo>
                  <a:pt x="23509" y="194856"/>
                </a:lnTo>
                <a:lnTo>
                  <a:pt x="31794" y="200859"/>
                </a:lnTo>
                <a:lnTo>
                  <a:pt x="41551" y="207400"/>
                </a:lnTo>
                <a:lnTo>
                  <a:pt x="63680" y="221442"/>
                </a:lnTo>
                <a:lnTo>
                  <a:pt x="76355" y="227896"/>
                </a:lnTo>
                <a:lnTo>
                  <a:pt x="89885" y="233892"/>
                </a:lnTo>
                <a:lnTo>
                  <a:pt x="103984" y="239583"/>
                </a:lnTo>
                <a:lnTo>
                  <a:pt x="118464" y="244223"/>
                </a:lnTo>
                <a:lnTo>
                  <a:pt x="133197" y="248164"/>
                </a:lnTo>
                <a:lnTo>
                  <a:pt x="148100" y="251637"/>
                </a:lnTo>
                <a:lnTo>
                  <a:pt x="163115" y="255646"/>
                </a:lnTo>
                <a:lnTo>
                  <a:pt x="193344" y="264616"/>
                </a:lnTo>
                <a:lnTo>
                  <a:pt x="209364" y="267685"/>
                </a:lnTo>
                <a:lnTo>
                  <a:pt x="225971" y="269732"/>
                </a:lnTo>
                <a:lnTo>
                  <a:pt x="242969" y="271096"/>
                </a:lnTo>
                <a:lnTo>
                  <a:pt x="258534" y="272005"/>
                </a:lnTo>
                <a:lnTo>
                  <a:pt x="287117" y="273016"/>
                </a:lnTo>
                <a:lnTo>
                  <a:pt x="333031" y="273664"/>
                </a:lnTo>
                <a:lnTo>
                  <a:pt x="368404" y="27382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MARTInkAnnotation209"/>
          <p:cNvSpPr/>
          <p:nvPr/>
        </p:nvSpPr>
        <p:spPr>
          <a:xfrm>
            <a:off x="6637320" y="1874880"/>
            <a:ext cx="258840" cy="44280"/>
          </a:xfrm>
          <a:custGeom>
            <a:avLst/>
            <a:gdLst>
              <a:gd name="textAreaLeft" fmla="*/ 0 w 258840"/>
              <a:gd name="textAreaRight" fmla="*/ 259200 w 25884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59081" h="45303">
                <a:moveTo>
                  <a:pt x="0" y="0"/>
                </a:moveTo>
                <a:lnTo>
                  <a:pt x="0" y="6561"/>
                </a:lnTo>
                <a:lnTo>
                  <a:pt x="847" y="6914"/>
                </a:lnTo>
                <a:lnTo>
                  <a:pt x="4046" y="7306"/>
                </a:lnTo>
                <a:lnTo>
                  <a:pt x="6084" y="8258"/>
                </a:lnTo>
                <a:lnTo>
                  <a:pt x="8289" y="9738"/>
                </a:lnTo>
                <a:lnTo>
                  <a:pt x="10606" y="11572"/>
                </a:lnTo>
                <a:lnTo>
                  <a:pt x="12997" y="12795"/>
                </a:lnTo>
                <a:lnTo>
                  <a:pt x="17913" y="14153"/>
                </a:lnTo>
                <a:lnTo>
                  <a:pt x="22102" y="15362"/>
                </a:lnTo>
                <a:lnTo>
                  <a:pt x="33529" y="18963"/>
                </a:lnTo>
                <a:lnTo>
                  <a:pt x="39287" y="21109"/>
                </a:lnTo>
                <a:lnTo>
                  <a:pt x="44818" y="23386"/>
                </a:lnTo>
                <a:lnTo>
                  <a:pt x="50198" y="25751"/>
                </a:lnTo>
                <a:lnTo>
                  <a:pt x="57172" y="27327"/>
                </a:lnTo>
                <a:lnTo>
                  <a:pt x="65208" y="28378"/>
                </a:lnTo>
                <a:lnTo>
                  <a:pt x="73953" y="29079"/>
                </a:lnTo>
                <a:lnTo>
                  <a:pt x="84015" y="30393"/>
                </a:lnTo>
                <a:lnTo>
                  <a:pt x="94957" y="32115"/>
                </a:lnTo>
                <a:lnTo>
                  <a:pt x="118403" y="36287"/>
                </a:lnTo>
                <a:lnTo>
                  <a:pt x="142934" y="40963"/>
                </a:lnTo>
                <a:lnTo>
                  <a:pt x="156250" y="42549"/>
                </a:lnTo>
                <a:lnTo>
                  <a:pt x="170206" y="43606"/>
                </a:lnTo>
                <a:lnTo>
                  <a:pt x="195874" y="44780"/>
                </a:lnTo>
                <a:lnTo>
                  <a:pt x="212926" y="45302"/>
                </a:lnTo>
                <a:lnTo>
                  <a:pt x="221537" y="44595"/>
                </a:lnTo>
                <a:lnTo>
                  <a:pt x="230665" y="43277"/>
                </a:lnTo>
                <a:lnTo>
                  <a:pt x="259080" y="3810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MARTInkAnnotation210"/>
          <p:cNvSpPr/>
          <p:nvPr/>
        </p:nvSpPr>
        <p:spPr>
          <a:xfrm>
            <a:off x="7002360" y="1790640"/>
            <a:ext cx="84240" cy="220680"/>
          </a:xfrm>
          <a:custGeom>
            <a:avLst/>
            <a:gdLst>
              <a:gd name="textAreaLeft" fmla="*/ 0 w 84240"/>
              <a:gd name="textAreaRight" fmla="*/ 84600 w 842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83821" h="220981">
                <a:moveTo>
                  <a:pt x="0" y="0"/>
                </a:moveTo>
                <a:lnTo>
                  <a:pt x="0" y="6561"/>
                </a:lnTo>
                <a:lnTo>
                  <a:pt x="2258" y="9407"/>
                </a:lnTo>
                <a:lnTo>
                  <a:pt x="4046" y="11351"/>
                </a:lnTo>
                <a:lnTo>
                  <a:pt x="6084" y="14341"/>
                </a:lnTo>
                <a:lnTo>
                  <a:pt x="8289" y="18027"/>
                </a:lnTo>
                <a:lnTo>
                  <a:pt x="10606" y="22178"/>
                </a:lnTo>
                <a:lnTo>
                  <a:pt x="15438" y="31306"/>
                </a:lnTo>
                <a:lnTo>
                  <a:pt x="17912" y="36110"/>
                </a:lnTo>
                <a:lnTo>
                  <a:pt x="20408" y="41854"/>
                </a:lnTo>
                <a:lnTo>
                  <a:pt x="22919" y="48222"/>
                </a:lnTo>
                <a:lnTo>
                  <a:pt x="25440" y="55008"/>
                </a:lnTo>
                <a:lnTo>
                  <a:pt x="27120" y="62072"/>
                </a:lnTo>
                <a:lnTo>
                  <a:pt x="28240" y="69322"/>
                </a:lnTo>
                <a:lnTo>
                  <a:pt x="28986" y="76694"/>
                </a:lnTo>
                <a:lnTo>
                  <a:pt x="30331" y="84150"/>
                </a:lnTo>
                <a:lnTo>
                  <a:pt x="32074" y="91660"/>
                </a:lnTo>
                <a:lnTo>
                  <a:pt x="34083" y="99207"/>
                </a:lnTo>
                <a:lnTo>
                  <a:pt x="38572" y="114365"/>
                </a:lnTo>
                <a:lnTo>
                  <a:pt x="48353" y="144793"/>
                </a:lnTo>
                <a:lnTo>
                  <a:pt x="50016" y="152409"/>
                </a:lnTo>
                <a:lnTo>
                  <a:pt x="51124" y="160026"/>
                </a:lnTo>
                <a:lnTo>
                  <a:pt x="51862" y="167644"/>
                </a:lnTo>
                <a:lnTo>
                  <a:pt x="53202" y="174416"/>
                </a:lnTo>
                <a:lnTo>
                  <a:pt x="54941" y="180624"/>
                </a:lnTo>
                <a:lnTo>
                  <a:pt x="56947" y="186456"/>
                </a:lnTo>
                <a:lnTo>
                  <a:pt x="59132" y="191191"/>
                </a:lnTo>
                <a:lnTo>
                  <a:pt x="61435" y="195194"/>
                </a:lnTo>
                <a:lnTo>
                  <a:pt x="63817" y="198709"/>
                </a:lnTo>
                <a:lnTo>
                  <a:pt x="66251" y="201900"/>
                </a:lnTo>
                <a:lnTo>
                  <a:pt x="68721" y="204873"/>
                </a:lnTo>
                <a:lnTo>
                  <a:pt x="71214" y="207702"/>
                </a:lnTo>
                <a:lnTo>
                  <a:pt x="72876" y="210435"/>
                </a:lnTo>
                <a:lnTo>
                  <a:pt x="74723" y="215729"/>
                </a:lnTo>
                <a:lnTo>
                  <a:pt x="76062" y="217479"/>
                </a:lnTo>
                <a:lnTo>
                  <a:pt x="77802" y="218646"/>
                </a:lnTo>
                <a:lnTo>
                  <a:pt x="83820" y="22098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2066"/>
          <p:cNvSpPr/>
          <p:nvPr/>
        </p:nvSpPr>
        <p:spPr>
          <a:xfrm>
            <a:off x="7209000" y="1211400"/>
            <a:ext cx="1440" cy="360"/>
          </a:xfrm>
          <a:custGeom>
            <a:avLst/>
            <a:gdLst>
              <a:gd name="textAreaLeft" fmla="*/ 0 w 1440"/>
              <a:gd name="textAreaRight" fmla="*/ 1800 w 14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59" h="1">
                <a:moveTo>
                  <a:pt x="0" y="0"/>
                </a:moveTo>
                <a:lnTo>
                  <a:pt x="225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MARTInkAnnotation212"/>
          <p:cNvSpPr/>
          <p:nvPr/>
        </p:nvSpPr>
        <p:spPr>
          <a:xfrm>
            <a:off x="7216920" y="1143000"/>
            <a:ext cx="509400" cy="1042920"/>
          </a:xfrm>
          <a:custGeom>
            <a:avLst/>
            <a:gdLst>
              <a:gd name="textAreaLeft" fmla="*/ 0 w 509400"/>
              <a:gd name="textAreaRight" fmla="*/ 509760 w 509400"/>
              <a:gd name="textAreaTop" fmla="*/ 0 h 1042920"/>
              <a:gd name="textAreaBottom" fmla="*/ 1043280 h 1042920"/>
            </a:gdLst>
            <a:ahLst/>
            <a:rect l="textAreaLeft" t="textAreaTop" r="textAreaRight" b="textAreaBottom"/>
            <a:pathLst>
              <a:path w="510268" h="1043452">
                <a:moveTo>
                  <a:pt x="0" y="76068"/>
                </a:moveTo>
                <a:lnTo>
                  <a:pt x="34275" y="76068"/>
                </a:lnTo>
                <a:lnTo>
                  <a:pt x="47407" y="73810"/>
                </a:lnTo>
                <a:lnTo>
                  <a:pt x="61710" y="70831"/>
                </a:lnTo>
                <a:lnTo>
                  <a:pt x="76533" y="69507"/>
                </a:lnTo>
                <a:lnTo>
                  <a:pt x="91588" y="66661"/>
                </a:lnTo>
                <a:lnTo>
                  <a:pt x="106746" y="62574"/>
                </a:lnTo>
                <a:lnTo>
                  <a:pt x="130406" y="55512"/>
                </a:lnTo>
                <a:lnTo>
                  <a:pt x="158488" y="48058"/>
                </a:lnTo>
                <a:lnTo>
                  <a:pt x="178248" y="43017"/>
                </a:lnTo>
                <a:lnTo>
                  <a:pt x="187412" y="40487"/>
                </a:lnTo>
                <a:lnTo>
                  <a:pt x="204368" y="35419"/>
                </a:lnTo>
                <a:lnTo>
                  <a:pt x="228193" y="27805"/>
                </a:lnTo>
                <a:lnTo>
                  <a:pt x="241402" y="22727"/>
                </a:lnTo>
                <a:lnTo>
                  <a:pt x="252917" y="17647"/>
                </a:lnTo>
                <a:lnTo>
                  <a:pt x="268072" y="10028"/>
                </a:lnTo>
                <a:lnTo>
                  <a:pt x="275211" y="4948"/>
                </a:lnTo>
                <a:lnTo>
                  <a:pt x="279147" y="3255"/>
                </a:lnTo>
                <a:lnTo>
                  <a:pt x="291931" y="871"/>
                </a:lnTo>
                <a:lnTo>
                  <a:pt x="302937" y="0"/>
                </a:lnTo>
                <a:lnTo>
                  <a:pt x="303558" y="803"/>
                </a:lnTo>
                <a:lnTo>
                  <a:pt x="310758" y="23600"/>
                </a:lnTo>
                <a:lnTo>
                  <a:pt x="312201" y="55173"/>
                </a:lnTo>
                <a:lnTo>
                  <a:pt x="311508" y="82483"/>
                </a:lnTo>
                <a:lnTo>
                  <a:pt x="307163" y="112870"/>
                </a:lnTo>
                <a:lnTo>
                  <a:pt x="305850" y="136169"/>
                </a:lnTo>
                <a:lnTo>
                  <a:pt x="305267" y="160635"/>
                </a:lnTo>
                <a:lnTo>
                  <a:pt x="304161" y="185620"/>
                </a:lnTo>
                <a:lnTo>
                  <a:pt x="300847" y="210836"/>
                </a:lnTo>
                <a:lnTo>
                  <a:pt x="298810" y="236153"/>
                </a:lnTo>
                <a:lnTo>
                  <a:pt x="297056" y="262364"/>
                </a:lnTo>
                <a:lnTo>
                  <a:pt x="293457" y="290946"/>
                </a:lnTo>
                <a:lnTo>
                  <a:pt x="291292" y="322840"/>
                </a:lnTo>
                <a:lnTo>
                  <a:pt x="290330" y="355925"/>
                </a:lnTo>
                <a:lnTo>
                  <a:pt x="289627" y="449265"/>
                </a:lnTo>
                <a:lnTo>
                  <a:pt x="289590" y="479847"/>
                </a:lnTo>
                <a:lnTo>
                  <a:pt x="290427" y="495961"/>
                </a:lnTo>
                <a:lnTo>
                  <a:pt x="291831" y="512630"/>
                </a:lnTo>
                <a:lnTo>
                  <a:pt x="293615" y="529669"/>
                </a:lnTo>
                <a:lnTo>
                  <a:pt x="295595" y="562149"/>
                </a:lnTo>
                <a:lnTo>
                  <a:pt x="296475" y="593517"/>
                </a:lnTo>
                <a:lnTo>
                  <a:pt x="296866" y="624392"/>
                </a:lnTo>
                <a:lnTo>
                  <a:pt x="299298" y="655048"/>
                </a:lnTo>
                <a:lnTo>
                  <a:pt x="303200" y="685606"/>
                </a:lnTo>
                <a:lnTo>
                  <a:pt x="307758" y="716120"/>
                </a:lnTo>
                <a:lnTo>
                  <a:pt x="312606" y="744358"/>
                </a:lnTo>
                <a:lnTo>
                  <a:pt x="322616" y="796980"/>
                </a:lnTo>
                <a:lnTo>
                  <a:pt x="329934" y="822629"/>
                </a:lnTo>
                <a:lnTo>
                  <a:pt x="339677" y="847293"/>
                </a:lnTo>
                <a:lnTo>
                  <a:pt x="352474" y="869544"/>
                </a:lnTo>
                <a:lnTo>
                  <a:pt x="364371" y="890722"/>
                </a:lnTo>
                <a:lnTo>
                  <a:pt x="376149" y="910576"/>
                </a:lnTo>
                <a:lnTo>
                  <a:pt x="389851" y="927867"/>
                </a:lnTo>
                <a:lnTo>
                  <a:pt x="404406" y="944019"/>
                </a:lnTo>
                <a:lnTo>
                  <a:pt x="424624" y="965134"/>
                </a:lnTo>
                <a:lnTo>
                  <a:pt x="435948" y="977515"/>
                </a:lnTo>
                <a:lnTo>
                  <a:pt x="446625" y="991485"/>
                </a:lnTo>
                <a:lnTo>
                  <a:pt x="459273" y="1003902"/>
                </a:lnTo>
                <a:lnTo>
                  <a:pt x="472515" y="1014219"/>
                </a:lnTo>
                <a:lnTo>
                  <a:pt x="484043" y="1021626"/>
                </a:lnTo>
                <a:lnTo>
                  <a:pt x="494812" y="1027741"/>
                </a:lnTo>
                <a:lnTo>
                  <a:pt x="507433" y="1034519"/>
                </a:lnTo>
                <a:lnTo>
                  <a:pt x="508468" y="1035922"/>
                </a:lnTo>
                <a:lnTo>
                  <a:pt x="509160" y="1037704"/>
                </a:lnTo>
                <a:lnTo>
                  <a:pt x="510267" y="1042602"/>
                </a:lnTo>
                <a:lnTo>
                  <a:pt x="509511" y="1043004"/>
                </a:lnTo>
                <a:lnTo>
                  <a:pt x="506413" y="1043451"/>
                </a:lnTo>
                <a:lnTo>
                  <a:pt x="499956" y="1041392"/>
                </a:lnTo>
                <a:lnTo>
                  <a:pt x="495864" y="1039657"/>
                </a:lnTo>
                <a:lnTo>
                  <a:pt x="482287" y="1037730"/>
                </a:lnTo>
                <a:lnTo>
                  <a:pt x="473925" y="1037216"/>
                </a:lnTo>
                <a:lnTo>
                  <a:pt x="453345" y="1036645"/>
                </a:lnTo>
                <a:lnTo>
                  <a:pt x="441929" y="1036493"/>
                </a:lnTo>
                <a:lnTo>
                  <a:pt x="430086" y="1035544"/>
                </a:lnTo>
                <a:lnTo>
                  <a:pt x="417958" y="1034066"/>
                </a:lnTo>
                <a:lnTo>
                  <a:pt x="300068" y="1015785"/>
                </a:lnTo>
                <a:lnTo>
                  <a:pt x="258149" y="1008224"/>
                </a:lnTo>
                <a:lnTo>
                  <a:pt x="231854" y="1003157"/>
                </a:lnTo>
                <a:lnTo>
                  <a:pt x="219763" y="1001467"/>
                </a:lnTo>
                <a:lnTo>
                  <a:pt x="208315" y="1000341"/>
                </a:lnTo>
                <a:lnTo>
                  <a:pt x="197297" y="999590"/>
                </a:lnTo>
                <a:lnTo>
                  <a:pt x="188258" y="998243"/>
                </a:lnTo>
                <a:lnTo>
                  <a:pt x="173699" y="994488"/>
                </a:lnTo>
                <a:lnTo>
                  <a:pt x="160028" y="991659"/>
                </a:lnTo>
                <a:lnTo>
                  <a:pt x="154660" y="990821"/>
                </a:lnTo>
                <a:lnTo>
                  <a:pt x="153907" y="991550"/>
                </a:lnTo>
                <a:lnTo>
                  <a:pt x="153405" y="992883"/>
                </a:lnTo>
                <a:lnTo>
                  <a:pt x="152532" y="998249"/>
                </a:lnTo>
                <a:lnTo>
                  <a:pt x="152400" y="100570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MARTInkAnnotation213"/>
          <p:cNvSpPr/>
          <p:nvPr/>
        </p:nvSpPr>
        <p:spPr>
          <a:xfrm>
            <a:off x="3703680" y="4359240"/>
            <a:ext cx="228600" cy="6480"/>
          </a:xfrm>
          <a:custGeom>
            <a:avLst/>
            <a:gdLst>
              <a:gd name="textAreaLeft" fmla="*/ 0 w 228600"/>
              <a:gd name="textAreaRight" fmla="*/ 228960 w 2286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28601" h="7307">
                <a:moveTo>
                  <a:pt x="0" y="7306"/>
                </a:moveTo>
                <a:lnTo>
                  <a:pt x="50199" y="7306"/>
                </a:lnTo>
                <a:lnTo>
                  <a:pt x="57173" y="6460"/>
                </a:lnTo>
                <a:lnTo>
                  <a:pt x="65208" y="5049"/>
                </a:lnTo>
                <a:lnTo>
                  <a:pt x="73953" y="3261"/>
                </a:lnTo>
                <a:lnTo>
                  <a:pt x="81475" y="2069"/>
                </a:lnTo>
                <a:lnTo>
                  <a:pt x="88183" y="1275"/>
                </a:lnTo>
                <a:lnTo>
                  <a:pt x="94349" y="745"/>
                </a:lnTo>
                <a:lnTo>
                  <a:pt x="101846" y="392"/>
                </a:lnTo>
                <a:lnTo>
                  <a:pt x="119208" y="0"/>
                </a:lnTo>
                <a:lnTo>
                  <a:pt x="126885" y="742"/>
                </a:lnTo>
                <a:lnTo>
                  <a:pt x="133697" y="2084"/>
                </a:lnTo>
                <a:lnTo>
                  <a:pt x="139931" y="3824"/>
                </a:lnTo>
                <a:lnTo>
                  <a:pt x="145781" y="4985"/>
                </a:lnTo>
                <a:lnTo>
                  <a:pt x="151375" y="5759"/>
                </a:lnTo>
                <a:lnTo>
                  <a:pt x="156796" y="6275"/>
                </a:lnTo>
                <a:lnTo>
                  <a:pt x="162951" y="6618"/>
                </a:lnTo>
                <a:lnTo>
                  <a:pt x="176563" y="7000"/>
                </a:lnTo>
                <a:lnTo>
                  <a:pt x="199212" y="7266"/>
                </a:lnTo>
                <a:lnTo>
                  <a:pt x="228600" y="730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MARTInkAnnotation214"/>
          <p:cNvSpPr/>
          <p:nvPr/>
        </p:nvSpPr>
        <p:spPr>
          <a:xfrm>
            <a:off x="3726000" y="4449600"/>
            <a:ext cx="190440" cy="5040"/>
          </a:xfrm>
          <a:custGeom>
            <a:avLst/>
            <a:gdLst>
              <a:gd name="textAreaLeft" fmla="*/ 0 w 190440"/>
              <a:gd name="textAreaRight" fmla="*/ 190800 w 1904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90501" h="4391">
                <a:moveTo>
                  <a:pt x="0" y="0"/>
                </a:moveTo>
                <a:lnTo>
                  <a:pt x="91587" y="0"/>
                </a:lnTo>
                <a:lnTo>
                  <a:pt x="99158" y="846"/>
                </a:lnTo>
                <a:lnTo>
                  <a:pt x="106745" y="2258"/>
                </a:lnTo>
                <a:lnTo>
                  <a:pt x="114344" y="4045"/>
                </a:lnTo>
                <a:lnTo>
                  <a:pt x="121102" y="4390"/>
                </a:lnTo>
                <a:lnTo>
                  <a:pt x="127302" y="3773"/>
                </a:lnTo>
                <a:lnTo>
                  <a:pt x="133127" y="2516"/>
                </a:lnTo>
                <a:lnTo>
                  <a:pt x="138705" y="1677"/>
                </a:lnTo>
                <a:lnTo>
                  <a:pt x="144117" y="1118"/>
                </a:lnTo>
                <a:lnTo>
                  <a:pt x="149418" y="745"/>
                </a:lnTo>
                <a:lnTo>
                  <a:pt x="154646" y="497"/>
                </a:lnTo>
                <a:lnTo>
                  <a:pt x="164969" y="221"/>
                </a:lnTo>
                <a:lnTo>
                  <a:pt x="1905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MARTInkAnnotation215"/>
          <p:cNvSpPr/>
          <p:nvPr/>
        </p:nvSpPr>
        <p:spPr>
          <a:xfrm>
            <a:off x="4000680" y="3711600"/>
            <a:ext cx="411120" cy="1104840"/>
          </a:xfrm>
          <a:custGeom>
            <a:avLst/>
            <a:gdLst>
              <a:gd name="textAreaLeft" fmla="*/ 0 w 411120"/>
              <a:gd name="textAreaRight" fmla="*/ 411480 w 411120"/>
              <a:gd name="textAreaTop" fmla="*/ 0 h 1104840"/>
              <a:gd name="textAreaBottom" fmla="*/ 1105200 h 1104840"/>
            </a:gdLst>
            <a:ahLst/>
            <a:rect l="textAreaLeft" t="textAreaTop" r="textAreaRight" b="textAreaBottom"/>
            <a:pathLst>
              <a:path w="411444" h="1104786">
                <a:moveTo>
                  <a:pt x="411443" y="53238"/>
                </a:moveTo>
                <a:lnTo>
                  <a:pt x="411443" y="45711"/>
                </a:lnTo>
                <a:lnTo>
                  <a:pt x="400837" y="35020"/>
                </a:lnTo>
                <a:lnTo>
                  <a:pt x="397599" y="33473"/>
                </a:lnTo>
                <a:lnTo>
                  <a:pt x="389486" y="31754"/>
                </a:lnTo>
                <a:lnTo>
                  <a:pt x="377977" y="28731"/>
                </a:lnTo>
                <a:lnTo>
                  <a:pt x="364396" y="24566"/>
                </a:lnTo>
                <a:lnTo>
                  <a:pt x="349893" y="19893"/>
                </a:lnTo>
                <a:lnTo>
                  <a:pt x="341624" y="18308"/>
                </a:lnTo>
                <a:lnTo>
                  <a:pt x="332724" y="17251"/>
                </a:lnTo>
                <a:lnTo>
                  <a:pt x="323403" y="16547"/>
                </a:lnTo>
                <a:lnTo>
                  <a:pt x="313803" y="15230"/>
                </a:lnTo>
                <a:lnTo>
                  <a:pt x="304017" y="13506"/>
                </a:lnTo>
                <a:lnTo>
                  <a:pt x="294106" y="11510"/>
                </a:lnTo>
                <a:lnTo>
                  <a:pt x="284111" y="10179"/>
                </a:lnTo>
                <a:lnTo>
                  <a:pt x="274062" y="9292"/>
                </a:lnTo>
                <a:lnTo>
                  <a:pt x="263976" y="8701"/>
                </a:lnTo>
                <a:lnTo>
                  <a:pt x="253865" y="7460"/>
                </a:lnTo>
                <a:lnTo>
                  <a:pt x="243738" y="5786"/>
                </a:lnTo>
                <a:lnTo>
                  <a:pt x="233600" y="3823"/>
                </a:lnTo>
                <a:lnTo>
                  <a:pt x="224301" y="2515"/>
                </a:lnTo>
                <a:lnTo>
                  <a:pt x="215561" y="1643"/>
                </a:lnTo>
                <a:lnTo>
                  <a:pt x="207196" y="1061"/>
                </a:lnTo>
                <a:lnTo>
                  <a:pt x="199078" y="673"/>
                </a:lnTo>
                <a:lnTo>
                  <a:pt x="183286" y="242"/>
                </a:lnTo>
                <a:lnTo>
                  <a:pt x="164160" y="0"/>
                </a:lnTo>
                <a:lnTo>
                  <a:pt x="153091" y="2201"/>
                </a:lnTo>
                <a:lnTo>
                  <a:pt x="140278" y="6468"/>
                </a:lnTo>
                <a:lnTo>
                  <a:pt x="139227" y="7664"/>
                </a:lnTo>
                <a:lnTo>
                  <a:pt x="138525" y="9309"/>
                </a:lnTo>
                <a:lnTo>
                  <a:pt x="137539" y="15669"/>
                </a:lnTo>
                <a:lnTo>
                  <a:pt x="137206" y="29448"/>
                </a:lnTo>
                <a:lnTo>
                  <a:pt x="138024" y="33145"/>
                </a:lnTo>
                <a:lnTo>
                  <a:pt x="152565" y="67422"/>
                </a:lnTo>
                <a:lnTo>
                  <a:pt x="162563" y="96680"/>
                </a:lnTo>
                <a:lnTo>
                  <a:pt x="171206" y="148523"/>
                </a:lnTo>
                <a:lnTo>
                  <a:pt x="174034" y="178085"/>
                </a:lnTo>
                <a:lnTo>
                  <a:pt x="174871" y="212338"/>
                </a:lnTo>
                <a:lnTo>
                  <a:pt x="172808" y="236838"/>
                </a:lnTo>
                <a:lnTo>
                  <a:pt x="169917" y="261838"/>
                </a:lnTo>
                <a:lnTo>
                  <a:pt x="168632" y="287060"/>
                </a:lnTo>
                <a:lnTo>
                  <a:pt x="165803" y="312381"/>
                </a:lnTo>
                <a:lnTo>
                  <a:pt x="157088" y="367176"/>
                </a:lnTo>
                <a:lnTo>
                  <a:pt x="142173" y="450671"/>
                </a:lnTo>
                <a:lnTo>
                  <a:pt x="134852" y="480488"/>
                </a:lnTo>
                <a:lnTo>
                  <a:pt x="127647" y="509827"/>
                </a:lnTo>
                <a:lnTo>
                  <a:pt x="124445" y="536978"/>
                </a:lnTo>
                <a:lnTo>
                  <a:pt x="118507" y="565413"/>
                </a:lnTo>
                <a:lnTo>
                  <a:pt x="111916" y="595832"/>
                </a:lnTo>
                <a:lnTo>
                  <a:pt x="105427" y="661393"/>
                </a:lnTo>
                <a:lnTo>
                  <a:pt x="101023" y="691829"/>
                </a:lnTo>
                <a:lnTo>
                  <a:pt x="86276" y="776941"/>
                </a:lnTo>
                <a:lnTo>
                  <a:pt x="71079" y="860028"/>
                </a:lnTo>
                <a:lnTo>
                  <a:pt x="55843" y="931707"/>
                </a:lnTo>
                <a:lnTo>
                  <a:pt x="45683" y="974683"/>
                </a:lnTo>
                <a:lnTo>
                  <a:pt x="35524" y="1015785"/>
                </a:lnTo>
                <a:lnTo>
                  <a:pt x="25363" y="1049586"/>
                </a:lnTo>
                <a:lnTo>
                  <a:pt x="18591" y="1067931"/>
                </a:lnTo>
                <a:lnTo>
                  <a:pt x="15360" y="1083244"/>
                </a:lnTo>
                <a:lnTo>
                  <a:pt x="11604" y="1090421"/>
                </a:lnTo>
                <a:lnTo>
                  <a:pt x="0" y="1104755"/>
                </a:lnTo>
                <a:lnTo>
                  <a:pt x="4019" y="1104785"/>
                </a:lnTo>
                <a:lnTo>
                  <a:pt x="5207" y="1103943"/>
                </a:lnTo>
                <a:lnTo>
                  <a:pt x="6000" y="1102534"/>
                </a:lnTo>
                <a:lnTo>
                  <a:pt x="6527" y="1100749"/>
                </a:lnTo>
                <a:lnTo>
                  <a:pt x="18696" y="1086563"/>
                </a:lnTo>
                <a:lnTo>
                  <a:pt x="28279" y="1076629"/>
                </a:lnTo>
                <a:lnTo>
                  <a:pt x="36820" y="1068007"/>
                </a:lnTo>
                <a:lnTo>
                  <a:pt x="46259" y="1060788"/>
                </a:lnTo>
                <a:lnTo>
                  <a:pt x="56100" y="1053912"/>
                </a:lnTo>
                <a:lnTo>
                  <a:pt x="66117" y="1045211"/>
                </a:lnTo>
                <a:lnTo>
                  <a:pt x="78472" y="1037957"/>
                </a:lnTo>
                <a:lnTo>
                  <a:pt x="85323" y="1034838"/>
                </a:lnTo>
                <a:lnTo>
                  <a:pt x="92429" y="1031911"/>
                </a:lnTo>
                <a:lnTo>
                  <a:pt x="99708" y="1029113"/>
                </a:lnTo>
                <a:lnTo>
                  <a:pt x="114568" y="1023747"/>
                </a:lnTo>
                <a:lnTo>
                  <a:pt x="129638" y="1018539"/>
                </a:lnTo>
                <a:lnTo>
                  <a:pt x="138060" y="1016813"/>
                </a:lnTo>
                <a:lnTo>
                  <a:pt x="147061" y="1015661"/>
                </a:lnTo>
                <a:lnTo>
                  <a:pt x="156449" y="1014893"/>
                </a:lnTo>
                <a:lnTo>
                  <a:pt x="165247" y="1014382"/>
                </a:lnTo>
                <a:lnTo>
                  <a:pt x="181796" y="1013813"/>
                </a:lnTo>
                <a:lnTo>
                  <a:pt x="230987" y="1013398"/>
                </a:lnTo>
                <a:lnTo>
                  <a:pt x="237799" y="1014232"/>
                </a:lnTo>
                <a:lnTo>
                  <a:pt x="244881" y="1015633"/>
                </a:lnTo>
                <a:lnTo>
                  <a:pt x="252141" y="1017415"/>
                </a:lnTo>
                <a:lnTo>
                  <a:pt x="264725" y="1021652"/>
                </a:lnTo>
                <a:lnTo>
                  <a:pt x="275962" y="1025511"/>
                </a:lnTo>
                <a:lnTo>
                  <a:pt x="286601" y="1027226"/>
                </a:lnTo>
                <a:lnTo>
                  <a:pt x="294715" y="1030246"/>
                </a:lnTo>
                <a:lnTo>
                  <a:pt x="301144" y="1033564"/>
                </a:lnTo>
                <a:lnTo>
                  <a:pt x="309524" y="1036278"/>
                </a:lnTo>
                <a:lnTo>
                  <a:pt x="317368" y="1041222"/>
                </a:lnTo>
                <a:lnTo>
                  <a:pt x="327624" y="104383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MARTInkAnnotation216"/>
          <p:cNvSpPr/>
          <p:nvPr/>
        </p:nvSpPr>
        <p:spPr>
          <a:xfrm>
            <a:off x="4351320" y="3840120"/>
            <a:ext cx="212760" cy="174600"/>
          </a:xfrm>
          <a:custGeom>
            <a:avLst/>
            <a:gdLst>
              <a:gd name="textAreaLeft" fmla="*/ 0 w 212760"/>
              <a:gd name="textAreaRight" fmla="*/ 213120 w 2127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12644" h="173633">
                <a:moveTo>
                  <a:pt x="60855" y="0"/>
                </a:moveTo>
                <a:lnTo>
                  <a:pt x="56810" y="0"/>
                </a:lnTo>
                <a:lnTo>
                  <a:pt x="55618" y="847"/>
                </a:lnTo>
                <a:lnTo>
                  <a:pt x="54824" y="2258"/>
                </a:lnTo>
                <a:lnTo>
                  <a:pt x="53549" y="6561"/>
                </a:lnTo>
                <a:lnTo>
                  <a:pt x="51117" y="11665"/>
                </a:lnTo>
                <a:lnTo>
                  <a:pt x="49283" y="15396"/>
                </a:lnTo>
                <a:lnTo>
                  <a:pt x="47214" y="18731"/>
                </a:lnTo>
                <a:lnTo>
                  <a:pt x="44988" y="21801"/>
                </a:lnTo>
                <a:lnTo>
                  <a:pt x="42657" y="24694"/>
                </a:lnTo>
                <a:lnTo>
                  <a:pt x="40256" y="27470"/>
                </a:lnTo>
                <a:lnTo>
                  <a:pt x="35331" y="32811"/>
                </a:lnTo>
                <a:lnTo>
                  <a:pt x="32833" y="36267"/>
                </a:lnTo>
                <a:lnTo>
                  <a:pt x="30320" y="40265"/>
                </a:lnTo>
                <a:lnTo>
                  <a:pt x="27798" y="44623"/>
                </a:lnTo>
                <a:lnTo>
                  <a:pt x="25271" y="48375"/>
                </a:lnTo>
                <a:lnTo>
                  <a:pt x="22738" y="51724"/>
                </a:lnTo>
                <a:lnTo>
                  <a:pt x="20204" y="54803"/>
                </a:lnTo>
                <a:lnTo>
                  <a:pt x="17668" y="57702"/>
                </a:lnTo>
                <a:lnTo>
                  <a:pt x="15129" y="60481"/>
                </a:lnTo>
                <a:lnTo>
                  <a:pt x="12592" y="63181"/>
                </a:lnTo>
                <a:lnTo>
                  <a:pt x="10899" y="65827"/>
                </a:lnTo>
                <a:lnTo>
                  <a:pt x="9019" y="71025"/>
                </a:lnTo>
                <a:lnTo>
                  <a:pt x="5925" y="76158"/>
                </a:lnTo>
                <a:lnTo>
                  <a:pt x="0" y="83687"/>
                </a:lnTo>
                <a:lnTo>
                  <a:pt x="4457" y="83761"/>
                </a:lnTo>
                <a:lnTo>
                  <a:pt x="8016" y="83780"/>
                </a:lnTo>
                <a:lnTo>
                  <a:pt x="12083" y="82947"/>
                </a:lnTo>
                <a:lnTo>
                  <a:pt x="16487" y="81545"/>
                </a:lnTo>
                <a:lnTo>
                  <a:pt x="21116" y="79763"/>
                </a:lnTo>
                <a:lnTo>
                  <a:pt x="25896" y="77729"/>
                </a:lnTo>
                <a:lnTo>
                  <a:pt x="35722" y="73211"/>
                </a:lnTo>
                <a:lnTo>
                  <a:pt x="41560" y="71667"/>
                </a:lnTo>
                <a:lnTo>
                  <a:pt x="47991" y="70638"/>
                </a:lnTo>
                <a:lnTo>
                  <a:pt x="54819" y="69952"/>
                </a:lnTo>
                <a:lnTo>
                  <a:pt x="62758" y="69495"/>
                </a:lnTo>
                <a:lnTo>
                  <a:pt x="80610" y="68986"/>
                </a:lnTo>
                <a:lnTo>
                  <a:pt x="133207" y="68616"/>
                </a:lnTo>
                <a:lnTo>
                  <a:pt x="154730" y="68591"/>
                </a:lnTo>
                <a:lnTo>
                  <a:pt x="161539" y="69434"/>
                </a:lnTo>
                <a:lnTo>
                  <a:pt x="168617" y="70843"/>
                </a:lnTo>
                <a:lnTo>
                  <a:pt x="175877" y="72629"/>
                </a:lnTo>
                <a:lnTo>
                  <a:pt x="182409" y="74666"/>
                </a:lnTo>
                <a:lnTo>
                  <a:pt x="188458" y="76871"/>
                </a:lnTo>
                <a:lnTo>
                  <a:pt x="194184" y="79187"/>
                </a:lnTo>
                <a:lnTo>
                  <a:pt x="198848" y="82425"/>
                </a:lnTo>
                <a:lnTo>
                  <a:pt x="202803" y="86277"/>
                </a:lnTo>
                <a:lnTo>
                  <a:pt x="206288" y="90538"/>
                </a:lnTo>
                <a:lnTo>
                  <a:pt x="208610" y="94225"/>
                </a:lnTo>
                <a:lnTo>
                  <a:pt x="210158" y="97530"/>
                </a:lnTo>
                <a:lnTo>
                  <a:pt x="211191" y="100580"/>
                </a:lnTo>
                <a:lnTo>
                  <a:pt x="211879" y="104307"/>
                </a:lnTo>
                <a:lnTo>
                  <a:pt x="212338" y="108485"/>
                </a:lnTo>
                <a:lnTo>
                  <a:pt x="212643" y="112963"/>
                </a:lnTo>
                <a:lnTo>
                  <a:pt x="212001" y="116795"/>
                </a:lnTo>
                <a:lnTo>
                  <a:pt x="210726" y="120197"/>
                </a:lnTo>
                <a:lnTo>
                  <a:pt x="209029" y="123311"/>
                </a:lnTo>
                <a:lnTo>
                  <a:pt x="206204" y="127081"/>
                </a:lnTo>
                <a:lnTo>
                  <a:pt x="202628" y="131287"/>
                </a:lnTo>
                <a:lnTo>
                  <a:pt x="198550" y="135785"/>
                </a:lnTo>
                <a:lnTo>
                  <a:pt x="189504" y="145298"/>
                </a:lnTo>
                <a:lnTo>
                  <a:pt x="184721" y="150205"/>
                </a:lnTo>
                <a:lnTo>
                  <a:pt x="179839" y="154324"/>
                </a:lnTo>
                <a:lnTo>
                  <a:pt x="174891" y="157916"/>
                </a:lnTo>
                <a:lnTo>
                  <a:pt x="169899" y="161157"/>
                </a:lnTo>
                <a:lnTo>
                  <a:pt x="164032" y="164165"/>
                </a:lnTo>
                <a:lnTo>
                  <a:pt x="157579" y="167017"/>
                </a:lnTo>
                <a:lnTo>
                  <a:pt x="150737" y="169765"/>
                </a:lnTo>
                <a:lnTo>
                  <a:pt x="144484" y="171596"/>
                </a:lnTo>
                <a:lnTo>
                  <a:pt x="138620" y="172818"/>
                </a:lnTo>
                <a:lnTo>
                  <a:pt x="133019" y="173632"/>
                </a:lnTo>
                <a:lnTo>
                  <a:pt x="126744" y="173328"/>
                </a:lnTo>
                <a:lnTo>
                  <a:pt x="120021" y="172279"/>
                </a:lnTo>
                <a:lnTo>
                  <a:pt x="112999" y="170733"/>
                </a:lnTo>
                <a:lnTo>
                  <a:pt x="106624" y="169702"/>
                </a:lnTo>
                <a:lnTo>
                  <a:pt x="100681" y="169014"/>
                </a:lnTo>
                <a:lnTo>
                  <a:pt x="95026" y="168556"/>
                </a:lnTo>
                <a:lnTo>
                  <a:pt x="90409" y="167404"/>
                </a:lnTo>
                <a:lnTo>
                  <a:pt x="86485" y="165789"/>
                </a:lnTo>
                <a:lnTo>
                  <a:pt x="76095" y="1600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MARTInkAnnotation217"/>
          <p:cNvSpPr/>
          <p:nvPr/>
        </p:nvSpPr>
        <p:spPr>
          <a:xfrm>
            <a:off x="4403880" y="3817800"/>
            <a:ext cx="198360" cy="7920"/>
          </a:xfrm>
          <a:custGeom>
            <a:avLst/>
            <a:gdLst>
              <a:gd name="textAreaLeft" fmla="*/ 0 w 198360"/>
              <a:gd name="textAreaRight" fmla="*/ 198720 w 198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98121" h="7619">
                <a:moveTo>
                  <a:pt x="0" y="7618"/>
                </a:moveTo>
                <a:lnTo>
                  <a:pt x="4045" y="3573"/>
                </a:lnTo>
                <a:lnTo>
                  <a:pt x="6930" y="2382"/>
                </a:lnTo>
                <a:lnTo>
                  <a:pt x="10546" y="1587"/>
                </a:lnTo>
                <a:lnTo>
                  <a:pt x="14651" y="1057"/>
                </a:lnTo>
                <a:lnTo>
                  <a:pt x="19080" y="704"/>
                </a:lnTo>
                <a:lnTo>
                  <a:pt x="23727" y="469"/>
                </a:lnTo>
                <a:lnTo>
                  <a:pt x="28518" y="312"/>
                </a:lnTo>
                <a:lnTo>
                  <a:pt x="69994" y="40"/>
                </a:lnTo>
                <a:lnTo>
                  <a:pt x="139783" y="0"/>
                </a:lnTo>
                <a:lnTo>
                  <a:pt x="148221" y="846"/>
                </a:lnTo>
                <a:lnTo>
                  <a:pt x="155541" y="2257"/>
                </a:lnTo>
                <a:lnTo>
                  <a:pt x="162114" y="4044"/>
                </a:lnTo>
                <a:lnTo>
                  <a:pt x="169036" y="5235"/>
                </a:lnTo>
                <a:lnTo>
                  <a:pt x="176191" y="6030"/>
                </a:lnTo>
                <a:lnTo>
                  <a:pt x="198120" y="761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MARTInkAnnotation218"/>
          <p:cNvSpPr/>
          <p:nvPr/>
        </p:nvSpPr>
        <p:spPr>
          <a:xfrm>
            <a:off x="4716360" y="3894120"/>
            <a:ext cx="182520" cy="7920"/>
          </a:xfrm>
          <a:custGeom>
            <a:avLst/>
            <a:gdLst>
              <a:gd name="textAreaLeft" fmla="*/ 0 w 182520"/>
              <a:gd name="textAreaRight" fmla="*/ 182880 w 182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82881" h="7622">
                <a:moveTo>
                  <a:pt x="0" y="7621"/>
                </a:moveTo>
                <a:lnTo>
                  <a:pt x="4045" y="7621"/>
                </a:lnTo>
                <a:lnTo>
                  <a:pt x="6931" y="6774"/>
                </a:lnTo>
                <a:lnTo>
                  <a:pt x="10546" y="5363"/>
                </a:lnTo>
                <a:lnTo>
                  <a:pt x="14651" y="3575"/>
                </a:lnTo>
                <a:lnTo>
                  <a:pt x="18234" y="2384"/>
                </a:lnTo>
                <a:lnTo>
                  <a:pt x="21469" y="1589"/>
                </a:lnTo>
                <a:lnTo>
                  <a:pt x="24473" y="1059"/>
                </a:lnTo>
                <a:lnTo>
                  <a:pt x="29862" y="706"/>
                </a:lnTo>
                <a:lnTo>
                  <a:pt x="36841" y="471"/>
                </a:lnTo>
                <a:lnTo>
                  <a:pt x="62845" y="140"/>
                </a:lnTo>
                <a:lnTo>
                  <a:pt x="1828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MARTInkAnnotation219"/>
          <p:cNvSpPr/>
          <p:nvPr/>
        </p:nvSpPr>
        <p:spPr>
          <a:xfrm>
            <a:off x="4986360" y="3726000"/>
            <a:ext cx="162000" cy="350640"/>
          </a:xfrm>
          <a:custGeom>
            <a:avLst/>
            <a:gdLst>
              <a:gd name="textAreaLeft" fmla="*/ 0 w 162000"/>
              <a:gd name="textAreaRight" fmla="*/ 162360 w 16200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161223" h="350094">
                <a:moveTo>
                  <a:pt x="134205" y="60534"/>
                </a:moveTo>
                <a:lnTo>
                  <a:pt x="153083" y="41655"/>
                </a:lnTo>
                <a:lnTo>
                  <a:pt x="154411" y="39481"/>
                </a:lnTo>
                <a:lnTo>
                  <a:pt x="157125" y="31530"/>
                </a:lnTo>
                <a:lnTo>
                  <a:pt x="160761" y="23372"/>
                </a:lnTo>
                <a:lnTo>
                  <a:pt x="161222" y="20519"/>
                </a:lnTo>
                <a:lnTo>
                  <a:pt x="160683" y="18617"/>
                </a:lnTo>
                <a:lnTo>
                  <a:pt x="155879" y="13683"/>
                </a:lnTo>
                <a:lnTo>
                  <a:pt x="146670" y="4430"/>
                </a:lnTo>
                <a:lnTo>
                  <a:pt x="142515" y="2811"/>
                </a:lnTo>
                <a:lnTo>
                  <a:pt x="137205" y="1732"/>
                </a:lnTo>
                <a:lnTo>
                  <a:pt x="131125" y="1012"/>
                </a:lnTo>
                <a:lnTo>
                  <a:pt x="124532" y="533"/>
                </a:lnTo>
                <a:lnTo>
                  <a:pt x="117596" y="213"/>
                </a:lnTo>
                <a:lnTo>
                  <a:pt x="110433" y="0"/>
                </a:lnTo>
                <a:lnTo>
                  <a:pt x="103964" y="704"/>
                </a:lnTo>
                <a:lnTo>
                  <a:pt x="97957" y="2021"/>
                </a:lnTo>
                <a:lnTo>
                  <a:pt x="92260" y="3745"/>
                </a:lnTo>
                <a:lnTo>
                  <a:pt x="85075" y="6588"/>
                </a:lnTo>
                <a:lnTo>
                  <a:pt x="76899" y="10176"/>
                </a:lnTo>
                <a:lnTo>
                  <a:pt x="68061" y="14262"/>
                </a:lnTo>
                <a:lnTo>
                  <a:pt x="59629" y="18679"/>
                </a:lnTo>
                <a:lnTo>
                  <a:pt x="51468" y="23317"/>
                </a:lnTo>
                <a:lnTo>
                  <a:pt x="43487" y="28103"/>
                </a:lnTo>
                <a:lnTo>
                  <a:pt x="36473" y="33833"/>
                </a:lnTo>
                <a:lnTo>
                  <a:pt x="30103" y="40193"/>
                </a:lnTo>
                <a:lnTo>
                  <a:pt x="24164" y="46973"/>
                </a:lnTo>
                <a:lnTo>
                  <a:pt x="18511" y="53187"/>
                </a:lnTo>
                <a:lnTo>
                  <a:pt x="7715" y="64606"/>
                </a:lnTo>
                <a:lnTo>
                  <a:pt x="4158" y="70868"/>
                </a:lnTo>
                <a:lnTo>
                  <a:pt x="1788" y="77583"/>
                </a:lnTo>
                <a:lnTo>
                  <a:pt x="206" y="84600"/>
                </a:lnTo>
                <a:lnTo>
                  <a:pt x="0" y="90971"/>
                </a:lnTo>
                <a:lnTo>
                  <a:pt x="709" y="96912"/>
                </a:lnTo>
                <a:lnTo>
                  <a:pt x="2028" y="102566"/>
                </a:lnTo>
                <a:lnTo>
                  <a:pt x="3753" y="108875"/>
                </a:lnTo>
                <a:lnTo>
                  <a:pt x="7929" y="122658"/>
                </a:lnTo>
                <a:lnTo>
                  <a:pt x="11074" y="129043"/>
                </a:lnTo>
                <a:lnTo>
                  <a:pt x="14864" y="134993"/>
                </a:lnTo>
                <a:lnTo>
                  <a:pt x="19085" y="140653"/>
                </a:lnTo>
                <a:lnTo>
                  <a:pt x="24439" y="145273"/>
                </a:lnTo>
                <a:lnTo>
                  <a:pt x="30547" y="149200"/>
                </a:lnTo>
                <a:lnTo>
                  <a:pt x="37160" y="152664"/>
                </a:lnTo>
                <a:lnTo>
                  <a:pt x="44109" y="156667"/>
                </a:lnTo>
                <a:lnTo>
                  <a:pt x="51280" y="161029"/>
                </a:lnTo>
                <a:lnTo>
                  <a:pt x="58602" y="165631"/>
                </a:lnTo>
                <a:lnTo>
                  <a:pt x="65176" y="168698"/>
                </a:lnTo>
                <a:lnTo>
                  <a:pt x="71252" y="170743"/>
                </a:lnTo>
                <a:lnTo>
                  <a:pt x="76996" y="172107"/>
                </a:lnTo>
                <a:lnTo>
                  <a:pt x="82520" y="173015"/>
                </a:lnTo>
                <a:lnTo>
                  <a:pt x="87895" y="173622"/>
                </a:lnTo>
                <a:lnTo>
                  <a:pt x="93171" y="174025"/>
                </a:lnTo>
                <a:lnTo>
                  <a:pt x="98383" y="174294"/>
                </a:lnTo>
                <a:lnTo>
                  <a:pt x="108689" y="174594"/>
                </a:lnTo>
                <a:lnTo>
                  <a:pt x="113807" y="173827"/>
                </a:lnTo>
                <a:lnTo>
                  <a:pt x="118913" y="172469"/>
                </a:lnTo>
                <a:lnTo>
                  <a:pt x="124011" y="170717"/>
                </a:lnTo>
                <a:lnTo>
                  <a:pt x="128256" y="167856"/>
                </a:lnTo>
                <a:lnTo>
                  <a:pt x="131932" y="164255"/>
                </a:lnTo>
                <a:lnTo>
                  <a:pt x="135229" y="160161"/>
                </a:lnTo>
                <a:lnTo>
                  <a:pt x="138275" y="156585"/>
                </a:lnTo>
                <a:lnTo>
                  <a:pt x="141151" y="153355"/>
                </a:lnTo>
                <a:lnTo>
                  <a:pt x="146605" y="147507"/>
                </a:lnTo>
                <a:lnTo>
                  <a:pt x="155521" y="138319"/>
                </a:lnTo>
                <a:lnTo>
                  <a:pt x="156035" y="136944"/>
                </a:lnTo>
                <a:lnTo>
                  <a:pt x="156607" y="133158"/>
                </a:lnTo>
                <a:lnTo>
                  <a:pt x="155913" y="131810"/>
                </a:lnTo>
                <a:lnTo>
                  <a:pt x="154604" y="130911"/>
                </a:lnTo>
                <a:lnTo>
                  <a:pt x="150463" y="129468"/>
                </a:lnTo>
                <a:lnTo>
                  <a:pt x="147640" y="131529"/>
                </a:lnTo>
                <a:lnTo>
                  <a:pt x="143562" y="135267"/>
                </a:lnTo>
                <a:lnTo>
                  <a:pt x="138928" y="139750"/>
                </a:lnTo>
                <a:lnTo>
                  <a:pt x="137354" y="142978"/>
                </a:lnTo>
                <a:lnTo>
                  <a:pt x="135604" y="151080"/>
                </a:lnTo>
                <a:lnTo>
                  <a:pt x="133445" y="155611"/>
                </a:lnTo>
                <a:lnTo>
                  <a:pt x="130311" y="160325"/>
                </a:lnTo>
                <a:lnTo>
                  <a:pt x="126529" y="165161"/>
                </a:lnTo>
                <a:lnTo>
                  <a:pt x="124008" y="170925"/>
                </a:lnTo>
                <a:lnTo>
                  <a:pt x="122326" y="177308"/>
                </a:lnTo>
                <a:lnTo>
                  <a:pt x="121206" y="184103"/>
                </a:lnTo>
                <a:lnTo>
                  <a:pt x="119612" y="191173"/>
                </a:lnTo>
                <a:lnTo>
                  <a:pt x="117703" y="198427"/>
                </a:lnTo>
                <a:lnTo>
                  <a:pt x="115584" y="205802"/>
                </a:lnTo>
                <a:lnTo>
                  <a:pt x="114171" y="213259"/>
                </a:lnTo>
                <a:lnTo>
                  <a:pt x="113229" y="220771"/>
                </a:lnTo>
                <a:lnTo>
                  <a:pt x="112601" y="228318"/>
                </a:lnTo>
                <a:lnTo>
                  <a:pt x="113029" y="235890"/>
                </a:lnTo>
                <a:lnTo>
                  <a:pt x="114161" y="243478"/>
                </a:lnTo>
                <a:lnTo>
                  <a:pt x="115762" y="251076"/>
                </a:lnTo>
                <a:lnTo>
                  <a:pt x="116830" y="259528"/>
                </a:lnTo>
                <a:lnTo>
                  <a:pt x="117542" y="268550"/>
                </a:lnTo>
                <a:lnTo>
                  <a:pt x="118016" y="277951"/>
                </a:lnTo>
                <a:lnTo>
                  <a:pt x="119179" y="285912"/>
                </a:lnTo>
                <a:lnTo>
                  <a:pt x="120801" y="292912"/>
                </a:lnTo>
                <a:lnTo>
                  <a:pt x="122729" y="299272"/>
                </a:lnTo>
                <a:lnTo>
                  <a:pt x="124015" y="306053"/>
                </a:lnTo>
                <a:lnTo>
                  <a:pt x="124872" y="313113"/>
                </a:lnTo>
                <a:lnTo>
                  <a:pt x="125443" y="320360"/>
                </a:lnTo>
                <a:lnTo>
                  <a:pt x="125823" y="326884"/>
                </a:lnTo>
                <a:lnTo>
                  <a:pt x="126585" y="35009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MARTInkAnnotation220"/>
          <p:cNvSpPr/>
          <p:nvPr/>
        </p:nvSpPr>
        <p:spPr>
          <a:xfrm>
            <a:off x="4183200" y="4199040"/>
            <a:ext cx="163440" cy="166680"/>
          </a:xfrm>
          <a:custGeom>
            <a:avLst/>
            <a:gdLst>
              <a:gd name="textAreaLeft" fmla="*/ 0 w 163440"/>
              <a:gd name="textAreaRight" fmla="*/ 163800 w 163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63258" h="167545">
                <a:moveTo>
                  <a:pt x="22860" y="30384"/>
                </a:moveTo>
                <a:lnTo>
                  <a:pt x="22860" y="23078"/>
                </a:lnTo>
                <a:lnTo>
                  <a:pt x="26905" y="18812"/>
                </a:lnTo>
                <a:lnTo>
                  <a:pt x="29421" y="16231"/>
                </a:lnTo>
                <a:lnTo>
                  <a:pt x="31467" y="15022"/>
                </a:lnTo>
                <a:lnTo>
                  <a:pt x="34525" y="13369"/>
                </a:lnTo>
                <a:lnTo>
                  <a:pt x="38257" y="11421"/>
                </a:lnTo>
                <a:lnTo>
                  <a:pt x="41591" y="10122"/>
                </a:lnTo>
                <a:lnTo>
                  <a:pt x="44661" y="9256"/>
                </a:lnTo>
                <a:lnTo>
                  <a:pt x="47554" y="8678"/>
                </a:lnTo>
                <a:lnTo>
                  <a:pt x="50329" y="8294"/>
                </a:lnTo>
                <a:lnTo>
                  <a:pt x="53026" y="8037"/>
                </a:lnTo>
                <a:lnTo>
                  <a:pt x="55671" y="7866"/>
                </a:lnTo>
                <a:lnTo>
                  <a:pt x="58281" y="6906"/>
                </a:lnTo>
                <a:lnTo>
                  <a:pt x="60867" y="5418"/>
                </a:lnTo>
                <a:lnTo>
                  <a:pt x="63438" y="3580"/>
                </a:lnTo>
                <a:lnTo>
                  <a:pt x="66845" y="2355"/>
                </a:lnTo>
                <a:lnTo>
                  <a:pt x="70810" y="1538"/>
                </a:lnTo>
                <a:lnTo>
                  <a:pt x="75147" y="993"/>
                </a:lnTo>
                <a:lnTo>
                  <a:pt x="79731" y="630"/>
                </a:lnTo>
                <a:lnTo>
                  <a:pt x="84480" y="388"/>
                </a:lnTo>
                <a:lnTo>
                  <a:pt x="94273" y="120"/>
                </a:lnTo>
                <a:lnTo>
                  <a:pt x="104271" y="0"/>
                </a:lnTo>
                <a:lnTo>
                  <a:pt x="109307" y="815"/>
                </a:lnTo>
                <a:lnTo>
                  <a:pt x="114357" y="2204"/>
                </a:lnTo>
                <a:lnTo>
                  <a:pt x="119419" y="3978"/>
                </a:lnTo>
                <a:lnTo>
                  <a:pt x="123639" y="5160"/>
                </a:lnTo>
                <a:lnTo>
                  <a:pt x="127299" y="5948"/>
                </a:lnTo>
                <a:lnTo>
                  <a:pt x="130585" y="6473"/>
                </a:lnTo>
                <a:lnTo>
                  <a:pt x="133624" y="7670"/>
                </a:lnTo>
                <a:lnTo>
                  <a:pt x="136495" y="9316"/>
                </a:lnTo>
                <a:lnTo>
                  <a:pt x="139257" y="11258"/>
                </a:lnTo>
                <a:lnTo>
                  <a:pt x="141945" y="13400"/>
                </a:lnTo>
                <a:lnTo>
                  <a:pt x="144583" y="15675"/>
                </a:lnTo>
                <a:lnTo>
                  <a:pt x="147188" y="18038"/>
                </a:lnTo>
                <a:lnTo>
                  <a:pt x="148926" y="20460"/>
                </a:lnTo>
                <a:lnTo>
                  <a:pt x="150856" y="25409"/>
                </a:lnTo>
                <a:lnTo>
                  <a:pt x="151713" y="30431"/>
                </a:lnTo>
                <a:lnTo>
                  <a:pt x="151942" y="32955"/>
                </a:lnTo>
                <a:lnTo>
                  <a:pt x="151248" y="35485"/>
                </a:lnTo>
                <a:lnTo>
                  <a:pt x="148219" y="40553"/>
                </a:lnTo>
                <a:lnTo>
                  <a:pt x="145379" y="43090"/>
                </a:lnTo>
                <a:lnTo>
                  <a:pt x="141793" y="45628"/>
                </a:lnTo>
                <a:lnTo>
                  <a:pt x="137709" y="48167"/>
                </a:lnTo>
                <a:lnTo>
                  <a:pt x="133292" y="50706"/>
                </a:lnTo>
                <a:lnTo>
                  <a:pt x="123870" y="55785"/>
                </a:lnTo>
                <a:lnTo>
                  <a:pt x="118987" y="57478"/>
                </a:lnTo>
                <a:lnTo>
                  <a:pt x="114038" y="58607"/>
                </a:lnTo>
                <a:lnTo>
                  <a:pt x="109045" y="59359"/>
                </a:lnTo>
                <a:lnTo>
                  <a:pt x="103177" y="60708"/>
                </a:lnTo>
                <a:lnTo>
                  <a:pt x="96724" y="62453"/>
                </a:lnTo>
                <a:lnTo>
                  <a:pt x="89883" y="64463"/>
                </a:lnTo>
                <a:lnTo>
                  <a:pt x="84475" y="65804"/>
                </a:lnTo>
                <a:lnTo>
                  <a:pt x="80023" y="66697"/>
                </a:lnTo>
                <a:lnTo>
                  <a:pt x="76209" y="67293"/>
                </a:lnTo>
                <a:lnTo>
                  <a:pt x="72819" y="67690"/>
                </a:lnTo>
                <a:lnTo>
                  <a:pt x="69713" y="67954"/>
                </a:lnTo>
                <a:lnTo>
                  <a:pt x="66795" y="68131"/>
                </a:lnTo>
                <a:lnTo>
                  <a:pt x="64850" y="69096"/>
                </a:lnTo>
                <a:lnTo>
                  <a:pt x="63553" y="70585"/>
                </a:lnTo>
                <a:lnTo>
                  <a:pt x="62689" y="72425"/>
                </a:lnTo>
                <a:lnTo>
                  <a:pt x="62960" y="73651"/>
                </a:lnTo>
                <a:lnTo>
                  <a:pt x="63986" y="74469"/>
                </a:lnTo>
                <a:lnTo>
                  <a:pt x="65517" y="75014"/>
                </a:lnTo>
                <a:lnTo>
                  <a:pt x="69477" y="75620"/>
                </a:lnTo>
                <a:lnTo>
                  <a:pt x="71718" y="75781"/>
                </a:lnTo>
                <a:lnTo>
                  <a:pt x="74905" y="76735"/>
                </a:lnTo>
                <a:lnTo>
                  <a:pt x="78723" y="78218"/>
                </a:lnTo>
                <a:lnTo>
                  <a:pt x="82962" y="80053"/>
                </a:lnTo>
                <a:lnTo>
                  <a:pt x="92188" y="84350"/>
                </a:lnTo>
                <a:lnTo>
                  <a:pt x="97019" y="86682"/>
                </a:lnTo>
                <a:lnTo>
                  <a:pt x="101932" y="88236"/>
                </a:lnTo>
                <a:lnTo>
                  <a:pt x="106901" y="89272"/>
                </a:lnTo>
                <a:lnTo>
                  <a:pt x="111907" y="89963"/>
                </a:lnTo>
                <a:lnTo>
                  <a:pt x="117785" y="91270"/>
                </a:lnTo>
                <a:lnTo>
                  <a:pt x="124244" y="92988"/>
                </a:lnTo>
                <a:lnTo>
                  <a:pt x="131088" y="94980"/>
                </a:lnTo>
                <a:lnTo>
                  <a:pt x="136499" y="97154"/>
                </a:lnTo>
                <a:lnTo>
                  <a:pt x="140953" y="99451"/>
                </a:lnTo>
                <a:lnTo>
                  <a:pt x="144769" y="101828"/>
                </a:lnTo>
                <a:lnTo>
                  <a:pt x="148159" y="104261"/>
                </a:lnTo>
                <a:lnTo>
                  <a:pt x="151266" y="106728"/>
                </a:lnTo>
                <a:lnTo>
                  <a:pt x="154184" y="109220"/>
                </a:lnTo>
                <a:lnTo>
                  <a:pt x="156976" y="111729"/>
                </a:lnTo>
                <a:lnTo>
                  <a:pt x="162336" y="116773"/>
                </a:lnTo>
                <a:lnTo>
                  <a:pt x="163257" y="119303"/>
                </a:lnTo>
                <a:lnTo>
                  <a:pt x="163024" y="121837"/>
                </a:lnTo>
                <a:lnTo>
                  <a:pt x="162023" y="124373"/>
                </a:lnTo>
                <a:lnTo>
                  <a:pt x="158652" y="129448"/>
                </a:lnTo>
                <a:lnTo>
                  <a:pt x="156568" y="131987"/>
                </a:lnTo>
                <a:lnTo>
                  <a:pt x="153485" y="135373"/>
                </a:lnTo>
                <a:lnTo>
                  <a:pt x="145545" y="143650"/>
                </a:lnTo>
                <a:lnTo>
                  <a:pt x="141056" y="146535"/>
                </a:lnTo>
                <a:lnTo>
                  <a:pt x="136371" y="148458"/>
                </a:lnTo>
                <a:lnTo>
                  <a:pt x="131554" y="149740"/>
                </a:lnTo>
                <a:lnTo>
                  <a:pt x="119429" y="153422"/>
                </a:lnTo>
                <a:lnTo>
                  <a:pt x="112638" y="155590"/>
                </a:lnTo>
                <a:lnTo>
                  <a:pt x="106419" y="157881"/>
                </a:lnTo>
                <a:lnTo>
                  <a:pt x="100580" y="160255"/>
                </a:lnTo>
                <a:lnTo>
                  <a:pt x="94993" y="162685"/>
                </a:lnTo>
                <a:lnTo>
                  <a:pt x="88728" y="164305"/>
                </a:lnTo>
                <a:lnTo>
                  <a:pt x="82012" y="165384"/>
                </a:lnTo>
                <a:lnTo>
                  <a:pt x="74995" y="166104"/>
                </a:lnTo>
                <a:lnTo>
                  <a:pt x="68623" y="166584"/>
                </a:lnTo>
                <a:lnTo>
                  <a:pt x="62682" y="166904"/>
                </a:lnTo>
                <a:lnTo>
                  <a:pt x="51565" y="167259"/>
                </a:lnTo>
                <a:lnTo>
                  <a:pt x="30631" y="167488"/>
                </a:lnTo>
                <a:lnTo>
                  <a:pt x="0" y="1675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MARTInkAnnotation221"/>
          <p:cNvSpPr/>
          <p:nvPr/>
        </p:nvSpPr>
        <p:spPr>
          <a:xfrm>
            <a:off x="4419720" y="4313160"/>
            <a:ext cx="21960" cy="7920"/>
          </a:xfrm>
          <a:custGeom>
            <a:avLst/>
            <a:gdLst>
              <a:gd name="textAreaLeft" fmla="*/ 0 w 21960"/>
              <a:gd name="textAreaRight" fmla="*/ 22320 w 219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2861" h="7621">
                <a:moveTo>
                  <a:pt x="22860" y="0"/>
                </a:moveTo>
                <a:lnTo>
                  <a:pt x="11509" y="0"/>
                </a:lnTo>
                <a:lnTo>
                  <a:pt x="10213" y="847"/>
                </a:lnTo>
                <a:lnTo>
                  <a:pt x="9348" y="2258"/>
                </a:lnTo>
                <a:lnTo>
                  <a:pt x="8772" y="4045"/>
                </a:lnTo>
                <a:lnTo>
                  <a:pt x="7541" y="5237"/>
                </a:lnTo>
                <a:lnTo>
                  <a:pt x="5874" y="6031"/>
                </a:lnTo>
                <a:lnTo>
                  <a:pt x="0" y="76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MARTInkAnnotation222"/>
          <p:cNvSpPr/>
          <p:nvPr/>
        </p:nvSpPr>
        <p:spPr>
          <a:xfrm>
            <a:off x="4487760" y="4160880"/>
            <a:ext cx="160560" cy="190440"/>
          </a:xfrm>
          <a:custGeom>
            <a:avLst/>
            <a:gdLst>
              <a:gd name="textAreaLeft" fmla="*/ 0 w 160560"/>
              <a:gd name="textAreaRight" fmla="*/ 160920 w 160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60021" h="190371">
                <a:moveTo>
                  <a:pt x="0" y="37970"/>
                </a:moveTo>
                <a:lnTo>
                  <a:pt x="0" y="24103"/>
                </a:lnTo>
                <a:lnTo>
                  <a:pt x="2258" y="21083"/>
                </a:lnTo>
                <a:lnTo>
                  <a:pt x="6083" y="16918"/>
                </a:lnTo>
                <a:lnTo>
                  <a:pt x="10606" y="12245"/>
                </a:lnTo>
                <a:lnTo>
                  <a:pt x="13844" y="9813"/>
                </a:lnTo>
                <a:lnTo>
                  <a:pt x="17696" y="7346"/>
                </a:lnTo>
                <a:lnTo>
                  <a:pt x="21957" y="4853"/>
                </a:lnTo>
                <a:lnTo>
                  <a:pt x="25645" y="3193"/>
                </a:lnTo>
                <a:lnTo>
                  <a:pt x="28950" y="2085"/>
                </a:lnTo>
                <a:lnTo>
                  <a:pt x="32000" y="1347"/>
                </a:lnTo>
                <a:lnTo>
                  <a:pt x="35727" y="855"/>
                </a:lnTo>
                <a:lnTo>
                  <a:pt x="39904" y="527"/>
                </a:lnTo>
                <a:lnTo>
                  <a:pt x="44383" y="308"/>
                </a:lnTo>
                <a:lnTo>
                  <a:pt x="56132" y="65"/>
                </a:lnTo>
                <a:lnTo>
                  <a:pt x="62822" y="0"/>
                </a:lnTo>
                <a:lnTo>
                  <a:pt x="68974" y="803"/>
                </a:lnTo>
                <a:lnTo>
                  <a:pt x="74769" y="2186"/>
                </a:lnTo>
                <a:lnTo>
                  <a:pt x="80327" y="3954"/>
                </a:lnTo>
                <a:lnTo>
                  <a:pt x="84878" y="5979"/>
                </a:lnTo>
                <a:lnTo>
                  <a:pt x="88759" y="8177"/>
                </a:lnTo>
                <a:lnTo>
                  <a:pt x="92192" y="10488"/>
                </a:lnTo>
                <a:lnTo>
                  <a:pt x="96175" y="12875"/>
                </a:lnTo>
                <a:lnTo>
                  <a:pt x="100524" y="15313"/>
                </a:lnTo>
                <a:lnTo>
                  <a:pt x="105116" y="17786"/>
                </a:lnTo>
                <a:lnTo>
                  <a:pt x="109024" y="21127"/>
                </a:lnTo>
                <a:lnTo>
                  <a:pt x="112476" y="25048"/>
                </a:lnTo>
                <a:lnTo>
                  <a:pt x="115623" y="29355"/>
                </a:lnTo>
                <a:lnTo>
                  <a:pt x="118569" y="33073"/>
                </a:lnTo>
                <a:lnTo>
                  <a:pt x="121379" y="36399"/>
                </a:lnTo>
                <a:lnTo>
                  <a:pt x="124099" y="39463"/>
                </a:lnTo>
                <a:lnTo>
                  <a:pt x="125066" y="42352"/>
                </a:lnTo>
                <a:lnTo>
                  <a:pt x="124865" y="45125"/>
                </a:lnTo>
                <a:lnTo>
                  <a:pt x="123883" y="47820"/>
                </a:lnTo>
                <a:lnTo>
                  <a:pt x="122382" y="51310"/>
                </a:lnTo>
                <a:lnTo>
                  <a:pt x="118457" y="59703"/>
                </a:lnTo>
                <a:lnTo>
                  <a:pt x="115378" y="63466"/>
                </a:lnTo>
                <a:lnTo>
                  <a:pt x="111632" y="66820"/>
                </a:lnTo>
                <a:lnTo>
                  <a:pt x="107441" y="69903"/>
                </a:lnTo>
                <a:lnTo>
                  <a:pt x="103801" y="73652"/>
                </a:lnTo>
                <a:lnTo>
                  <a:pt x="100528" y="77845"/>
                </a:lnTo>
                <a:lnTo>
                  <a:pt x="97498" y="82333"/>
                </a:lnTo>
                <a:lnTo>
                  <a:pt x="92939" y="86172"/>
                </a:lnTo>
                <a:lnTo>
                  <a:pt x="87359" y="89578"/>
                </a:lnTo>
                <a:lnTo>
                  <a:pt x="64199" y="101128"/>
                </a:lnTo>
                <a:lnTo>
                  <a:pt x="58886" y="104629"/>
                </a:lnTo>
                <a:lnTo>
                  <a:pt x="53651" y="108656"/>
                </a:lnTo>
                <a:lnTo>
                  <a:pt x="48468" y="113034"/>
                </a:lnTo>
                <a:lnTo>
                  <a:pt x="43318" y="116799"/>
                </a:lnTo>
                <a:lnTo>
                  <a:pt x="38193" y="120156"/>
                </a:lnTo>
                <a:lnTo>
                  <a:pt x="33081" y="123241"/>
                </a:lnTo>
                <a:lnTo>
                  <a:pt x="28828" y="126144"/>
                </a:lnTo>
                <a:lnTo>
                  <a:pt x="25145" y="128926"/>
                </a:lnTo>
                <a:lnTo>
                  <a:pt x="21843" y="131628"/>
                </a:lnTo>
                <a:lnTo>
                  <a:pt x="19642" y="134275"/>
                </a:lnTo>
                <a:lnTo>
                  <a:pt x="18175" y="136887"/>
                </a:lnTo>
                <a:lnTo>
                  <a:pt x="17197" y="139475"/>
                </a:lnTo>
                <a:lnTo>
                  <a:pt x="13852" y="144607"/>
                </a:lnTo>
                <a:lnTo>
                  <a:pt x="11775" y="147161"/>
                </a:lnTo>
                <a:lnTo>
                  <a:pt x="11236" y="149711"/>
                </a:lnTo>
                <a:lnTo>
                  <a:pt x="11724" y="152257"/>
                </a:lnTo>
                <a:lnTo>
                  <a:pt x="14524" y="157345"/>
                </a:lnTo>
                <a:lnTo>
                  <a:pt x="18591" y="162428"/>
                </a:lnTo>
                <a:lnTo>
                  <a:pt x="21707" y="164969"/>
                </a:lnTo>
                <a:lnTo>
                  <a:pt x="25478" y="167509"/>
                </a:lnTo>
                <a:lnTo>
                  <a:pt x="29686" y="170050"/>
                </a:lnTo>
                <a:lnTo>
                  <a:pt x="34183" y="171743"/>
                </a:lnTo>
                <a:lnTo>
                  <a:pt x="38876" y="172872"/>
                </a:lnTo>
                <a:lnTo>
                  <a:pt x="43697" y="173625"/>
                </a:lnTo>
                <a:lnTo>
                  <a:pt x="49452" y="175820"/>
                </a:lnTo>
                <a:lnTo>
                  <a:pt x="55827" y="178977"/>
                </a:lnTo>
                <a:lnTo>
                  <a:pt x="62619" y="182774"/>
                </a:lnTo>
                <a:lnTo>
                  <a:pt x="70532" y="185306"/>
                </a:lnTo>
                <a:lnTo>
                  <a:pt x="79195" y="186994"/>
                </a:lnTo>
                <a:lnTo>
                  <a:pt x="88357" y="188119"/>
                </a:lnTo>
                <a:lnTo>
                  <a:pt x="97005" y="188870"/>
                </a:lnTo>
                <a:lnTo>
                  <a:pt x="105309" y="189370"/>
                </a:lnTo>
                <a:lnTo>
                  <a:pt x="120464" y="189926"/>
                </a:lnTo>
                <a:lnTo>
                  <a:pt x="138517" y="190239"/>
                </a:lnTo>
                <a:lnTo>
                  <a:pt x="160020" y="19037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MARTInkAnnotation223"/>
          <p:cNvSpPr/>
          <p:nvPr/>
        </p:nvSpPr>
        <p:spPr>
          <a:xfrm>
            <a:off x="4854600" y="4168800"/>
            <a:ext cx="6480" cy="190440"/>
          </a:xfrm>
          <a:custGeom>
            <a:avLst/>
            <a:gdLst>
              <a:gd name="textAreaLeft" fmla="*/ 0 w 6480"/>
              <a:gd name="textAreaRight" fmla="*/ 6840 w 6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7593" h="190501">
                <a:moveTo>
                  <a:pt x="0" y="0"/>
                </a:moveTo>
                <a:lnTo>
                  <a:pt x="0" y="58555"/>
                </a:lnTo>
                <a:lnTo>
                  <a:pt x="846" y="64437"/>
                </a:lnTo>
                <a:lnTo>
                  <a:pt x="2257" y="70898"/>
                </a:lnTo>
                <a:lnTo>
                  <a:pt x="4044" y="77745"/>
                </a:lnTo>
                <a:lnTo>
                  <a:pt x="5236" y="84850"/>
                </a:lnTo>
                <a:lnTo>
                  <a:pt x="6030" y="92127"/>
                </a:lnTo>
                <a:lnTo>
                  <a:pt x="6560" y="99518"/>
                </a:lnTo>
                <a:lnTo>
                  <a:pt x="6913" y="106985"/>
                </a:lnTo>
                <a:lnTo>
                  <a:pt x="7305" y="122056"/>
                </a:lnTo>
                <a:lnTo>
                  <a:pt x="7592" y="157046"/>
                </a:lnTo>
                <a:lnTo>
                  <a:pt x="6754" y="162270"/>
                </a:lnTo>
                <a:lnTo>
                  <a:pt x="5349" y="167447"/>
                </a:lnTo>
                <a:lnTo>
                  <a:pt x="1056" y="179831"/>
                </a:lnTo>
                <a:lnTo>
                  <a:pt x="704" y="181694"/>
                </a:lnTo>
                <a:lnTo>
                  <a:pt x="469" y="183783"/>
                </a:lnTo>
                <a:lnTo>
                  <a:pt x="0" y="1905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MARTInkAnnotation224"/>
          <p:cNvSpPr/>
          <p:nvPr/>
        </p:nvSpPr>
        <p:spPr>
          <a:xfrm>
            <a:off x="4816440" y="4259160"/>
            <a:ext cx="114480" cy="23760"/>
          </a:xfrm>
          <a:custGeom>
            <a:avLst/>
            <a:gdLst>
              <a:gd name="textAreaLeft" fmla="*/ 0 w 114480"/>
              <a:gd name="textAreaRight" fmla="*/ 114840 w 114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14301" h="22861">
                <a:moveTo>
                  <a:pt x="0" y="0"/>
                </a:moveTo>
                <a:lnTo>
                  <a:pt x="13121" y="0"/>
                </a:lnTo>
                <a:lnTo>
                  <a:pt x="16367" y="846"/>
                </a:lnTo>
                <a:lnTo>
                  <a:pt x="26747" y="4045"/>
                </a:lnTo>
                <a:lnTo>
                  <a:pt x="33071" y="5237"/>
                </a:lnTo>
                <a:lnTo>
                  <a:pt x="39828" y="6031"/>
                </a:lnTo>
                <a:lnTo>
                  <a:pt x="46871" y="6561"/>
                </a:lnTo>
                <a:lnTo>
                  <a:pt x="54107" y="7760"/>
                </a:lnTo>
                <a:lnTo>
                  <a:pt x="61471" y="9407"/>
                </a:lnTo>
                <a:lnTo>
                  <a:pt x="68921" y="11352"/>
                </a:lnTo>
                <a:lnTo>
                  <a:pt x="75580" y="12648"/>
                </a:lnTo>
                <a:lnTo>
                  <a:pt x="81714" y="13512"/>
                </a:lnTo>
                <a:lnTo>
                  <a:pt x="87496" y="14088"/>
                </a:lnTo>
                <a:lnTo>
                  <a:pt x="93043" y="15319"/>
                </a:lnTo>
                <a:lnTo>
                  <a:pt x="98436" y="16986"/>
                </a:lnTo>
                <a:lnTo>
                  <a:pt x="114300" y="228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MARTInkAnnotation225"/>
          <p:cNvSpPr/>
          <p:nvPr/>
        </p:nvSpPr>
        <p:spPr>
          <a:xfrm>
            <a:off x="5075280" y="4137120"/>
            <a:ext cx="38160" cy="228600"/>
          </a:xfrm>
          <a:custGeom>
            <a:avLst/>
            <a:gdLst>
              <a:gd name="textAreaLeft" fmla="*/ 0 w 38160"/>
              <a:gd name="textAreaRight" fmla="*/ 38520 w 38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8101" h="228601">
                <a:moveTo>
                  <a:pt x="38100" y="0"/>
                </a:moveTo>
                <a:lnTo>
                  <a:pt x="38100" y="36791"/>
                </a:lnTo>
                <a:lnTo>
                  <a:pt x="37254" y="42307"/>
                </a:lnTo>
                <a:lnTo>
                  <a:pt x="35842" y="48525"/>
                </a:lnTo>
                <a:lnTo>
                  <a:pt x="34055" y="55210"/>
                </a:lnTo>
                <a:lnTo>
                  <a:pt x="32017" y="61360"/>
                </a:lnTo>
                <a:lnTo>
                  <a:pt x="29812" y="67153"/>
                </a:lnTo>
                <a:lnTo>
                  <a:pt x="27494" y="72709"/>
                </a:lnTo>
                <a:lnTo>
                  <a:pt x="25950" y="78952"/>
                </a:lnTo>
                <a:lnTo>
                  <a:pt x="24920" y="85655"/>
                </a:lnTo>
                <a:lnTo>
                  <a:pt x="24233" y="92664"/>
                </a:lnTo>
                <a:lnTo>
                  <a:pt x="22929" y="99876"/>
                </a:lnTo>
                <a:lnTo>
                  <a:pt x="21213" y="107224"/>
                </a:lnTo>
                <a:lnTo>
                  <a:pt x="19222" y="114663"/>
                </a:lnTo>
                <a:lnTo>
                  <a:pt x="17895" y="122162"/>
                </a:lnTo>
                <a:lnTo>
                  <a:pt x="17010" y="129702"/>
                </a:lnTo>
                <a:lnTo>
                  <a:pt x="16420" y="137267"/>
                </a:lnTo>
                <a:lnTo>
                  <a:pt x="15180" y="144852"/>
                </a:lnTo>
                <a:lnTo>
                  <a:pt x="13507" y="152448"/>
                </a:lnTo>
                <a:lnTo>
                  <a:pt x="11544" y="160052"/>
                </a:lnTo>
                <a:lnTo>
                  <a:pt x="10236" y="166814"/>
                </a:lnTo>
                <a:lnTo>
                  <a:pt x="9365" y="173016"/>
                </a:lnTo>
                <a:lnTo>
                  <a:pt x="8783" y="178845"/>
                </a:lnTo>
                <a:lnTo>
                  <a:pt x="8396" y="185270"/>
                </a:lnTo>
                <a:lnTo>
                  <a:pt x="7965" y="199182"/>
                </a:lnTo>
                <a:lnTo>
                  <a:pt x="7003" y="204755"/>
                </a:lnTo>
                <a:lnTo>
                  <a:pt x="5516" y="209317"/>
                </a:lnTo>
                <a:lnTo>
                  <a:pt x="3677" y="213205"/>
                </a:lnTo>
                <a:lnTo>
                  <a:pt x="2452" y="216643"/>
                </a:lnTo>
                <a:lnTo>
                  <a:pt x="1635" y="219782"/>
                </a:lnTo>
                <a:lnTo>
                  <a:pt x="0" y="2286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MARTInkAnnotation226"/>
          <p:cNvSpPr/>
          <p:nvPr/>
        </p:nvSpPr>
        <p:spPr>
          <a:xfrm>
            <a:off x="5165640" y="4305240"/>
            <a:ext cx="54000" cy="38160"/>
          </a:xfrm>
          <a:custGeom>
            <a:avLst/>
            <a:gdLst>
              <a:gd name="textAreaLeft" fmla="*/ 0 w 54000"/>
              <a:gd name="textAreaRight" fmla="*/ 54360 w 540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3341" h="38101">
                <a:moveTo>
                  <a:pt x="-12196" y="0"/>
                </a:moveTo>
                <a:lnTo>
                  <a:pt x="-19502" y="0"/>
                </a:lnTo>
                <a:lnTo>
                  <a:pt x="-19607" y="846"/>
                </a:lnTo>
                <a:lnTo>
                  <a:pt x="-19677" y="2258"/>
                </a:lnTo>
                <a:lnTo>
                  <a:pt x="-19723" y="4045"/>
                </a:lnTo>
                <a:lnTo>
                  <a:pt x="-20601" y="5237"/>
                </a:lnTo>
                <a:lnTo>
                  <a:pt x="-22032" y="6031"/>
                </a:lnTo>
                <a:lnTo>
                  <a:pt x="-23833" y="6561"/>
                </a:lnTo>
                <a:lnTo>
                  <a:pt x="-25881" y="7760"/>
                </a:lnTo>
                <a:lnTo>
                  <a:pt x="-28093" y="9408"/>
                </a:lnTo>
                <a:lnTo>
                  <a:pt x="-30413" y="11352"/>
                </a:lnTo>
                <a:lnTo>
                  <a:pt x="32728" y="13495"/>
                </a:lnTo>
                <a:lnTo>
                  <a:pt x="27810" y="18133"/>
                </a:lnTo>
                <a:lnTo>
                  <a:pt x="25313" y="19708"/>
                </a:lnTo>
                <a:lnTo>
                  <a:pt x="22802" y="20759"/>
                </a:lnTo>
                <a:lnTo>
                  <a:pt x="20282" y="21459"/>
                </a:lnTo>
                <a:lnTo>
                  <a:pt x="17754" y="22773"/>
                </a:lnTo>
                <a:lnTo>
                  <a:pt x="15224" y="24495"/>
                </a:lnTo>
                <a:lnTo>
                  <a:pt x="12689" y="26491"/>
                </a:lnTo>
                <a:lnTo>
                  <a:pt x="10152" y="27820"/>
                </a:lnTo>
                <a:lnTo>
                  <a:pt x="7615" y="28708"/>
                </a:lnTo>
                <a:lnTo>
                  <a:pt x="5077" y="29298"/>
                </a:lnTo>
                <a:lnTo>
                  <a:pt x="3385" y="30539"/>
                </a:lnTo>
                <a:lnTo>
                  <a:pt x="2256" y="32212"/>
                </a:lnTo>
                <a:lnTo>
                  <a:pt x="0" y="-274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MARTInkAnnotation227"/>
          <p:cNvSpPr/>
          <p:nvPr/>
        </p:nvSpPr>
        <p:spPr>
          <a:xfrm>
            <a:off x="5295960" y="4130640"/>
            <a:ext cx="204840" cy="257040"/>
          </a:xfrm>
          <a:custGeom>
            <a:avLst/>
            <a:gdLst>
              <a:gd name="textAreaLeft" fmla="*/ 0 w 204840"/>
              <a:gd name="textAreaRight" fmla="*/ 205200 w 20484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04179" h="258595">
                <a:moveTo>
                  <a:pt x="53332" y="0"/>
                </a:moveTo>
                <a:lnTo>
                  <a:pt x="49286" y="0"/>
                </a:lnTo>
                <a:lnTo>
                  <a:pt x="48095" y="847"/>
                </a:lnTo>
                <a:lnTo>
                  <a:pt x="47300" y="2258"/>
                </a:lnTo>
                <a:lnTo>
                  <a:pt x="46770" y="4045"/>
                </a:lnTo>
                <a:lnTo>
                  <a:pt x="43924" y="8289"/>
                </a:lnTo>
                <a:lnTo>
                  <a:pt x="41980" y="10606"/>
                </a:lnTo>
                <a:lnTo>
                  <a:pt x="40684" y="12997"/>
                </a:lnTo>
                <a:lnTo>
                  <a:pt x="38013" y="20408"/>
                </a:lnTo>
                <a:lnTo>
                  <a:pt x="34387" y="25439"/>
                </a:lnTo>
                <a:lnTo>
                  <a:pt x="29954" y="32755"/>
                </a:lnTo>
                <a:lnTo>
                  <a:pt x="25161" y="40805"/>
                </a:lnTo>
                <a:lnTo>
                  <a:pt x="20209" y="47204"/>
                </a:lnTo>
                <a:lnTo>
                  <a:pt x="17703" y="49249"/>
                </a:lnTo>
                <a:lnTo>
                  <a:pt x="15185" y="50613"/>
                </a:lnTo>
                <a:lnTo>
                  <a:pt x="12661" y="51522"/>
                </a:lnTo>
                <a:lnTo>
                  <a:pt x="10977" y="52975"/>
                </a:lnTo>
                <a:lnTo>
                  <a:pt x="9856" y="54790"/>
                </a:lnTo>
                <a:lnTo>
                  <a:pt x="9107" y="56847"/>
                </a:lnTo>
                <a:lnTo>
                  <a:pt x="6018" y="61390"/>
                </a:lnTo>
                <a:lnTo>
                  <a:pt x="0" y="68569"/>
                </a:lnTo>
                <a:lnTo>
                  <a:pt x="14643" y="68579"/>
                </a:lnTo>
                <a:lnTo>
                  <a:pt x="19072" y="67733"/>
                </a:lnTo>
                <a:lnTo>
                  <a:pt x="23719" y="66322"/>
                </a:lnTo>
                <a:lnTo>
                  <a:pt x="28510" y="64534"/>
                </a:lnTo>
                <a:lnTo>
                  <a:pt x="34244" y="63343"/>
                </a:lnTo>
                <a:lnTo>
                  <a:pt x="40606" y="62549"/>
                </a:lnTo>
                <a:lnTo>
                  <a:pt x="47388" y="62019"/>
                </a:lnTo>
                <a:lnTo>
                  <a:pt x="55295" y="61666"/>
                </a:lnTo>
                <a:lnTo>
                  <a:pt x="73113" y="61274"/>
                </a:lnTo>
                <a:lnTo>
                  <a:pt x="81759" y="62016"/>
                </a:lnTo>
                <a:lnTo>
                  <a:pt x="90063" y="63358"/>
                </a:lnTo>
                <a:lnTo>
                  <a:pt x="98139" y="65099"/>
                </a:lnTo>
                <a:lnTo>
                  <a:pt x="105216" y="66259"/>
                </a:lnTo>
                <a:lnTo>
                  <a:pt x="111628" y="67033"/>
                </a:lnTo>
                <a:lnTo>
                  <a:pt x="117595" y="67548"/>
                </a:lnTo>
                <a:lnTo>
                  <a:pt x="123267" y="69585"/>
                </a:lnTo>
                <a:lnTo>
                  <a:pt x="128742" y="72638"/>
                </a:lnTo>
                <a:lnTo>
                  <a:pt x="134085" y="76365"/>
                </a:lnTo>
                <a:lnTo>
                  <a:pt x="140187" y="79696"/>
                </a:lnTo>
                <a:lnTo>
                  <a:pt x="146795" y="82765"/>
                </a:lnTo>
                <a:lnTo>
                  <a:pt x="153740" y="85656"/>
                </a:lnTo>
                <a:lnTo>
                  <a:pt x="160064" y="88431"/>
                </a:lnTo>
                <a:lnTo>
                  <a:pt x="171606" y="93772"/>
                </a:lnTo>
                <a:lnTo>
                  <a:pt x="176207" y="97228"/>
                </a:lnTo>
                <a:lnTo>
                  <a:pt x="180122" y="101225"/>
                </a:lnTo>
                <a:lnTo>
                  <a:pt x="183579" y="105583"/>
                </a:lnTo>
                <a:lnTo>
                  <a:pt x="186729" y="110183"/>
                </a:lnTo>
                <a:lnTo>
                  <a:pt x="189677" y="114942"/>
                </a:lnTo>
                <a:lnTo>
                  <a:pt x="192489" y="119808"/>
                </a:lnTo>
                <a:lnTo>
                  <a:pt x="197870" y="129730"/>
                </a:lnTo>
                <a:lnTo>
                  <a:pt x="200490" y="134747"/>
                </a:lnTo>
                <a:lnTo>
                  <a:pt x="202237" y="139785"/>
                </a:lnTo>
                <a:lnTo>
                  <a:pt x="203402" y="144836"/>
                </a:lnTo>
                <a:lnTo>
                  <a:pt x="204178" y="149898"/>
                </a:lnTo>
                <a:lnTo>
                  <a:pt x="203849" y="155812"/>
                </a:lnTo>
                <a:lnTo>
                  <a:pt x="202783" y="162295"/>
                </a:lnTo>
                <a:lnTo>
                  <a:pt x="201225" y="169156"/>
                </a:lnTo>
                <a:lnTo>
                  <a:pt x="199340" y="175424"/>
                </a:lnTo>
                <a:lnTo>
                  <a:pt x="197237" y="181297"/>
                </a:lnTo>
                <a:lnTo>
                  <a:pt x="194988" y="186904"/>
                </a:lnTo>
                <a:lnTo>
                  <a:pt x="191796" y="192336"/>
                </a:lnTo>
                <a:lnTo>
                  <a:pt x="187974" y="197651"/>
                </a:lnTo>
                <a:lnTo>
                  <a:pt x="183733" y="202887"/>
                </a:lnTo>
                <a:lnTo>
                  <a:pt x="179213" y="208072"/>
                </a:lnTo>
                <a:lnTo>
                  <a:pt x="174505" y="213221"/>
                </a:lnTo>
                <a:lnTo>
                  <a:pt x="164760" y="223459"/>
                </a:lnTo>
                <a:lnTo>
                  <a:pt x="154784" y="233652"/>
                </a:lnTo>
                <a:lnTo>
                  <a:pt x="149753" y="237895"/>
                </a:lnTo>
                <a:lnTo>
                  <a:pt x="144705" y="241570"/>
                </a:lnTo>
                <a:lnTo>
                  <a:pt x="139647" y="244867"/>
                </a:lnTo>
                <a:lnTo>
                  <a:pt x="134582" y="247911"/>
                </a:lnTo>
                <a:lnTo>
                  <a:pt x="129511" y="250788"/>
                </a:lnTo>
                <a:lnTo>
                  <a:pt x="124438" y="253552"/>
                </a:lnTo>
                <a:lnTo>
                  <a:pt x="119363" y="255395"/>
                </a:lnTo>
                <a:lnTo>
                  <a:pt x="114285" y="256623"/>
                </a:lnTo>
                <a:lnTo>
                  <a:pt x="109207" y="257442"/>
                </a:lnTo>
                <a:lnTo>
                  <a:pt x="104128" y="257988"/>
                </a:lnTo>
                <a:lnTo>
                  <a:pt x="99049" y="258353"/>
                </a:lnTo>
                <a:lnTo>
                  <a:pt x="93970" y="258594"/>
                </a:lnTo>
                <a:lnTo>
                  <a:pt x="89737" y="257910"/>
                </a:lnTo>
                <a:lnTo>
                  <a:pt x="86068" y="256607"/>
                </a:lnTo>
                <a:lnTo>
                  <a:pt x="78142" y="252477"/>
                </a:lnTo>
                <a:lnTo>
                  <a:pt x="74800" y="249654"/>
                </a:lnTo>
                <a:lnTo>
                  <a:pt x="68571" y="2438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MARTInkAnnotation228"/>
          <p:cNvSpPr/>
          <p:nvPr/>
        </p:nvSpPr>
        <p:spPr>
          <a:xfrm>
            <a:off x="5372280" y="4122720"/>
            <a:ext cx="160200" cy="22320"/>
          </a:xfrm>
          <a:custGeom>
            <a:avLst/>
            <a:gdLst>
              <a:gd name="textAreaLeft" fmla="*/ 0 w 160200"/>
              <a:gd name="textAreaRight" fmla="*/ 160560 w 1602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60021" h="22861">
                <a:moveTo>
                  <a:pt x="0" y="0"/>
                </a:moveTo>
                <a:lnTo>
                  <a:pt x="69077" y="0"/>
                </a:lnTo>
                <a:lnTo>
                  <a:pt x="76531" y="847"/>
                </a:lnTo>
                <a:lnTo>
                  <a:pt x="84041" y="2258"/>
                </a:lnTo>
                <a:lnTo>
                  <a:pt x="91587" y="4045"/>
                </a:lnTo>
                <a:lnTo>
                  <a:pt x="100005" y="5237"/>
                </a:lnTo>
                <a:lnTo>
                  <a:pt x="109004" y="6031"/>
                </a:lnTo>
                <a:lnTo>
                  <a:pt x="126339" y="6914"/>
                </a:lnTo>
                <a:lnTo>
                  <a:pt x="139689" y="7306"/>
                </a:lnTo>
                <a:lnTo>
                  <a:pt x="144773" y="8257"/>
                </a:lnTo>
                <a:lnTo>
                  <a:pt x="149009" y="9739"/>
                </a:lnTo>
                <a:lnTo>
                  <a:pt x="152679" y="11572"/>
                </a:lnTo>
                <a:lnTo>
                  <a:pt x="155126" y="13641"/>
                </a:lnTo>
                <a:lnTo>
                  <a:pt x="156757" y="15867"/>
                </a:lnTo>
                <a:lnTo>
                  <a:pt x="160020" y="228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MARTInkAnnotation229"/>
          <p:cNvSpPr/>
          <p:nvPr/>
        </p:nvSpPr>
        <p:spPr>
          <a:xfrm>
            <a:off x="4213080" y="4572000"/>
            <a:ext cx="152640" cy="15840"/>
          </a:xfrm>
          <a:custGeom>
            <a:avLst/>
            <a:gdLst>
              <a:gd name="textAreaLeft" fmla="*/ 0 w 152640"/>
              <a:gd name="textAreaRight" fmla="*/ 153000 w 1526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2401" h="15241">
                <a:moveTo>
                  <a:pt x="0" y="0"/>
                </a:moveTo>
                <a:lnTo>
                  <a:pt x="43637" y="0"/>
                </a:lnTo>
                <a:lnTo>
                  <a:pt x="49412" y="846"/>
                </a:lnTo>
                <a:lnTo>
                  <a:pt x="55801" y="2258"/>
                </a:lnTo>
                <a:lnTo>
                  <a:pt x="62601" y="4045"/>
                </a:lnTo>
                <a:lnTo>
                  <a:pt x="68827" y="5237"/>
                </a:lnTo>
                <a:lnTo>
                  <a:pt x="74672" y="6031"/>
                </a:lnTo>
                <a:lnTo>
                  <a:pt x="80261" y="6561"/>
                </a:lnTo>
                <a:lnTo>
                  <a:pt x="86528" y="6914"/>
                </a:lnTo>
                <a:lnTo>
                  <a:pt x="100263" y="7307"/>
                </a:lnTo>
                <a:lnTo>
                  <a:pt x="118231" y="7527"/>
                </a:lnTo>
                <a:lnTo>
                  <a:pt x="123694" y="8405"/>
                </a:lnTo>
                <a:lnTo>
                  <a:pt x="129029" y="9836"/>
                </a:lnTo>
                <a:lnTo>
                  <a:pt x="134279" y="11638"/>
                </a:lnTo>
                <a:lnTo>
                  <a:pt x="138627" y="12838"/>
                </a:lnTo>
                <a:lnTo>
                  <a:pt x="142371" y="13639"/>
                </a:lnTo>
                <a:lnTo>
                  <a:pt x="152400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MARTInkAnnotation230"/>
          <p:cNvSpPr/>
          <p:nvPr/>
        </p:nvSpPr>
        <p:spPr>
          <a:xfrm>
            <a:off x="4427640" y="4503600"/>
            <a:ext cx="122040" cy="96840"/>
          </a:xfrm>
          <a:custGeom>
            <a:avLst/>
            <a:gdLst>
              <a:gd name="textAreaLeft" fmla="*/ 0 w 122040"/>
              <a:gd name="textAreaRight" fmla="*/ 122400 w 1220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21910" h="97649">
                <a:moveTo>
                  <a:pt x="53329" y="0"/>
                </a:moveTo>
                <a:lnTo>
                  <a:pt x="45711" y="0"/>
                </a:lnTo>
                <a:lnTo>
                  <a:pt x="27575" y="18133"/>
                </a:lnTo>
                <a:lnTo>
                  <a:pt x="26000" y="20556"/>
                </a:lnTo>
                <a:lnTo>
                  <a:pt x="24950" y="23018"/>
                </a:lnTo>
                <a:lnTo>
                  <a:pt x="24249" y="25505"/>
                </a:lnTo>
                <a:lnTo>
                  <a:pt x="22935" y="28010"/>
                </a:lnTo>
                <a:lnTo>
                  <a:pt x="21213" y="30527"/>
                </a:lnTo>
                <a:lnTo>
                  <a:pt x="19218" y="33051"/>
                </a:lnTo>
                <a:lnTo>
                  <a:pt x="17041" y="35581"/>
                </a:lnTo>
                <a:lnTo>
                  <a:pt x="14743" y="38114"/>
                </a:lnTo>
                <a:lnTo>
                  <a:pt x="9933" y="43186"/>
                </a:lnTo>
                <a:lnTo>
                  <a:pt x="4973" y="48263"/>
                </a:lnTo>
                <a:lnTo>
                  <a:pt x="3312" y="50802"/>
                </a:lnTo>
                <a:lnTo>
                  <a:pt x="2204" y="53341"/>
                </a:lnTo>
                <a:lnTo>
                  <a:pt x="1465" y="55881"/>
                </a:lnTo>
                <a:lnTo>
                  <a:pt x="973" y="58421"/>
                </a:lnTo>
                <a:lnTo>
                  <a:pt x="645" y="60961"/>
                </a:lnTo>
                <a:lnTo>
                  <a:pt x="426" y="63500"/>
                </a:lnTo>
                <a:lnTo>
                  <a:pt x="280" y="66041"/>
                </a:lnTo>
                <a:lnTo>
                  <a:pt x="118" y="71120"/>
                </a:lnTo>
                <a:lnTo>
                  <a:pt x="0" y="82315"/>
                </a:lnTo>
                <a:lnTo>
                  <a:pt x="843" y="83663"/>
                </a:lnTo>
                <a:lnTo>
                  <a:pt x="2251" y="85409"/>
                </a:lnTo>
                <a:lnTo>
                  <a:pt x="4037" y="87420"/>
                </a:lnTo>
                <a:lnTo>
                  <a:pt x="6921" y="89607"/>
                </a:lnTo>
                <a:lnTo>
                  <a:pt x="10537" y="91911"/>
                </a:lnTo>
                <a:lnTo>
                  <a:pt x="14641" y="94294"/>
                </a:lnTo>
                <a:lnTo>
                  <a:pt x="19070" y="95883"/>
                </a:lnTo>
                <a:lnTo>
                  <a:pt x="23716" y="96941"/>
                </a:lnTo>
                <a:lnTo>
                  <a:pt x="28507" y="97648"/>
                </a:lnTo>
                <a:lnTo>
                  <a:pt x="35087" y="97272"/>
                </a:lnTo>
                <a:lnTo>
                  <a:pt x="42861" y="96175"/>
                </a:lnTo>
                <a:lnTo>
                  <a:pt x="51430" y="94596"/>
                </a:lnTo>
                <a:lnTo>
                  <a:pt x="58836" y="93544"/>
                </a:lnTo>
                <a:lnTo>
                  <a:pt x="65467" y="92843"/>
                </a:lnTo>
                <a:lnTo>
                  <a:pt x="71581" y="92375"/>
                </a:lnTo>
                <a:lnTo>
                  <a:pt x="79043" y="92063"/>
                </a:lnTo>
                <a:lnTo>
                  <a:pt x="96366" y="91717"/>
                </a:lnTo>
                <a:lnTo>
                  <a:pt x="103187" y="90779"/>
                </a:lnTo>
                <a:lnTo>
                  <a:pt x="108581" y="89305"/>
                </a:lnTo>
                <a:lnTo>
                  <a:pt x="121909" y="838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MARTInkAnnotation231"/>
          <p:cNvSpPr/>
          <p:nvPr/>
        </p:nvSpPr>
        <p:spPr>
          <a:xfrm>
            <a:off x="4511520" y="4487760"/>
            <a:ext cx="82800" cy="214560"/>
          </a:xfrm>
          <a:custGeom>
            <a:avLst/>
            <a:gdLst>
              <a:gd name="textAreaLeft" fmla="*/ 0 w 82800"/>
              <a:gd name="textAreaRight" fmla="*/ 83160 w 8280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83820" h="213361">
                <a:moveTo>
                  <a:pt x="83819" y="0"/>
                </a:moveTo>
                <a:lnTo>
                  <a:pt x="83819" y="6561"/>
                </a:lnTo>
                <a:lnTo>
                  <a:pt x="81561" y="9407"/>
                </a:lnTo>
                <a:lnTo>
                  <a:pt x="77258" y="14088"/>
                </a:lnTo>
                <a:lnTo>
                  <a:pt x="76058" y="16166"/>
                </a:lnTo>
                <a:lnTo>
                  <a:pt x="72468" y="22989"/>
                </a:lnTo>
                <a:lnTo>
                  <a:pt x="65687" y="36351"/>
                </a:lnTo>
                <a:lnTo>
                  <a:pt x="64110" y="40320"/>
                </a:lnTo>
                <a:lnTo>
                  <a:pt x="63060" y="43814"/>
                </a:lnTo>
                <a:lnTo>
                  <a:pt x="62360" y="46989"/>
                </a:lnTo>
                <a:lnTo>
                  <a:pt x="60200" y="50799"/>
                </a:lnTo>
                <a:lnTo>
                  <a:pt x="57066" y="55033"/>
                </a:lnTo>
                <a:lnTo>
                  <a:pt x="53284" y="59549"/>
                </a:lnTo>
                <a:lnTo>
                  <a:pt x="49916" y="65099"/>
                </a:lnTo>
                <a:lnTo>
                  <a:pt x="46823" y="71339"/>
                </a:lnTo>
                <a:lnTo>
                  <a:pt x="43915" y="78040"/>
                </a:lnTo>
                <a:lnTo>
                  <a:pt x="38426" y="89999"/>
                </a:lnTo>
                <a:lnTo>
                  <a:pt x="35777" y="95560"/>
                </a:lnTo>
                <a:lnTo>
                  <a:pt x="33165" y="101806"/>
                </a:lnTo>
                <a:lnTo>
                  <a:pt x="30576" y="108511"/>
                </a:lnTo>
                <a:lnTo>
                  <a:pt x="28004" y="115521"/>
                </a:lnTo>
                <a:lnTo>
                  <a:pt x="25443" y="121887"/>
                </a:lnTo>
                <a:lnTo>
                  <a:pt x="22888" y="127825"/>
                </a:lnTo>
                <a:lnTo>
                  <a:pt x="20338" y="133477"/>
                </a:lnTo>
                <a:lnTo>
                  <a:pt x="17792" y="139784"/>
                </a:lnTo>
                <a:lnTo>
                  <a:pt x="12705" y="153567"/>
                </a:lnTo>
                <a:lnTo>
                  <a:pt x="10163" y="159951"/>
                </a:lnTo>
                <a:lnTo>
                  <a:pt x="7622" y="165901"/>
                </a:lnTo>
                <a:lnTo>
                  <a:pt x="5081" y="171561"/>
                </a:lnTo>
                <a:lnTo>
                  <a:pt x="3387" y="176181"/>
                </a:lnTo>
                <a:lnTo>
                  <a:pt x="2258" y="180107"/>
                </a:lnTo>
                <a:lnTo>
                  <a:pt x="1505" y="183571"/>
                </a:lnTo>
                <a:lnTo>
                  <a:pt x="1003" y="187574"/>
                </a:lnTo>
                <a:lnTo>
                  <a:pt x="668" y="191936"/>
                </a:lnTo>
                <a:lnTo>
                  <a:pt x="297" y="200452"/>
                </a:lnTo>
                <a:lnTo>
                  <a:pt x="0" y="2133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MARTInkAnnotation232"/>
          <p:cNvSpPr/>
          <p:nvPr/>
        </p:nvSpPr>
        <p:spPr>
          <a:xfrm>
            <a:off x="4626000" y="4656240"/>
            <a:ext cx="360" cy="7920"/>
          </a:xfrm>
          <a:custGeom>
            <a:avLst/>
            <a:gdLst>
              <a:gd name="textAreaLeft" fmla="*/ 0 w 360"/>
              <a:gd name="textAreaRight" fmla="*/ 720 w 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7621">
                <a:moveTo>
                  <a:pt x="0" y="0"/>
                </a:moveTo>
                <a:lnTo>
                  <a:pt x="0" y="76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MARTInkAnnotation233"/>
          <p:cNvSpPr/>
          <p:nvPr/>
        </p:nvSpPr>
        <p:spPr>
          <a:xfrm>
            <a:off x="4665600" y="4487760"/>
            <a:ext cx="135000" cy="236520"/>
          </a:xfrm>
          <a:custGeom>
            <a:avLst/>
            <a:gdLst>
              <a:gd name="textAreaLeft" fmla="*/ 0 w 135000"/>
              <a:gd name="textAreaRight" fmla="*/ 135360 w 1350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35541" h="236098">
                <a:moveTo>
                  <a:pt x="135540" y="30357"/>
                </a:moveTo>
                <a:lnTo>
                  <a:pt x="135540" y="16269"/>
                </a:lnTo>
                <a:lnTo>
                  <a:pt x="131495" y="11413"/>
                </a:lnTo>
                <a:lnTo>
                  <a:pt x="127252" y="6980"/>
                </a:lnTo>
                <a:lnTo>
                  <a:pt x="124934" y="4612"/>
                </a:lnTo>
                <a:lnTo>
                  <a:pt x="122543" y="3034"/>
                </a:lnTo>
                <a:lnTo>
                  <a:pt x="120102" y="1981"/>
                </a:lnTo>
                <a:lnTo>
                  <a:pt x="117628" y="1280"/>
                </a:lnTo>
                <a:lnTo>
                  <a:pt x="114285" y="812"/>
                </a:lnTo>
                <a:lnTo>
                  <a:pt x="110364" y="500"/>
                </a:lnTo>
                <a:lnTo>
                  <a:pt x="106056" y="293"/>
                </a:lnTo>
                <a:lnTo>
                  <a:pt x="96754" y="62"/>
                </a:lnTo>
                <a:lnTo>
                  <a:pt x="91903" y="0"/>
                </a:lnTo>
                <a:lnTo>
                  <a:pt x="86129" y="806"/>
                </a:lnTo>
                <a:lnTo>
                  <a:pt x="79739" y="2190"/>
                </a:lnTo>
                <a:lnTo>
                  <a:pt x="72939" y="3958"/>
                </a:lnTo>
                <a:lnTo>
                  <a:pt x="65866" y="5985"/>
                </a:lnTo>
                <a:lnTo>
                  <a:pt x="51234" y="10494"/>
                </a:lnTo>
                <a:lnTo>
                  <a:pt x="45469" y="12881"/>
                </a:lnTo>
                <a:lnTo>
                  <a:pt x="40779" y="15320"/>
                </a:lnTo>
                <a:lnTo>
                  <a:pt x="36806" y="17792"/>
                </a:lnTo>
                <a:lnTo>
                  <a:pt x="32465" y="20287"/>
                </a:lnTo>
                <a:lnTo>
                  <a:pt x="23124" y="25317"/>
                </a:lnTo>
                <a:lnTo>
                  <a:pt x="19110" y="27844"/>
                </a:lnTo>
                <a:lnTo>
                  <a:pt x="15586" y="30375"/>
                </a:lnTo>
                <a:lnTo>
                  <a:pt x="12391" y="32909"/>
                </a:lnTo>
                <a:lnTo>
                  <a:pt x="9414" y="35445"/>
                </a:lnTo>
                <a:lnTo>
                  <a:pt x="6582" y="37983"/>
                </a:lnTo>
                <a:lnTo>
                  <a:pt x="3848" y="40521"/>
                </a:lnTo>
                <a:lnTo>
                  <a:pt x="2025" y="43060"/>
                </a:lnTo>
                <a:lnTo>
                  <a:pt x="0" y="48138"/>
                </a:lnTo>
                <a:lnTo>
                  <a:pt x="306" y="50678"/>
                </a:lnTo>
                <a:lnTo>
                  <a:pt x="1357" y="53217"/>
                </a:lnTo>
                <a:lnTo>
                  <a:pt x="4783" y="58297"/>
                </a:lnTo>
                <a:lnTo>
                  <a:pt x="6882" y="60837"/>
                </a:lnTo>
                <a:lnTo>
                  <a:pt x="9128" y="63377"/>
                </a:lnTo>
                <a:lnTo>
                  <a:pt x="12318" y="65917"/>
                </a:lnTo>
                <a:lnTo>
                  <a:pt x="16140" y="68457"/>
                </a:lnTo>
                <a:lnTo>
                  <a:pt x="20380" y="70997"/>
                </a:lnTo>
                <a:lnTo>
                  <a:pt x="24900" y="72690"/>
                </a:lnTo>
                <a:lnTo>
                  <a:pt x="29607" y="73820"/>
                </a:lnTo>
                <a:lnTo>
                  <a:pt x="34438" y="74572"/>
                </a:lnTo>
                <a:lnTo>
                  <a:pt x="40199" y="75074"/>
                </a:lnTo>
                <a:lnTo>
                  <a:pt x="46579" y="75408"/>
                </a:lnTo>
                <a:lnTo>
                  <a:pt x="53373" y="75631"/>
                </a:lnTo>
                <a:lnTo>
                  <a:pt x="59595" y="74933"/>
                </a:lnTo>
                <a:lnTo>
                  <a:pt x="65436" y="73621"/>
                </a:lnTo>
                <a:lnTo>
                  <a:pt x="71025" y="71900"/>
                </a:lnTo>
                <a:lnTo>
                  <a:pt x="76444" y="70752"/>
                </a:lnTo>
                <a:lnTo>
                  <a:pt x="81749" y="69987"/>
                </a:lnTo>
                <a:lnTo>
                  <a:pt x="86980" y="69477"/>
                </a:lnTo>
                <a:lnTo>
                  <a:pt x="92159" y="68291"/>
                </a:lnTo>
                <a:lnTo>
                  <a:pt x="97306" y="66653"/>
                </a:lnTo>
                <a:lnTo>
                  <a:pt x="102431" y="64714"/>
                </a:lnTo>
                <a:lnTo>
                  <a:pt x="106694" y="61728"/>
                </a:lnTo>
                <a:lnTo>
                  <a:pt x="110383" y="58045"/>
                </a:lnTo>
                <a:lnTo>
                  <a:pt x="113688" y="53895"/>
                </a:lnTo>
                <a:lnTo>
                  <a:pt x="116739" y="51129"/>
                </a:lnTo>
                <a:lnTo>
                  <a:pt x="119620" y="49285"/>
                </a:lnTo>
                <a:lnTo>
                  <a:pt x="122386" y="48056"/>
                </a:lnTo>
                <a:lnTo>
                  <a:pt x="125078" y="46390"/>
                </a:lnTo>
                <a:lnTo>
                  <a:pt x="127719" y="44432"/>
                </a:lnTo>
                <a:lnTo>
                  <a:pt x="135500" y="38010"/>
                </a:lnTo>
                <a:lnTo>
                  <a:pt x="135529" y="42032"/>
                </a:lnTo>
                <a:lnTo>
                  <a:pt x="134686" y="44067"/>
                </a:lnTo>
                <a:lnTo>
                  <a:pt x="131492" y="48586"/>
                </a:lnTo>
                <a:lnTo>
                  <a:pt x="130301" y="50976"/>
                </a:lnTo>
                <a:lnTo>
                  <a:pt x="128978" y="55890"/>
                </a:lnTo>
                <a:lnTo>
                  <a:pt x="126133" y="63154"/>
                </a:lnTo>
                <a:lnTo>
                  <a:pt x="124189" y="67462"/>
                </a:lnTo>
                <a:lnTo>
                  <a:pt x="122046" y="72874"/>
                </a:lnTo>
                <a:lnTo>
                  <a:pt x="117407" y="85660"/>
                </a:lnTo>
                <a:lnTo>
                  <a:pt x="114985" y="91779"/>
                </a:lnTo>
                <a:lnTo>
                  <a:pt x="112523" y="97552"/>
                </a:lnTo>
                <a:lnTo>
                  <a:pt x="110035" y="103093"/>
                </a:lnTo>
                <a:lnTo>
                  <a:pt x="108377" y="108481"/>
                </a:lnTo>
                <a:lnTo>
                  <a:pt x="107272" y="113766"/>
                </a:lnTo>
                <a:lnTo>
                  <a:pt x="106535" y="118983"/>
                </a:lnTo>
                <a:lnTo>
                  <a:pt x="106043" y="125001"/>
                </a:lnTo>
                <a:lnTo>
                  <a:pt x="105715" y="131553"/>
                </a:lnTo>
                <a:lnTo>
                  <a:pt x="105497" y="138461"/>
                </a:lnTo>
                <a:lnTo>
                  <a:pt x="104505" y="144760"/>
                </a:lnTo>
                <a:lnTo>
                  <a:pt x="102997" y="150653"/>
                </a:lnTo>
                <a:lnTo>
                  <a:pt x="101144" y="156274"/>
                </a:lnTo>
                <a:lnTo>
                  <a:pt x="99910" y="161715"/>
                </a:lnTo>
                <a:lnTo>
                  <a:pt x="99086" y="167036"/>
                </a:lnTo>
                <a:lnTo>
                  <a:pt x="98538" y="172276"/>
                </a:lnTo>
                <a:lnTo>
                  <a:pt x="99019" y="178310"/>
                </a:lnTo>
                <a:lnTo>
                  <a:pt x="100186" y="184872"/>
                </a:lnTo>
                <a:lnTo>
                  <a:pt x="101811" y="191787"/>
                </a:lnTo>
                <a:lnTo>
                  <a:pt x="102894" y="197244"/>
                </a:lnTo>
                <a:lnTo>
                  <a:pt x="103616" y="201728"/>
                </a:lnTo>
                <a:lnTo>
                  <a:pt x="104097" y="205564"/>
                </a:lnTo>
                <a:lnTo>
                  <a:pt x="104419" y="209815"/>
                </a:lnTo>
                <a:lnTo>
                  <a:pt x="104633" y="214343"/>
                </a:lnTo>
                <a:lnTo>
                  <a:pt x="104975" y="225685"/>
                </a:lnTo>
                <a:lnTo>
                  <a:pt x="105060" y="23609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MARTInkAnnotation234"/>
          <p:cNvSpPr/>
          <p:nvPr/>
        </p:nvSpPr>
        <p:spPr>
          <a:xfrm>
            <a:off x="4983120" y="4603680"/>
            <a:ext cx="176400" cy="22320"/>
          </a:xfrm>
          <a:custGeom>
            <a:avLst/>
            <a:gdLst>
              <a:gd name="textAreaLeft" fmla="*/ 0 w 176400"/>
              <a:gd name="textAreaRight" fmla="*/ 176760 w 176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75262" h="21802">
                <a:moveTo>
                  <a:pt x="0" y="6561"/>
                </a:moveTo>
                <a:lnTo>
                  <a:pt x="11572" y="6561"/>
                </a:lnTo>
                <a:lnTo>
                  <a:pt x="14488" y="5715"/>
                </a:lnTo>
                <a:lnTo>
                  <a:pt x="18125" y="4303"/>
                </a:lnTo>
                <a:lnTo>
                  <a:pt x="22244" y="2516"/>
                </a:lnTo>
                <a:lnTo>
                  <a:pt x="26683" y="1324"/>
                </a:lnTo>
                <a:lnTo>
                  <a:pt x="31335" y="530"/>
                </a:lnTo>
                <a:lnTo>
                  <a:pt x="36130" y="0"/>
                </a:lnTo>
                <a:lnTo>
                  <a:pt x="41867" y="494"/>
                </a:lnTo>
                <a:lnTo>
                  <a:pt x="48231" y="1670"/>
                </a:lnTo>
                <a:lnTo>
                  <a:pt x="55014" y="3300"/>
                </a:lnTo>
                <a:lnTo>
                  <a:pt x="61230" y="4387"/>
                </a:lnTo>
                <a:lnTo>
                  <a:pt x="67066" y="5112"/>
                </a:lnTo>
                <a:lnTo>
                  <a:pt x="72651" y="5595"/>
                </a:lnTo>
                <a:lnTo>
                  <a:pt x="78914" y="6763"/>
                </a:lnTo>
                <a:lnTo>
                  <a:pt x="85629" y="8390"/>
                </a:lnTo>
                <a:lnTo>
                  <a:pt x="92646" y="10320"/>
                </a:lnTo>
                <a:lnTo>
                  <a:pt x="99017" y="11607"/>
                </a:lnTo>
                <a:lnTo>
                  <a:pt x="104958" y="12465"/>
                </a:lnTo>
                <a:lnTo>
                  <a:pt x="110613" y="13037"/>
                </a:lnTo>
                <a:lnTo>
                  <a:pt x="116075" y="14265"/>
                </a:lnTo>
                <a:lnTo>
                  <a:pt x="121410" y="15930"/>
                </a:lnTo>
                <a:lnTo>
                  <a:pt x="126660" y="17887"/>
                </a:lnTo>
                <a:lnTo>
                  <a:pt x="131854" y="19192"/>
                </a:lnTo>
                <a:lnTo>
                  <a:pt x="137009" y="20062"/>
                </a:lnTo>
                <a:lnTo>
                  <a:pt x="142140" y="20641"/>
                </a:lnTo>
                <a:lnTo>
                  <a:pt x="146406" y="21028"/>
                </a:lnTo>
                <a:lnTo>
                  <a:pt x="150098" y="21286"/>
                </a:lnTo>
                <a:lnTo>
                  <a:pt x="153405" y="21457"/>
                </a:lnTo>
                <a:lnTo>
                  <a:pt x="159338" y="21648"/>
                </a:lnTo>
                <a:lnTo>
                  <a:pt x="174803" y="21799"/>
                </a:lnTo>
                <a:lnTo>
                  <a:pt x="175261" y="2180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MARTInkAnnotation235"/>
          <p:cNvSpPr/>
          <p:nvPr/>
        </p:nvSpPr>
        <p:spPr>
          <a:xfrm>
            <a:off x="5265720" y="44956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82157" h="228601">
                <a:moveTo>
                  <a:pt x="83677" y="0"/>
                </a:moveTo>
                <a:lnTo>
                  <a:pt x="79632" y="0"/>
                </a:lnTo>
                <a:lnTo>
                  <a:pt x="78440" y="846"/>
                </a:lnTo>
                <a:lnTo>
                  <a:pt x="77646" y="2258"/>
                </a:lnTo>
                <a:lnTo>
                  <a:pt x="77116" y="4045"/>
                </a:lnTo>
                <a:lnTo>
                  <a:pt x="74269" y="8289"/>
                </a:lnTo>
                <a:lnTo>
                  <a:pt x="72325" y="10606"/>
                </a:lnTo>
                <a:lnTo>
                  <a:pt x="69336" y="12997"/>
                </a:lnTo>
                <a:lnTo>
                  <a:pt x="65650" y="15439"/>
                </a:lnTo>
                <a:lnTo>
                  <a:pt x="61499" y="17912"/>
                </a:lnTo>
                <a:lnTo>
                  <a:pt x="57885" y="21255"/>
                </a:lnTo>
                <a:lnTo>
                  <a:pt x="54629" y="25176"/>
                </a:lnTo>
                <a:lnTo>
                  <a:pt x="51612" y="29484"/>
                </a:lnTo>
                <a:lnTo>
                  <a:pt x="47907" y="34049"/>
                </a:lnTo>
                <a:lnTo>
                  <a:pt x="43744" y="38786"/>
                </a:lnTo>
                <a:lnTo>
                  <a:pt x="39275" y="43637"/>
                </a:lnTo>
                <a:lnTo>
                  <a:pt x="29794" y="53543"/>
                </a:lnTo>
                <a:lnTo>
                  <a:pt x="24895" y="58556"/>
                </a:lnTo>
                <a:lnTo>
                  <a:pt x="20782" y="64437"/>
                </a:lnTo>
                <a:lnTo>
                  <a:pt x="17194" y="70898"/>
                </a:lnTo>
                <a:lnTo>
                  <a:pt x="5351" y="95473"/>
                </a:lnTo>
                <a:lnTo>
                  <a:pt x="3520" y="101749"/>
                </a:lnTo>
                <a:lnTo>
                  <a:pt x="2299" y="108472"/>
                </a:lnTo>
                <a:lnTo>
                  <a:pt x="1484" y="115495"/>
                </a:lnTo>
                <a:lnTo>
                  <a:pt x="942" y="121870"/>
                </a:lnTo>
                <a:lnTo>
                  <a:pt x="581" y="127813"/>
                </a:lnTo>
                <a:lnTo>
                  <a:pt x="178" y="138933"/>
                </a:lnTo>
                <a:lnTo>
                  <a:pt x="0" y="149519"/>
                </a:lnTo>
                <a:lnTo>
                  <a:pt x="799" y="154713"/>
                </a:lnTo>
                <a:lnTo>
                  <a:pt x="2178" y="159869"/>
                </a:lnTo>
                <a:lnTo>
                  <a:pt x="3945" y="164999"/>
                </a:lnTo>
                <a:lnTo>
                  <a:pt x="6815" y="170113"/>
                </a:lnTo>
                <a:lnTo>
                  <a:pt x="10422" y="175215"/>
                </a:lnTo>
                <a:lnTo>
                  <a:pt x="14521" y="180310"/>
                </a:lnTo>
                <a:lnTo>
                  <a:pt x="18946" y="185400"/>
                </a:lnTo>
                <a:lnTo>
                  <a:pt x="23589" y="190487"/>
                </a:lnTo>
                <a:lnTo>
                  <a:pt x="28379" y="195572"/>
                </a:lnTo>
                <a:lnTo>
                  <a:pt x="34112" y="199808"/>
                </a:lnTo>
                <a:lnTo>
                  <a:pt x="40474" y="203478"/>
                </a:lnTo>
                <a:lnTo>
                  <a:pt x="47255" y="206772"/>
                </a:lnTo>
                <a:lnTo>
                  <a:pt x="54316" y="208969"/>
                </a:lnTo>
                <a:lnTo>
                  <a:pt x="61563" y="210433"/>
                </a:lnTo>
                <a:lnTo>
                  <a:pt x="68934" y="211408"/>
                </a:lnTo>
                <a:lnTo>
                  <a:pt x="76389" y="212059"/>
                </a:lnTo>
                <a:lnTo>
                  <a:pt x="83899" y="212493"/>
                </a:lnTo>
                <a:lnTo>
                  <a:pt x="91445" y="212782"/>
                </a:lnTo>
                <a:lnTo>
                  <a:pt x="99015" y="212128"/>
                </a:lnTo>
                <a:lnTo>
                  <a:pt x="106603" y="210845"/>
                </a:lnTo>
                <a:lnTo>
                  <a:pt x="114200" y="209143"/>
                </a:lnTo>
                <a:lnTo>
                  <a:pt x="120959" y="207162"/>
                </a:lnTo>
                <a:lnTo>
                  <a:pt x="127159" y="204995"/>
                </a:lnTo>
                <a:lnTo>
                  <a:pt x="132985" y="202704"/>
                </a:lnTo>
                <a:lnTo>
                  <a:pt x="138562" y="199482"/>
                </a:lnTo>
                <a:lnTo>
                  <a:pt x="143974" y="195642"/>
                </a:lnTo>
                <a:lnTo>
                  <a:pt x="149275" y="191388"/>
                </a:lnTo>
                <a:lnTo>
                  <a:pt x="154502" y="187705"/>
                </a:lnTo>
                <a:lnTo>
                  <a:pt x="159681" y="184404"/>
                </a:lnTo>
                <a:lnTo>
                  <a:pt x="164826" y="181356"/>
                </a:lnTo>
                <a:lnTo>
                  <a:pt x="169103" y="177631"/>
                </a:lnTo>
                <a:lnTo>
                  <a:pt x="172801" y="173454"/>
                </a:lnTo>
                <a:lnTo>
                  <a:pt x="176114" y="168976"/>
                </a:lnTo>
                <a:lnTo>
                  <a:pt x="178321" y="165144"/>
                </a:lnTo>
                <a:lnTo>
                  <a:pt x="180774" y="158629"/>
                </a:lnTo>
                <a:lnTo>
                  <a:pt x="181865" y="152911"/>
                </a:lnTo>
                <a:lnTo>
                  <a:pt x="182156" y="150201"/>
                </a:lnTo>
                <a:lnTo>
                  <a:pt x="181503" y="147547"/>
                </a:lnTo>
                <a:lnTo>
                  <a:pt x="178519" y="142341"/>
                </a:lnTo>
                <a:lnTo>
                  <a:pt x="176539" y="140614"/>
                </a:lnTo>
                <a:lnTo>
                  <a:pt x="174371" y="139463"/>
                </a:lnTo>
                <a:lnTo>
                  <a:pt x="172080" y="138695"/>
                </a:lnTo>
                <a:lnTo>
                  <a:pt x="167276" y="135585"/>
                </a:lnTo>
                <a:lnTo>
                  <a:pt x="164810" y="133570"/>
                </a:lnTo>
                <a:lnTo>
                  <a:pt x="161473" y="133073"/>
                </a:lnTo>
                <a:lnTo>
                  <a:pt x="157553" y="133589"/>
                </a:lnTo>
                <a:lnTo>
                  <a:pt x="153248" y="134779"/>
                </a:lnTo>
                <a:lnTo>
                  <a:pt x="149531" y="135573"/>
                </a:lnTo>
                <a:lnTo>
                  <a:pt x="146207" y="136101"/>
                </a:lnTo>
                <a:lnTo>
                  <a:pt x="143144" y="136454"/>
                </a:lnTo>
                <a:lnTo>
                  <a:pt x="139408" y="137536"/>
                </a:lnTo>
                <a:lnTo>
                  <a:pt x="135224" y="139104"/>
                </a:lnTo>
                <a:lnTo>
                  <a:pt x="130742" y="140996"/>
                </a:lnTo>
                <a:lnTo>
                  <a:pt x="126907" y="143951"/>
                </a:lnTo>
                <a:lnTo>
                  <a:pt x="123503" y="147614"/>
                </a:lnTo>
                <a:lnTo>
                  <a:pt x="120388" y="151749"/>
                </a:lnTo>
                <a:lnTo>
                  <a:pt x="117464" y="155353"/>
                </a:lnTo>
                <a:lnTo>
                  <a:pt x="111958" y="161615"/>
                </a:lnTo>
                <a:lnTo>
                  <a:pt x="110151" y="164470"/>
                </a:lnTo>
                <a:lnTo>
                  <a:pt x="108144" y="169900"/>
                </a:lnTo>
                <a:lnTo>
                  <a:pt x="107607" y="173380"/>
                </a:lnTo>
                <a:lnTo>
                  <a:pt x="107251" y="177394"/>
                </a:lnTo>
                <a:lnTo>
                  <a:pt x="107013" y="181762"/>
                </a:lnTo>
                <a:lnTo>
                  <a:pt x="106749" y="191133"/>
                </a:lnTo>
                <a:lnTo>
                  <a:pt x="106678" y="196002"/>
                </a:lnTo>
                <a:lnTo>
                  <a:pt x="107478" y="200095"/>
                </a:lnTo>
                <a:lnTo>
                  <a:pt x="110624" y="206900"/>
                </a:lnTo>
                <a:lnTo>
                  <a:pt x="114844" y="212747"/>
                </a:lnTo>
                <a:lnTo>
                  <a:pt x="117156" y="215491"/>
                </a:lnTo>
                <a:lnTo>
                  <a:pt x="120390" y="218167"/>
                </a:lnTo>
                <a:lnTo>
                  <a:pt x="124238" y="220798"/>
                </a:lnTo>
                <a:lnTo>
                  <a:pt x="128498" y="223399"/>
                </a:lnTo>
                <a:lnTo>
                  <a:pt x="133878" y="225133"/>
                </a:lnTo>
                <a:lnTo>
                  <a:pt x="140004" y="226289"/>
                </a:lnTo>
                <a:lnTo>
                  <a:pt x="146628" y="227059"/>
                </a:lnTo>
                <a:lnTo>
                  <a:pt x="151891" y="227573"/>
                </a:lnTo>
                <a:lnTo>
                  <a:pt x="156246" y="227915"/>
                </a:lnTo>
                <a:lnTo>
                  <a:pt x="167497" y="2286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MARTInkAnnotation236"/>
          <p:cNvSpPr/>
          <p:nvPr/>
        </p:nvSpPr>
        <p:spPr>
          <a:xfrm>
            <a:off x="5532480" y="4626000"/>
            <a:ext cx="7920" cy="76320"/>
          </a:xfrm>
          <a:custGeom>
            <a:avLst/>
            <a:gdLst>
              <a:gd name="textAreaLeft" fmla="*/ 0 w 7920"/>
              <a:gd name="textAreaRight" fmla="*/ 8280 w 792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7622" h="76201">
                <a:moveTo>
                  <a:pt x="7621" y="0"/>
                </a:moveTo>
                <a:lnTo>
                  <a:pt x="7621" y="48261"/>
                </a:lnTo>
                <a:lnTo>
                  <a:pt x="6774" y="50801"/>
                </a:lnTo>
                <a:lnTo>
                  <a:pt x="5363" y="53341"/>
                </a:lnTo>
                <a:lnTo>
                  <a:pt x="3575" y="55880"/>
                </a:lnTo>
                <a:lnTo>
                  <a:pt x="2384" y="58420"/>
                </a:lnTo>
                <a:lnTo>
                  <a:pt x="1589" y="60960"/>
                </a:lnTo>
                <a:lnTo>
                  <a:pt x="314" y="67075"/>
                </a:lnTo>
                <a:lnTo>
                  <a:pt x="210" y="68423"/>
                </a:lnTo>
                <a:lnTo>
                  <a:pt x="140" y="70169"/>
                </a:lnTo>
                <a:lnTo>
                  <a:pt x="0" y="762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MARTInkAnnotation237"/>
          <p:cNvSpPr/>
          <p:nvPr/>
        </p:nvSpPr>
        <p:spPr>
          <a:xfrm>
            <a:off x="5668920" y="4427640"/>
            <a:ext cx="15840" cy="220680"/>
          </a:xfrm>
          <a:custGeom>
            <a:avLst/>
            <a:gdLst>
              <a:gd name="textAreaLeft" fmla="*/ 0 w 15840"/>
              <a:gd name="textAreaRight" fmla="*/ 16200 w 158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5241" h="220981">
                <a:moveTo>
                  <a:pt x="15240" y="0"/>
                </a:moveTo>
                <a:lnTo>
                  <a:pt x="15240" y="72956"/>
                </a:lnTo>
                <a:lnTo>
                  <a:pt x="14394" y="79118"/>
                </a:lnTo>
                <a:lnTo>
                  <a:pt x="12982" y="85765"/>
                </a:lnTo>
                <a:lnTo>
                  <a:pt x="11195" y="92737"/>
                </a:lnTo>
                <a:lnTo>
                  <a:pt x="10004" y="99078"/>
                </a:lnTo>
                <a:lnTo>
                  <a:pt x="9209" y="104999"/>
                </a:lnTo>
                <a:lnTo>
                  <a:pt x="8679" y="110639"/>
                </a:lnTo>
                <a:lnTo>
                  <a:pt x="8327" y="116940"/>
                </a:lnTo>
                <a:lnTo>
                  <a:pt x="7934" y="130713"/>
                </a:lnTo>
                <a:lnTo>
                  <a:pt x="6983" y="137942"/>
                </a:lnTo>
                <a:lnTo>
                  <a:pt x="5502" y="145302"/>
                </a:lnTo>
                <a:lnTo>
                  <a:pt x="3668" y="152748"/>
                </a:lnTo>
                <a:lnTo>
                  <a:pt x="2445" y="160252"/>
                </a:lnTo>
                <a:lnTo>
                  <a:pt x="1630" y="167795"/>
                </a:lnTo>
                <a:lnTo>
                  <a:pt x="1087" y="175363"/>
                </a:lnTo>
                <a:lnTo>
                  <a:pt x="725" y="182102"/>
                </a:lnTo>
                <a:lnTo>
                  <a:pt x="322" y="194105"/>
                </a:lnTo>
                <a:lnTo>
                  <a:pt x="64" y="209525"/>
                </a:lnTo>
                <a:lnTo>
                  <a:pt x="0" y="220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MARTInkAnnotation238"/>
          <p:cNvSpPr/>
          <p:nvPr/>
        </p:nvSpPr>
        <p:spPr>
          <a:xfrm>
            <a:off x="5622840" y="3749760"/>
            <a:ext cx="617760" cy="1081080"/>
          </a:xfrm>
          <a:custGeom>
            <a:avLst/>
            <a:gdLst>
              <a:gd name="textAreaLeft" fmla="*/ 0 w 617760"/>
              <a:gd name="textAreaRight" fmla="*/ 618120 w 6177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617201" h="1080839">
                <a:moveTo>
                  <a:pt x="0" y="36939"/>
                </a:moveTo>
                <a:lnTo>
                  <a:pt x="54268" y="36939"/>
                </a:lnTo>
                <a:lnTo>
                  <a:pt x="71251" y="34682"/>
                </a:lnTo>
                <a:lnTo>
                  <a:pt x="80520" y="32894"/>
                </a:lnTo>
                <a:lnTo>
                  <a:pt x="90933" y="31703"/>
                </a:lnTo>
                <a:lnTo>
                  <a:pt x="102110" y="30908"/>
                </a:lnTo>
                <a:lnTo>
                  <a:pt x="113793" y="30378"/>
                </a:lnTo>
                <a:lnTo>
                  <a:pt x="124969" y="29179"/>
                </a:lnTo>
                <a:lnTo>
                  <a:pt x="135806" y="27532"/>
                </a:lnTo>
                <a:lnTo>
                  <a:pt x="146417" y="25588"/>
                </a:lnTo>
                <a:lnTo>
                  <a:pt x="157725" y="24291"/>
                </a:lnTo>
                <a:lnTo>
                  <a:pt x="169496" y="23427"/>
                </a:lnTo>
                <a:lnTo>
                  <a:pt x="181578" y="22851"/>
                </a:lnTo>
                <a:lnTo>
                  <a:pt x="194712" y="21620"/>
                </a:lnTo>
                <a:lnTo>
                  <a:pt x="208548" y="19953"/>
                </a:lnTo>
                <a:lnTo>
                  <a:pt x="222852" y="17995"/>
                </a:lnTo>
                <a:lnTo>
                  <a:pt x="237468" y="16690"/>
                </a:lnTo>
                <a:lnTo>
                  <a:pt x="252291" y="15820"/>
                </a:lnTo>
                <a:lnTo>
                  <a:pt x="267255" y="15239"/>
                </a:lnTo>
                <a:lnTo>
                  <a:pt x="281463" y="14006"/>
                </a:lnTo>
                <a:lnTo>
                  <a:pt x="295169" y="12337"/>
                </a:lnTo>
                <a:lnTo>
                  <a:pt x="308539" y="10378"/>
                </a:lnTo>
                <a:lnTo>
                  <a:pt x="321686" y="9071"/>
                </a:lnTo>
                <a:lnTo>
                  <a:pt x="334684" y="8201"/>
                </a:lnTo>
                <a:lnTo>
                  <a:pt x="347583" y="7620"/>
                </a:lnTo>
                <a:lnTo>
                  <a:pt x="359569" y="6386"/>
                </a:lnTo>
                <a:lnTo>
                  <a:pt x="370946" y="4717"/>
                </a:lnTo>
                <a:lnTo>
                  <a:pt x="381918" y="2758"/>
                </a:lnTo>
                <a:lnTo>
                  <a:pt x="392619" y="1451"/>
                </a:lnTo>
                <a:lnTo>
                  <a:pt x="403140" y="581"/>
                </a:lnTo>
                <a:lnTo>
                  <a:pt x="413539" y="0"/>
                </a:lnTo>
                <a:lnTo>
                  <a:pt x="423860" y="460"/>
                </a:lnTo>
                <a:lnTo>
                  <a:pt x="434126" y="1613"/>
                </a:lnTo>
                <a:lnTo>
                  <a:pt x="444358" y="3228"/>
                </a:lnTo>
                <a:lnTo>
                  <a:pt x="462499" y="5023"/>
                </a:lnTo>
                <a:lnTo>
                  <a:pt x="470893" y="5502"/>
                </a:lnTo>
                <a:lnTo>
                  <a:pt x="486992" y="10549"/>
                </a:lnTo>
                <a:lnTo>
                  <a:pt x="505820" y="20653"/>
                </a:lnTo>
                <a:lnTo>
                  <a:pt x="523812" y="35698"/>
                </a:lnTo>
                <a:lnTo>
                  <a:pt x="534604" y="50024"/>
                </a:lnTo>
                <a:lnTo>
                  <a:pt x="543164" y="69038"/>
                </a:lnTo>
                <a:lnTo>
                  <a:pt x="547018" y="94804"/>
                </a:lnTo>
                <a:lnTo>
                  <a:pt x="548160" y="123887"/>
                </a:lnTo>
                <a:lnTo>
                  <a:pt x="546168" y="146138"/>
                </a:lnTo>
                <a:lnTo>
                  <a:pt x="542462" y="170139"/>
                </a:lnTo>
                <a:lnTo>
                  <a:pt x="535614" y="207451"/>
                </a:lnTo>
                <a:lnTo>
                  <a:pt x="530715" y="232667"/>
                </a:lnTo>
                <a:lnTo>
                  <a:pt x="527974" y="260243"/>
                </a:lnTo>
                <a:lnTo>
                  <a:pt x="525909" y="289431"/>
                </a:lnTo>
                <a:lnTo>
                  <a:pt x="522168" y="319338"/>
                </a:lnTo>
                <a:lnTo>
                  <a:pt x="515303" y="364735"/>
                </a:lnTo>
                <a:lnTo>
                  <a:pt x="512657" y="397397"/>
                </a:lnTo>
                <a:lnTo>
                  <a:pt x="511952" y="414404"/>
                </a:lnTo>
                <a:lnTo>
                  <a:pt x="510634" y="431669"/>
                </a:lnTo>
                <a:lnTo>
                  <a:pt x="508910" y="449105"/>
                </a:lnTo>
                <a:lnTo>
                  <a:pt x="506913" y="466657"/>
                </a:lnTo>
                <a:lnTo>
                  <a:pt x="505583" y="484284"/>
                </a:lnTo>
                <a:lnTo>
                  <a:pt x="504695" y="501962"/>
                </a:lnTo>
                <a:lnTo>
                  <a:pt x="503709" y="537409"/>
                </a:lnTo>
                <a:lnTo>
                  <a:pt x="503271" y="572919"/>
                </a:lnTo>
                <a:lnTo>
                  <a:pt x="504000" y="590686"/>
                </a:lnTo>
                <a:lnTo>
                  <a:pt x="505333" y="608457"/>
                </a:lnTo>
                <a:lnTo>
                  <a:pt x="507069" y="626231"/>
                </a:lnTo>
                <a:lnTo>
                  <a:pt x="508226" y="644008"/>
                </a:lnTo>
                <a:lnTo>
                  <a:pt x="508997" y="661785"/>
                </a:lnTo>
                <a:lnTo>
                  <a:pt x="509511" y="679563"/>
                </a:lnTo>
                <a:lnTo>
                  <a:pt x="510701" y="697341"/>
                </a:lnTo>
                <a:lnTo>
                  <a:pt x="512341" y="715121"/>
                </a:lnTo>
                <a:lnTo>
                  <a:pt x="514281" y="732900"/>
                </a:lnTo>
                <a:lnTo>
                  <a:pt x="518694" y="766202"/>
                </a:lnTo>
                <a:lnTo>
                  <a:pt x="528425" y="828973"/>
                </a:lnTo>
                <a:lnTo>
                  <a:pt x="543569" y="914259"/>
                </a:lnTo>
                <a:lnTo>
                  <a:pt x="548644" y="939657"/>
                </a:lnTo>
                <a:lnTo>
                  <a:pt x="558519" y="972996"/>
                </a:lnTo>
                <a:lnTo>
                  <a:pt x="572169" y="1004323"/>
                </a:lnTo>
                <a:lnTo>
                  <a:pt x="584680" y="1032795"/>
                </a:lnTo>
                <a:lnTo>
                  <a:pt x="593750" y="1052804"/>
                </a:lnTo>
                <a:lnTo>
                  <a:pt x="596494" y="1057082"/>
                </a:lnTo>
                <a:lnTo>
                  <a:pt x="604058" y="1064094"/>
                </a:lnTo>
                <a:lnTo>
                  <a:pt x="608445" y="1067149"/>
                </a:lnTo>
                <a:lnTo>
                  <a:pt x="611370" y="1070033"/>
                </a:lnTo>
                <a:lnTo>
                  <a:pt x="613320" y="1072801"/>
                </a:lnTo>
                <a:lnTo>
                  <a:pt x="617200" y="1080838"/>
                </a:lnTo>
                <a:lnTo>
                  <a:pt x="613169" y="1076822"/>
                </a:lnTo>
                <a:lnTo>
                  <a:pt x="602567" y="1070270"/>
                </a:lnTo>
                <a:lnTo>
                  <a:pt x="584657" y="1062966"/>
                </a:lnTo>
                <a:lnTo>
                  <a:pt x="568316" y="1055703"/>
                </a:lnTo>
                <a:lnTo>
                  <a:pt x="549765" y="1047676"/>
                </a:lnTo>
                <a:lnTo>
                  <a:pt x="540077" y="1044351"/>
                </a:lnTo>
                <a:lnTo>
                  <a:pt x="530231" y="1041287"/>
                </a:lnTo>
                <a:lnTo>
                  <a:pt x="510261" y="1035625"/>
                </a:lnTo>
                <a:lnTo>
                  <a:pt x="500194" y="1032930"/>
                </a:lnTo>
                <a:lnTo>
                  <a:pt x="489249" y="1030286"/>
                </a:lnTo>
                <a:lnTo>
                  <a:pt x="465799" y="1025091"/>
                </a:lnTo>
                <a:lnTo>
                  <a:pt x="453620" y="1023367"/>
                </a:lnTo>
                <a:lnTo>
                  <a:pt x="441266" y="1022217"/>
                </a:lnTo>
                <a:lnTo>
                  <a:pt x="428798" y="1021452"/>
                </a:lnTo>
                <a:lnTo>
                  <a:pt x="405912" y="1020600"/>
                </a:lnTo>
                <a:lnTo>
                  <a:pt x="373988" y="1020121"/>
                </a:lnTo>
                <a:lnTo>
                  <a:pt x="363626" y="1020054"/>
                </a:lnTo>
                <a:lnTo>
                  <a:pt x="353330" y="1020855"/>
                </a:lnTo>
                <a:lnTo>
                  <a:pt x="343081" y="1022237"/>
                </a:lnTo>
                <a:lnTo>
                  <a:pt x="332860" y="1024004"/>
                </a:lnTo>
                <a:lnTo>
                  <a:pt x="314731" y="1030484"/>
                </a:lnTo>
                <a:lnTo>
                  <a:pt x="286442" y="1044396"/>
                </a:lnTo>
                <a:lnTo>
                  <a:pt x="282401" y="1047243"/>
                </a:lnTo>
                <a:lnTo>
                  <a:pt x="279708" y="1049989"/>
                </a:lnTo>
                <a:lnTo>
                  <a:pt x="274320" y="10580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MARTInkAnnotation239"/>
          <p:cNvSpPr/>
          <p:nvPr/>
        </p:nvSpPr>
        <p:spPr>
          <a:xfrm>
            <a:off x="6384960" y="4267080"/>
            <a:ext cx="190440" cy="15840"/>
          </a:xfrm>
          <a:custGeom>
            <a:avLst/>
            <a:gdLst>
              <a:gd name="textAreaLeft" fmla="*/ 0 w 190440"/>
              <a:gd name="textAreaRight" fmla="*/ 190800 w 1904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90501" h="15241">
                <a:moveTo>
                  <a:pt x="0" y="15240"/>
                </a:moveTo>
                <a:lnTo>
                  <a:pt x="8090" y="15240"/>
                </a:lnTo>
                <a:lnTo>
                  <a:pt x="11320" y="14394"/>
                </a:lnTo>
                <a:lnTo>
                  <a:pt x="14320" y="12983"/>
                </a:lnTo>
                <a:lnTo>
                  <a:pt x="17166" y="11195"/>
                </a:lnTo>
                <a:lnTo>
                  <a:pt x="20757" y="10003"/>
                </a:lnTo>
                <a:lnTo>
                  <a:pt x="24845" y="9209"/>
                </a:lnTo>
                <a:lnTo>
                  <a:pt x="29263" y="8679"/>
                </a:lnTo>
                <a:lnTo>
                  <a:pt x="34748" y="8326"/>
                </a:lnTo>
                <a:lnTo>
                  <a:pt x="40946" y="8091"/>
                </a:lnTo>
                <a:lnTo>
                  <a:pt x="47617" y="7934"/>
                </a:lnTo>
                <a:lnTo>
                  <a:pt x="54605" y="6983"/>
                </a:lnTo>
                <a:lnTo>
                  <a:pt x="61803" y="5502"/>
                </a:lnTo>
                <a:lnTo>
                  <a:pt x="69143" y="3668"/>
                </a:lnTo>
                <a:lnTo>
                  <a:pt x="76575" y="2445"/>
                </a:lnTo>
                <a:lnTo>
                  <a:pt x="84070" y="1630"/>
                </a:lnTo>
                <a:lnTo>
                  <a:pt x="91606" y="1087"/>
                </a:lnTo>
                <a:lnTo>
                  <a:pt x="99171" y="725"/>
                </a:lnTo>
                <a:lnTo>
                  <a:pt x="114349" y="322"/>
                </a:lnTo>
                <a:lnTo>
                  <a:pt x="19050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MARTInkAnnotation240"/>
          <p:cNvSpPr/>
          <p:nvPr/>
        </p:nvSpPr>
        <p:spPr>
          <a:xfrm>
            <a:off x="6408720" y="4335480"/>
            <a:ext cx="144360" cy="30240"/>
          </a:xfrm>
          <a:custGeom>
            <a:avLst/>
            <a:gdLst>
              <a:gd name="textAreaLeft" fmla="*/ 0 w 144360"/>
              <a:gd name="textAreaRight" fmla="*/ 144720 w 1443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44781" h="30481">
                <a:moveTo>
                  <a:pt x="0" y="30480"/>
                </a:moveTo>
                <a:lnTo>
                  <a:pt x="8090" y="30480"/>
                </a:lnTo>
                <a:lnTo>
                  <a:pt x="12167" y="29633"/>
                </a:lnTo>
                <a:lnTo>
                  <a:pt x="16578" y="28223"/>
                </a:lnTo>
                <a:lnTo>
                  <a:pt x="21212" y="26435"/>
                </a:lnTo>
                <a:lnTo>
                  <a:pt x="26841" y="25243"/>
                </a:lnTo>
                <a:lnTo>
                  <a:pt x="33134" y="24449"/>
                </a:lnTo>
                <a:lnTo>
                  <a:pt x="39870" y="23919"/>
                </a:lnTo>
                <a:lnTo>
                  <a:pt x="46900" y="22719"/>
                </a:lnTo>
                <a:lnTo>
                  <a:pt x="54127" y="21073"/>
                </a:lnTo>
                <a:lnTo>
                  <a:pt x="61484" y="19129"/>
                </a:lnTo>
                <a:lnTo>
                  <a:pt x="68930" y="17833"/>
                </a:lnTo>
                <a:lnTo>
                  <a:pt x="76433" y="16968"/>
                </a:lnTo>
                <a:lnTo>
                  <a:pt x="83975" y="16392"/>
                </a:lnTo>
                <a:lnTo>
                  <a:pt x="91544" y="15161"/>
                </a:lnTo>
                <a:lnTo>
                  <a:pt x="99130" y="13494"/>
                </a:lnTo>
                <a:lnTo>
                  <a:pt x="106727" y="11536"/>
                </a:lnTo>
                <a:lnTo>
                  <a:pt x="113484" y="9384"/>
                </a:lnTo>
                <a:lnTo>
                  <a:pt x="119683" y="7103"/>
                </a:lnTo>
                <a:lnTo>
                  <a:pt x="125509" y="4735"/>
                </a:lnTo>
                <a:lnTo>
                  <a:pt x="130240" y="3157"/>
                </a:lnTo>
                <a:lnTo>
                  <a:pt x="134240" y="2104"/>
                </a:lnTo>
                <a:lnTo>
                  <a:pt x="14478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MARTInkAnnotation241"/>
          <p:cNvSpPr/>
          <p:nvPr/>
        </p:nvSpPr>
        <p:spPr>
          <a:xfrm>
            <a:off x="6659640" y="3790800"/>
            <a:ext cx="350640" cy="1001880"/>
          </a:xfrm>
          <a:custGeom>
            <a:avLst/>
            <a:gdLst>
              <a:gd name="textAreaLeft" fmla="*/ 0 w 350640"/>
              <a:gd name="textAreaRight" fmla="*/ 351000 w 350640"/>
              <a:gd name="textAreaTop" fmla="*/ 0 h 1001880"/>
              <a:gd name="textAreaBottom" fmla="*/ 1002240 h 1001880"/>
            </a:gdLst>
            <a:ahLst/>
            <a:rect l="textAreaLeft" t="textAreaTop" r="textAreaRight" b="textAreaBottom"/>
            <a:pathLst>
              <a:path w="350483" h="1002611">
                <a:moveTo>
                  <a:pt x="38062" y="4390"/>
                </a:moveTo>
                <a:lnTo>
                  <a:pt x="52895" y="4390"/>
                </a:lnTo>
                <a:lnTo>
                  <a:pt x="57227" y="345"/>
                </a:lnTo>
                <a:lnTo>
                  <a:pt x="58458" y="0"/>
                </a:lnTo>
                <a:lnTo>
                  <a:pt x="59280" y="617"/>
                </a:lnTo>
                <a:lnTo>
                  <a:pt x="59828" y="1875"/>
                </a:lnTo>
                <a:lnTo>
                  <a:pt x="61038" y="2713"/>
                </a:lnTo>
                <a:lnTo>
                  <a:pt x="64643" y="3645"/>
                </a:lnTo>
                <a:lnTo>
                  <a:pt x="65943" y="4740"/>
                </a:lnTo>
                <a:lnTo>
                  <a:pt x="66809" y="6316"/>
                </a:lnTo>
                <a:lnTo>
                  <a:pt x="67387" y="8214"/>
                </a:lnTo>
                <a:lnTo>
                  <a:pt x="70287" y="12581"/>
                </a:lnTo>
                <a:lnTo>
                  <a:pt x="72245" y="14930"/>
                </a:lnTo>
                <a:lnTo>
                  <a:pt x="73550" y="17344"/>
                </a:lnTo>
                <a:lnTo>
                  <a:pt x="81170" y="39282"/>
                </a:lnTo>
                <a:lnTo>
                  <a:pt x="85525" y="66222"/>
                </a:lnTo>
                <a:lnTo>
                  <a:pt x="89661" y="88468"/>
                </a:lnTo>
                <a:lnTo>
                  <a:pt x="90886" y="113405"/>
                </a:lnTo>
                <a:lnTo>
                  <a:pt x="91300" y="152171"/>
                </a:lnTo>
                <a:lnTo>
                  <a:pt x="91371" y="182327"/>
                </a:lnTo>
                <a:lnTo>
                  <a:pt x="89131" y="204828"/>
                </a:lnTo>
                <a:lnTo>
                  <a:pt x="86159" y="228940"/>
                </a:lnTo>
                <a:lnTo>
                  <a:pt x="84839" y="253768"/>
                </a:lnTo>
                <a:lnTo>
                  <a:pt x="84252" y="278913"/>
                </a:lnTo>
                <a:lnTo>
                  <a:pt x="83809" y="374183"/>
                </a:lnTo>
                <a:lnTo>
                  <a:pt x="81536" y="402422"/>
                </a:lnTo>
                <a:lnTo>
                  <a:pt x="78551" y="431907"/>
                </a:lnTo>
                <a:lnTo>
                  <a:pt x="77223" y="461944"/>
                </a:lnTo>
                <a:lnTo>
                  <a:pt x="74376" y="489970"/>
                </a:lnTo>
                <a:lnTo>
                  <a:pt x="71135" y="517383"/>
                </a:lnTo>
                <a:lnTo>
                  <a:pt x="69694" y="546500"/>
                </a:lnTo>
                <a:lnTo>
                  <a:pt x="66796" y="574117"/>
                </a:lnTo>
                <a:lnTo>
                  <a:pt x="58038" y="630385"/>
                </a:lnTo>
                <a:lnTo>
                  <a:pt x="55406" y="657965"/>
                </a:lnTo>
                <a:lnTo>
                  <a:pt x="53391" y="684334"/>
                </a:lnTo>
                <a:lnTo>
                  <a:pt x="49672" y="710165"/>
                </a:lnTo>
                <a:lnTo>
                  <a:pt x="45198" y="733499"/>
                </a:lnTo>
                <a:lnTo>
                  <a:pt x="30399" y="802690"/>
                </a:lnTo>
                <a:lnTo>
                  <a:pt x="25067" y="832178"/>
                </a:lnTo>
                <a:lnTo>
                  <a:pt x="21230" y="859261"/>
                </a:lnTo>
                <a:lnTo>
                  <a:pt x="14730" y="886476"/>
                </a:lnTo>
                <a:lnTo>
                  <a:pt x="7442" y="910627"/>
                </a:lnTo>
                <a:lnTo>
                  <a:pt x="2178" y="931611"/>
                </a:lnTo>
                <a:lnTo>
                  <a:pt x="254" y="959111"/>
                </a:lnTo>
                <a:lnTo>
                  <a:pt x="0" y="980743"/>
                </a:lnTo>
                <a:lnTo>
                  <a:pt x="834" y="982952"/>
                </a:lnTo>
                <a:lnTo>
                  <a:pt x="2237" y="984425"/>
                </a:lnTo>
                <a:lnTo>
                  <a:pt x="6525" y="986788"/>
                </a:lnTo>
                <a:lnTo>
                  <a:pt x="6878" y="987829"/>
                </a:lnTo>
                <a:lnTo>
                  <a:pt x="7270" y="991243"/>
                </a:lnTo>
                <a:lnTo>
                  <a:pt x="9066" y="992492"/>
                </a:lnTo>
                <a:lnTo>
                  <a:pt x="15580" y="993880"/>
                </a:lnTo>
                <a:lnTo>
                  <a:pt x="17995" y="993403"/>
                </a:lnTo>
                <a:lnTo>
                  <a:pt x="19604" y="992238"/>
                </a:lnTo>
                <a:lnTo>
                  <a:pt x="20677" y="990616"/>
                </a:lnTo>
                <a:lnTo>
                  <a:pt x="23085" y="989534"/>
                </a:lnTo>
                <a:lnTo>
                  <a:pt x="30277" y="988332"/>
                </a:lnTo>
                <a:lnTo>
                  <a:pt x="39117" y="987798"/>
                </a:lnTo>
                <a:lnTo>
                  <a:pt x="49538" y="986713"/>
                </a:lnTo>
                <a:lnTo>
                  <a:pt x="55872" y="985239"/>
                </a:lnTo>
                <a:lnTo>
                  <a:pt x="62636" y="983409"/>
                </a:lnTo>
                <a:lnTo>
                  <a:pt x="76924" y="979119"/>
                </a:lnTo>
                <a:lnTo>
                  <a:pt x="106793" y="969465"/>
                </a:lnTo>
                <a:lnTo>
                  <a:pt x="115209" y="967814"/>
                </a:lnTo>
                <a:lnTo>
                  <a:pt x="124207" y="966712"/>
                </a:lnTo>
                <a:lnTo>
                  <a:pt x="133592" y="965978"/>
                </a:lnTo>
                <a:lnTo>
                  <a:pt x="143235" y="965489"/>
                </a:lnTo>
                <a:lnTo>
                  <a:pt x="162981" y="964945"/>
                </a:lnTo>
                <a:lnTo>
                  <a:pt x="212917" y="964548"/>
                </a:lnTo>
                <a:lnTo>
                  <a:pt x="220671" y="965382"/>
                </a:lnTo>
                <a:lnTo>
                  <a:pt x="228382" y="966785"/>
                </a:lnTo>
                <a:lnTo>
                  <a:pt x="236062" y="968567"/>
                </a:lnTo>
                <a:lnTo>
                  <a:pt x="243722" y="970601"/>
                </a:lnTo>
                <a:lnTo>
                  <a:pt x="259006" y="975120"/>
                </a:lnTo>
                <a:lnTo>
                  <a:pt x="265792" y="976663"/>
                </a:lnTo>
                <a:lnTo>
                  <a:pt x="272008" y="977692"/>
                </a:lnTo>
                <a:lnTo>
                  <a:pt x="277847" y="978378"/>
                </a:lnTo>
                <a:lnTo>
                  <a:pt x="283431" y="979682"/>
                </a:lnTo>
                <a:lnTo>
                  <a:pt x="294153" y="983389"/>
                </a:lnTo>
                <a:lnTo>
                  <a:pt x="304563" y="985601"/>
                </a:lnTo>
                <a:lnTo>
                  <a:pt x="309710" y="986190"/>
                </a:lnTo>
                <a:lnTo>
                  <a:pt x="317685" y="989103"/>
                </a:lnTo>
                <a:lnTo>
                  <a:pt x="324052" y="992374"/>
                </a:lnTo>
                <a:lnTo>
                  <a:pt x="329705" y="993827"/>
                </a:lnTo>
                <a:lnTo>
                  <a:pt x="337646" y="994645"/>
                </a:lnTo>
                <a:lnTo>
                  <a:pt x="339385" y="995607"/>
                </a:lnTo>
                <a:lnTo>
                  <a:pt x="340544" y="997095"/>
                </a:lnTo>
                <a:lnTo>
                  <a:pt x="341316" y="998933"/>
                </a:lnTo>
                <a:lnTo>
                  <a:pt x="342678" y="1000159"/>
                </a:lnTo>
                <a:lnTo>
                  <a:pt x="344434" y="1000976"/>
                </a:lnTo>
                <a:lnTo>
                  <a:pt x="350482" y="100261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MARTInkAnnotation242"/>
          <p:cNvSpPr/>
          <p:nvPr/>
        </p:nvSpPr>
        <p:spPr>
          <a:xfrm>
            <a:off x="6811920" y="3733920"/>
            <a:ext cx="152280" cy="21960"/>
          </a:xfrm>
          <a:custGeom>
            <a:avLst/>
            <a:gdLst>
              <a:gd name="textAreaLeft" fmla="*/ 0 w 152280"/>
              <a:gd name="textAreaRight" fmla="*/ 152640 w 1522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52401" h="22861">
                <a:moveTo>
                  <a:pt x="0" y="0"/>
                </a:moveTo>
                <a:lnTo>
                  <a:pt x="0" y="4045"/>
                </a:lnTo>
                <a:lnTo>
                  <a:pt x="847" y="5237"/>
                </a:lnTo>
                <a:lnTo>
                  <a:pt x="2258" y="6031"/>
                </a:lnTo>
                <a:lnTo>
                  <a:pt x="6561" y="7306"/>
                </a:lnTo>
                <a:lnTo>
                  <a:pt x="9407" y="7481"/>
                </a:lnTo>
                <a:lnTo>
                  <a:pt x="11352" y="7527"/>
                </a:lnTo>
                <a:lnTo>
                  <a:pt x="12648" y="8405"/>
                </a:lnTo>
                <a:lnTo>
                  <a:pt x="13512" y="9836"/>
                </a:lnTo>
                <a:lnTo>
                  <a:pt x="15140" y="14924"/>
                </a:lnTo>
                <a:lnTo>
                  <a:pt x="11165" y="15146"/>
                </a:lnTo>
                <a:lnTo>
                  <a:pt x="6981" y="15234"/>
                </a:lnTo>
                <a:lnTo>
                  <a:pt x="3667" y="15237"/>
                </a:lnTo>
                <a:lnTo>
                  <a:pt x="2444" y="16085"/>
                </a:lnTo>
                <a:lnTo>
                  <a:pt x="1630" y="17497"/>
                </a:lnTo>
                <a:lnTo>
                  <a:pt x="6" y="22842"/>
                </a:lnTo>
                <a:lnTo>
                  <a:pt x="1" y="22858"/>
                </a:lnTo>
                <a:lnTo>
                  <a:pt x="0" y="22859"/>
                </a:lnTo>
                <a:lnTo>
                  <a:pt x="12135" y="22860"/>
                </a:lnTo>
                <a:lnTo>
                  <a:pt x="18251" y="22013"/>
                </a:lnTo>
                <a:lnTo>
                  <a:pt x="24867" y="20602"/>
                </a:lnTo>
                <a:lnTo>
                  <a:pt x="31818" y="18815"/>
                </a:lnTo>
                <a:lnTo>
                  <a:pt x="39839" y="17623"/>
                </a:lnTo>
                <a:lnTo>
                  <a:pt x="48573" y="16829"/>
                </a:lnTo>
                <a:lnTo>
                  <a:pt x="57782" y="16299"/>
                </a:lnTo>
                <a:lnTo>
                  <a:pt x="77044" y="15711"/>
                </a:lnTo>
                <a:lnTo>
                  <a:pt x="86923" y="15554"/>
                </a:lnTo>
                <a:lnTo>
                  <a:pt x="96896" y="14603"/>
                </a:lnTo>
                <a:lnTo>
                  <a:pt x="106930" y="13122"/>
                </a:lnTo>
                <a:lnTo>
                  <a:pt x="117007" y="11288"/>
                </a:lnTo>
                <a:lnTo>
                  <a:pt x="125418" y="10065"/>
                </a:lnTo>
                <a:lnTo>
                  <a:pt x="132719" y="9250"/>
                </a:lnTo>
                <a:lnTo>
                  <a:pt x="15240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MARTInkAnnotation243"/>
          <p:cNvSpPr/>
          <p:nvPr/>
        </p:nvSpPr>
        <p:spPr>
          <a:xfrm>
            <a:off x="7070760" y="3801960"/>
            <a:ext cx="236520" cy="15840"/>
          </a:xfrm>
          <a:custGeom>
            <a:avLst/>
            <a:gdLst>
              <a:gd name="textAreaLeft" fmla="*/ 0 w 236520"/>
              <a:gd name="textAreaRight" fmla="*/ 236880 w 2365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36221" h="15213">
                <a:moveTo>
                  <a:pt x="0" y="15212"/>
                </a:moveTo>
                <a:lnTo>
                  <a:pt x="0" y="8651"/>
                </a:lnTo>
                <a:lnTo>
                  <a:pt x="846" y="8298"/>
                </a:lnTo>
                <a:lnTo>
                  <a:pt x="4045" y="7906"/>
                </a:lnTo>
                <a:lnTo>
                  <a:pt x="12804" y="7731"/>
                </a:lnTo>
                <a:lnTo>
                  <a:pt x="18696" y="7685"/>
                </a:lnTo>
                <a:lnTo>
                  <a:pt x="25164" y="6807"/>
                </a:lnTo>
                <a:lnTo>
                  <a:pt x="32016" y="5375"/>
                </a:lnTo>
                <a:lnTo>
                  <a:pt x="39124" y="3574"/>
                </a:lnTo>
                <a:lnTo>
                  <a:pt x="46402" y="2374"/>
                </a:lnTo>
                <a:lnTo>
                  <a:pt x="53796" y="1573"/>
                </a:lnTo>
                <a:lnTo>
                  <a:pt x="61264" y="1039"/>
                </a:lnTo>
                <a:lnTo>
                  <a:pt x="68782" y="684"/>
                </a:lnTo>
                <a:lnTo>
                  <a:pt x="83910" y="289"/>
                </a:lnTo>
                <a:lnTo>
                  <a:pt x="140153" y="0"/>
                </a:lnTo>
                <a:lnTo>
                  <a:pt x="150162" y="837"/>
                </a:lnTo>
                <a:lnTo>
                  <a:pt x="160222" y="2242"/>
                </a:lnTo>
                <a:lnTo>
                  <a:pt x="170314" y="4026"/>
                </a:lnTo>
                <a:lnTo>
                  <a:pt x="180430" y="5214"/>
                </a:lnTo>
                <a:lnTo>
                  <a:pt x="190560" y="6007"/>
                </a:lnTo>
                <a:lnTo>
                  <a:pt x="209153" y="6887"/>
                </a:lnTo>
                <a:lnTo>
                  <a:pt x="236220" y="759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MARTInkAnnotation244"/>
          <p:cNvSpPr/>
          <p:nvPr/>
        </p:nvSpPr>
        <p:spPr>
          <a:xfrm>
            <a:off x="7413480" y="3741840"/>
            <a:ext cx="138240" cy="144360"/>
          </a:xfrm>
          <a:custGeom>
            <a:avLst/>
            <a:gdLst>
              <a:gd name="textAreaLeft" fmla="*/ 0 w 138240"/>
              <a:gd name="textAreaRight" fmla="*/ 138600 w 13824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37125" h="144668">
                <a:moveTo>
                  <a:pt x="30444" y="0"/>
                </a:moveTo>
                <a:lnTo>
                  <a:pt x="30444" y="6561"/>
                </a:lnTo>
                <a:lnTo>
                  <a:pt x="28185" y="9407"/>
                </a:lnTo>
                <a:lnTo>
                  <a:pt x="26399" y="11352"/>
                </a:lnTo>
                <a:lnTo>
                  <a:pt x="25207" y="13495"/>
                </a:lnTo>
                <a:lnTo>
                  <a:pt x="24413" y="15770"/>
                </a:lnTo>
                <a:lnTo>
                  <a:pt x="23883" y="18133"/>
                </a:lnTo>
                <a:lnTo>
                  <a:pt x="22683" y="21402"/>
                </a:lnTo>
                <a:lnTo>
                  <a:pt x="21037" y="25275"/>
                </a:lnTo>
                <a:lnTo>
                  <a:pt x="19093" y="29550"/>
                </a:lnTo>
                <a:lnTo>
                  <a:pt x="17797" y="33247"/>
                </a:lnTo>
                <a:lnTo>
                  <a:pt x="16933" y="36558"/>
                </a:lnTo>
                <a:lnTo>
                  <a:pt x="16357" y="39612"/>
                </a:lnTo>
                <a:lnTo>
                  <a:pt x="15125" y="42495"/>
                </a:lnTo>
                <a:lnTo>
                  <a:pt x="13459" y="45264"/>
                </a:lnTo>
                <a:lnTo>
                  <a:pt x="11500" y="47955"/>
                </a:lnTo>
                <a:lnTo>
                  <a:pt x="9349" y="51443"/>
                </a:lnTo>
                <a:lnTo>
                  <a:pt x="7067" y="55463"/>
                </a:lnTo>
                <a:lnTo>
                  <a:pt x="4700" y="59835"/>
                </a:lnTo>
                <a:lnTo>
                  <a:pt x="3121" y="64443"/>
                </a:lnTo>
                <a:lnTo>
                  <a:pt x="2068" y="69209"/>
                </a:lnTo>
                <a:lnTo>
                  <a:pt x="1367" y="74079"/>
                </a:lnTo>
                <a:lnTo>
                  <a:pt x="899" y="79019"/>
                </a:lnTo>
                <a:lnTo>
                  <a:pt x="587" y="84007"/>
                </a:lnTo>
                <a:lnTo>
                  <a:pt x="241" y="93216"/>
                </a:lnTo>
                <a:lnTo>
                  <a:pt x="46" y="103161"/>
                </a:lnTo>
                <a:lnTo>
                  <a:pt x="0" y="108785"/>
                </a:lnTo>
                <a:lnTo>
                  <a:pt x="835" y="111470"/>
                </a:lnTo>
                <a:lnTo>
                  <a:pt x="2237" y="114107"/>
                </a:lnTo>
                <a:lnTo>
                  <a:pt x="4019" y="116711"/>
                </a:lnTo>
                <a:lnTo>
                  <a:pt x="6055" y="120140"/>
                </a:lnTo>
                <a:lnTo>
                  <a:pt x="8258" y="124120"/>
                </a:lnTo>
                <a:lnTo>
                  <a:pt x="10574" y="128467"/>
                </a:lnTo>
                <a:lnTo>
                  <a:pt x="13811" y="131365"/>
                </a:lnTo>
                <a:lnTo>
                  <a:pt x="17662" y="133297"/>
                </a:lnTo>
                <a:lnTo>
                  <a:pt x="21923" y="134584"/>
                </a:lnTo>
                <a:lnTo>
                  <a:pt x="25610" y="136289"/>
                </a:lnTo>
                <a:lnTo>
                  <a:pt x="28915" y="138273"/>
                </a:lnTo>
                <a:lnTo>
                  <a:pt x="31964" y="140442"/>
                </a:lnTo>
                <a:lnTo>
                  <a:pt x="36538" y="141888"/>
                </a:lnTo>
                <a:lnTo>
                  <a:pt x="42126" y="142852"/>
                </a:lnTo>
                <a:lnTo>
                  <a:pt x="48392" y="143494"/>
                </a:lnTo>
                <a:lnTo>
                  <a:pt x="55109" y="143923"/>
                </a:lnTo>
                <a:lnTo>
                  <a:pt x="62127" y="144209"/>
                </a:lnTo>
                <a:lnTo>
                  <a:pt x="76699" y="144526"/>
                </a:lnTo>
                <a:lnTo>
                  <a:pt x="91640" y="144667"/>
                </a:lnTo>
                <a:lnTo>
                  <a:pt x="99182" y="143858"/>
                </a:lnTo>
                <a:lnTo>
                  <a:pt x="106750" y="142472"/>
                </a:lnTo>
                <a:lnTo>
                  <a:pt x="114334" y="140701"/>
                </a:lnTo>
                <a:lnTo>
                  <a:pt x="120237" y="139521"/>
                </a:lnTo>
                <a:lnTo>
                  <a:pt x="125020" y="138734"/>
                </a:lnTo>
                <a:lnTo>
                  <a:pt x="137124" y="1371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MARTInkAnnotation245"/>
          <p:cNvSpPr/>
          <p:nvPr/>
        </p:nvSpPr>
        <p:spPr>
          <a:xfrm>
            <a:off x="7551720" y="3733920"/>
            <a:ext cx="114480" cy="250560"/>
          </a:xfrm>
          <a:custGeom>
            <a:avLst/>
            <a:gdLst>
              <a:gd name="textAreaLeft" fmla="*/ 0 w 114480"/>
              <a:gd name="textAreaRight" fmla="*/ 114840 w 11448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14301" h="251461">
                <a:moveTo>
                  <a:pt x="114300" y="0"/>
                </a:moveTo>
                <a:lnTo>
                  <a:pt x="102949" y="11352"/>
                </a:lnTo>
                <a:lnTo>
                  <a:pt x="101652" y="14341"/>
                </a:lnTo>
                <a:lnTo>
                  <a:pt x="100213" y="22178"/>
                </a:lnTo>
                <a:lnTo>
                  <a:pt x="98135" y="26639"/>
                </a:lnTo>
                <a:lnTo>
                  <a:pt x="95057" y="31306"/>
                </a:lnTo>
                <a:lnTo>
                  <a:pt x="91311" y="36111"/>
                </a:lnTo>
                <a:lnTo>
                  <a:pt x="87968" y="41007"/>
                </a:lnTo>
                <a:lnTo>
                  <a:pt x="84891" y="45965"/>
                </a:lnTo>
                <a:lnTo>
                  <a:pt x="81994" y="50964"/>
                </a:lnTo>
                <a:lnTo>
                  <a:pt x="76518" y="61033"/>
                </a:lnTo>
                <a:lnTo>
                  <a:pt x="73872" y="66089"/>
                </a:lnTo>
                <a:lnTo>
                  <a:pt x="70415" y="71999"/>
                </a:lnTo>
                <a:lnTo>
                  <a:pt x="62058" y="85339"/>
                </a:lnTo>
                <a:lnTo>
                  <a:pt x="58305" y="92453"/>
                </a:lnTo>
                <a:lnTo>
                  <a:pt x="54957" y="99735"/>
                </a:lnTo>
                <a:lnTo>
                  <a:pt x="51878" y="107130"/>
                </a:lnTo>
                <a:lnTo>
                  <a:pt x="48978" y="114600"/>
                </a:lnTo>
                <a:lnTo>
                  <a:pt x="43499" y="129673"/>
                </a:lnTo>
                <a:lnTo>
                  <a:pt x="40006" y="137249"/>
                </a:lnTo>
                <a:lnTo>
                  <a:pt x="35984" y="144839"/>
                </a:lnTo>
                <a:lnTo>
                  <a:pt x="31609" y="152439"/>
                </a:lnTo>
                <a:lnTo>
                  <a:pt x="27847" y="160046"/>
                </a:lnTo>
                <a:lnTo>
                  <a:pt x="24490" y="167657"/>
                </a:lnTo>
                <a:lnTo>
                  <a:pt x="21407" y="175272"/>
                </a:lnTo>
                <a:lnTo>
                  <a:pt x="18505" y="182041"/>
                </a:lnTo>
                <a:lnTo>
                  <a:pt x="13021" y="194078"/>
                </a:lnTo>
                <a:lnTo>
                  <a:pt x="10373" y="200506"/>
                </a:lnTo>
                <a:lnTo>
                  <a:pt x="7763" y="207331"/>
                </a:lnTo>
                <a:lnTo>
                  <a:pt x="5175" y="214421"/>
                </a:lnTo>
                <a:lnTo>
                  <a:pt x="3450" y="220840"/>
                </a:lnTo>
                <a:lnTo>
                  <a:pt x="2300" y="226814"/>
                </a:lnTo>
                <a:lnTo>
                  <a:pt x="1534" y="232489"/>
                </a:lnTo>
                <a:lnTo>
                  <a:pt x="1022" y="237120"/>
                </a:lnTo>
                <a:lnTo>
                  <a:pt x="681" y="241053"/>
                </a:lnTo>
                <a:lnTo>
                  <a:pt x="0" y="2514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MARTInkAnnotation246"/>
          <p:cNvSpPr/>
          <p:nvPr/>
        </p:nvSpPr>
        <p:spPr>
          <a:xfrm>
            <a:off x="7048440" y="4022640"/>
            <a:ext cx="212760" cy="138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213314" h="136807">
                <a:moveTo>
                  <a:pt x="53293" y="0"/>
                </a:moveTo>
                <a:lnTo>
                  <a:pt x="53293" y="4045"/>
                </a:lnTo>
                <a:lnTo>
                  <a:pt x="52447" y="6084"/>
                </a:lnTo>
                <a:lnTo>
                  <a:pt x="51034" y="8289"/>
                </a:lnTo>
                <a:lnTo>
                  <a:pt x="49248" y="10606"/>
                </a:lnTo>
                <a:lnTo>
                  <a:pt x="47210" y="12998"/>
                </a:lnTo>
                <a:lnTo>
                  <a:pt x="45005" y="15438"/>
                </a:lnTo>
                <a:lnTo>
                  <a:pt x="42688" y="17912"/>
                </a:lnTo>
                <a:lnTo>
                  <a:pt x="41142" y="20408"/>
                </a:lnTo>
                <a:lnTo>
                  <a:pt x="40113" y="22919"/>
                </a:lnTo>
                <a:lnTo>
                  <a:pt x="39426" y="25439"/>
                </a:lnTo>
                <a:lnTo>
                  <a:pt x="38122" y="28813"/>
                </a:lnTo>
                <a:lnTo>
                  <a:pt x="36405" y="32755"/>
                </a:lnTo>
                <a:lnTo>
                  <a:pt x="34414" y="37077"/>
                </a:lnTo>
                <a:lnTo>
                  <a:pt x="32240" y="40805"/>
                </a:lnTo>
                <a:lnTo>
                  <a:pt x="29945" y="44136"/>
                </a:lnTo>
                <a:lnTo>
                  <a:pt x="27568" y="47204"/>
                </a:lnTo>
                <a:lnTo>
                  <a:pt x="24289" y="50943"/>
                </a:lnTo>
                <a:lnTo>
                  <a:pt x="20411" y="55128"/>
                </a:lnTo>
                <a:lnTo>
                  <a:pt x="6063" y="69968"/>
                </a:lnTo>
                <a:lnTo>
                  <a:pt x="4027" y="73739"/>
                </a:lnTo>
                <a:lnTo>
                  <a:pt x="2669" y="77946"/>
                </a:lnTo>
                <a:lnTo>
                  <a:pt x="1765" y="82444"/>
                </a:lnTo>
                <a:lnTo>
                  <a:pt x="1161" y="87136"/>
                </a:lnTo>
                <a:lnTo>
                  <a:pt x="758" y="91957"/>
                </a:lnTo>
                <a:lnTo>
                  <a:pt x="310" y="100983"/>
                </a:lnTo>
                <a:lnTo>
                  <a:pt x="112" y="107817"/>
                </a:lnTo>
                <a:lnTo>
                  <a:pt x="0" y="116425"/>
                </a:lnTo>
                <a:lnTo>
                  <a:pt x="831" y="119103"/>
                </a:lnTo>
                <a:lnTo>
                  <a:pt x="2232" y="121735"/>
                </a:lnTo>
                <a:lnTo>
                  <a:pt x="4012" y="124337"/>
                </a:lnTo>
                <a:lnTo>
                  <a:pt x="6892" y="126072"/>
                </a:lnTo>
                <a:lnTo>
                  <a:pt x="10506" y="127228"/>
                </a:lnTo>
                <a:lnTo>
                  <a:pt x="14608" y="127998"/>
                </a:lnTo>
                <a:lnTo>
                  <a:pt x="19036" y="129359"/>
                </a:lnTo>
                <a:lnTo>
                  <a:pt x="23682" y="131112"/>
                </a:lnTo>
                <a:lnTo>
                  <a:pt x="28472" y="133129"/>
                </a:lnTo>
                <a:lnTo>
                  <a:pt x="34206" y="134472"/>
                </a:lnTo>
                <a:lnTo>
                  <a:pt x="40568" y="135369"/>
                </a:lnTo>
                <a:lnTo>
                  <a:pt x="47350" y="135966"/>
                </a:lnTo>
                <a:lnTo>
                  <a:pt x="55257" y="136364"/>
                </a:lnTo>
                <a:lnTo>
                  <a:pt x="73075" y="136806"/>
                </a:lnTo>
                <a:lnTo>
                  <a:pt x="82567" y="136077"/>
                </a:lnTo>
                <a:lnTo>
                  <a:pt x="92282" y="134745"/>
                </a:lnTo>
                <a:lnTo>
                  <a:pt x="102146" y="133010"/>
                </a:lnTo>
                <a:lnTo>
                  <a:pt x="111262" y="131853"/>
                </a:lnTo>
                <a:lnTo>
                  <a:pt x="119879" y="131082"/>
                </a:lnTo>
                <a:lnTo>
                  <a:pt x="128164" y="130568"/>
                </a:lnTo>
                <a:lnTo>
                  <a:pt x="135380" y="129379"/>
                </a:lnTo>
                <a:lnTo>
                  <a:pt x="141885" y="127739"/>
                </a:lnTo>
                <a:lnTo>
                  <a:pt x="168535" y="119024"/>
                </a:lnTo>
                <a:lnTo>
                  <a:pt x="174994" y="116603"/>
                </a:lnTo>
                <a:lnTo>
                  <a:pt x="180994" y="114142"/>
                </a:lnTo>
                <a:lnTo>
                  <a:pt x="186687" y="111655"/>
                </a:lnTo>
                <a:lnTo>
                  <a:pt x="191329" y="109996"/>
                </a:lnTo>
                <a:lnTo>
                  <a:pt x="195271" y="108891"/>
                </a:lnTo>
                <a:lnTo>
                  <a:pt x="198745" y="108154"/>
                </a:lnTo>
                <a:lnTo>
                  <a:pt x="204863" y="105078"/>
                </a:lnTo>
                <a:lnTo>
                  <a:pt x="213313" y="990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MARTInkAnnotation247"/>
          <p:cNvSpPr/>
          <p:nvPr/>
        </p:nvSpPr>
        <p:spPr>
          <a:xfrm>
            <a:off x="7257960" y="4022640"/>
            <a:ext cx="49320" cy="244440"/>
          </a:xfrm>
          <a:custGeom>
            <a:avLst/>
            <a:gdLst>
              <a:gd name="textAreaLeft" fmla="*/ 0 w 49320"/>
              <a:gd name="textAreaRight" fmla="*/ 49680 w 493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49109" h="243841">
                <a:moveTo>
                  <a:pt x="49108" y="0"/>
                </a:moveTo>
                <a:lnTo>
                  <a:pt x="49108" y="14651"/>
                </a:lnTo>
                <a:lnTo>
                  <a:pt x="48262" y="19081"/>
                </a:lnTo>
                <a:lnTo>
                  <a:pt x="46850" y="23727"/>
                </a:lnTo>
                <a:lnTo>
                  <a:pt x="45063" y="28518"/>
                </a:lnTo>
                <a:lnTo>
                  <a:pt x="43871" y="34252"/>
                </a:lnTo>
                <a:lnTo>
                  <a:pt x="43077" y="40615"/>
                </a:lnTo>
                <a:lnTo>
                  <a:pt x="42547" y="47397"/>
                </a:lnTo>
                <a:lnTo>
                  <a:pt x="41348" y="54458"/>
                </a:lnTo>
                <a:lnTo>
                  <a:pt x="39701" y="61705"/>
                </a:lnTo>
                <a:lnTo>
                  <a:pt x="37757" y="69077"/>
                </a:lnTo>
                <a:lnTo>
                  <a:pt x="35614" y="76532"/>
                </a:lnTo>
                <a:lnTo>
                  <a:pt x="30975" y="91587"/>
                </a:lnTo>
                <a:lnTo>
                  <a:pt x="845" y="182881"/>
                </a:lnTo>
                <a:lnTo>
                  <a:pt x="0" y="189654"/>
                </a:lnTo>
                <a:lnTo>
                  <a:pt x="283" y="195863"/>
                </a:lnTo>
                <a:lnTo>
                  <a:pt x="1317" y="201695"/>
                </a:lnTo>
                <a:lnTo>
                  <a:pt x="2855" y="207277"/>
                </a:lnTo>
                <a:lnTo>
                  <a:pt x="4726" y="212691"/>
                </a:lnTo>
                <a:lnTo>
                  <a:pt x="6819" y="217994"/>
                </a:lnTo>
                <a:lnTo>
                  <a:pt x="8215" y="222376"/>
                </a:lnTo>
                <a:lnTo>
                  <a:pt x="9147" y="226144"/>
                </a:lnTo>
                <a:lnTo>
                  <a:pt x="9767" y="229503"/>
                </a:lnTo>
                <a:lnTo>
                  <a:pt x="11028" y="232589"/>
                </a:lnTo>
                <a:lnTo>
                  <a:pt x="12715" y="235493"/>
                </a:lnTo>
                <a:lnTo>
                  <a:pt x="18628" y="2438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MARTInkAnnotation248"/>
          <p:cNvSpPr/>
          <p:nvPr/>
        </p:nvSpPr>
        <p:spPr>
          <a:xfrm>
            <a:off x="7407360" y="4183200"/>
            <a:ext cx="6120" cy="46080"/>
          </a:xfrm>
          <a:custGeom>
            <a:avLst/>
            <a:gdLst>
              <a:gd name="textAreaLeft" fmla="*/ 0 w 6120"/>
              <a:gd name="textAreaRight" fmla="*/ 6480 w 612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7621" h="45721">
                <a:moveTo>
                  <a:pt x="0" y="0"/>
                </a:moveTo>
                <a:lnTo>
                  <a:pt x="0" y="-28440"/>
                </a:lnTo>
                <a:lnTo>
                  <a:pt x="847" y="-25564"/>
                </a:lnTo>
                <a:lnTo>
                  <a:pt x="2259" y="-23648"/>
                </a:lnTo>
                <a:lnTo>
                  <a:pt x="7620" y="-1981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MARTInkAnnotation249"/>
          <p:cNvSpPr/>
          <p:nvPr/>
        </p:nvSpPr>
        <p:spPr>
          <a:xfrm>
            <a:off x="7604280" y="4000680"/>
            <a:ext cx="190440" cy="220320"/>
          </a:xfrm>
          <a:custGeom>
            <a:avLst/>
            <a:gdLst>
              <a:gd name="textAreaLeft" fmla="*/ 0 w 190440"/>
              <a:gd name="textAreaRight" fmla="*/ 190800 w 190440"/>
              <a:gd name="textAreaTop" fmla="*/ 0 h 220320"/>
              <a:gd name="textAreaBottom" fmla="*/ 220680 h 220320"/>
            </a:gdLst>
            <a:ahLst/>
            <a:rect l="textAreaLeft" t="textAreaTop" r="textAreaRight" b="textAreaBottom"/>
            <a:pathLst>
              <a:path w="190430" h="220979">
                <a:moveTo>
                  <a:pt x="0" y="15238"/>
                </a:moveTo>
                <a:lnTo>
                  <a:pt x="50226" y="15238"/>
                </a:lnTo>
                <a:lnTo>
                  <a:pt x="56344" y="14392"/>
                </a:lnTo>
                <a:lnTo>
                  <a:pt x="62963" y="12981"/>
                </a:lnTo>
                <a:lnTo>
                  <a:pt x="69915" y="11193"/>
                </a:lnTo>
                <a:lnTo>
                  <a:pt x="77090" y="10001"/>
                </a:lnTo>
                <a:lnTo>
                  <a:pt x="84413" y="9207"/>
                </a:lnTo>
                <a:lnTo>
                  <a:pt x="91835" y="8677"/>
                </a:lnTo>
                <a:lnTo>
                  <a:pt x="99324" y="8324"/>
                </a:lnTo>
                <a:lnTo>
                  <a:pt x="114418" y="7932"/>
                </a:lnTo>
                <a:lnTo>
                  <a:pt x="121999" y="6981"/>
                </a:lnTo>
                <a:lnTo>
                  <a:pt x="129592" y="5500"/>
                </a:lnTo>
                <a:lnTo>
                  <a:pt x="137195" y="3666"/>
                </a:lnTo>
                <a:lnTo>
                  <a:pt x="143957" y="2443"/>
                </a:lnTo>
                <a:lnTo>
                  <a:pt x="150157" y="1628"/>
                </a:lnTo>
                <a:lnTo>
                  <a:pt x="155985" y="1085"/>
                </a:lnTo>
                <a:lnTo>
                  <a:pt x="160717" y="723"/>
                </a:lnTo>
                <a:lnTo>
                  <a:pt x="164718" y="481"/>
                </a:lnTo>
                <a:lnTo>
                  <a:pt x="168231" y="320"/>
                </a:lnTo>
                <a:lnTo>
                  <a:pt x="176653" y="141"/>
                </a:lnTo>
                <a:lnTo>
                  <a:pt x="190260" y="0"/>
                </a:lnTo>
                <a:lnTo>
                  <a:pt x="190429" y="4044"/>
                </a:lnTo>
                <a:lnTo>
                  <a:pt x="188760" y="6082"/>
                </a:lnTo>
                <a:lnTo>
                  <a:pt x="185953" y="8287"/>
                </a:lnTo>
                <a:lnTo>
                  <a:pt x="182388" y="10604"/>
                </a:lnTo>
                <a:lnTo>
                  <a:pt x="179166" y="12995"/>
                </a:lnTo>
                <a:lnTo>
                  <a:pt x="173327" y="17910"/>
                </a:lnTo>
                <a:lnTo>
                  <a:pt x="168891" y="21253"/>
                </a:lnTo>
                <a:lnTo>
                  <a:pt x="157189" y="29483"/>
                </a:lnTo>
                <a:lnTo>
                  <a:pt x="151360" y="34895"/>
                </a:lnTo>
                <a:lnTo>
                  <a:pt x="145780" y="41042"/>
                </a:lnTo>
                <a:lnTo>
                  <a:pt x="140366" y="47681"/>
                </a:lnTo>
                <a:lnTo>
                  <a:pt x="134218" y="53800"/>
                </a:lnTo>
                <a:lnTo>
                  <a:pt x="127580" y="59573"/>
                </a:lnTo>
                <a:lnTo>
                  <a:pt x="120613" y="65115"/>
                </a:lnTo>
                <a:lnTo>
                  <a:pt x="113429" y="71349"/>
                </a:lnTo>
                <a:lnTo>
                  <a:pt x="106099" y="78046"/>
                </a:lnTo>
                <a:lnTo>
                  <a:pt x="98672" y="85050"/>
                </a:lnTo>
                <a:lnTo>
                  <a:pt x="92028" y="92259"/>
                </a:lnTo>
                <a:lnTo>
                  <a:pt x="85905" y="99605"/>
                </a:lnTo>
                <a:lnTo>
                  <a:pt x="80130" y="107043"/>
                </a:lnTo>
                <a:lnTo>
                  <a:pt x="74588" y="114541"/>
                </a:lnTo>
                <a:lnTo>
                  <a:pt x="63911" y="129646"/>
                </a:lnTo>
                <a:lnTo>
                  <a:pt x="48382" y="152430"/>
                </a:lnTo>
                <a:lnTo>
                  <a:pt x="44108" y="159193"/>
                </a:lnTo>
                <a:lnTo>
                  <a:pt x="40411" y="165394"/>
                </a:lnTo>
                <a:lnTo>
                  <a:pt x="37101" y="171222"/>
                </a:lnTo>
                <a:lnTo>
                  <a:pt x="33201" y="176801"/>
                </a:lnTo>
                <a:lnTo>
                  <a:pt x="28907" y="182214"/>
                </a:lnTo>
                <a:lnTo>
                  <a:pt x="24352" y="187515"/>
                </a:lnTo>
                <a:lnTo>
                  <a:pt x="21314" y="191896"/>
                </a:lnTo>
                <a:lnTo>
                  <a:pt x="19290" y="195663"/>
                </a:lnTo>
                <a:lnTo>
                  <a:pt x="17040" y="202107"/>
                </a:lnTo>
                <a:lnTo>
                  <a:pt x="16040" y="207793"/>
                </a:lnTo>
                <a:lnTo>
                  <a:pt x="14927" y="210495"/>
                </a:lnTo>
                <a:lnTo>
                  <a:pt x="11432" y="215755"/>
                </a:lnTo>
                <a:lnTo>
                  <a:pt x="7620" y="22097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MARTInkAnnotation250"/>
          <p:cNvSpPr/>
          <p:nvPr/>
        </p:nvSpPr>
        <p:spPr>
          <a:xfrm>
            <a:off x="7642080" y="4084560"/>
            <a:ext cx="152640" cy="22320"/>
          </a:xfrm>
          <a:custGeom>
            <a:avLst/>
            <a:gdLst>
              <a:gd name="textAreaLeft" fmla="*/ 0 w 152640"/>
              <a:gd name="textAreaRight" fmla="*/ 153000 w 1526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52401" h="22547">
                <a:moveTo>
                  <a:pt x="0" y="7306"/>
                </a:moveTo>
                <a:lnTo>
                  <a:pt x="8090" y="3261"/>
                </a:lnTo>
                <a:lnTo>
                  <a:pt x="11320" y="2070"/>
                </a:lnTo>
                <a:lnTo>
                  <a:pt x="14320" y="1275"/>
                </a:lnTo>
                <a:lnTo>
                  <a:pt x="17166" y="745"/>
                </a:lnTo>
                <a:lnTo>
                  <a:pt x="21604" y="392"/>
                </a:lnTo>
                <a:lnTo>
                  <a:pt x="27104" y="157"/>
                </a:lnTo>
                <a:lnTo>
                  <a:pt x="33309" y="0"/>
                </a:lnTo>
                <a:lnTo>
                  <a:pt x="39986" y="742"/>
                </a:lnTo>
                <a:lnTo>
                  <a:pt x="46978" y="2084"/>
                </a:lnTo>
                <a:lnTo>
                  <a:pt x="80493" y="10320"/>
                </a:lnTo>
                <a:lnTo>
                  <a:pt x="89222" y="11855"/>
                </a:lnTo>
                <a:lnTo>
                  <a:pt x="97582" y="12879"/>
                </a:lnTo>
                <a:lnTo>
                  <a:pt x="105694" y="13561"/>
                </a:lnTo>
                <a:lnTo>
                  <a:pt x="112796" y="14016"/>
                </a:lnTo>
                <a:lnTo>
                  <a:pt x="125202" y="14522"/>
                </a:lnTo>
                <a:lnTo>
                  <a:pt x="130036" y="15503"/>
                </a:lnTo>
                <a:lnTo>
                  <a:pt x="134103" y="17004"/>
                </a:lnTo>
                <a:lnTo>
                  <a:pt x="137662" y="18852"/>
                </a:lnTo>
                <a:lnTo>
                  <a:pt x="140882" y="20083"/>
                </a:lnTo>
                <a:lnTo>
                  <a:pt x="143875" y="20904"/>
                </a:lnTo>
                <a:lnTo>
                  <a:pt x="152400" y="225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MARTInkAnnotation251"/>
          <p:cNvSpPr/>
          <p:nvPr/>
        </p:nvSpPr>
        <p:spPr>
          <a:xfrm>
            <a:off x="6994440" y="4487760"/>
            <a:ext cx="266760" cy="15840"/>
          </a:xfrm>
          <a:custGeom>
            <a:avLst/>
            <a:gdLst>
              <a:gd name="textAreaLeft" fmla="*/ 0 w 266760"/>
              <a:gd name="textAreaRight" fmla="*/ 267120 w 2667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66701" h="15241">
                <a:moveTo>
                  <a:pt x="0" y="7620"/>
                </a:moveTo>
                <a:lnTo>
                  <a:pt x="0" y="314"/>
                </a:lnTo>
                <a:lnTo>
                  <a:pt x="8288" y="41"/>
                </a:lnTo>
                <a:lnTo>
                  <a:pt x="140162" y="0"/>
                </a:lnTo>
                <a:lnTo>
                  <a:pt x="150167" y="846"/>
                </a:lnTo>
                <a:lnTo>
                  <a:pt x="160225" y="2258"/>
                </a:lnTo>
                <a:lnTo>
                  <a:pt x="170317" y="4045"/>
                </a:lnTo>
                <a:lnTo>
                  <a:pt x="179584" y="5237"/>
                </a:lnTo>
                <a:lnTo>
                  <a:pt x="188303" y="6032"/>
                </a:lnTo>
                <a:lnTo>
                  <a:pt x="196655" y="6561"/>
                </a:lnTo>
                <a:lnTo>
                  <a:pt x="205611" y="6914"/>
                </a:lnTo>
                <a:lnTo>
                  <a:pt x="224591" y="7306"/>
                </a:lnTo>
                <a:lnTo>
                  <a:pt x="231854" y="8257"/>
                </a:lnTo>
                <a:lnTo>
                  <a:pt x="237543" y="9738"/>
                </a:lnTo>
                <a:lnTo>
                  <a:pt x="242181" y="11572"/>
                </a:lnTo>
                <a:lnTo>
                  <a:pt x="246968" y="12795"/>
                </a:lnTo>
                <a:lnTo>
                  <a:pt x="251852" y="13610"/>
                </a:lnTo>
                <a:lnTo>
                  <a:pt x="266700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MARTInkAnnotation252"/>
          <p:cNvSpPr/>
          <p:nvPr/>
        </p:nvSpPr>
        <p:spPr>
          <a:xfrm>
            <a:off x="7478640" y="4389480"/>
            <a:ext cx="34920" cy="228600"/>
          </a:xfrm>
          <a:custGeom>
            <a:avLst/>
            <a:gdLst>
              <a:gd name="textAreaLeft" fmla="*/ 0 w 34920"/>
              <a:gd name="textAreaRight" fmla="*/ 34920 w 3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4369" h="228601">
                <a:moveTo>
                  <a:pt x="11923" y="0"/>
                </a:moveTo>
                <a:lnTo>
                  <a:pt x="30056" y="18133"/>
                </a:lnTo>
                <a:lnTo>
                  <a:pt x="31632" y="20556"/>
                </a:lnTo>
                <a:lnTo>
                  <a:pt x="32682" y="23018"/>
                </a:lnTo>
                <a:lnTo>
                  <a:pt x="33382" y="25505"/>
                </a:lnTo>
                <a:lnTo>
                  <a:pt x="33849" y="28857"/>
                </a:lnTo>
                <a:lnTo>
                  <a:pt x="34161" y="32785"/>
                </a:lnTo>
                <a:lnTo>
                  <a:pt x="34368" y="37097"/>
                </a:lnTo>
                <a:lnTo>
                  <a:pt x="33660" y="41664"/>
                </a:lnTo>
                <a:lnTo>
                  <a:pt x="32340" y="46403"/>
                </a:lnTo>
                <a:lnTo>
                  <a:pt x="30615" y="51255"/>
                </a:lnTo>
                <a:lnTo>
                  <a:pt x="29464" y="57030"/>
                </a:lnTo>
                <a:lnTo>
                  <a:pt x="28697" y="63421"/>
                </a:lnTo>
                <a:lnTo>
                  <a:pt x="28185" y="70221"/>
                </a:lnTo>
                <a:lnTo>
                  <a:pt x="26999" y="76447"/>
                </a:lnTo>
                <a:lnTo>
                  <a:pt x="25359" y="82292"/>
                </a:lnTo>
                <a:lnTo>
                  <a:pt x="23421" y="87881"/>
                </a:lnTo>
                <a:lnTo>
                  <a:pt x="21282" y="93301"/>
                </a:lnTo>
                <a:lnTo>
                  <a:pt x="19009" y="98607"/>
                </a:lnTo>
                <a:lnTo>
                  <a:pt x="16647" y="103838"/>
                </a:lnTo>
                <a:lnTo>
                  <a:pt x="14225" y="109866"/>
                </a:lnTo>
                <a:lnTo>
                  <a:pt x="9278" y="123336"/>
                </a:lnTo>
                <a:lnTo>
                  <a:pt x="7619" y="130484"/>
                </a:lnTo>
                <a:lnTo>
                  <a:pt x="6514" y="137790"/>
                </a:lnTo>
                <a:lnTo>
                  <a:pt x="5777" y="145200"/>
                </a:lnTo>
                <a:lnTo>
                  <a:pt x="5285" y="152680"/>
                </a:lnTo>
                <a:lnTo>
                  <a:pt x="4958" y="160207"/>
                </a:lnTo>
                <a:lnTo>
                  <a:pt x="4740" y="167765"/>
                </a:lnTo>
                <a:lnTo>
                  <a:pt x="3748" y="174497"/>
                </a:lnTo>
                <a:lnTo>
                  <a:pt x="2239" y="180678"/>
                </a:lnTo>
                <a:lnTo>
                  <a:pt x="387" y="186491"/>
                </a:lnTo>
                <a:lnTo>
                  <a:pt x="0" y="192061"/>
                </a:lnTo>
                <a:lnTo>
                  <a:pt x="587" y="197467"/>
                </a:lnTo>
                <a:lnTo>
                  <a:pt x="1827" y="202765"/>
                </a:lnTo>
                <a:lnTo>
                  <a:pt x="2652" y="207144"/>
                </a:lnTo>
                <a:lnTo>
                  <a:pt x="3569" y="214266"/>
                </a:lnTo>
                <a:lnTo>
                  <a:pt x="3977" y="220254"/>
                </a:lnTo>
                <a:lnTo>
                  <a:pt x="4303" y="2286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MARTInkAnnotation253"/>
          <p:cNvSpPr/>
          <p:nvPr/>
        </p:nvSpPr>
        <p:spPr>
          <a:xfrm>
            <a:off x="7704000" y="4389480"/>
            <a:ext cx="14400" cy="204840"/>
          </a:xfrm>
          <a:custGeom>
            <a:avLst/>
            <a:gdLst>
              <a:gd name="textAreaLeft" fmla="*/ 0 w 14400"/>
              <a:gd name="textAreaRight" fmla="*/ 14760 w 1440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5141" h="205741">
                <a:moveTo>
                  <a:pt x="15140" y="0"/>
                </a:moveTo>
                <a:lnTo>
                  <a:pt x="15140" y="22924"/>
                </a:lnTo>
                <a:lnTo>
                  <a:pt x="14293" y="27982"/>
                </a:lnTo>
                <a:lnTo>
                  <a:pt x="12882" y="33895"/>
                </a:lnTo>
                <a:lnTo>
                  <a:pt x="11095" y="40377"/>
                </a:lnTo>
                <a:lnTo>
                  <a:pt x="9903" y="46391"/>
                </a:lnTo>
                <a:lnTo>
                  <a:pt x="9109" y="52095"/>
                </a:lnTo>
                <a:lnTo>
                  <a:pt x="8579" y="57590"/>
                </a:lnTo>
                <a:lnTo>
                  <a:pt x="7380" y="63793"/>
                </a:lnTo>
                <a:lnTo>
                  <a:pt x="5733" y="70468"/>
                </a:lnTo>
                <a:lnTo>
                  <a:pt x="3789" y="77459"/>
                </a:lnTo>
                <a:lnTo>
                  <a:pt x="2493" y="84660"/>
                </a:lnTo>
                <a:lnTo>
                  <a:pt x="1628" y="92000"/>
                </a:lnTo>
                <a:lnTo>
                  <a:pt x="1052" y="99434"/>
                </a:lnTo>
                <a:lnTo>
                  <a:pt x="669" y="106929"/>
                </a:lnTo>
                <a:lnTo>
                  <a:pt x="242" y="122031"/>
                </a:lnTo>
                <a:lnTo>
                  <a:pt x="0" y="144813"/>
                </a:lnTo>
                <a:lnTo>
                  <a:pt x="814" y="152422"/>
                </a:lnTo>
                <a:lnTo>
                  <a:pt x="2203" y="160035"/>
                </a:lnTo>
                <a:lnTo>
                  <a:pt x="3975" y="167650"/>
                </a:lnTo>
                <a:lnTo>
                  <a:pt x="6004" y="174420"/>
                </a:lnTo>
                <a:lnTo>
                  <a:pt x="8202" y="180627"/>
                </a:lnTo>
                <a:lnTo>
                  <a:pt x="10515" y="186458"/>
                </a:lnTo>
                <a:lnTo>
                  <a:pt x="12056" y="191192"/>
                </a:lnTo>
                <a:lnTo>
                  <a:pt x="13084" y="195195"/>
                </a:lnTo>
                <a:lnTo>
                  <a:pt x="15140" y="2057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MARTInkAnnotation254"/>
          <p:cNvSpPr/>
          <p:nvPr/>
        </p:nvSpPr>
        <p:spPr>
          <a:xfrm>
            <a:off x="7878600" y="3641760"/>
            <a:ext cx="416160" cy="1292040"/>
          </a:xfrm>
          <a:custGeom>
            <a:avLst/>
            <a:gdLst>
              <a:gd name="textAreaLeft" fmla="*/ 0 w 416160"/>
              <a:gd name="textAreaRight" fmla="*/ 416520 w 416160"/>
              <a:gd name="textAreaTop" fmla="*/ 0 h 1292040"/>
              <a:gd name="textAreaBottom" fmla="*/ 1292400 h 1292040"/>
            </a:gdLst>
            <a:ahLst/>
            <a:rect l="textAreaLeft" t="textAreaTop" r="textAreaRight" b="textAreaBottom"/>
            <a:pathLst>
              <a:path w="415538" h="1291671">
                <a:moveTo>
                  <a:pt x="60960" y="53236"/>
                </a:moveTo>
                <a:lnTo>
                  <a:pt x="65006" y="49191"/>
                </a:lnTo>
                <a:lnTo>
                  <a:pt x="67890" y="47999"/>
                </a:lnTo>
                <a:lnTo>
                  <a:pt x="80041" y="46322"/>
                </a:lnTo>
                <a:lnTo>
                  <a:pt x="89479" y="45930"/>
                </a:lnTo>
                <a:lnTo>
                  <a:pt x="96060" y="44979"/>
                </a:lnTo>
                <a:lnTo>
                  <a:pt x="103833" y="43498"/>
                </a:lnTo>
                <a:lnTo>
                  <a:pt x="112402" y="41664"/>
                </a:lnTo>
                <a:lnTo>
                  <a:pt x="122348" y="40441"/>
                </a:lnTo>
                <a:lnTo>
                  <a:pt x="133212" y="39626"/>
                </a:lnTo>
                <a:lnTo>
                  <a:pt x="144688" y="39083"/>
                </a:lnTo>
                <a:lnTo>
                  <a:pt x="157419" y="37874"/>
                </a:lnTo>
                <a:lnTo>
                  <a:pt x="170986" y="36221"/>
                </a:lnTo>
                <a:lnTo>
                  <a:pt x="185111" y="34273"/>
                </a:lnTo>
                <a:lnTo>
                  <a:pt x="212094" y="29850"/>
                </a:lnTo>
                <a:lnTo>
                  <a:pt x="281083" y="17607"/>
                </a:lnTo>
                <a:lnTo>
                  <a:pt x="304702" y="12565"/>
                </a:lnTo>
                <a:lnTo>
                  <a:pt x="315741" y="10882"/>
                </a:lnTo>
                <a:lnTo>
                  <a:pt x="326489" y="9760"/>
                </a:lnTo>
                <a:lnTo>
                  <a:pt x="337039" y="9012"/>
                </a:lnTo>
                <a:lnTo>
                  <a:pt x="346613" y="7667"/>
                </a:lnTo>
                <a:lnTo>
                  <a:pt x="355535" y="5923"/>
                </a:lnTo>
                <a:lnTo>
                  <a:pt x="364024" y="3914"/>
                </a:lnTo>
                <a:lnTo>
                  <a:pt x="371376" y="2575"/>
                </a:lnTo>
                <a:lnTo>
                  <a:pt x="384061" y="1087"/>
                </a:lnTo>
                <a:lnTo>
                  <a:pt x="396677" y="249"/>
                </a:lnTo>
                <a:lnTo>
                  <a:pt x="405777" y="0"/>
                </a:lnTo>
                <a:lnTo>
                  <a:pt x="407678" y="812"/>
                </a:lnTo>
                <a:lnTo>
                  <a:pt x="408946" y="2200"/>
                </a:lnTo>
                <a:lnTo>
                  <a:pt x="409791" y="3972"/>
                </a:lnTo>
                <a:lnTo>
                  <a:pt x="415025" y="10511"/>
                </a:lnTo>
                <a:lnTo>
                  <a:pt x="415537" y="13747"/>
                </a:lnTo>
                <a:lnTo>
                  <a:pt x="413848" y="21856"/>
                </a:lnTo>
                <a:lnTo>
                  <a:pt x="398622" y="61956"/>
                </a:lnTo>
                <a:lnTo>
                  <a:pt x="388589" y="93811"/>
                </a:lnTo>
                <a:lnTo>
                  <a:pt x="378455" y="132465"/>
                </a:lnTo>
                <a:lnTo>
                  <a:pt x="363062" y="184033"/>
                </a:lnTo>
                <a:lnTo>
                  <a:pt x="353766" y="223883"/>
                </a:lnTo>
                <a:lnTo>
                  <a:pt x="348295" y="252692"/>
                </a:lnTo>
                <a:lnTo>
                  <a:pt x="340453" y="297472"/>
                </a:lnTo>
                <a:lnTo>
                  <a:pt x="337580" y="327732"/>
                </a:lnTo>
                <a:lnTo>
                  <a:pt x="335456" y="358961"/>
                </a:lnTo>
                <a:lnTo>
                  <a:pt x="331689" y="392596"/>
                </a:lnTo>
                <a:lnTo>
                  <a:pt x="329452" y="427300"/>
                </a:lnTo>
                <a:lnTo>
                  <a:pt x="328456" y="462480"/>
                </a:lnTo>
                <a:lnTo>
                  <a:pt x="328014" y="497872"/>
                </a:lnTo>
                <a:lnTo>
                  <a:pt x="325560" y="535614"/>
                </a:lnTo>
                <a:lnTo>
                  <a:pt x="322494" y="574966"/>
                </a:lnTo>
                <a:lnTo>
                  <a:pt x="321131" y="615034"/>
                </a:lnTo>
                <a:lnTo>
                  <a:pt x="320257" y="689863"/>
                </a:lnTo>
                <a:lnTo>
                  <a:pt x="320069" y="783601"/>
                </a:lnTo>
                <a:lnTo>
                  <a:pt x="317796" y="821214"/>
                </a:lnTo>
                <a:lnTo>
                  <a:pt x="314809" y="857686"/>
                </a:lnTo>
                <a:lnTo>
                  <a:pt x="313482" y="893652"/>
                </a:lnTo>
                <a:lnTo>
                  <a:pt x="312630" y="964185"/>
                </a:lnTo>
                <a:lnTo>
                  <a:pt x="312513" y="996582"/>
                </a:lnTo>
                <a:lnTo>
                  <a:pt x="310204" y="1027914"/>
                </a:lnTo>
                <a:lnTo>
                  <a:pt x="308048" y="1058773"/>
                </a:lnTo>
                <a:lnTo>
                  <a:pt x="309913" y="1089422"/>
                </a:lnTo>
                <a:lnTo>
                  <a:pt x="311306" y="1117719"/>
                </a:lnTo>
                <a:lnTo>
                  <a:pt x="314348" y="1157450"/>
                </a:lnTo>
                <a:lnTo>
                  <a:pt x="318355" y="1193775"/>
                </a:lnTo>
                <a:lnTo>
                  <a:pt x="319708" y="1232345"/>
                </a:lnTo>
                <a:lnTo>
                  <a:pt x="322150" y="1246434"/>
                </a:lnTo>
                <a:lnTo>
                  <a:pt x="326027" y="1263885"/>
                </a:lnTo>
                <a:lnTo>
                  <a:pt x="326573" y="1269276"/>
                </a:lnTo>
                <a:lnTo>
                  <a:pt x="329434" y="1277522"/>
                </a:lnTo>
                <a:lnTo>
                  <a:pt x="334126" y="1285670"/>
                </a:lnTo>
                <a:lnTo>
                  <a:pt x="334767" y="1289042"/>
                </a:lnTo>
                <a:lnTo>
                  <a:pt x="334938" y="1291127"/>
                </a:lnTo>
                <a:lnTo>
                  <a:pt x="334205" y="1291670"/>
                </a:lnTo>
                <a:lnTo>
                  <a:pt x="332870" y="1291186"/>
                </a:lnTo>
                <a:lnTo>
                  <a:pt x="327500" y="1287292"/>
                </a:lnTo>
                <a:lnTo>
                  <a:pt x="317249" y="1277221"/>
                </a:lnTo>
                <a:lnTo>
                  <a:pt x="299170" y="1259176"/>
                </a:lnTo>
                <a:lnTo>
                  <a:pt x="287057" y="1249327"/>
                </a:lnTo>
                <a:lnTo>
                  <a:pt x="280272" y="1244330"/>
                </a:lnTo>
                <a:lnTo>
                  <a:pt x="273208" y="1240152"/>
                </a:lnTo>
                <a:lnTo>
                  <a:pt x="265958" y="1236520"/>
                </a:lnTo>
                <a:lnTo>
                  <a:pt x="258586" y="1233252"/>
                </a:lnTo>
                <a:lnTo>
                  <a:pt x="249438" y="1230227"/>
                </a:lnTo>
                <a:lnTo>
                  <a:pt x="239104" y="1227363"/>
                </a:lnTo>
                <a:lnTo>
                  <a:pt x="227983" y="1224608"/>
                </a:lnTo>
                <a:lnTo>
                  <a:pt x="218029" y="1221924"/>
                </a:lnTo>
                <a:lnTo>
                  <a:pt x="200195" y="1216684"/>
                </a:lnTo>
                <a:lnTo>
                  <a:pt x="191037" y="1214948"/>
                </a:lnTo>
                <a:lnTo>
                  <a:pt x="181544" y="1213791"/>
                </a:lnTo>
                <a:lnTo>
                  <a:pt x="171829" y="1213019"/>
                </a:lnTo>
                <a:lnTo>
                  <a:pt x="161967" y="1212505"/>
                </a:lnTo>
                <a:lnTo>
                  <a:pt x="141975" y="1211933"/>
                </a:lnTo>
                <a:lnTo>
                  <a:pt x="132751" y="1212628"/>
                </a:lnTo>
                <a:lnTo>
                  <a:pt x="124060" y="1213937"/>
                </a:lnTo>
                <a:lnTo>
                  <a:pt x="115727" y="1215657"/>
                </a:lnTo>
                <a:lnTo>
                  <a:pt x="97436" y="1219825"/>
                </a:lnTo>
                <a:lnTo>
                  <a:pt x="87817" y="1222122"/>
                </a:lnTo>
                <a:lnTo>
                  <a:pt x="78865" y="1224501"/>
                </a:lnTo>
                <a:lnTo>
                  <a:pt x="62145" y="1229400"/>
                </a:lnTo>
                <a:lnTo>
                  <a:pt x="54130" y="1232739"/>
                </a:lnTo>
                <a:lnTo>
                  <a:pt x="46246" y="1236658"/>
                </a:lnTo>
                <a:lnTo>
                  <a:pt x="38451" y="1240964"/>
                </a:lnTo>
                <a:lnTo>
                  <a:pt x="27531" y="1248006"/>
                </a:lnTo>
                <a:lnTo>
                  <a:pt x="19010" y="1253959"/>
                </a:lnTo>
                <a:lnTo>
                  <a:pt x="14366" y="1256731"/>
                </a:lnTo>
                <a:lnTo>
                  <a:pt x="0" y="126481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olute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304920" y="11430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mplify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609480" y="190512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1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11"/>
              <p:cNvSpPr txBox="1"/>
              <p:nvPr/>
            </p:nvSpPr>
            <p:spPr>
              <a:xfrm>
                <a:off x="1643040" y="1828800"/>
                <a:ext cx="9478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41" name="Group 11"/>
          <p:cNvGrpSpPr/>
          <p:nvPr/>
        </p:nvGrpSpPr>
        <p:grpSpPr>
          <a:xfrm>
            <a:off x="4876920" y="1828800"/>
            <a:ext cx="3047760" cy="677880"/>
            <a:chOff x="4876920" y="1828800"/>
            <a:chExt cx="3047760" cy="677880"/>
          </a:xfrm>
        </p:grpSpPr>
        <p:sp>
          <p:nvSpPr>
            <p:cNvPr id="542" name="Text Box 7"/>
            <p:cNvSpPr/>
            <p:nvPr/>
          </p:nvSpPr>
          <p:spPr>
            <a:xfrm>
              <a:off x="4876920" y="190512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4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3" name="Object 12"/>
                <p:cNvSpPr txBox="1"/>
                <p:nvPr/>
              </p:nvSpPr>
              <p:spPr>
                <a:xfrm>
                  <a:off x="5962680" y="1828800"/>
                  <a:ext cx="1962000" cy="67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44" name="Line 12"/>
          <p:cNvSpPr/>
          <p:nvPr/>
        </p:nvSpPr>
        <p:spPr>
          <a:xfrm>
            <a:off x="4267080" y="1981080"/>
            <a:ext cx="0" cy="43434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26"/>
          <p:cNvGrpSpPr/>
          <p:nvPr/>
        </p:nvGrpSpPr>
        <p:grpSpPr>
          <a:xfrm>
            <a:off x="1251000" y="2498760"/>
            <a:ext cx="6673680" cy="1846080"/>
            <a:chOff x="1251000" y="2498760"/>
            <a:chExt cx="6673680" cy="1846080"/>
          </a:xfrm>
        </p:grpSpPr>
        <p:sp>
          <p:nvSpPr>
            <p:cNvPr id="546" name="SMARTInkAnnotation56"/>
            <p:cNvSpPr/>
            <p:nvPr/>
          </p:nvSpPr>
          <p:spPr>
            <a:xfrm>
              <a:off x="1251000" y="2643480"/>
              <a:ext cx="52200" cy="548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48640"/>
                <a:gd name="textAreaBottom" fmla="*/ 549000 h 548640"/>
              </a:gdLst>
              <a:ahLst/>
              <a:rect l="textAreaLeft" t="textAreaTop" r="textAreaRight" b="textAreaBottom"/>
              <a:pathLst>
                <a:path w="52281" h="548641">
                  <a:moveTo>
                    <a:pt x="52280" y="0"/>
                  </a:moveTo>
                  <a:lnTo>
                    <a:pt x="52280" y="6561"/>
                  </a:lnTo>
                  <a:lnTo>
                    <a:pt x="51433" y="8607"/>
                  </a:lnTo>
                  <a:lnTo>
                    <a:pt x="50022" y="11665"/>
                  </a:lnTo>
                  <a:lnTo>
                    <a:pt x="48235" y="15397"/>
                  </a:lnTo>
                  <a:lnTo>
                    <a:pt x="47043" y="18731"/>
                  </a:lnTo>
                  <a:lnTo>
                    <a:pt x="45719" y="24694"/>
                  </a:lnTo>
                  <a:lnTo>
                    <a:pt x="44520" y="28316"/>
                  </a:lnTo>
                  <a:lnTo>
                    <a:pt x="42873" y="32424"/>
                  </a:lnTo>
                  <a:lnTo>
                    <a:pt x="40929" y="36856"/>
                  </a:lnTo>
                  <a:lnTo>
                    <a:pt x="39632" y="41504"/>
                  </a:lnTo>
                  <a:lnTo>
                    <a:pt x="38192" y="51184"/>
                  </a:lnTo>
                  <a:lnTo>
                    <a:pt x="36962" y="56983"/>
                  </a:lnTo>
                  <a:lnTo>
                    <a:pt x="35294" y="63389"/>
                  </a:lnTo>
                  <a:lnTo>
                    <a:pt x="33336" y="70199"/>
                  </a:lnTo>
                  <a:lnTo>
                    <a:pt x="32031" y="77279"/>
                  </a:lnTo>
                  <a:lnTo>
                    <a:pt x="30581" y="91920"/>
                  </a:lnTo>
                  <a:lnTo>
                    <a:pt x="29347" y="99380"/>
                  </a:lnTo>
                  <a:lnTo>
                    <a:pt x="27678" y="106893"/>
                  </a:lnTo>
                  <a:lnTo>
                    <a:pt x="25719" y="114442"/>
                  </a:lnTo>
                  <a:lnTo>
                    <a:pt x="24412" y="122014"/>
                  </a:lnTo>
                  <a:lnTo>
                    <a:pt x="22961" y="137202"/>
                  </a:lnTo>
                  <a:lnTo>
                    <a:pt x="21728" y="145655"/>
                  </a:lnTo>
                  <a:lnTo>
                    <a:pt x="20058" y="154676"/>
                  </a:lnTo>
                  <a:lnTo>
                    <a:pt x="18099" y="164078"/>
                  </a:lnTo>
                  <a:lnTo>
                    <a:pt x="16793" y="173732"/>
                  </a:lnTo>
                  <a:lnTo>
                    <a:pt x="15922" y="183554"/>
                  </a:lnTo>
                  <a:lnTo>
                    <a:pt x="15341" y="193490"/>
                  </a:lnTo>
                  <a:lnTo>
                    <a:pt x="14696" y="213560"/>
                  </a:lnTo>
                  <a:lnTo>
                    <a:pt x="14248" y="269423"/>
                  </a:lnTo>
                  <a:lnTo>
                    <a:pt x="14210" y="291052"/>
                  </a:lnTo>
                  <a:lnTo>
                    <a:pt x="13354" y="301562"/>
                  </a:lnTo>
                  <a:lnTo>
                    <a:pt x="11935" y="311954"/>
                  </a:lnTo>
                  <a:lnTo>
                    <a:pt x="10144" y="322270"/>
                  </a:lnTo>
                  <a:lnTo>
                    <a:pt x="8949" y="332533"/>
                  </a:lnTo>
                  <a:lnTo>
                    <a:pt x="8153" y="342762"/>
                  </a:lnTo>
                  <a:lnTo>
                    <a:pt x="7622" y="352968"/>
                  </a:lnTo>
                  <a:lnTo>
                    <a:pt x="7032" y="373339"/>
                  </a:lnTo>
                  <a:lnTo>
                    <a:pt x="6588" y="444498"/>
                  </a:lnTo>
                  <a:lnTo>
                    <a:pt x="6568" y="466889"/>
                  </a:lnTo>
                  <a:lnTo>
                    <a:pt x="5719" y="473819"/>
                  </a:lnTo>
                  <a:lnTo>
                    <a:pt x="4306" y="480980"/>
                  </a:lnTo>
                  <a:lnTo>
                    <a:pt x="2517" y="488293"/>
                  </a:lnTo>
                  <a:lnTo>
                    <a:pt x="1325" y="494862"/>
                  </a:lnTo>
                  <a:lnTo>
                    <a:pt x="0" y="506676"/>
                  </a:lnTo>
                  <a:lnTo>
                    <a:pt x="493" y="512198"/>
                  </a:lnTo>
                  <a:lnTo>
                    <a:pt x="1669" y="517572"/>
                  </a:lnTo>
                  <a:lnTo>
                    <a:pt x="3299" y="522848"/>
                  </a:lnTo>
                  <a:lnTo>
                    <a:pt x="4386" y="527212"/>
                  </a:lnTo>
                  <a:lnTo>
                    <a:pt x="5916" y="537399"/>
                  </a:lnTo>
                  <a:lnTo>
                    <a:pt x="6560" y="5486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SMARTInkAnnotation57"/>
            <p:cNvSpPr/>
            <p:nvPr/>
          </p:nvSpPr>
          <p:spPr>
            <a:xfrm>
              <a:off x="1341360" y="2910240"/>
              <a:ext cx="258840" cy="1512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59081" h="15241">
                  <a:moveTo>
                    <a:pt x="0" y="15240"/>
                  </a:moveTo>
                  <a:lnTo>
                    <a:pt x="40156" y="15240"/>
                  </a:lnTo>
                  <a:lnTo>
                    <a:pt x="47091" y="14393"/>
                  </a:lnTo>
                  <a:lnTo>
                    <a:pt x="54254" y="12982"/>
                  </a:lnTo>
                  <a:lnTo>
                    <a:pt x="61569" y="11195"/>
                  </a:lnTo>
                  <a:lnTo>
                    <a:pt x="68986" y="10003"/>
                  </a:lnTo>
                  <a:lnTo>
                    <a:pt x="76471" y="9209"/>
                  </a:lnTo>
                  <a:lnTo>
                    <a:pt x="84001" y="8679"/>
                  </a:lnTo>
                  <a:lnTo>
                    <a:pt x="91561" y="8326"/>
                  </a:lnTo>
                  <a:lnTo>
                    <a:pt x="106734" y="7934"/>
                  </a:lnTo>
                  <a:lnTo>
                    <a:pt x="115182" y="6983"/>
                  </a:lnTo>
                  <a:lnTo>
                    <a:pt x="124202" y="5502"/>
                  </a:lnTo>
                  <a:lnTo>
                    <a:pt x="133601" y="3668"/>
                  </a:lnTo>
                  <a:lnTo>
                    <a:pt x="142407" y="2445"/>
                  </a:lnTo>
                  <a:lnTo>
                    <a:pt x="150818" y="1630"/>
                  </a:lnTo>
                  <a:lnTo>
                    <a:pt x="158966" y="1087"/>
                  </a:lnTo>
                  <a:lnTo>
                    <a:pt x="166937" y="725"/>
                  </a:lnTo>
                  <a:lnTo>
                    <a:pt x="182568" y="322"/>
                  </a:lnTo>
                  <a:lnTo>
                    <a:pt x="223204" y="19"/>
                  </a:lnTo>
                  <a:lnTo>
                    <a:pt x="2590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SMARTInkAnnotation58"/>
            <p:cNvSpPr/>
            <p:nvPr/>
          </p:nvSpPr>
          <p:spPr>
            <a:xfrm>
              <a:off x="1609200" y="2818800"/>
              <a:ext cx="270720" cy="29556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271035" h="295544">
                  <a:moveTo>
                    <a:pt x="82621" y="0"/>
                  </a:moveTo>
                  <a:lnTo>
                    <a:pt x="82621" y="7306"/>
                  </a:lnTo>
                  <a:lnTo>
                    <a:pt x="78576" y="11573"/>
                  </a:lnTo>
                  <a:lnTo>
                    <a:pt x="77384" y="13641"/>
                  </a:lnTo>
                  <a:lnTo>
                    <a:pt x="74861" y="20599"/>
                  </a:lnTo>
                  <a:lnTo>
                    <a:pt x="69127" y="28869"/>
                  </a:lnTo>
                  <a:lnTo>
                    <a:pt x="64488" y="37102"/>
                  </a:lnTo>
                  <a:lnTo>
                    <a:pt x="59604" y="44147"/>
                  </a:lnTo>
                  <a:lnTo>
                    <a:pt x="54611" y="50948"/>
                  </a:lnTo>
                  <a:lnTo>
                    <a:pt x="49570" y="59615"/>
                  </a:lnTo>
                  <a:lnTo>
                    <a:pt x="44507" y="69111"/>
                  </a:lnTo>
                  <a:lnTo>
                    <a:pt x="41972" y="74014"/>
                  </a:lnTo>
                  <a:lnTo>
                    <a:pt x="34639" y="81720"/>
                  </a:lnTo>
                  <a:lnTo>
                    <a:pt x="30313" y="84960"/>
                  </a:lnTo>
                  <a:lnTo>
                    <a:pt x="23249" y="93076"/>
                  </a:lnTo>
                  <a:lnTo>
                    <a:pt x="17287" y="101480"/>
                  </a:lnTo>
                  <a:lnTo>
                    <a:pt x="11815" y="108038"/>
                  </a:lnTo>
                  <a:lnTo>
                    <a:pt x="8818" y="113775"/>
                  </a:lnTo>
                  <a:lnTo>
                    <a:pt x="8019" y="116490"/>
                  </a:lnTo>
                  <a:lnTo>
                    <a:pt x="6640" y="118300"/>
                  </a:lnTo>
                  <a:lnTo>
                    <a:pt x="4874" y="119506"/>
                  </a:lnTo>
                  <a:lnTo>
                    <a:pt x="0" y="121444"/>
                  </a:lnTo>
                  <a:lnTo>
                    <a:pt x="447" y="121602"/>
                  </a:lnTo>
                  <a:lnTo>
                    <a:pt x="8255" y="121902"/>
                  </a:lnTo>
                  <a:lnTo>
                    <a:pt x="25033" y="121916"/>
                  </a:lnTo>
                  <a:lnTo>
                    <a:pt x="31530" y="121071"/>
                  </a:lnTo>
                  <a:lnTo>
                    <a:pt x="38400" y="119661"/>
                  </a:lnTo>
                  <a:lnTo>
                    <a:pt x="45520" y="117874"/>
                  </a:lnTo>
                  <a:lnTo>
                    <a:pt x="53654" y="116683"/>
                  </a:lnTo>
                  <a:lnTo>
                    <a:pt x="62463" y="115888"/>
                  </a:lnTo>
                  <a:lnTo>
                    <a:pt x="71722" y="115359"/>
                  </a:lnTo>
                  <a:lnTo>
                    <a:pt x="91042" y="114771"/>
                  </a:lnTo>
                  <a:lnTo>
                    <a:pt x="131039" y="114393"/>
                  </a:lnTo>
                  <a:lnTo>
                    <a:pt x="141147" y="115209"/>
                  </a:lnTo>
                  <a:lnTo>
                    <a:pt x="151271" y="116599"/>
                  </a:lnTo>
                  <a:lnTo>
                    <a:pt x="161408" y="118373"/>
                  </a:lnTo>
                  <a:lnTo>
                    <a:pt x="170706" y="121249"/>
                  </a:lnTo>
                  <a:lnTo>
                    <a:pt x="179444" y="124859"/>
                  </a:lnTo>
                  <a:lnTo>
                    <a:pt x="187810" y="128959"/>
                  </a:lnTo>
                  <a:lnTo>
                    <a:pt x="195927" y="132540"/>
                  </a:lnTo>
                  <a:lnTo>
                    <a:pt x="203878" y="135773"/>
                  </a:lnTo>
                  <a:lnTo>
                    <a:pt x="211719" y="138775"/>
                  </a:lnTo>
                  <a:lnTo>
                    <a:pt x="219487" y="142470"/>
                  </a:lnTo>
                  <a:lnTo>
                    <a:pt x="227205" y="146627"/>
                  </a:lnTo>
                  <a:lnTo>
                    <a:pt x="234890" y="151091"/>
                  </a:lnTo>
                  <a:lnTo>
                    <a:pt x="241707" y="156607"/>
                  </a:lnTo>
                  <a:lnTo>
                    <a:pt x="247945" y="162825"/>
                  </a:lnTo>
                  <a:lnTo>
                    <a:pt x="253797" y="169510"/>
                  </a:lnTo>
                  <a:lnTo>
                    <a:pt x="258545" y="176507"/>
                  </a:lnTo>
                  <a:lnTo>
                    <a:pt x="262557" y="183711"/>
                  </a:lnTo>
                  <a:lnTo>
                    <a:pt x="266079" y="191054"/>
                  </a:lnTo>
                  <a:lnTo>
                    <a:pt x="268426" y="197643"/>
                  </a:lnTo>
                  <a:lnTo>
                    <a:pt x="269991" y="203728"/>
                  </a:lnTo>
                  <a:lnTo>
                    <a:pt x="271034" y="209479"/>
                  </a:lnTo>
                  <a:lnTo>
                    <a:pt x="270884" y="215006"/>
                  </a:lnTo>
                  <a:lnTo>
                    <a:pt x="269936" y="220384"/>
                  </a:lnTo>
                  <a:lnTo>
                    <a:pt x="268458" y="225663"/>
                  </a:lnTo>
                  <a:lnTo>
                    <a:pt x="265779" y="230875"/>
                  </a:lnTo>
                  <a:lnTo>
                    <a:pt x="262300" y="236044"/>
                  </a:lnTo>
                  <a:lnTo>
                    <a:pt x="258287" y="241182"/>
                  </a:lnTo>
                  <a:lnTo>
                    <a:pt x="254765" y="246302"/>
                  </a:lnTo>
                  <a:lnTo>
                    <a:pt x="251571" y="251408"/>
                  </a:lnTo>
                  <a:lnTo>
                    <a:pt x="248594" y="256505"/>
                  </a:lnTo>
                  <a:lnTo>
                    <a:pt x="244916" y="261597"/>
                  </a:lnTo>
                  <a:lnTo>
                    <a:pt x="240771" y="266684"/>
                  </a:lnTo>
                  <a:lnTo>
                    <a:pt x="236315" y="271770"/>
                  </a:lnTo>
                  <a:lnTo>
                    <a:pt x="230804" y="276007"/>
                  </a:lnTo>
                  <a:lnTo>
                    <a:pt x="224589" y="279678"/>
                  </a:lnTo>
                  <a:lnTo>
                    <a:pt x="217907" y="282972"/>
                  </a:lnTo>
                  <a:lnTo>
                    <a:pt x="210912" y="286015"/>
                  </a:lnTo>
                  <a:lnTo>
                    <a:pt x="203708" y="288890"/>
                  </a:lnTo>
                  <a:lnTo>
                    <a:pt x="196366" y="291653"/>
                  </a:lnTo>
                  <a:lnTo>
                    <a:pt x="188931" y="293495"/>
                  </a:lnTo>
                  <a:lnTo>
                    <a:pt x="181435" y="294724"/>
                  </a:lnTo>
                  <a:lnTo>
                    <a:pt x="173896" y="295543"/>
                  </a:lnTo>
                  <a:lnTo>
                    <a:pt x="165485" y="295241"/>
                  </a:lnTo>
                  <a:lnTo>
                    <a:pt x="156490" y="294194"/>
                  </a:lnTo>
                  <a:lnTo>
                    <a:pt x="147107" y="292650"/>
                  </a:lnTo>
                  <a:lnTo>
                    <a:pt x="137465" y="290773"/>
                  </a:lnTo>
                  <a:lnTo>
                    <a:pt x="110254" y="284934"/>
                  </a:lnTo>
                  <a:lnTo>
                    <a:pt x="104430" y="283936"/>
                  </a:lnTo>
                  <a:lnTo>
                    <a:pt x="99700" y="283271"/>
                  </a:lnTo>
                  <a:lnTo>
                    <a:pt x="94854" y="281980"/>
                  </a:lnTo>
                  <a:lnTo>
                    <a:pt x="89929" y="280274"/>
                  </a:lnTo>
                  <a:lnTo>
                    <a:pt x="75001" y="2743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SMARTInkAnnotation59"/>
            <p:cNvSpPr/>
            <p:nvPr/>
          </p:nvSpPr>
          <p:spPr>
            <a:xfrm>
              <a:off x="1653480" y="2803320"/>
              <a:ext cx="251280" cy="1512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51461" h="15241">
                  <a:moveTo>
                    <a:pt x="0" y="15240"/>
                  </a:moveTo>
                  <a:lnTo>
                    <a:pt x="65595" y="15240"/>
                  </a:lnTo>
                  <a:lnTo>
                    <a:pt x="75057" y="14394"/>
                  </a:lnTo>
                  <a:lnTo>
                    <a:pt x="84751" y="12982"/>
                  </a:lnTo>
                  <a:lnTo>
                    <a:pt x="94601" y="11195"/>
                  </a:lnTo>
                  <a:lnTo>
                    <a:pt x="105401" y="10003"/>
                  </a:lnTo>
                  <a:lnTo>
                    <a:pt x="116834" y="9209"/>
                  </a:lnTo>
                  <a:lnTo>
                    <a:pt x="139979" y="8326"/>
                  </a:lnTo>
                  <a:lnTo>
                    <a:pt x="161555" y="7934"/>
                  </a:lnTo>
                  <a:lnTo>
                    <a:pt x="172050" y="6983"/>
                  </a:lnTo>
                  <a:lnTo>
                    <a:pt x="182434" y="5502"/>
                  </a:lnTo>
                  <a:lnTo>
                    <a:pt x="192742" y="3668"/>
                  </a:lnTo>
                  <a:lnTo>
                    <a:pt x="202155" y="2445"/>
                  </a:lnTo>
                  <a:lnTo>
                    <a:pt x="210970" y="1630"/>
                  </a:lnTo>
                  <a:lnTo>
                    <a:pt x="219387" y="1087"/>
                  </a:lnTo>
                  <a:lnTo>
                    <a:pt x="233254" y="483"/>
                  </a:lnTo>
                  <a:lnTo>
                    <a:pt x="2514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SMARTInkAnnotation60"/>
            <p:cNvSpPr/>
            <p:nvPr/>
          </p:nvSpPr>
          <p:spPr>
            <a:xfrm>
              <a:off x="2049840" y="2628000"/>
              <a:ext cx="68400" cy="518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18040"/>
                <a:gd name="textAreaBottom" fmla="*/ 518400 h 518040"/>
              </a:gdLst>
              <a:ahLst/>
              <a:rect l="textAreaLeft" t="textAreaTop" r="textAreaRight" b="textAreaBottom"/>
              <a:pathLst>
                <a:path w="68581" h="518161">
                  <a:moveTo>
                    <a:pt x="0" y="0"/>
                  </a:moveTo>
                  <a:lnTo>
                    <a:pt x="0" y="4045"/>
                  </a:lnTo>
                  <a:lnTo>
                    <a:pt x="847" y="6930"/>
                  </a:lnTo>
                  <a:lnTo>
                    <a:pt x="2258" y="10547"/>
                  </a:lnTo>
                  <a:lnTo>
                    <a:pt x="4045" y="14651"/>
                  </a:lnTo>
                  <a:lnTo>
                    <a:pt x="6031" y="21470"/>
                  </a:lnTo>
                  <a:lnTo>
                    <a:pt x="7760" y="29862"/>
                  </a:lnTo>
                  <a:lnTo>
                    <a:pt x="11351" y="44881"/>
                  </a:lnTo>
                  <a:lnTo>
                    <a:pt x="12648" y="53627"/>
                  </a:lnTo>
                  <a:lnTo>
                    <a:pt x="13512" y="62845"/>
                  </a:lnTo>
                  <a:lnTo>
                    <a:pt x="14088" y="72377"/>
                  </a:lnTo>
                  <a:lnTo>
                    <a:pt x="15319" y="82965"/>
                  </a:lnTo>
                  <a:lnTo>
                    <a:pt x="16986" y="94256"/>
                  </a:lnTo>
                  <a:lnTo>
                    <a:pt x="18944" y="106018"/>
                  </a:lnTo>
                  <a:lnTo>
                    <a:pt x="20249" y="118092"/>
                  </a:lnTo>
                  <a:lnTo>
                    <a:pt x="21120" y="130375"/>
                  </a:lnTo>
                  <a:lnTo>
                    <a:pt x="21700" y="142796"/>
                  </a:lnTo>
                  <a:lnTo>
                    <a:pt x="22344" y="167887"/>
                  </a:lnTo>
                  <a:lnTo>
                    <a:pt x="22516" y="180505"/>
                  </a:lnTo>
                  <a:lnTo>
                    <a:pt x="23478" y="193996"/>
                  </a:lnTo>
                  <a:lnTo>
                    <a:pt x="24965" y="208071"/>
                  </a:lnTo>
                  <a:lnTo>
                    <a:pt x="26803" y="222534"/>
                  </a:lnTo>
                  <a:lnTo>
                    <a:pt x="28029" y="236410"/>
                  </a:lnTo>
                  <a:lnTo>
                    <a:pt x="28846" y="249893"/>
                  </a:lnTo>
                  <a:lnTo>
                    <a:pt x="29391" y="263116"/>
                  </a:lnTo>
                  <a:lnTo>
                    <a:pt x="30600" y="277010"/>
                  </a:lnTo>
                  <a:lnTo>
                    <a:pt x="32254" y="291353"/>
                  </a:lnTo>
                  <a:lnTo>
                    <a:pt x="34202" y="305996"/>
                  </a:lnTo>
                  <a:lnTo>
                    <a:pt x="36348" y="319991"/>
                  </a:lnTo>
                  <a:lnTo>
                    <a:pt x="40990" y="346829"/>
                  </a:lnTo>
                  <a:lnTo>
                    <a:pt x="42567" y="359913"/>
                  </a:lnTo>
                  <a:lnTo>
                    <a:pt x="43618" y="372868"/>
                  </a:lnTo>
                  <a:lnTo>
                    <a:pt x="44319" y="385739"/>
                  </a:lnTo>
                  <a:lnTo>
                    <a:pt x="45633" y="398553"/>
                  </a:lnTo>
                  <a:lnTo>
                    <a:pt x="47355" y="411329"/>
                  </a:lnTo>
                  <a:lnTo>
                    <a:pt x="49350" y="424079"/>
                  </a:lnTo>
                  <a:lnTo>
                    <a:pt x="50680" y="435966"/>
                  </a:lnTo>
                  <a:lnTo>
                    <a:pt x="51567" y="447278"/>
                  </a:lnTo>
                  <a:lnTo>
                    <a:pt x="52158" y="458205"/>
                  </a:lnTo>
                  <a:lnTo>
                    <a:pt x="53399" y="468030"/>
                  </a:lnTo>
                  <a:lnTo>
                    <a:pt x="55073" y="477120"/>
                  </a:lnTo>
                  <a:lnTo>
                    <a:pt x="57035" y="485720"/>
                  </a:lnTo>
                  <a:lnTo>
                    <a:pt x="59190" y="493147"/>
                  </a:lnTo>
                  <a:lnTo>
                    <a:pt x="61473" y="499791"/>
                  </a:lnTo>
                  <a:lnTo>
                    <a:pt x="68580" y="518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SMARTInkAnnotation61"/>
            <p:cNvSpPr/>
            <p:nvPr/>
          </p:nvSpPr>
          <p:spPr>
            <a:xfrm>
              <a:off x="2377440" y="2940480"/>
              <a:ext cx="220680" cy="226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20981" h="22861">
                  <a:moveTo>
                    <a:pt x="0" y="22860"/>
                  </a:moveTo>
                  <a:lnTo>
                    <a:pt x="4046" y="22860"/>
                  </a:lnTo>
                  <a:lnTo>
                    <a:pt x="5237" y="22013"/>
                  </a:lnTo>
                  <a:lnTo>
                    <a:pt x="6032" y="20602"/>
                  </a:lnTo>
                  <a:lnTo>
                    <a:pt x="6561" y="18815"/>
                  </a:lnTo>
                  <a:lnTo>
                    <a:pt x="8607" y="17623"/>
                  </a:lnTo>
                  <a:lnTo>
                    <a:pt x="11665" y="16829"/>
                  </a:lnTo>
                  <a:lnTo>
                    <a:pt x="15397" y="16299"/>
                  </a:lnTo>
                  <a:lnTo>
                    <a:pt x="21801" y="15711"/>
                  </a:lnTo>
                  <a:lnTo>
                    <a:pt x="24694" y="15554"/>
                  </a:lnTo>
                  <a:lnTo>
                    <a:pt x="28316" y="14603"/>
                  </a:lnTo>
                  <a:lnTo>
                    <a:pt x="32424" y="13122"/>
                  </a:lnTo>
                  <a:lnTo>
                    <a:pt x="36856" y="11288"/>
                  </a:lnTo>
                  <a:lnTo>
                    <a:pt x="41504" y="10065"/>
                  </a:lnTo>
                  <a:lnTo>
                    <a:pt x="46296" y="9250"/>
                  </a:lnTo>
                  <a:lnTo>
                    <a:pt x="51184" y="8707"/>
                  </a:lnTo>
                  <a:lnTo>
                    <a:pt x="56136" y="7498"/>
                  </a:lnTo>
                  <a:lnTo>
                    <a:pt x="61131" y="5845"/>
                  </a:lnTo>
                  <a:lnTo>
                    <a:pt x="66154" y="3897"/>
                  </a:lnTo>
                  <a:lnTo>
                    <a:pt x="71196" y="2598"/>
                  </a:lnTo>
                  <a:lnTo>
                    <a:pt x="76251" y="1732"/>
                  </a:lnTo>
                  <a:lnTo>
                    <a:pt x="81314" y="1155"/>
                  </a:lnTo>
                  <a:lnTo>
                    <a:pt x="87229" y="770"/>
                  </a:lnTo>
                  <a:lnTo>
                    <a:pt x="93713" y="513"/>
                  </a:lnTo>
                  <a:lnTo>
                    <a:pt x="107690" y="229"/>
                  </a:lnTo>
                  <a:lnTo>
                    <a:pt x="2209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SMARTInkAnnotation62"/>
            <p:cNvSpPr/>
            <p:nvPr/>
          </p:nvSpPr>
          <p:spPr>
            <a:xfrm>
              <a:off x="2400480" y="3001680"/>
              <a:ext cx="198000" cy="378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98121" h="38101">
                  <a:moveTo>
                    <a:pt x="0" y="38100"/>
                  </a:moveTo>
                  <a:lnTo>
                    <a:pt x="15397" y="38100"/>
                  </a:lnTo>
                  <a:lnTo>
                    <a:pt x="19578" y="37253"/>
                  </a:lnTo>
                  <a:lnTo>
                    <a:pt x="24059" y="35842"/>
                  </a:lnTo>
                  <a:lnTo>
                    <a:pt x="28739" y="34055"/>
                  </a:lnTo>
                  <a:lnTo>
                    <a:pt x="33553" y="32863"/>
                  </a:lnTo>
                  <a:lnTo>
                    <a:pt x="38455" y="32069"/>
                  </a:lnTo>
                  <a:lnTo>
                    <a:pt x="43417" y="31539"/>
                  </a:lnTo>
                  <a:lnTo>
                    <a:pt x="49264" y="31186"/>
                  </a:lnTo>
                  <a:lnTo>
                    <a:pt x="62536" y="30794"/>
                  </a:lnTo>
                  <a:lnTo>
                    <a:pt x="68784" y="29843"/>
                  </a:lnTo>
                  <a:lnTo>
                    <a:pt x="74643" y="28362"/>
                  </a:lnTo>
                  <a:lnTo>
                    <a:pt x="80242" y="26528"/>
                  </a:lnTo>
                  <a:lnTo>
                    <a:pt x="87361" y="25305"/>
                  </a:lnTo>
                  <a:lnTo>
                    <a:pt x="95494" y="24490"/>
                  </a:lnTo>
                  <a:lnTo>
                    <a:pt x="104303" y="23947"/>
                  </a:lnTo>
                  <a:lnTo>
                    <a:pt x="111869" y="22738"/>
                  </a:lnTo>
                  <a:lnTo>
                    <a:pt x="118606" y="21085"/>
                  </a:lnTo>
                  <a:lnTo>
                    <a:pt x="124791" y="19137"/>
                  </a:lnTo>
                  <a:lnTo>
                    <a:pt x="130607" y="16991"/>
                  </a:lnTo>
                  <a:lnTo>
                    <a:pt x="136178" y="14714"/>
                  </a:lnTo>
                  <a:lnTo>
                    <a:pt x="141586" y="12349"/>
                  </a:lnTo>
                  <a:lnTo>
                    <a:pt x="147731" y="10773"/>
                  </a:lnTo>
                  <a:lnTo>
                    <a:pt x="154367" y="9722"/>
                  </a:lnTo>
                  <a:lnTo>
                    <a:pt x="161331" y="9021"/>
                  </a:lnTo>
                  <a:lnTo>
                    <a:pt x="167668" y="7707"/>
                  </a:lnTo>
                  <a:lnTo>
                    <a:pt x="173585" y="5985"/>
                  </a:lnTo>
                  <a:lnTo>
                    <a:pt x="179223" y="3990"/>
                  </a:lnTo>
                  <a:lnTo>
                    <a:pt x="183829" y="2660"/>
                  </a:lnTo>
                  <a:lnTo>
                    <a:pt x="187746" y="1773"/>
                  </a:lnTo>
                  <a:lnTo>
                    <a:pt x="198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SMARTInkAnnotation63"/>
            <p:cNvSpPr/>
            <p:nvPr/>
          </p:nvSpPr>
          <p:spPr>
            <a:xfrm>
              <a:off x="2797200" y="2788200"/>
              <a:ext cx="326880" cy="32724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327038" h="327203">
                  <a:moveTo>
                    <a:pt x="90993" y="0"/>
                  </a:moveTo>
                  <a:lnTo>
                    <a:pt x="90993" y="4046"/>
                  </a:lnTo>
                  <a:lnTo>
                    <a:pt x="90146" y="6084"/>
                  </a:lnTo>
                  <a:lnTo>
                    <a:pt x="85756" y="12997"/>
                  </a:lnTo>
                  <a:lnTo>
                    <a:pt x="83233" y="20408"/>
                  </a:lnTo>
                  <a:lnTo>
                    <a:pt x="79642" y="25439"/>
                  </a:lnTo>
                  <a:lnTo>
                    <a:pt x="78346" y="28813"/>
                  </a:lnTo>
                  <a:lnTo>
                    <a:pt x="76905" y="37077"/>
                  </a:lnTo>
                  <a:lnTo>
                    <a:pt x="74828" y="41651"/>
                  </a:lnTo>
                  <a:lnTo>
                    <a:pt x="68004" y="51250"/>
                  </a:lnTo>
                  <a:lnTo>
                    <a:pt x="61585" y="61160"/>
                  </a:lnTo>
                  <a:lnTo>
                    <a:pt x="55063" y="71209"/>
                  </a:lnTo>
                  <a:lnTo>
                    <a:pt x="46520" y="81320"/>
                  </a:lnTo>
                  <a:lnTo>
                    <a:pt x="39336" y="91458"/>
                  </a:lnTo>
                  <a:lnTo>
                    <a:pt x="33321" y="101608"/>
                  </a:lnTo>
                  <a:lnTo>
                    <a:pt x="27826" y="111764"/>
                  </a:lnTo>
                  <a:lnTo>
                    <a:pt x="22561" y="119664"/>
                  </a:lnTo>
                  <a:lnTo>
                    <a:pt x="14837" y="128872"/>
                  </a:lnTo>
                  <a:lnTo>
                    <a:pt x="7186" y="136962"/>
                  </a:lnTo>
                  <a:lnTo>
                    <a:pt x="1061" y="143236"/>
                  </a:lnTo>
                  <a:lnTo>
                    <a:pt x="558" y="144597"/>
                  </a:lnTo>
                  <a:lnTo>
                    <a:pt x="0" y="148368"/>
                  </a:lnTo>
                  <a:lnTo>
                    <a:pt x="698" y="148865"/>
                  </a:lnTo>
                  <a:lnTo>
                    <a:pt x="2010" y="148350"/>
                  </a:lnTo>
                  <a:lnTo>
                    <a:pt x="3731" y="147160"/>
                  </a:lnTo>
                  <a:lnTo>
                    <a:pt x="10159" y="145838"/>
                  </a:lnTo>
                  <a:lnTo>
                    <a:pt x="14244" y="145485"/>
                  </a:lnTo>
                  <a:lnTo>
                    <a:pt x="23298" y="142836"/>
                  </a:lnTo>
                  <a:lnTo>
                    <a:pt x="28083" y="140944"/>
                  </a:lnTo>
                  <a:lnTo>
                    <a:pt x="34660" y="138836"/>
                  </a:lnTo>
                  <a:lnTo>
                    <a:pt x="42431" y="136584"/>
                  </a:lnTo>
                  <a:lnTo>
                    <a:pt x="69549" y="129370"/>
                  </a:lnTo>
                  <a:lnTo>
                    <a:pt x="79237" y="126887"/>
                  </a:lnTo>
                  <a:lnTo>
                    <a:pt x="89929" y="125231"/>
                  </a:lnTo>
                  <a:lnTo>
                    <a:pt x="101290" y="124128"/>
                  </a:lnTo>
                  <a:lnTo>
                    <a:pt x="113098" y="123392"/>
                  </a:lnTo>
                  <a:lnTo>
                    <a:pt x="124356" y="122055"/>
                  </a:lnTo>
                  <a:lnTo>
                    <a:pt x="135248" y="120317"/>
                  </a:lnTo>
                  <a:lnTo>
                    <a:pt x="145897" y="118311"/>
                  </a:lnTo>
                  <a:lnTo>
                    <a:pt x="157229" y="117821"/>
                  </a:lnTo>
                  <a:lnTo>
                    <a:pt x="169017" y="118341"/>
                  </a:lnTo>
                  <a:lnTo>
                    <a:pt x="181109" y="119533"/>
                  </a:lnTo>
                  <a:lnTo>
                    <a:pt x="192557" y="120329"/>
                  </a:lnTo>
                  <a:lnTo>
                    <a:pt x="203576" y="120860"/>
                  </a:lnTo>
                  <a:lnTo>
                    <a:pt x="214308" y="121213"/>
                  </a:lnTo>
                  <a:lnTo>
                    <a:pt x="224850" y="122296"/>
                  </a:lnTo>
                  <a:lnTo>
                    <a:pt x="235264" y="123863"/>
                  </a:lnTo>
                  <a:lnTo>
                    <a:pt x="245594" y="125756"/>
                  </a:lnTo>
                  <a:lnTo>
                    <a:pt x="255021" y="128711"/>
                  </a:lnTo>
                  <a:lnTo>
                    <a:pt x="263845" y="132374"/>
                  </a:lnTo>
                  <a:lnTo>
                    <a:pt x="292212" y="146375"/>
                  </a:lnTo>
                  <a:lnTo>
                    <a:pt x="297953" y="150076"/>
                  </a:lnTo>
                  <a:lnTo>
                    <a:pt x="303473" y="154238"/>
                  </a:lnTo>
                  <a:lnTo>
                    <a:pt x="308846" y="158705"/>
                  </a:lnTo>
                  <a:lnTo>
                    <a:pt x="313275" y="164224"/>
                  </a:lnTo>
                  <a:lnTo>
                    <a:pt x="317075" y="170443"/>
                  </a:lnTo>
                  <a:lnTo>
                    <a:pt x="320454" y="177128"/>
                  </a:lnTo>
                  <a:lnTo>
                    <a:pt x="322707" y="183279"/>
                  </a:lnTo>
                  <a:lnTo>
                    <a:pt x="324209" y="189072"/>
                  </a:lnTo>
                  <a:lnTo>
                    <a:pt x="325211" y="194629"/>
                  </a:lnTo>
                  <a:lnTo>
                    <a:pt x="325878" y="200872"/>
                  </a:lnTo>
                  <a:lnTo>
                    <a:pt x="326323" y="207575"/>
                  </a:lnTo>
                  <a:lnTo>
                    <a:pt x="326620" y="214583"/>
                  </a:lnTo>
                  <a:lnTo>
                    <a:pt x="326949" y="229144"/>
                  </a:lnTo>
                  <a:lnTo>
                    <a:pt x="327037" y="236583"/>
                  </a:lnTo>
                  <a:lnTo>
                    <a:pt x="326249" y="244082"/>
                  </a:lnTo>
                  <a:lnTo>
                    <a:pt x="324877" y="251621"/>
                  </a:lnTo>
                  <a:lnTo>
                    <a:pt x="323116" y="259188"/>
                  </a:lnTo>
                  <a:lnTo>
                    <a:pt x="321095" y="265925"/>
                  </a:lnTo>
                  <a:lnTo>
                    <a:pt x="318901" y="272110"/>
                  </a:lnTo>
                  <a:lnTo>
                    <a:pt x="316592" y="277927"/>
                  </a:lnTo>
                  <a:lnTo>
                    <a:pt x="313359" y="283498"/>
                  </a:lnTo>
                  <a:lnTo>
                    <a:pt x="309511" y="288905"/>
                  </a:lnTo>
                  <a:lnTo>
                    <a:pt x="301566" y="298582"/>
                  </a:lnTo>
                  <a:lnTo>
                    <a:pt x="295212" y="305705"/>
                  </a:lnTo>
                  <a:lnTo>
                    <a:pt x="287308" y="311693"/>
                  </a:lnTo>
                  <a:lnTo>
                    <a:pt x="278151" y="317177"/>
                  </a:lnTo>
                  <a:lnTo>
                    <a:pt x="268437" y="322437"/>
                  </a:lnTo>
                  <a:lnTo>
                    <a:pt x="258475" y="325339"/>
                  </a:lnTo>
                  <a:lnTo>
                    <a:pt x="248403" y="326628"/>
                  </a:lnTo>
                  <a:lnTo>
                    <a:pt x="238282" y="327202"/>
                  </a:lnTo>
                  <a:lnTo>
                    <a:pt x="232366" y="326507"/>
                  </a:lnTo>
                  <a:lnTo>
                    <a:pt x="225882" y="325198"/>
                  </a:lnTo>
                  <a:lnTo>
                    <a:pt x="219019" y="323479"/>
                  </a:lnTo>
                  <a:lnTo>
                    <a:pt x="211904" y="321486"/>
                  </a:lnTo>
                  <a:lnTo>
                    <a:pt x="197224" y="317014"/>
                  </a:lnTo>
                  <a:lnTo>
                    <a:pt x="190601" y="313789"/>
                  </a:lnTo>
                  <a:lnTo>
                    <a:pt x="184492" y="309946"/>
                  </a:lnTo>
                  <a:lnTo>
                    <a:pt x="178726" y="305691"/>
                  </a:lnTo>
                  <a:lnTo>
                    <a:pt x="173188" y="302007"/>
                  </a:lnTo>
                  <a:lnTo>
                    <a:pt x="167803" y="298705"/>
                  </a:lnTo>
                  <a:lnTo>
                    <a:pt x="151953" y="2895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SMARTInkAnnotation64"/>
            <p:cNvSpPr/>
            <p:nvPr/>
          </p:nvSpPr>
          <p:spPr>
            <a:xfrm>
              <a:off x="2857680" y="2750040"/>
              <a:ext cx="327600" cy="22680"/>
            </a:xfrm>
            <a:custGeom>
              <a:avLst/>
              <a:gdLst>
                <a:gd name="textAreaLeft" fmla="*/ 0 w 327600"/>
                <a:gd name="textAreaRight" fmla="*/ 327960 w 32760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327661" h="22861">
                  <a:moveTo>
                    <a:pt x="0" y="22860"/>
                  </a:moveTo>
                  <a:lnTo>
                    <a:pt x="4045" y="18815"/>
                  </a:lnTo>
                  <a:lnTo>
                    <a:pt x="6930" y="17623"/>
                  </a:lnTo>
                  <a:lnTo>
                    <a:pt x="10547" y="16829"/>
                  </a:lnTo>
                  <a:lnTo>
                    <a:pt x="14651" y="16299"/>
                  </a:lnTo>
                  <a:lnTo>
                    <a:pt x="19081" y="15100"/>
                  </a:lnTo>
                  <a:lnTo>
                    <a:pt x="23727" y="13453"/>
                  </a:lnTo>
                  <a:lnTo>
                    <a:pt x="28518" y="11509"/>
                  </a:lnTo>
                  <a:lnTo>
                    <a:pt x="34252" y="10213"/>
                  </a:lnTo>
                  <a:lnTo>
                    <a:pt x="40615" y="9349"/>
                  </a:lnTo>
                  <a:lnTo>
                    <a:pt x="47397" y="8772"/>
                  </a:lnTo>
                  <a:lnTo>
                    <a:pt x="54458" y="8388"/>
                  </a:lnTo>
                  <a:lnTo>
                    <a:pt x="69077" y="7962"/>
                  </a:lnTo>
                  <a:lnTo>
                    <a:pt x="99678" y="7721"/>
                  </a:lnTo>
                  <a:lnTo>
                    <a:pt x="110478" y="6841"/>
                  </a:lnTo>
                  <a:lnTo>
                    <a:pt x="121065" y="5407"/>
                  </a:lnTo>
                  <a:lnTo>
                    <a:pt x="131510" y="3605"/>
                  </a:lnTo>
                  <a:lnTo>
                    <a:pt x="142707" y="2403"/>
                  </a:lnTo>
                  <a:lnTo>
                    <a:pt x="154405" y="1602"/>
                  </a:lnTo>
                  <a:lnTo>
                    <a:pt x="166437" y="1068"/>
                  </a:lnTo>
                  <a:lnTo>
                    <a:pt x="191094" y="475"/>
                  </a:lnTo>
                  <a:lnTo>
                    <a:pt x="3276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SMARTInkAnnotation65"/>
            <p:cNvSpPr/>
            <p:nvPr/>
          </p:nvSpPr>
          <p:spPr>
            <a:xfrm>
              <a:off x="5783760" y="2605320"/>
              <a:ext cx="37800" cy="4723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72320"/>
                <a:gd name="textAreaBottom" fmla="*/ 472680 h 472320"/>
              </a:gdLst>
              <a:ahLst/>
              <a:rect l="textAreaLeft" t="textAreaTop" r="textAreaRight" b="textAreaBottom"/>
              <a:pathLst>
                <a:path w="38090" h="472441">
                  <a:moveTo>
                    <a:pt x="38089" y="0"/>
                  </a:moveTo>
                  <a:lnTo>
                    <a:pt x="38089" y="10606"/>
                  </a:lnTo>
                  <a:lnTo>
                    <a:pt x="37242" y="12997"/>
                  </a:lnTo>
                  <a:lnTo>
                    <a:pt x="35831" y="15438"/>
                  </a:lnTo>
                  <a:lnTo>
                    <a:pt x="34044" y="17912"/>
                  </a:lnTo>
                  <a:lnTo>
                    <a:pt x="32852" y="20408"/>
                  </a:lnTo>
                  <a:lnTo>
                    <a:pt x="32058" y="22919"/>
                  </a:lnTo>
                  <a:lnTo>
                    <a:pt x="31175" y="28813"/>
                  </a:lnTo>
                  <a:lnTo>
                    <a:pt x="30678" y="42498"/>
                  </a:lnTo>
                  <a:lnTo>
                    <a:pt x="30478" y="99232"/>
                  </a:lnTo>
                  <a:lnTo>
                    <a:pt x="29628" y="107641"/>
                  </a:lnTo>
                  <a:lnTo>
                    <a:pt x="28215" y="116634"/>
                  </a:lnTo>
                  <a:lnTo>
                    <a:pt x="26427" y="126016"/>
                  </a:lnTo>
                  <a:lnTo>
                    <a:pt x="25234" y="135657"/>
                  </a:lnTo>
                  <a:lnTo>
                    <a:pt x="24439" y="145472"/>
                  </a:lnTo>
                  <a:lnTo>
                    <a:pt x="23909" y="155401"/>
                  </a:lnTo>
                  <a:lnTo>
                    <a:pt x="23320" y="175465"/>
                  </a:lnTo>
                  <a:lnTo>
                    <a:pt x="22942" y="215941"/>
                  </a:lnTo>
                  <a:lnTo>
                    <a:pt x="22065" y="226087"/>
                  </a:lnTo>
                  <a:lnTo>
                    <a:pt x="20633" y="236238"/>
                  </a:lnTo>
                  <a:lnTo>
                    <a:pt x="18832" y="246392"/>
                  </a:lnTo>
                  <a:lnTo>
                    <a:pt x="17630" y="257395"/>
                  </a:lnTo>
                  <a:lnTo>
                    <a:pt x="16831" y="268963"/>
                  </a:lnTo>
                  <a:lnTo>
                    <a:pt x="16296" y="280909"/>
                  </a:lnTo>
                  <a:lnTo>
                    <a:pt x="15095" y="291412"/>
                  </a:lnTo>
                  <a:lnTo>
                    <a:pt x="13445" y="300955"/>
                  </a:lnTo>
                  <a:lnTo>
                    <a:pt x="9357" y="319178"/>
                  </a:lnTo>
                  <a:lnTo>
                    <a:pt x="4717" y="338566"/>
                  </a:lnTo>
                  <a:lnTo>
                    <a:pt x="3141" y="347630"/>
                  </a:lnTo>
                  <a:lnTo>
                    <a:pt x="2091" y="356213"/>
                  </a:lnTo>
                  <a:lnTo>
                    <a:pt x="1390" y="364476"/>
                  </a:lnTo>
                  <a:lnTo>
                    <a:pt x="923" y="372524"/>
                  </a:lnTo>
                  <a:lnTo>
                    <a:pt x="404" y="388239"/>
                  </a:lnTo>
                  <a:lnTo>
                    <a:pt x="26" y="426216"/>
                  </a:lnTo>
                  <a:lnTo>
                    <a:pt x="0" y="440023"/>
                  </a:lnTo>
                  <a:lnTo>
                    <a:pt x="843" y="444055"/>
                  </a:lnTo>
                  <a:lnTo>
                    <a:pt x="2252" y="447590"/>
                  </a:lnTo>
                  <a:lnTo>
                    <a:pt x="4038" y="450793"/>
                  </a:lnTo>
                  <a:lnTo>
                    <a:pt x="5228" y="453776"/>
                  </a:lnTo>
                  <a:lnTo>
                    <a:pt x="6022" y="456610"/>
                  </a:lnTo>
                  <a:lnTo>
                    <a:pt x="7138" y="464645"/>
                  </a:lnTo>
                  <a:lnTo>
                    <a:pt x="7609" y="4724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SMARTInkAnnotation66"/>
            <p:cNvSpPr/>
            <p:nvPr/>
          </p:nvSpPr>
          <p:spPr>
            <a:xfrm>
              <a:off x="6019920" y="2841480"/>
              <a:ext cx="289440" cy="3024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89561" h="30481">
                  <a:moveTo>
                    <a:pt x="0" y="30480"/>
                  </a:moveTo>
                  <a:lnTo>
                    <a:pt x="73141" y="30480"/>
                  </a:lnTo>
                  <a:lnTo>
                    <a:pt x="82628" y="29634"/>
                  </a:lnTo>
                  <a:lnTo>
                    <a:pt x="92339" y="28222"/>
                  </a:lnTo>
                  <a:lnTo>
                    <a:pt x="102199" y="26435"/>
                  </a:lnTo>
                  <a:lnTo>
                    <a:pt x="113006" y="25243"/>
                  </a:lnTo>
                  <a:lnTo>
                    <a:pt x="124444" y="24449"/>
                  </a:lnTo>
                  <a:lnTo>
                    <a:pt x="136303" y="23919"/>
                  </a:lnTo>
                  <a:lnTo>
                    <a:pt x="148442" y="22720"/>
                  </a:lnTo>
                  <a:lnTo>
                    <a:pt x="160768" y="21073"/>
                  </a:lnTo>
                  <a:lnTo>
                    <a:pt x="173219" y="19129"/>
                  </a:lnTo>
                  <a:lnTo>
                    <a:pt x="198342" y="14711"/>
                  </a:lnTo>
                  <a:lnTo>
                    <a:pt x="248963" y="4976"/>
                  </a:lnTo>
                  <a:lnTo>
                    <a:pt x="259109" y="3317"/>
                  </a:lnTo>
                  <a:lnTo>
                    <a:pt x="267565" y="2211"/>
                  </a:lnTo>
                  <a:lnTo>
                    <a:pt x="2895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SMARTInkAnnotation67"/>
            <p:cNvSpPr/>
            <p:nvPr/>
          </p:nvSpPr>
          <p:spPr>
            <a:xfrm>
              <a:off x="6446520" y="2719440"/>
              <a:ext cx="11880" cy="297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12011" h="297181">
                  <a:moveTo>
                    <a:pt x="7621" y="0"/>
                  </a:moveTo>
                  <a:lnTo>
                    <a:pt x="7621" y="55008"/>
                  </a:lnTo>
                  <a:lnTo>
                    <a:pt x="8466" y="62072"/>
                  </a:lnTo>
                  <a:lnTo>
                    <a:pt x="9878" y="69321"/>
                  </a:lnTo>
                  <a:lnTo>
                    <a:pt x="11665" y="76694"/>
                  </a:lnTo>
                  <a:lnTo>
                    <a:pt x="12010" y="84996"/>
                  </a:lnTo>
                  <a:lnTo>
                    <a:pt x="11394" y="93917"/>
                  </a:lnTo>
                  <a:lnTo>
                    <a:pt x="10136" y="103252"/>
                  </a:lnTo>
                  <a:lnTo>
                    <a:pt x="9298" y="112014"/>
                  </a:lnTo>
                  <a:lnTo>
                    <a:pt x="8738" y="120396"/>
                  </a:lnTo>
                  <a:lnTo>
                    <a:pt x="8365" y="128524"/>
                  </a:lnTo>
                  <a:lnTo>
                    <a:pt x="7952" y="146586"/>
                  </a:lnTo>
                  <a:lnTo>
                    <a:pt x="7622" y="254691"/>
                  </a:lnTo>
                  <a:lnTo>
                    <a:pt x="6775" y="261234"/>
                  </a:lnTo>
                  <a:lnTo>
                    <a:pt x="5363" y="268136"/>
                  </a:lnTo>
                  <a:lnTo>
                    <a:pt x="3575" y="275278"/>
                  </a:lnTo>
                  <a:lnTo>
                    <a:pt x="2384" y="280885"/>
                  </a:lnTo>
                  <a:lnTo>
                    <a:pt x="1590" y="285470"/>
                  </a:lnTo>
                  <a:lnTo>
                    <a:pt x="0" y="2971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SMARTInkAnnotation68"/>
            <p:cNvSpPr/>
            <p:nvPr/>
          </p:nvSpPr>
          <p:spPr>
            <a:xfrm>
              <a:off x="6629760" y="2727360"/>
              <a:ext cx="158760" cy="2505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59004" h="250594">
                  <a:moveTo>
                    <a:pt x="22424" y="0"/>
                  </a:moveTo>
                  <a:lnTo>
                    <a:pt x="26469" y="4045"/>
                  </a:lnTo>
                  <a:lnTo>
                    <a:pt x="27661" y="6084"/>
                  </a:lnTo>
                  <a:lnTo>
                    <a:pt x="28985" y="10606"/>
                  </a:lnTo>
                  <a:lnTo>
                    <a:pt x="27315" y="17696"/>
                  </a:lnTo>
                  <a:lnTo>
                    <a:pt x="25686" y="21957"/>
                  </a:lnTo>
                  <a:lnTo>
                    <a:pt x="24598" y="28185"/>
                  </a:lnTo>
                  <a:lnTo>
                    <a:pt x="23873" y="35724"/>
                  </a:lnTo>
                  <a:lnTo>
                    <a:pt x="23390" y="44136"/>
                  </a:lnTo>
                  <a:lnTo>
                    <a:pt x="22222" y="52284"/>
                  </a:lnTo>
                  <a:lnTo>
                    <a:pt x="20595" y="60256"/>
                  </a:lnTo>
                  <a:lnTo>
                    <a:pt x="11903" y="95346"/>
                  </a:lnTo>
                  <a:lnTo>
                    <a:pt x="7023" y="117165"/>
                  </a:lnTo>
                  <a:lnTo>
                    <a:pt x="4537" y="128910"/>
                  </a:lnTo>
                  <a:lnTo>
                    <a:pt x="2879" y="139280"/>
                  </a:lnTo>
                  <a:lnTo>
                    <a:pt x="1774" y="148734"/>
                  </a:lnTo>
                  <a:lnTo>
                    <a:pt x="1038" y="157576"/>
                  </a:lnTo>
                  <a:lnTo>
                    <a:pt x="546" y="166011"/>
                  </a:lnTo>
                  <a:lnTo>
                    <a:pt x="0" y="182156"/>
                  </a:lnTo>
                  <a:lnTo>
                    <a:pt x="702" y="190864"/>
                  </a:lnTo>
                  <a:lnTo>
                    <a:pt x="2015" y="200056"/>
                  </a:lnTo>
                  <a:lnTo>
                    <a:pt x="3738" y="209571"/>
                  </a:lnTo>
                  <a:lnTo>
                    <a:pt x="5733" y="216760"/>
                  </a:lnTo>
                  <a:lnTo>
                    <a:pt x="7912" y="222401"/>
                  </a:lnTo>
                  <a:lnTo>
                    <a:pt x="17488" y="241581"/>
                  </a:lnTo>
                  <a:lnTo>
                    <a:pt x="20827" y="244874"/>
                  </a:lnTo>
                  <a:lnTo>
                    <a:pt x="24746" y="247069"/>
                  </a:lnTo>
                  <a:lnTo>
                    <a:pt x="29052" y="248533"/>
                  </a:lnTo>
                  <a:lnTo>
                    <a:pt x="34463" y="249509"/>
                  </a:lnTo>
                  <a:lnTo>
                    <a:pt x="40610" y="250159"/>
                  </a:lnTo>
                  <a:lnTo>
                    <a:pt x="47249" y="250593"/>
                  </a:lnTo>
                  <a:lnTo>
                    <a:pt x="54213" y="250035"/>
                  </a:lnTo>
                  <a:lnTo>
                    <a:pt x="61397" y="248817"/>
                  </a:lnTo>
                  <a:lnTo>
                    <a:pt x="68726" y="247158"/>
                  </a:lnTo>
                  <a:lnTo>
                    <a:pt x="76152" y="244359"/>
                  </a:lnTo>
                  <a:lnTo>
                    <a:pt x="83643" y="240799"/>
                  </a:lnTo>
                  <a:lnTo>
                    <a:pt x="91176" y="236733"/>
                  </a:lnTo>
                  <a:lnTo>
                    <a:pt x="97892" y="231482"/>
                  </a:lnTo>
                  <a:lnTo>
                    <a:pt x="104063" y="225441"/>
                  </a:lnTo>
                  <a:lnTo>
                    <a:pt x="109870" y="218874"/>
                  </a:lnTo>
                  <a:lnTo>
                    <a:pt x="115435" y="211110"/>
                  </a:lnTo>
                  <a:lnTo>
                    <a:pt x="120838" y="202547"/>
                  </a:lnTo>
                  <a:lnTo>
                    <a:pt x="126133" y="193451"/>
                  </a:lnTo>
                  <a:lnTo>
                    <a:pt x="136532" y="176572"/>
                  </a:lnTo>
                  <a:lnTo>
                    <a:pt x="141676" y="168515"/>
                  </a:lnTo>
                  <a:lnTo>
                    <a:pt x="145953" y="159757"/>
                  </a:lnTo>
                  <a:lnTo>
                    <a:pt x="149650" y="150531"/>
                  </a:lnTo>
                  <a:lnTo>
                    <a:pt x="152962" y="140994"/>
                  </a:lnTo>
                  <a:lnTo>
                    <a:pt x="155169" y="132096"/>
                  </a:lnTo>
                  <a:lnTo>
                    <a:pt x="156641" y="123624"/>
                  </a:lnTo>
                  <a:lnTo>
                    <a:pt x="157623" y="115436"/>
                  </a:lnTo>
                  <a:lnTo>
                    <a:pt x="158276" y="107437"/>
                  </a:lnTo>
                  <a:lnTo>
                    <a:pt x="158712" y="99565"/>
                  </a:lnTo>
                  <a:lnTo>
                    <a:pt x="159003" y="91777"/>
                  </a:lnTo>
                  <a:lnTo>
                    <a:pt x="158350" y="84891"/>
                  </a:lnTo>
                  <a:lnTo>
                    <a:pt x="157068" y="78607"/>
                  </a:lnTo>
                  <a:lnTo>
                    <a:pt x="155367" y="72725"/>
                  </a:lnTo>
                  <a:lnTo>
                    <a:pt x="152540" y="67110"/>
                  </a:lnTo>
                  <a:lnTo>
                    <a:pt x="148961" y="61673"/>
                  </a:lnTo>
                  <a:lnTo>
                    <a:pt x="144882" y="56356"/>
                  </a:lnTo>
                  <a:lnTo>
                    <a:pt x="141317" y="51964"/>
                  </a:lnTo>
                  <a:lnTo>
                    <a:pt x="138093" y="48189"/>
                  </a:lnTo>
                  <a:lnTo>
                    <a:pt x="135097" y="44826"/>
                  </a:lnTo>
                  <a:lnTo>
                    <a:pt x="131406" y="42584"/>
                  </a:lnTo>
                  <a:lnTo>
                    <a:pt x="127252" y="41090"/>
                  </a:lnTo>
                  <a:lnTo>
                    <a:pt x="122790" y="40093"/>
                  </a:lnTo>
                  <a:lnTo>
                    <a:pt x="118121" y="39429"/>
                  </a:lnTo>
                  <a:lnTo>
                    <a:pt x="113315" y="38986"/>
                  </a:lnTo>
                  <a:lnTo>
                    <a:pt x="104306" y="38494"/>
                  </a:lnTo>
                  <a:lnTo>
                    <a:pt x="97481" y="38275"/>
                  </a:lnTo>
                  <a:lnTo>
                    <a:pt x="94475" y="39064"/>
                  </a:lnTo>
                  <a:lnTo>
                    <a:pt x="91625" y="40436"/>
                  </a:lnTo>
                  <a:lnTo>
                    <a:pt x="83384" y="457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SMARTInkAnnotation69"/>
            <p:cNvSpPr/>
            <p:nvPr/>
          </p:nvSpPr>
          <p:spPr>
            <a:xfrm>
              <a:off x="7094160" y="2696760"/>
              <a:ext cx="22680" cy="22860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2861" h="228601">
                  <a:moveTo>
                    <a:pt x="22860" y="0"/>
                  </a:moveTo>
                  <a:lnTo>
                    <a:pt x="16299" y="6561"/>
                  </a:lnTo>
                  <a:lnTo>
                    <a:pt x="15711" y="11665"/>
                  </a:lnTo>
                  <a:lnTo>
                    <a:pt x="15554" y="15396"/>
                  </a:lnTo>
                  <a:lnTo>
                    <a:pt x="14603" y="19577"/>
                  </a:lnTo>
                  <a:lnTo>
                    <a:pt x="13122" y="24059"/>
                  </a:lnTo>
                  <a:lnTo>
                    <a:pt x="11288" y="28739"/>
                  </a:lnTo>
                  <a:lnTo>
                    <a:pt x="10066" y="33553"/>
                  </a:lnTo>
                  <a:lnTo>
                    <a:pt x="9251" y="38455"/>
                  </a:lnTo>
                  <a:lnTo>
                    <a:pt x="8708" y="43417"/>
                  </a:lnTo>
                  <a:lnTo>
                    <a:pt x="8345" y="48418"/>
                  </a:lnTo>
                  <a:lnTo>
                    <a:pt x="8103" y="53445"/>
                  </a:lnTo>
                  <a:lnTo>
                    <a:pt x="7942" y="58490"/>
                  </a:lnTo>
                  <a:lnTo>
                    <a:pt x="6988" y="64393"/>
                  </a:lnTo>
                  <a:lnTo>
                    <a:pt x="5505" y="70869"/>
                  </a:lnTo>
                  <a:lnTo>
                    <a:pt x="3670" y="77726"/>
                  </a:lnTo>
                  <a:lnTo>
                    <a:pt x="2447" y="83991"/>
                  </a:lnTo>
                  <a:lnTo>
                    <a:pt x="1632" y="89860"/>
                  </a:lnTo>
                  <a:lnTo>
                    <a:pt x="1088" y="95467"/>
                  </a:lnTo>
                  <a:lnTo>
                    <a:pt x="1572" y="100898"/>
                  </a:lnTo>
                  <a:lnTo>
                    <a:pt x="2741" y="106212"/>
                  </a:lnTo>
                  <a:lnTo>
                    <a:pt x="4368" y="111448"/>
                  </a:lnTo>
                  <a:lnTo>
                    <a:pt x="4606" y="117478"/>
                  </a:lnTo>
                  <a:lnTo>
                    <a:pt x="3917" y="124039"/>
                  </a:lnTo>
                  <a:lnTo>
                    <a:pt x="2611" y="130953"/>
                  </a:lnTo>
                  <a:lnTo>
                    <a:pt x="1741" y="137255"/>
                  </a:lnTo>
                  <a:lnTo>
                    <a:pt x="1161" y="143150"/>
                  </a:lnTo>
                  <a:lnTo>
                    <a:pt x="774" y="148774"/>
                  </a:lnTo>
                  <a:lnTo>
                    <a:pt x="517" y="154216"/>
                  </a:lnTo>
                  <a:lnTo>
                    <a:pt x="230" y="164778"/>
                  </a:lnTo>
                  <a:lnTo>
                    <a:pt x="4" y="208964"/>
                  </a:lnTo>
                  <a:lnTo>
                    <a:pt x="0" y="2286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SMARTInkAnnotation70"/>
            <p:cNvSpPr/>
            <p:nvPr/>
          </p:nvSpPr>
          <p:spPr>
            <a:xfrm>
              <a:off x="7048440" y="2788200"/>
              <a:ext cx="236160" cy="6084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36221" h="60961">
                  <a:moveTo>
                    <a:pt x="0" y="60960"/>
                  </a:moveTo>
                  <a:lnTo>
                    <a:pt x="4045" y="60960"/>
                  </a:lnTo>
                  <a:lnTo>
                    <a:pt x="6083" y="60113"/>
                  </a:lnTo>
                  <a:lnTo>
                    <a:pt x="8289" y="58702"/>
                  </a:lnTo>
                  <a:lnTo>
                    <a:pt x="10606" y="56915"/>
                  </a:lnTo>
                  <a:lnTo>
                    <a:pt x="12998" y="55723"/>
                  </a:lnTo>
                  <a:lnTo>
                    <a:pt x="17913" y="54399"/>
                  </a:lnTo>
                  <a:lnTo>
                    <a:pt x="25178" y="53811"/>
                  </a:lnTo>
                  <a:lnTo>
                    <a:pt x="29485" y="53654"/>
                  </a:lnTo>
                  <a:lnTo>
                    <a:pt x="34050" y="52703"/>
                  </a:lnTo>
                  <a:lnTo>
                    <a:pt x="38787" y="51222"/>
                  </a:lnTo>
                  <a:lnTo>
                    <a:pt x="43638" y="49388"/>
                  </a:lnTo>
                  <a:lnTo>
                    <a:pt x="49412" y="48165"/>
                  </a:lnTo>
                  <a:lnTo>
                    <a:pt x="55801" y="47350"/>
                  </a:lnTo>
                  <a:lnTo>
                    <a:pt x="62601" y="46807"/>
                  </a:lnTo>
                  <a:lnTo>
                    <a:pt x="68828" y="45598"/>
                  </a:lnTo>
                  <a:lnTo>
                    <a:pt x="74671" y="43945"/>
                  </a:lnTo>
                  <a:lnTo>
                    <a:pt x="80261" y="41997"/>
                  </a:lnTo>
                  <a:lnTo>
                    <a:pt x="86527" y="40698"/>
                  </a:lnTo>
                  <a:lnTo>
                    <a:pt x="93245" y="39832"/>
                  </a:lnTo>
                  <a:lnTo>
                    <a:pt x="100264" y="39255"/>
                  </a:lnTo>
                  <a:lnTo>
                    <a:pt x="107482" y="38870"/>
                  </a:lnTo>
                  <a:lnTo>
                    <a:pt x="122276" y="38442"/>
                  </a:lnTo>
                  <a:lnTo>
                    <a:pt x="130625" y="37482"/>
                  </a:lnTo>
                  <a:lnTo>
                    <a:pt x="139576" y="35994"/>
                  </a:lnTo>
                  <a:lnTo>
                    <a:pt x="148930" y="34156"/>
                  </a:lnTo>
                  <a:lnTo>
                    <a:pt x="157707" y="32931"/>
                  </a:lnTo>
                  <a:lnTo>
                    <a:pt x="166098" y="32114"/>
                  </a:lnTo>
                  <a:lnTo>
                    <a:pt x="174233" y="31569"/>
                  </a:lnTo>
                  <a:lnTo>
                    <a:pt x="181349" y="30360"/>
                  </a:lnTo>
                  <a:lnTo>
                    <a:pt x="187786" y="28706"/>
                  </a:lnTo>
                  <a:lnTo>
                    <a:pt x="193771" y="26758"/>
                  </a:lnTo>
                  <a:lnTo>
                    <a:pt x="199454" y="24612"/>
                  </a:lnTo>
                  <a:lnTo>
                    <a:pt x="204936" y="22335"/>
                  </a:lnTo>
                  <a:lnTo>
                    <a:pt x="210284" y="19970"/>
                  </a:lnTo>
                  <a:lnTo>
                    <a:pt x="214696" y="17547"/>
                  </a:lnTo>
                  <a:lnTo>
                    <a:pt x="218484" y="15085"/>
                  </a:lnTo>
                  <a:lnTo>
                    <a:pt x="221856" y="12596"/>
                  </a:lnTo>
                  <a:lnTo>
                    <a:pt x="224951" y="10091"/>
                  </a:lnTo>
                  <a:lnTo>
                    <a:pt x="227860" y="7574"/>
                  </a:lnTo>
                  <a:lnTo>
                    <a:pt x="2362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SMARTInkAnnotation71"/>
            <p:cNvSpPr/>
            <p:nvPr/>
          </p:nvSpPr>
          <p:spPr>
            <a:xfrm>
              <a:off x="7353360" y="2666160"/>
              <a:ext cx="198000" cy="16704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198111" h="167280">
                  <a:moveTo>
                    <a:pt x="22850" y="0"/>
                  </a:moveTo>
                  <a:lnTo>
                    <a:pt x="22850" y="11352"/>
                  </a:lnTo>
                  <a:lnTo>
                    <a:pt x="22003" y="14341"/>
                  </a:lnTo>
                  <a:lnTo>
                    <a:pt x="20592" y="18027"/>
                  </a:lnTo>
                  <a:lnTo>
                    <a:pt x="18804" y="22178"/>
                  </a:lnTo>
                  <a:lnTo>
                    <a:pt x="17613" y="25792"/>
                  </a:lnTo>
                  <a:lnTo>
                    <a:pt x="16818" y="29048"/>
                  </a:lnTo>
                  <a:lnTo>
                    <a:pt x="16288" y="32065"/>
                  </a:lnTo>
                  <a:lnTo>
                    <a:pt x="15936" y="35770"/>
                  </a:lnTo>
                  <a:lnTo>
                    <a:pt x="15701" y="39934"/>
                  </a:lnTo>
                  <a:lnTo>
                    <a:pt x="15543" y="44402"/>
                  </a:lnTo>
                  <a:lnTo>
                    <a:pt x="14593" y="49075"/>
                  </a:lnTo>
                  <a:lnTo>
                    <a:pt x="13112" y="53883"/>
                  </a:lnTo>
                  <a:lnTo>
                    <a:pt x="11278" y="58782"/>
                  </a:lnTo>
                  <a:lnTo>
                    <a:pt x="9209" y="62895"/>
                  </a:lnTo>
                  <a:lnTo>
                    <a:pt x="6982" y="66483"/>
                  </a:lnTo>
                  <a:lnTo>
                    <a:pt x="4652" y="69722"/>
                  </a:lnTo>
                  <a:lnTo>
                    <a:pt x="3098" y="73575"/>
                  </a:lnTo>
                  <a:lnTo>
                    <a:pt x="2063" y="77837"/>
                  </a:lnTo>
                  <a:lnTo>
                    <a:pt x="1371" y="82371"/>
                  </a:lnTo>
                  <a:lnTo>
                    <a:pt x="911" y="87087"/>
                  </a:lnTo>
                  <a:lnTo>
                    <a:pt x="604" y="91925"/>
                  </a:lnTo>
                  <a:lnTo>
                    <a:pt x="399" y="96843"/>
                  </a:lnTo>
                  <a:lnTo>
                    <a:pt x="172" y="106824"/>
                  </a:lnTo>
                  <a:lnTo>
                    <a:pt x="0" y="131643"/>
                  </a:lnTo>
                  <a:lnTo>
                    <a:pt x="844" y="135175"/>
                  </a:lnTo>
                  <a:lnTo>
                    <a:pt x="2252" y="139223"/>
                  </a:lnTo>
                  <a:lnTo>
                    <a:pt x="4038" y="143616"/>
                  </a:lnTo>
                  <a:lnTo>
                    <a:pt x="6075" y="147390"/>
                  </a:lnTo>
                  <a:lnTo>
                    <a:pt x="8281" y="150754"/>
                  </a:lnTo>
                  <a:lnTo>
                    <a:pt x="13857" y="158190"/>
                  </a:lnTo>
                  <a:lnTo>
                    <a:pt x="19136" y="161464"/>
                  </a:lnTo>
                  <a:lnTo>
                    <a:pt x="22914" y="163523"/>
                  </a:lnTo>
                  <a:lnTo>
                    <a:pt x="26280" y="164895"/>
                  </a:lnTo>
                  <a:lnTo>
                    <a:pt x="32276" y="166420"/>
                  </a:lnTo>
                  <a:lnTo>
                    <a:pt x="36754" y="166827"/>
                  </a:lnTo>
                  <a:lnTo>
                    <a:pt x="42280" y="167098"/>
                  </a:lnTo>
                  <a:lnTo>
                    <a:pt x="48503" y="167279"/>
                  </a:lnTo>
                  <a:lnTo>
                    <a:pt x="54346" y="166552"/>
                  </a:lnTo>
                  <a:lnTo>
                    <a:pt x="59934" y="165222"/>
                  </a:lnTo>
                  <a:lnTo>
                    <a:pt x="65353" y="163488"/>
                  </a:lnTo>
                  <a:lnTo>
                    <a:pt x="71505" y="162332"/>
                  </a:lnTo>
                  <a:lnTo>
                    <a:pt x="78147" y="161561"/>
                  </a:lnTo>
                  <a:lnTo>
                    <a:pt x="85114" y="161047"/>
                  </a:lnTo>
                  <a:lnTo>
                    <a:pt x="92300" y="159858"/>
                  </a:lnTo>
                  <a:lnTo>
                    <a:pt x="99630" y="158219"/>
                  </a:lnTo>
                  <a:lnTo>
                    <a:pt x="107056" y="156279"/>
                  </a:lnTo>
                  <a:lnTo>
                    <a:pt x="114547" y="154986"/>
                  </a:lnTo>
                  <a:lnTo>
                    <a:pt x="122082" y="154124"/>
                  </a:lnTo>
                  <a:lnTo>
                    <a:pt x="129644" y="153550"/>
                  </a:lnTo>
                  <a:lnTo>
                    <a:pt x="136380" y="151473"/>
                  </a:lnTo>
                  <a:lnTo>
                    <a:pt x="142563" y="148395"/>
                  </a:lnTo>
                  <a:lnTo>
                    <a:pt x="148379" y="144650"/>
                  </a:lnTo>
                  <a:lnTo>
                    <a:pt x="153949" y="142154"/>
                  </a:lnTo>
                  <a:lnTo>
                    <a:pt x="159356" y="140489"/>
                  </a:lnTo>
                  <a:lnTo>
                    <a:pt x="164654" y="139379"/>
                  </a:lnTo>
                  <a:lnTo>
                    <a:pt x="169879" y="136946"/>
                  </a:lnTo>
                  <a:lnTo>
                    <a:pt x="175056" y="133631"/>
                  </a:lnTo>
                  <a:lnTo>
                    <a:pt x="187441" y="124233"/>
                  </a:lnTo>
                  <a:lnTo>
                    <a:pt x="191393" y="120690"/>
                  </a:lnTo>
                  <a:lnTo>
                    <a:pt x="198110" y="1143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SMARTInkAnnotation72"/>
            <p:cNvSpPr/>
            <p:nvPr/>
          </p:nvSpPr>
          <p:spPr>
            <a:xfrm>
              <a:off x="7567560" y="2673720"/>
              <a:ext cx="37080" cy="2588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7328" h="259081">
                  <a:moveTo>
                    <a:pt x="6847" y="0"/>
                  </a:moveTo>
                  <a:lnTo>
                    <a:pt x="6847" y="4046"/>
                  </a:lnTo>
                  <a:lnTo>
                    <a:pt x="7694" y="5237"/>
                  </a:lnTo>
                  <a:lnTo>
                    <a:pt x="9105" y="6031"/>
                  </a:lnTo>
                  <a:lnTo>
                    <a:pt x="10893" y="6561"/>
                  </a:lnTo>
                  <a:lnTo>
                    <a:pt x="11238" y="7760"/>
                  </a:lnTo>
                  <a:lnTo>
                    <a:pt x="10621" y="9407"/>
                  </a:lnTo>
                  <a:lnTo>
                    <a:pt x="9363" y="11352"/>
                  </a:lnTo>
                  <a:lnTo>
                    <a:pt x="8524" y="13494"/>
                  </a:lnTo>
                  <a:lnTo>
                    <a:pt x="7592" y="18133"/>
                  </a:lnTo>
                  <a:lnTo>
                    <a:pt x="7068" y="25505"/>
                  </a:lnTo>
                  <a:lnTo>
                    <a:pt x="6148" y="28857"/>
                  </a:lnTo>
                  <a:lnTo>
                    <a:pt x="4688" y="32785"/>
                  </a:lnTo>
                  <a:lnTo>
                    <a:pt x="2867" y="37097"/>
                  </a:lnTo>
                  <a:lnTo>
                    <a:pt x="1654" y="42511"/>
                  </a:lnTo>
                  <a:lnTo>
                    <a:pt x="846" y="48661"/>
                  </a:lnTo>
                  <a:lnTo>
                    <a:pt x="307" y="55301"/>
                  </a:lnTo>
                  <a:lnTo>
                    <a:pt x="793" y="61420"/>
                  </a:lnTo>
                  <a:lnTo>
                    <a:pt x="1965" y="67193"/>
                  </a:lnTo>
                  <a:lnTo>
                    <a:pt x="3592" y="72736"/>
                  </a:lnTo>
                  <a:lnTo>
                    <a:pt x="3830" y="78124"/>
                  </a:lnTo>
                  <a:lnTo>
                    <a:pt x="3144" y="83409"/>
                  </a:lnTo>
                  <a:lnTo>
                    <a:pt x="1838" y="88626"/>
                  </a:lnTo>
                  <a:lnTo>
                    <a:pt x="968" y="94644"/>
                  </a:lnTo>
                  <a:lnTo>
                    <a:pt x="387" y="101196"/>
                  </a:lnTo>
                  <a:lnTo>
                    <a:pt x="0" y="108104"/>
                  </a:lnTo>
                  <a:lnTo>
                    <a:pt x="589" y="115250"/>
                  </a:lnTo>
                  <a:lnTo>
                    <a:pt x="1828" y="122553"/>
                  </a:lnTo>
                  <a:lnTo>
                    <a:pt x="3502" y="129962"/>
                  </a:lnTo>
                  <a:lnTo>
                    <a:pt x="4616" y="136595"/>
                  </a:lnTo>
                  <a:lnTo>
                    <a:pt x="5360" y="142710"/>
                  </a:lnTo>
                  <a:lnTo>
                    <a:pt x="5856" y="148480"/>
                  </a:lnTo>
                  <a:lnTo>
                    <a:pt x="6186" y="154020"/>
                  </a:lnTo>
                  <a:lnTo>
                    <a:pt x="6554" y="164691"/>
                  </a:lnTo>
                  <a:lnTo>
                    <a:pt x="6821" y="202105"/>
                  </a:lnTo>
                  <a:lnTo>
                    <a:pt x="7677" y="207550"/>
                  </a:lnTo>
                  <a:lnTo>
                    <a:pt x="9094" y="212873"/>
                  </a:lnTo>
                  <a:lnTo>
                    <a:pt x="10885" y="218115"/>
                  </a:lnTo>
                  <a:lnTo>
                    <a:pt x="12079" y="222457"/>
                  </a:lnTo>
                  <a:lnTo>
                    <a:pt x="12875" y="226198"/>
                  </a:lnTo>
                  <a:lnTo>
                    <a:pt x="13406" y="229539"/>
                  </a:lnTo>
                  <a:lnTo>
                    <a:pt x="14606" y="233459"/>
                  </a:lnTo>
                  <a:lnTo>
                    <a:pt x="16253" y="237766"/>
                  </a:lnTo>
                  <a:lnTo>
                    <a:pt x="18198" y="242331"/>
                  </a:lnTo>
                  <a:lnTo>
                    <a:pt x="20341" y="245374"/>
                  </a:lnTo>
                  <a:lnTo>
                    <a:pt x="22616" y="247403"/>
                  </a:lnTo>
                  <a:lnTo>
                    <a:pt x="24980" y="248755"/>
                  </a:lnTo>
                  <a:lnTo>
                    <a:pt x="26555" y="250504"/>
                  </a:lnTo>
                  <a:lnTo>
                    <a:pt x="27606" y="252516"/>
                  </a:lnTo>
                  <a:lnTo>
                    <a:pt x="28306" y="254704"/>
                  </a:lnTo>
                  <a:lnTo>
                    <a:pt x="29620" y="256163"/>
                  </a:lnTo>
                  <a:lnTo>
                    <a:pt x="31342" y="257135"/>
                  </a:lnTo>
                  <a:lnTo>
                    <a:pt x="37327" y="2590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SMARTInkAnnotation73"/>
            <p:cNvSpPr/>
            <p:nvPr/>
          </p:nvSpPr>
          <p:spPr>
            <a:xfrm>
              <a:off x="7902000" y="2498760"/>
              <a:ext cx="22680" cy="78480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784800"/>
                <a:gd name="textAreaBottom" fmla="*/ 785160 h 784800"/>
              </a:gdLst>
              <a:ahLst/>
              <a:rect l="textAreaLeft" t="textAreaTop" r="textAreaRight" b="textAreaBottom"/>
              <a:pathLst>
                <a:path w="22861" h="784861">
                  <a:moveTo>
                    <a:pt x="15240" y="0"/>
                  </a:moveTo>
                  <a:lnTo>
                    <a:pt x="19286" y="4045"/>
                  </a:lnTo>
                  <a:lnTo>
                    <a:pt x="20477" y="6084"/>
                  </a:lnTo>
                  <a:lnTo>
                    <a:pt x="21272" y="8289"/>
                  </a:lnTo>
                  <a:lnTo>
                    <a:pt x="21802" y="10606"/>
                  </a:lnTo>
                  <a:lnTo>
                    <a:pt x="22389" y="15438"/>
                  </a:lnTo>
                  <a:lnTo>
                    <a:pt x="22819" y="38787"/>
                  </a:lnTo>
                  <a:lnTo>
                    <a:pt x="22860" y="148866"/>
                  </a:lnTo>
                  <a:lnTo>
                    <a:pt x="22014" y="159357"/>
                  </a:lnTo>
                  <a:lnTo>
                    <a:pt x="20602" y="170585"/>
                  </a:lnTo>
                  <a:lnTo>
                    <a:pt x="18815" y="182303"/>
                  </a:lnTo>
                  <a:lnTo>
                    <a:pt x="17623" y="193502"/>
                  </a:lnTo>
                  <a:lnTo>
                    <a:pt x="16829" y="204355"/>
                  </a:lnTo>
                  <a:lnTo>
                    <a:pt x="16299" y="214977"/>
                  </a:lnTo>
                  <a:lnTo>
                    <a:pt x="15100" y="226291"/>
                  </a:lnTo>
                  <a:lnTo>
                    <a:pt x="13454" y="238067"/>
                  </a:lnTo>
                  <a:lnTo>
                    <a:pt x="11510" y="250152"/>
                  </a:lnTo>
                  <a:lnTo>
                    <a:pt x="10213" y="261595"/>
                  </a:lnTo>
                  <a:lnTo>
                    <a:pt x="9348" y="272610"/>
                  </a:lnTo>
                  <a:lnTo>
                    <a:pt x="8772" y="283340"/>
                  </a:lnTo>
                  <a:lnTo>
                    <a:pt x="8132" y="308809"/>
                  </a:lnTo>
                  <a:lnTo>
                    <a:pt x="7962" y="322713"/>
                  </a:lnTo>
                  <a:lnTo>
                    <a:pt x="7001" y="336215"/>
                  </a:lnTo>
                  <a:lnTo>
                    <a:pt x="5515" y="349450"/>
                  </a:lnTo>
                  <a:lnTo>
                    <a:pt x="3677" y="362507"/>
                  </a:lnTo>
                  <a:lnTo>
                    <a:pt x="2451" y="376291"/>
                  </a:lnTo>
                  <a:lnTo>
                    <a:pt x="1633" y="390561"/>
                  </a:lnTo>
                  <a:lnTo>
                    <a:pt x="726" y="419116"/>
                  </a:lnTo>
                  <a:lnTo>
                    <a:pt x="144" y="474199"/>
                  </a:lnTo>
                  <a:lnTo>
                    <a:pt x="0" y="672645"/>
                  </a:lnTo>
                  <a:lnTo>
                    <a:pt x="847" y="682110"/>
                  </a:lnTo>
                  <a:lnTo>
                    <a:pt x="2259" y="690960"/>
                  </a:lnTo>
                  <a:lnTo>
                    <a:pt x="4046" y="699400"/>
                  </a:lnTo>
                  <a:lnTo>
                    <a:pt x="5237" y="707567"/>
                  </a:lnTo>
                  <a:lnTo>
                    <a:pt x="6032" y="715552"/>
                  </a:lnTo>
                  <a:lnTo>
                    <a:pt x="6562" y="723414"/>
                  </a:lnTo>
                  <a:lnTo>
                    <a:pt x="7761" y="731196"/>
                  </a:lnTo>
                  <a:lnTo>
                    <a:pt x="9407" y="738924"/>
                  </a:lnTo>
                  <a:lnTo>
                    <a:pt x="11351" y="746616"/>
                  </a:lnTo>
                  <a:lnTo>
                    <a:pt x="12648" y="753438"/>
                  </a:lnTo>
                  <a:lnTo>
                    <a:pt x="13512" y="759678"/>
                  </a:lnTo>
                  <a:lnTo>
                    <a:pt x="14088" y="765533"/>
                  </a:lnTo>
                  <a:lnTo>
                    <a:pt x="15319" y="769435"/>
                  </a:lnTo>
                  <a:lnTo>
                    <a:pt x="16985" y="772037"/>
                  </a:lnTo>
                  <a:lnTo>
                    <a:pt x="18944" y="773771"/>
                  </a:lnTo>
                  <a:lnTo>
                    <a:pt x="20249" y="775775"/>
                  </a:lnTo>
                  <a:lnTo>
                    <a:pt x="21120" y="777956"/>
                  </a:lnTo>
                  <a:lnTo>
                    <a:pt x="22860" y="7848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SMARTInkAnnotation74"/>
            <p:cNvSpPr/>
            <p:nvPr/>
          </p:nvSpPr>
          <p:spPr>
            <a:xfrm>
              <a:off x="5798880" y="2529000"/>
              <a:ext cx="19080" cy="594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94360"/>
                <a:gd name="textAreaBottom" fmla="*/ 594720 h 594360"/>
              </a:gdLst>
              <a:ahLst/>
              <a:rect l="textAreaLeft" t="textAreaTop" r="textAreaRight" b="textAreaBottom"/>
              <a:pathLst>
                <a:path w="19190" h="594361">
                  <a:moveTo>
                    <a:pt x="0" y="0"/>
                  </a:moveTo>
                  <a:lnTo>
                    <a:pt x="4045" y="8090"/>
                  </a:lnTo>
                  <a:lnTo>
                    <a:pt x="5237" y="11320"/>
                  </a:lnTo>
                  <a:lnTo>
                    <a:pt x="6031" y="14320"/>
                  </a:lnTo>
                  <a:lnTo>
                    <a:pt x="6561" y="17167"/>
                  </a:lnTo>
                  <a:lnTo>
                    <a:pt x="7149" y="24845"/>
                  </a:lnTo>
                  <a:lnTo>
                    <a:pt x="7306" y="29263"/>
                  </a:lnTo>
                  <a:lnTo>
                    <a:pt x="8258" y="33902"/>
                  </a:lnTo>
                  <a:lnTo>
                    <a:pt x="9739" y="38688"/>
                  </a:lnTo>
                  <a:lnTo>
                    <a:pt x="11572" y="43572"/>
                  </a:lnTo>
                  <a:lnTo>
                    <a:pt x="12795" y="48521"/>
                  </a:lnTo>
                  <a:lnTo>
                    <a:pt x="13610" y="53514"/>
                  </a:lnTo>
                  <a:lnTo>
                    <a:pt x="14153" y="58536"/>
                  </a:lnTo>
                  <a:lnTo>
                    <a:pt x="14757" y="70889"/>
                  </a:lnTo>
                  <a:lnTo>
                    <a:pt x="14919" y="77739"/>
                  </a:lnTo>
                  <a:lnTo>
                    <a:pt x="15872" y="84847"/>
                  </a:lnTo>
                  <a:lnTo>
                    <a:pt x="17355" y="92124"/>
                  </a:lnTo>
                  <a:lnTo>
                    <a:pt x="19189" y="99516"/>
                  </a:lnTo>
                  <a:lnTo>
                    <a:pt x="18971" y="114503"/>
                  </a:lnTo>
                  <a:lnTo>
                    <a:pt x="17728" y="122055"/>
                  </a:lnTo>
                  <a:lnTo>
                    <a:pt x="16897" y="129630"/>
                  </a:lnTo>
                  <a:lnTo>
                    <a:pt x="16346" y="137220"/>
                  </a:lnTo>
                  <a:lnTo>
                    <a:pt x="15977" y="144820"/>
                  </a:lnTo>
                  <a:lnTo>
                    <a:pt x="15567" y="160038"/>
                  </a:lnTo>
                  <a:lnTo>
                    <a:pt x="15458" y="167652"/>
                  </a:lnTo>
                  <a:lnTo>
                    <a:pt x="14538" y="176115"/>
                  </a:lnTo>
                  <a:lnTo>
                    <a:pt x="13079" y="185143"/>
                  </a:lnTo>
                  <a:lnTo>
                    <a:pt x="11259" y="194549"/>
                  </a:lnTo>
                  <a:lnTo>
                    <a:pt x="10046" y="204206"/>
                  </a:lnTo>
                  <a:lnTo>
                    <a:pt x="9237" y="214031"/>
                  </a:lnTo>
                  <a:lnTo>
                    <a:pt x="8699" y="223967"/>
                  </a:lnTo>
                  <a:lnTo>
                    <a:pt x="7492" y="233978"/>
                  </a:lnTo>
                  <a:lnTo>
                    <a:pt x="5842" y="244039"/>
                  </a:lnTo>
                  <a:lnTo>
                    <a:pt x="3894" y="254132"/>
                  </a:lnTo>
                  <a:lnTo>
                    <a:pt x="2596" y="263402"/>
                  </a:lnTo>
                  <a:lnTo>
                    <a:pt x="1731" y="272121"/>
                  </a:lnTo>
                  <a:lnTo>
                    <a:pt x="1154" y="280474"/>
                  </a:lnTo>
                  <a:lnTo>
                    <a:pt x="770" y="289429"/>
                  </a:lnTo>
                  <a:lnTo>
                    <a:pt x="342" y="308411"/>
                  </a:lnTo>
                  <a:lnTo>
                    <a:pt x="1" y="483660"/>
                  </a:lnTo>
                  <a:lnTo>
                    <a:pt x="847" y="492620"/>
                  </a:lnTo>
                  <a:lnTo>
                    <a:pt x="2258" y="501133"/>
                  </a:lnTo>
                  <a:lnTo>
                    <a:pt x="4045" y="509349"/>
                  </a:lnTo>
                  <a:lnTo>
                    <a:pt x="5237" y="517366"/>
                  </a:lnTo>
                  <a:lnTo>
                    <a:pt x="6031" y="525251"/>
                  </a:lnTo>
                  <a:lnTo>
                    <a:pt x="6561" y="533047"/>
                  </a:lnTo>
                  <a:lnTo>
                    <a:pt x="7761" y="540785"/>
                  </a:lnTo>
                  <a:lnTo>
                    <a:pt x="9408" y="548483"/>
                  </a:lnTo>
                  <a:lnTo>
                    <a:pt x="11351" y="556156"/>
                  </a:lnTo>
                  <a:lnTo>
                    <a:pt x="12647" y="562117"/>
                  </a:lnTo>
                  <a:lnTo>
                    <a:pt x="13512" y="566938"/>
                  </a:lnTo>
                  <a:lnTo>
                    <a:pt x="14088" y="570999"/>
                  </a:lnTo>
                  <a:lnTo>
                    <a:pt x="14472" y="575399"/>
                  </a:lnTo>
                  <a:lnTo>
                    <a:pt x="14728" y="580026"/>
                  </a:lnTo>
                  <a:lnTo>
                    <a:pt x="15240" y="5943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SMARTInkAnnotation75"/>
            <p:cNvSpPr/>
            <p:nvPr/>
          </p:nvSpPr>
          <p:spPr>
            <a:xfrm>
              <a:off x="5830560" y="3397680"/>
              <a:ext cx="44640" cy="3884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44651" h="388621">
                  <a:moveTo>
                    <a:pt x="44650" y="0"/>
                  </a:moveTo>
                  <a:lnTo>
                    <a:pt x="44650" y="51184"/>
                  </a:lnTo>
                  <a:lnTo>
                    <a:pt x="43804" y="56136"/>
                  </a:lnTo>
                  <a:lnTo>
                    <a:pt x="42393" y="61131"/>
                  </a:lnTo>
                  <a:lnTo>
                    <a:pt x="40605" y="66154"/>
                  </a:lnTo>
                  <a:lnTo>
                    <a:pt x="39414" y="71196"/>
                  </a:lnTo>
                  <a:lnTo>
                    <a:pt x="38089" y="81314"/>
                  </a:lnTo>
                  <a:lnTo>
                    <a:pt x="37501" y="91455"/>
                  </a:lnTo>
                  <a:lnTo>
                    <a:pt x="36393" y="103300"/>
                  </a:lnTo>
                  <a:lnTo>
                    <a:pt x="34912" y="111200"/>
                  </a:lnTo>
                  <a:lnTo>
                    <a:pt x="33078" y="119853"/>
                  </a:lnTo>
                  <a:lnTo>
                    <a:pt x="31009" y="127316"/>
                  </a:lnTo>
                  <a:lnTo>
                    <a:pt x="28783" y="133984"/>
                  </a:lnTo>
                  <a:lnTo>
                    <a:pt x="26452" y="140123"/>
                  </a:lnTo>
                  <a:lnTo>
                    <a:pt x="24898" y="146755"/>
                  </a:lnTo>
                  <a:lnTo>
                    <a:pt x="23862" y="153717"/>
                  </a:lnTo>
                  <a:lnTo>
                    <a:pt x="23172" y="160898"/>
                  </a:lnTo>
                  <a:lnTo>
                    <a:pt x="21865" y="168225"/>
                  </a:lnTo>
                  <a:lnTo>
                    <a:pt x="20147" y="175650"/>
                  </a:lnTo>
                  <a:lnTo>
                    <a:pt x="18155" y="183140"/>
                  </a:lnTo>
                  <a:lnTo>
                    <a:pt x="13683" y="198236"/>
                  </a:lnTo>
                  <a:lnTo>
                    <a:pt x="11306" y="205817"/>
                  </a:lnTo>
                  <a:lnTo>
                    <a:pt x="9720" y="213411"/>
                  </a:lnTo>
                  <a:lnTo>
                    <a:pt x="8664" y="221014"/>
                  </a:lnTo>
                  <a:lnTo>
                    <a:pt x="7959" y="228623"/>
                  </a:lnTo>
                  <a:lnTo>
                    <a:pt x="7490" y="236235"/>
                  </a:lnTo>
                  <a:lnTo>
                    <a:pt x="6968" y="251467"/>
                  </a:lnTo>
                  <a:lnTo>
                    <a:pt x="6674" y="274322"/>
                  </a:lnTo>
                  <a:lnTo>
                    <a:pt x="5786" y="281941"/>
                  </a:lnTo>
                  <a:lnTo>
                    <a:pt x="4348" y="289561"/>
                  </a:lnTo>
                  <a:lnTo>
                    <a:pt x="2542" y="297180"/>
                  </a:lnTo>
                  <a:lnTo>
                    <a:pt x="1338" y="303954"/>
                  </a:lnTo>
                  <a:lnTo>
                    <a:pt x="0" y="315995"/>
                  </a:lnTo>
                  <a:lnTo>
                    <a:pt x="490" y="321577"/>
                  </a:lnTo>
                  <a:lnTo>
                    <a:pt x="1664" y="326991"/>
                  </a:lnTo>
                  <a:lnTo>
                    <a:pt x="3293" y="332294"/>
                  </a:lnTo>
                  <a:lnTo>
                    <a:pt x="4379" y="337523"/>
                  </a:lnTo>
                  <a:lnTo>
                    <a:pt x="5586" y="347848"/>
                  </a:lnTo>
                  <a:lnTo>
                    <a:pt x="6754" y="352972"/>
                  </a:lnTo>
                  <a:lnTo>
                    <a:pt x="8379" y="358081"/>
                  </a:lnTo>
                  <a:lnTo>
                    <a:pt x="10310" y="363181"/>
                  </a:lnTo>
                  <a:lnTo>
                    <a:pt x="11597" y="368274"/>
                  </a:lnTo>
                  <a:lnTo>
                    <a:pt x="12454" y="373363"/>
                  </a:lnTo>
                  <a:lnTo>
                    <a:pt x="14171" y="388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SMARTInkAnnotation76"/>
            <p:cNvSpPr/>
            <p:nvPr/>
          </p:nvSpPr>
          <p:spPr>
            <a:xfrm>
              <a:off x="6141960" y="3542760"/>
              <a:ext cx="243720" cy="75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43841" h="7618">
                  <a:moveTo>
                    <a:pt x="0" y="7617"/>
                  </a:moveTo>
                  <a:lnTo>
                    <a:pt x="17167" y="7617"/>
                  </a:lnTo>
                  <a:lnTo>
                    <a:pt x="20758" y="6771"/>
                  </a:lnTo>
                  <a:lnTo>
                    <a:pt x="24845" y="5359"/>
                  </a:lnTo>
                  <a:lnTo>
                    <a:pt x="29264" y="3572"/>
                  </a:lnTo>
                  <a:lnTo>
                    <a:pt x="34749" y="2381"/>
                  </a:lnTo>
                  <a:lnTo>
                    <a:pt x="40946" y="1586"/>
                  </a:lnTo>
                  <a:lnTo>
                    <a:pt x="47617" y="1057"/>
                  </a:lnTo>
                  <a:lnTo>
                    <a:pt x="53758" y="703"/>
                  </a:lnTo>
                  <a:lnTo>
                    <a:pt x="65097" y="311"/>
                  </a:lnTo>
                  <a:lnTo>
                    <a:pt x="99606" y="38"/>
                  </a:lnTo>
                  <a:lnTo>
                    <a:pt x="148387" y="0"/>
                  </a:lnTo>
                  <a:lnTo>
                    <a:pt x="153958" y="845"/>
                  </a:lnTo>
                  <a:lnTo>
                    <a:pt x="159366" y="2256"/>
                  </a:lnTo>
                  <a:lnTo>
                    <a:pt x="164663" y="4043"/>
                  </a:lnTo>
                  <a:lnTo>
                    <a:pt x="170735" y="5235"/>
                  </a:lnTo>
                  <a:lnTo>
                    <a:pt x="177324" y="6029"/>
                  </a:lnTo>
                  <a:lnTo>
                    <a:pt x="189724" y="6911"/>
                  </a:lnTo>
                  <a:lnTo>
                    <a:pt x="198057" y="7303"/>
                  </a:lnTo>
                  <a:lnTo>
                    <a:pt x="204583" y="7478"/>
                  </a:lnTo>
                  <a:lnTo>
                    <a:pt x="219134" y="7598"/>
                  </a:lnTo>
                  <a:lnTo>
                    <a:pt x="243840" y="761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SMARTInkAnnotation77"/>
            <p:cNvSpPr/>
            <p:nvPr/>
          </p:nvSpPr>
          <p:spPr>
            <a:xfrm>
              <a:off x="6507720" y="3397680"/>
              <a:ext cx="228240" cy="2894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228488" h="289561">
                  <a:moveTo>
                    <a:pt x="53227" y="0"/>
                  </a:moveTo>
                  <a:lnTo>
                    <a:pt x="53227" y="14652"/>
                  </a:lnTo>
                  <a:lnTo>
                    <a:pt x="52380" y="18234"/>
                  </a:lnTo>
                  <a:lnTo>
                    <a:pt x="49182" y="24473"/>
                  </a:lnTo>
                  <a:lnTo>
                    <a:pt x="44938" y="32326"/>
                  </a:lnTo>
                  <a:lnTo>
                    <a:pt x="42620" y="36791"/>
                  </a:lnTo>
                  <a:lnTo>
                    <a:pt x="40230" y="42307"/>
                  </a:lnTo>
                  <a:lnTo>
                    <a:pt x="37788" y="48525"/>
                  </a:lnTo>
                  <a:lnTo>
                    <a:pt x="35314" y="55210"/>
                  </a:lnTo>
                  <a:lnTo>
                    <a:pt x="32819" y="61360"/>
                  </a:lnTo>
                  <a:lnTo>
                    <a:pt x="30309" y="67153"/>
                  </a:lnTo>
                  <a:lnTo>
                    <a:pt x="27788" y="72709"/>
                  </a:lnTo>
                  <a:lnTo>
                    <a:pt x="24414" y="78953"/>
                  </a:lnTo>
                  <a:lnTo>
                    <a:pt x="20472" y="85655"/>
                  </a:lnTo>
                  <a:lnTo>
                    <a:pt x="16150" y="92664"/>
                  </a:lnTo>
                  <a:lnTo>
                    <a:pt x="13269" y="99875"/>
                  </a:lnTo>
                  <a:lnTo>
                    <a:pt x="11348" y="107224"/>
                  </a:lnTo>
                  <a:lnTo>
                    <a:pt x="10068" y="114663"/>
                  </a:lnTo>
                  <a:lnTo>
                    <a:pt x="8367" y="122162"/>
                  </a:lnTo>
                  <a:lnTo>
                    <a:pt x="6388" y="129701"/>
                  </a:lnTo>
                  <a:lnTo>
                    <a:pt x="4220" y="137268"/>
                  </a:lnTo>
                  <a:lnTo>
                    <a:pt x="2776" y="144852"/>
                  </a:lnTo>
                  <a:lnTo>
                    <a:pt x="1813" y="152448"/>
                  </a:lnTo>
                  <a:lnTo>
                    <a:pt x="1171" y="160052"/>
                  </a:lnTo>
                  <a:lnTo>
                    <a:pt x="743" y="166815"/>
                  </a:lnTo>
                  <a:lnTo>
                    <a:pt x="267" y="178844"/>
                  </a:lnTo>
                  <a:lnTo>
                    <a:pt x="0" y="199182"/>
                  </a:lnTo>
                  <a:lnTo>
                    <a:pt x="809" y="205601"/>
                  </a:lnTo>
                  <a:lnTo>
                    <a:pt x="2195" y="211574"/>
                  </a:lnTo>
                  <a:lnTo>
                    <a:pt x="3965" y="217250"/>
                  </a:lnTo>
                  <a:lnTo>
                    <a:pt x="6839" y="222726"/>
                  </a:lnTo>
                  <a:lnTo>
                    <a:pt x="10449" y="228071"/>
                  </a:lnTo>
                  <a:lnTo>
                    <a:pt x="14548" y="233327"/>
                  </a:lnTo>
                  <a:lnTo>
                    <a:pt x="18975" y="238525"/>
                  </a:lnTo>
                  <a:lnTo>
                    <a:pt x="23618" y="243683"/>
                  </a:lnTo>
                  <a:lnTo>
                    <a:pt x="28407" y="248816"/>
                  </a:lnTo>
                  <a:lnTo>
                    <a:pt x="33295" y="253084"/>
                  </a:lnTo>
                  <a:lnTo>
                    <a:pt x="38245" y="256775"/>
                  </a:lnTo>
                  <a:lnTo>
                    <a:pt x="43239" y="260084"/>
                  </a:lnTo>
                  <a:lnTo>
                    <a:pt x="48262" y="263136"/>
                  </a:lnTo>
                  <a:lnTo>
                    <a:pt x="53303" y="266017"/>
                  </a:lnTo>
                  <a:lnTo>
                    <a:pt x="58358" y="268785"/>
                  </a:lnTo>
                  <a:lnTo>
                    <a:pt x="64267" y="270630"/>
                  </a:lnTo>
                  <a:lnTo>
                    <a:pt x="70747" y="271860"/>
                  </a:lnTo>
                  <a:lnTo>
                    <a:pt x="77607" y="272680"/>
                  </a:lnTo>
                  <a:lnTo>
                    <a:pt x="83874" y="272380"/>
                  </a:lnTo>
                  <a:lnTo>
                    <a:pt x="89745" y="271333"/>
                  </a:lnTo>
                  <a:lnTo>
                    <a:pt x="95352" y="269789"/>
                  </a:lnTo>
                  <a:lnTo>
                    <a:pt x="100784" y="268759"/>
                  </a:lnTo>
                  <a:lnTo>
                    <a:pt x="106098" y="268073"/>
                  </a:lnTo>
                  <a:lnTo>
                    <a:pt x="111335" y="267615"/>
                  </a:lnTo>
                  <a:lnTo>
                    <a:pt x="116518" y="266463"/>
                  </a:lnTo>
                  <a:lnTo>
                    <a:pt x="121667" y="264849"/>
                  </a:lnTo>
                  <a:lnTo>
                    <a:pt x="126794" y="262926"/>
                  </a:lnTo>
                  <a:lnTo>
                    <a:pt x="131906" y="259950"/>
                  </a:lnTo>
                  <a:lnTo>
                    <a:pt x="137005" y="256274"/>
                  </a:lnTo>
                  <a:lnTo>
                    <a:pt x="142099" y="252129"/>
                  </a:lnTo>
                  <a:lnTo>
                    <a:pt x="146342" y="247673"/>
                  </a:lnTo>
                  <a:lnTo>
                    <a:pt x="150018" y="243009"/>
                  </a:lnTo>
                  <a:lnTo>
                    <a:pt x="156358" y="234157"/>
                  </a:lnTo>
                  <a:lnTo>
                    <a:pt x="161999" y="227401"/>
                  </a:lnTo>
                  <a:lnTo>
                    <a:pt x="167328" y="219318"/>
                  </a:lnTo>
                  <a:lnTo>
                    <a:pt x="171672" y="210928"/>
                  </a:lnTo>
                  <a:lnTo>
                    <a:pt x="173603" y="204377"/>
                  </a:lnTo>
                  <a:lnTo>
                    <a:pt x="174689" y="195929"/>
                  </a:lnTo>
                  <a:lnTo>
                    <a:pt x="172686" y="188397"/>
                  </a:lnTo>
                  <a:lnTo>
                    <a:pt x="170966" y="184018"/>
                  </a:lnTo>
                  <a:lnTo>
                    <a:pt x="168973" y="181099"/>
                  </a:lnTo>
                  <a:lnTo>
                    <a:pt x="166798" y="179152"/>
                  </a:lnTo>
                  <a:lnTo>
                    <a:pt x="161276" y="176143"/>
                  </a:lnTo>
                  <a:lnTo>
                    <a:pt x="147188" y="168927"/>
                  </a:lnTo>
                  <a:lnTo>
                    <a:pt x="143530" y="168212"/>
                  </a:lnTo>
                  <a:lnTo>
                    <a:pt x="136710" y="167810"/>
                  </a:lnTo>
                  <a:lnTo>
                    <a:pt x="134282" y="167753"/>
                  </a:lnTo>
                  <a:lnTo>
                    <a:pt x="131817" y="168562"/>
                  </a:lnTo>
                  <a:lnTo>
                    <a:pt x="126820" y="171719"/>
                  </a:lnTo>
                  <a:lnTo>
                    <a:pt x="121778" y="175944"/>
                  </a:lnTo>
                  <a:lnTo>
                    <a:pt x="116714" y="180644"/>
                  </a:lnTo>
                  <a:lnTo>
                    <a:pt x="111641" y="185555"/>
                  </a:lnTo>
                  <a:lnTo>
                    <a:pt x="109950" y="188897"/>
                  </a:lnTo>
                  <a:lnTo>
                    <a:pt x="108070" y="197125"/>
                  </a:lnTo>
                  <a:lnTo>
                    <a:pt x="104977" y="204169"/>
                  </a:lnTo>
                  <a:lnTo>
                    <a:pt x="102967" y="207233"/>
                  </a:lnTo>
                  <a:lnTo>
                    <a:pt x="100734" y="215152"/>
                  </a:lnTo>
                  <a:lnTo>
                    <a:pt x="100138" y="219635"/>
                  </a:lnTo>
                  <a:lnTo>
                    <a:pt x="100588" y="223470"/>
                  </a:lnTo>
                  <a:lnTo>
                    <a:pt x="101734" y="226873"/>
                  </a:lnTo>
                  <a:lnTo>
                    <a:pt x="109657" y="242464"/>
                  </a:lnTo>
                  <a:lnTo>
                    <a:pt x="114431" y="249720"/>
                  </a:lnTo>
                  <a:lnTo>
                    <a:pt x="119376" y="255766"/>
                  </a:lnTo>
                  <a:lnTo>
                    <a:pt x="124396" y="261276"/>
                  </a:lnTo>
                  <a:lnTo>
                    <a:pt x="127766" y="263931"/>
                  </a:lnTo>
                  <a:lnTo>
                    <a:pt x="131706" y="266547"/>
                  </a:lnTo>
                  <a:lnTo>
                    <a:pt x="136026" y="269138"/>
                  </a:lnTo>
                  <a:lnTo>
                    <a:pt x="141447" y="271712"/>
                  </a:lnTo>
                  <a:lnTo>
                    <a:pt x="147601" y="274275"/>
                  </a:lnTo>
                  <a:lnTo>
                    <a:pt x="154242" y="276830"/>
                  </a:lnTo>
                  <a:lnTo>
                    <a:pt x="160364" y="278533"/>
                  </a:lnTo>
                  <a:lnTo>
                    <a:pt x="166138" y="279669"/>
                  </a:lnTo>
                  <a:lnTo>
                    <a:pt x="171682" y="280426"/>
                  </a:lnTo>
                  <a:lnTo>
                    <a:pt x="177917" y="281777"/>
                  </a:lnTo>
                  <a:lnTo>
                    <a:pt x="184613" y="283525"/>
                  </a:lnTo>
                  <a:lnTo>
                    <a:pt x="191618" y="285536"/>
                  </a:lnTo>
                  <a:lnTo>
                    <a:pt x="197981" y="286878"/>
                  </a:lnTo>
                  <a:lnTo>
                    <a:pt x="203917" y="287771"/>
                  </a:lnTo>
                  <a:lnTo>
                    <a:pt x="209567" y="288368"/>
                  </a:lnTo>
                  <a:lnTo>
                    <a:pt x="214180" y="288765"/>
                  </a:lnTo>
                  <a:lnTo>
                    <a:pt x="218103" y="289030"/>
                  </a:lnTo>
                  <a:lnTo>
                    <a:pt x="228487" y="2895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SMARTInkAnnotation78"/>
            <p:cNvSpPr/>
            <p:nvPr/>
          </p:nvSpPr>
          <p:spPr>
            <a:xfrm>
              <a:off x="6957000" y="3252960"/>
              <a:ext cx="53280" cy="5943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94360"/>
                <a:gd name="textAreaBottom" fmla="*/ 594720 h 594360"/>
              </a:gdLst>
              <a:ahLst/>
              <a:rect l="textAreaLeft" t="textAreaTop" r="textAreaRight" b="textAreaBottom"/>
              <a:pathLst>
                <a:path w="53341" h="594361">
                  <a:moveTo>
                    <a:pt x="0" y="0"/>
                  </a:moveTo>
                  <a:lnTo>
                    <a:pt x="0" y="6561"/>
                  </a:lnTo>
                  <a:lnTo>
                    <a:pt x="846" y="8607"/>
                  </a:lnTo>
                  <a:lnTo>
                    <a:pt x="4045" y="15397"/>
                  </a:lnTo>
                  <a:lnTo>
                    <a:pt x="10606" y="28739"/>
                  </a:lnTo>
                  <a:lnTo>
                    <a:pt x="12151" y="33553"/>
                  </a:lnTo>
                  <a:lnTo>
                    <a:pt x="13180" y="38455"/>
                  </a:lnTo>
                  <a:lnTo>
                    <a:pt x="14630" y="55703"/>
                  </a:lnTo>
                  <a:lnTo>
                    <a:pt x="14969" y="69630"/>
                  </a:lnTo>
                  <a:lnTo>
                    <a:pt x="15204" y="110864"/>
                  </a:lnTo>
                  <a:lnTo>
                    <a:pt x="16063" y="120476"/>
                  </a:lnTo>
                  <a:lnTo>
                    <a:pt x="17482" y="130270"/>
                  </a:lnTo>
                  <a:lnTo>
                    <a:pt x="19275" y="140187"/>
                  </a:lnTo>
                  <a:lnTo>
                    <a:pt x="20470" y="149338"/>
                  </a:lnTo>
                  <a:lnTo>
                    <a:pt x="21798" y="166279"/>
                  </a:lnTo>
                  <a:lnTo>
                    <a:pt x="21305" y="176046"/>
                  </a:lnTo>
                  <a:lnTo>
                    <a:pt x="20130" y="186791"/>
                  </a:lnTo>
                  <a:lnTo>
                    <a:pt x="18500" y="198187"/>
                  </a:lnTo>
                  <a:lnTo>
                    <a:pt x="17413" y="209171"/>
                  </a:lnTo>
                  <a:lnTo>
                    <a:pt x="16689" y="219881"/>
                  </a:lnTo>
                  <a:lnTo>
                    <a:pt x="16206" y="230407"/>
                  </a:lnTo>
                  <a:lnTo>
                    <a:pt x="15038" y="241658"/>
                  </a:lnTo>
                  <a:lnTo>
                    <a:pt x="13411" y="253392"/>
                  </a:lnTo>
                  <a:lnTo>
                    <a:pt x="11481" y="265448"/>
                  </a:lnTo>
                  <a:lnTo>
                    <a:pt x="10194" y="276872"/>
                  </a:lnTo>
                  <a:lnTo>
                    <a:pt x="9335" y="287874"/>
                  </a:lnTo>
                  <a:lnTo>
                    <a:pt x="8764" y="298596"/>
                  </a:lnTo>
                  <a:lnTo>
                    <a:pt x="7537" y="309978"/>
                  </a:lnTo>
                  <a:lnTo>
                    <a:pt x="5870" y="321798"/>
                  </a:lnTo>
                  <a:lnTo>
                    <a:pt x="3914" y="333912"/>
                  </a:lnTo>
                  <a:lnTo>
                    <a:pt x="2609" y="346221"/>
                  </a:lnTo>
                  <a:lnTo>
                    <a:pt x="1739" y="358661"/>
                  </a:lnTo>
                  <a:lnTo>
                    <a:pt x="1160" y="371187"/>
                  </a:lnTo>
                  <a:lnTo>
                    <a:pt x="1619" y="382925"/>
                  </a:lnTo>
                  <a:lnTo>
                    <a:pt x="2773" y="394137"/>
                  </a:lnTo>
                  <a:lnTo>
                    <a:pt x="4389" y="404998"/>
                  </a:lnTo>
                  <a:lnTo>
                    <a:pt x="6312" y="415625"/>
                  </a:lnTo>
                  <a:lnTo>
                    <a:pt x="8442" y="426097"/>
                  </a:lnTo>
                  <a:lnTo>
                    <a:pt x="10708" y="436465"/>
                  </a:lnTo>
                  <a:lnTo>
                    <a:pt x="12218" y="445916"/>
                  </a:lnTo>
                  <a:lnTo>
                    <a:pt x="13226" y="454758"/>
                  </a:lnTo>
                  <a:lnTo>
                    <a:pt x="13897" y="463192"/>
                  </a:lnTo>
                  <a:lnTo>
                    <a:pt x="15192" y="472202"/>
                  </a:lnTo>
                  <a:lnTo>
                    <a:pt x="16901" y="481594"/>
                  </a:lnTo>
                  <a:lnTo>
                    <a:pt x="18887" y="491243"/>
                  </a:lnTo>
                  <a:lnTo>
                    <a:pt x="20212" y="500215"/>
                  </a:lnTo>
                  <a:lnTo>
                    <a:pt x="21684" y="516958"/>
                  </a:lnTo>
                  <a:lnTo>
                    <a:pt x="22922" y="524132"/>
                  </a:lnTo>
                  <a:lnTo>
                    <a:pt x="24595" y="530608"/>
                  </a:lnTo>
                  <a:lnTo>
                    <a:pt x="33363" y="557214"/>
                  </a:lnTo>
                  <a:lnTo>
                    <a:pt x="35788" y="562822"/>
                  </a:lnTo>
                  <a:lnTo>
                    <a:pt x="38253" y="567409"/>
                  </a:lnTo>
                  <a:lnTo>
                    <a:pt x="40742" y="571312"/>
                  </a:lnTo>
                  <a:lnTo>
                    <a:pt x="42401" y="574762"/>
                  </a:lnTo>
                  <a:lnTo>
                    <a:pt x="43507" y="577908"/>
                  </a:lnTo>
                  <a:lnTo>
                    <a:pt x="44245" y="580852"/>
                  </a:lnTo>
                  <a:lnTo>
                    <a:pt x="45583" y="583661"/>
                  </a:lnTo>
                  <a:lnTo>
                    <a:pt x="47323" y="586381"/>
                  </a:lnTo>
                  <a:lnTo>
                    <a:pt x="53340" y="5943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SMARTInkAnnotation79"/>
            <p:cNvSpPr/>
            <p:nvPr/>
          </p:nvSpPr>
          <p:spPr>
            <a:xfrm>
              <a:off x="5859720" y="3321720"/>
              <a:ext cx="37800" cy="479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38101" h="480061">
                  <a:moveTo>
                    <a:pt x="15240" y="0"/>
                  </a:moveTo>
                  <a:lnTo>
                    <a:pt x="19285" y="0"/>
                  </a:lnTo>
                  <a:lnTo>
                    <a:pt x="20477" y="847"/>
                  </a:lnTo>
                  <a:lnTo>
                    <a:pt x="21271" y="2258"/>
                  </a:lnTo>
                  <a:lnTo>
                    <a:pt x="22546" y="6561"/>
                  </a:lnTo>
                  <a:lnTo>
                    <a:pt x="22767" y="11352"/>
                  </a:lnTo>
                  <a:lnTo>
                    <a:pt x="23645" y="13495"/>
                  </a:lnTo>
                  <a:lnTo>
                    <a:pt x="25076" y="15769"/>
                  </a:lnTo>
                  <a:lnTo>
                    <a:pt x="26877" y="18133"/>
                  </a:lnTo>
                  <a:lnTo>
                    <a:pt x="28078" y="20555"/>
                  </a:lnTo>
                  <a:lnTo>
                    <a:pt x="28879" y="23017"/>
                  </a:lnTo>
                  <a:lnTo>
                    <a:pt x="29412" y="25505"/>
                  </a:lnTo>
                  <a:lnTo>
                    <a:pt x="30615" y="28010"/>
                  </a:lnTo>
                  <a:lnTo>
                    <a:pt x="32263" y="30527"/>
                  </a:lnTo>
                  <a:lnTo>
                    <a:pt x="34209" y="33052"/>
                  </a:lnTo>
                  <a:lnTo>
                    <a:pt x="35506" y="35581"/>
                  </a:lnTo>
                  <a:lnTo>
                    <a:pt x="36371" y="38114"/>
                  </a:lnTo>
                  <a:lnTo>
                    <a:pt x="37331" y="44033"/>
                  </a:lnTo>
                  <a:lnTo>
                    <a:pt x="37872" y="56039"/>
                  </a:lnTo>
                  <a:lnTo>
                    <a:pt x="38055" y="70367"/>
                  </a:lnTo>
                  <a:lnTo>
                    <a:pt x="38100" y="148717"/>
                  </a:lnTo>
                  <a:lnTo>
                    <a:pt x="37253" y="155025"/>
                  </a:lnTo>
                  <a:lnTo>
                    <a:pt x="35842" y="161770"/>
                  </a:lnTo>
                  <a:lnTo>
                    <a:pt x="34054" y="168806"/>
                  </a:lnTo>
                  <a:lnTo>
                    <a:pt x="32863" y="176885"/>
                  </a:lnTo>
                  <a:lnTo>
                    <a:pt x="32069" y="185656"/>
                  </a:lnTo>
                  <a:lnTo>
                    <a:pt x="31539" y="194891"/>
                  </a:lnTo>
                  <a:lnTo>
                    <a:pt x="30340" y="202741"/>
                  </a:lnTo>
                  <a:lnTo>
                    <a:pt x="28693" y="209667"/>
                  </a:lnTo>
                  <a:lnTo>
                    <a:pt x="26749" y="215978"/>
                  </a:lnTo>
                  <a:lnTo>
                    <a:pt x="25452" y="223572"/>
                  </a:lnTo>
                  <a:lnTo>
                    <a:pt x="24588" y="232022"/>
                  </a:lnTo>
                  <a:lnTo>
                    <a:pt x="24012" y="241041"/>
                  </a:lnTo>
                  <a:lnTo>
                    <a:pt x="23372" y="257836"/>
                  </a:lnTo>
                  <a:lnTo>
                    <a:pt x="23201" y="265871"/>
                  </a:lnTo>
                  <a:lnTo>
                    <a:pt x="22241" y="274614"/>
                  </a:lnTo>
                  <a:lnTo>
                    <a:pt x="20754" y="283829"/>
                  </a:lnTo>
                  <a:lnTo>
                    <a:pt x="18916" y="293360"/>
                  </a:lnTo>
                  <a:lnTo>
                    <a:pt x="17691" y="303100"/>
                  </a:lnTo>
                  <a:lnTo>
                    <a:pt x="16874" y="312980"/>
                  </a:lnTo>
                  <a:lnTo>
                    <a:pt x="16329" y="322953"/>
                  </a:lnTo>
                  <a:lnTo>
                    <a:pt x="15120" y="332142"/>
                  </a:lnTo>
                  <a:lnTo>
                    <a:pt x="13467" y="340808"/>
                  </a:lnTo>
                  <a:lnTo>
                    <a:pt x="11518" y="349125"/>
                  </a:lnTo>
                  <a:lnTo>
                    <a:pt x="10219" y="358057"/>
                  </a:lnTo>
                  <a:lnTo>
                    <a:pt x="9352" y="367398"/>
                  </a:lnTo>
                  <a:lnTo>
                    <a:pt x="8775" y="377012"/>
                  </a:lnTo>
                  <a:lnTo>
                    <a:pt x="7543" y="386808"/>
                  </a:lnTo>
                  <a:lnTo>
                    <a:pt x="5876" y="396725"/>
                  </a:lnTo>
                  <a:lnTo>
                    <a:pt x="3917" y="406724"/>
                  </a:lnTo>
                  <a:lnTo>
                    <a:pt x="2611" y="415929"/>
                  </a:lnTo>
                  <a:lnTo>
                    <a:pt x="1741" y="424606"/>
                  </a:lnTo>
                  <a:lnTo>
                    <a:pt x="1160" y="432931"/>
                  </a:lnTo>
                  <a:lnTo>
                    <a:pt x="516" y="446696"/>
                  </a:lnTo>
                  <a:lnTo>
                    <a:pt x="229" y="458458"/>
                  </a:lnTo>
                  <a:lnTo>
                    <a:pt x="0" y="4800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SMARTInkAnnotation80"/>
            <p:cNvSpPr/>
            <p:nvPr/>
          </p:nvSpPr>
          <p:spPr>
            <a:xfrm>
              <a:off x="6347880" y="3984840"/>
              <a:ext cx="220320" cy="36000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220527" h="360315">
                  <a:moveTo>
                    <a:pt x="60506" y="0"/>
                  </a:moveTo>
                  <a:lnTo>
                    <a:pt x="56461" y="4045"/>
                  </a:lnTo>
                  <a:lnTo>
                    <a:pt x="55270" y="6084"/>
                  </a:lnTo>
                  <a:lnTo>
                    <a:pt x="52745" y="13844"/>
                  </a:lnTo>
                  <a:lnTo>
                    <a:pt x="49155" y="21957"/>
                  </a:lnTo>
                  <a:lnTo>
                    <a:pt x="47012" y="27338"/>
                  </a:lnTo>
                  <a:lnTo>
                    <a:pt x="42373" y="40091"/>
                  </a:lnTo>
                  <a:lnTo>
                    <a:pt x="39104" y="47894"/>
                  </a:lnTo>
                  <a:lnTo>
                    <a:pt x="35232" y="56482"/>
                  </a:lnTo>
                  <a:lnTo>
                    <a:pt x="30957" y="65595"/>
                  </a:lnTo>
                  <a:lnTo>
                    <a:pt x="27260" y="75057"/>
                  </a:lnTo>
                  <a:lnTo>
                    <a:pt x="23949" y="84751"/>
                  </a:lnTo>
                  <a:lnTo>
                    <a:pt x="20894" y="94601"/>
                  </a:lnTo>
                  <a:lnTo>
                    <a:pt x="15243" y="114576"/>
                  </a:lnTo>
                  <a:lnTo>
                    <a:pt x="12551" y="124644"/>
                  </a:lnTo>
                  <a:lnTo>
                    <a:pt x="9910" y="135590"/>
                  </a:lnTo>
                  <a:lnTo>
                    <a:pt x="4716" y="159040"/>
                  </a:lnTo>
                  <a:lnTo>
                    <a:pt x="2993" y="171220"/>
                  </a:lnTo>
                  <a:lnTo>
                    <a:pt x="1844" y="183574"/>
                  </a:lnTo>
                  <a:lnTo>
                    <a:pt x="1078" y="196042"/>
                  </a:lnTo>
                  <a:lnTo>
                    <a:pt x="227" y="221186"/>
                  </a:lnTo>
                  <a:lnTo>
                    <a:pt x="0" y="233817"/>
                  </a:lnTo>
                  <a:lnTo>
                    <a:pt x="695" y="245625"/>
                  </a:lnTo>
                  <a:lnTo>
                    <a:pt x="2006" y="256883"/>
                  </a:lnTo>
                  <a:lnTo>
                    <a:pt x="3726" y="267776"/>
                  </a:lnTo>
                  <a:lnTo>
                    <a:pt x="7412" y="278424"/>
                  </a:lnTo>
                  <a:lnTo>
                    <a:pt x="12411" y="288909"/>
                  </a:lnTo>
                  <a:lnTo>
                    <a:pt x="18283" y="299286"/>
                  </a:lnTo>
                  <a:lnTo>
                    <a:pt x="24737" y="308744"/>
                  </a:lnTo>
                  <a:lnTo>
                    <a:pt x="31580" y="317589"/>
                  </a:lnTo>
                  <a:lnTo>
                    <a:pt x="38682" y="326026"/>
                  </a:lnTo>
                  <a:lnTo>
                    <a:pt x="46803" y="333344"/>
                  </a:lnTo>
                  <a:lnTo>
                    <a:pt x="55604" y="339916"/>
                  </a:lnTo>
                  <a:lnTo>
                    <a:pt x="64858" y="345991"/>
                  </a:lnTo>
                  <a:lnTo>
                    <a:pt x="74415" y="350887"/>
                  </a:lnTo>
                  <a:lnTo>
                    <a:pt x="84172" y="354998"/>
                  </a:lnTo>
                  <a:lnTo>
                    <a:pt x="94063" y="358586"/>
                  </a:lnTo>
                  <a:lnTo>
                    <a:pt x="104891" y="360130"/>
                  </a:lnTo>
                  <a:lnTo>
                    <a:pt x="116343" y="360314"/>
                  </a:lnTo>
                  <a:lnTo>
                    <a:pt x="128210" y="359589"/>
                  </a:lnTo>
                  <a:lnTo>
                    <a:pt x="138663" y="357413"/>
                  </a:lnTo>
                  <a:lnTo>
                    <a:pt x="148170" y="354269"/>
                  </a:lnTo>
                  <a:lnTo>
                    <a:pt x="157049" y="350479"/>
                  </a:lnTo>
                  <a:lnTo>
                    <a:pt x="165509" y="346259"/>
                  </a:lnTo>
                  <a:lnTo>
                    <a:pt x="173688" y="341753"/>
                  </a:lnTo>
                  <a:lnTo>
                    <a:pt x="181680" y="337055"/>
                  </a:lnTo>
                  <a:lnTo>
                    <a:pt x="187856" y="330537"/>
                  </a:lnTo>
                  <a:lnTo>
                    <a:pt x="192820" y="322805"/>
                  </a:lnTo>
                  <a:lnTo>
                    <a:pt x="196975" y="314263"/>
                  </a:lnTo>
                  <a:lnTo>
                    <a:pt x="199746" y="306029"/>
                  </a:lnTo>
                  <a:lnTo>
                    <a:pt x="201592" y="297999"/>
                  </a:lnTo>
                  <a:lnTo>
                    <a:pt x="202824" y="290106"/>
                  </a:lnTo>
                  <a:lnTo>
                    <a:pt x="202798" y="282304"/>
                  </a:lnTo>
                  <a:lnTo>
                    <a:pt x="201933" y="274563"/>
                  </a:lnTo>
                  <a:lnTo>
                    <a:pt x="200511" y="266862"/>
                  </a:lnTo>
                  <a:lnTo>
                    <a:pt x="198716" y="259188"/>
                  </a:lnTo>
                  <a:lnTo>
                    <a:pt x="196673" y="251532"/>
                  </a:lnTo>
                  <a:lnTo>
                    <a:pt x="194464" y="243888"/>
                  </a:lnTo>
                  <a:lnTo>
                    <a:pt x="191298" y="237945"/>
                  </a:lnTo>
                  <a:lnTo>
                    <a:pt x="187494" y="233137"/>
                  </a:lnTo>
                  <a:lnTo>
                    <a:pt x="183265" y="229085"/>
                  </a:lnTo>
                  <a:lnTo>
                    <a:pt x="178752" y="225536"/>
                  </a:lnTo>
                  <a:lnTo>
                    <a:pt x="174050" y="222325"/>
                  </a:lnTo>
                  <a:lnTo>
                    <a:pt x="169222" y="219337"/>
                  </a:lnTo>
                  <a:lnTo>
                    <a:pt x="165157" y="217344"/>
                  </a:lnTo>
                  <a:lnTo>
                    <a:pt x="158382" y="215131"/>
                  </a:lnTo>
                  <a:lnTo>
                    <a:pt x="156237" y="215387"/>
                  </a:lnTo>
                  <a:lnTo>
                    <a:pt x="154807" y="216405"/>
                  </a:lnTo>
                  <a:lnTo>
                    <a:pt x="153853" y="217930"/>
                  </a:lnTo>
                  <a:lnTo>
                    <a:pt x="152794" y="226398"/>
                  </a:lnTo>
                  <a:lnTo>
                    <a:pt x="152511" y="232212"/>
                  </a:lnTo>
                  <a:lnTo>
                    <a:pt x="152198" y="243188"/>
                  </a:lnTo>
                  <a:lnTo>
                    <a:pt x="152114" y="248485"/>
                  </a:lnTo>
                  <a:lnTo>
                    <a:pt x="152905" y="254557"/>
                  </a:lnTo>
                  <a:lnTo>
                    <a:pt x="154279" y="261145"/>
                  </a:lnTo>
                  <a:lnTo>
                    <a:pt x="156042" y="268076"/>
                  </a:lnTo>
                  <a:lnTo>
                    <a:pt x="158910" y="274391"/>
                  </a:lnTo>
                  <a:lnTo>
                    <a:pt x="162516" y="280294"/>
                  </a:lnTo>
                  <a:lnTo>
                    <a:pt x="166613" y="285923"/>
                  </a:lnTo>
                  <a:lnTo>
                    <a:pt x="171883" y="292215"/>
                  </a:lnTo>
                  <a:lnTo>
                    <a:pt x="177938" y="298950"/>
                  </a:lnTo>
                  <a:lnTo>
                    <a:pt x="190592" y="312360"/>
                  </a:lnTo>
                  <a:lnTo>
                    <a:pt x="220526" y="3429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ng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304920" y="11430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aluate each expression for t = -2 and r = 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685800" y="1873080"/>
            <a:ext cx="2209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15)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5105520" y="1873080"/>
            <a:ext cx="2133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16) -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(-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2"/>
          <p:cNvSpPr/>
          <p:nvPr/>
        </p:nvSpPr>
        <p:spPr>
          <a:xfrm>
            <a:off x="4267080" y="1981080"/>
            <a:ext cx="0" cy="43434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14353"/>
          <p:cNvGrpSpPr/>
          <p:nvPr/>
        </p:nvGrpSpPr>
        <p:grpSpPr>
          <a:xfrm>
            <a:off x="336600" y="2316240"/>
            <a:ext cx="7672320" cy="1887480"/>
            <a:chOff x="336600" y="2316240"/>
            <a:chExt cx="7672320" cy="1887480"/>
          </a:xfrm>
        </p:grpSpPr>
        <p:sp>
          <p:nvSpPr>
            <p:cNvPr id="578" name="SMARTInkAnnotation120"/>
            <p:cNvSpPr/>
            <p:nvPr/>
          </p:nvSpPr>
          <p:spPr>
            <a:xfrm>
              <a:off x="336600" y="2445480"/>
              <a:ext cx="234360" cy="38088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34623" h="381001">
                  <a:moveTo>
                    <a:pt x="66982" y="0"/>
                  </a:moveTo>
                  <a:lnTo>
                    <a:pt x="66982" y="11352"/>
                  </a:lnTo>
                  <a:lnTo>
                    <a:pt x="66135" y="13495"/>
                  </a:lnTo>
                  <a:lnTo>
                    <a:pt x="62937" y="18133"/>
                  </a:lnTo>
                  <a:lnTo>
                    <a:pt x="60951" y="27533"/>
                  </a:lnTo>
                  <a:lnTo>
                    <a:pt x="59222" y="39330"/>
                  </a:lnTo>
                  <a:lnTo>
                    <a:pt x="55631" y="50218"/>
                  </a:lnTo>
                  <a:lnTo>
                    <a:pt x="48849" y="69913"/>
                  </a:lnTo>
                  <a:lnTo>
                    <a:pt x="46427" y="77935"/>
                  </a:lnTo>
                  <a:lnTo>
                    <a:pt x="38972" y="104560"/>
                  </a:lnTo>
                  <a:lnTo>
                    <a:pt x="33931" y="120978"/>
                  </a:lnTo>
                  <a:lnTo>
                    <a:pt x="30555" y="128912"/>
                  </a:lnTo>
                  <a:lnTo>
                    <a:pt x="26611" y="136741"/>
                  </a:lnTo>
                  <a:lnTo>
                    <a:pt x="22288" y="144501"/>
                  </a:lnTo>
                  <a:lnTo>
                    <a:pt x="18559" y="153061"/>
                  </a:lnTo>
                  <a:lnTo>
                    <a:pt x="15227" y="162154"/>
                  </a:lnTo>
                  <a:lnTo>
                    <a:pt x="12159" y="171603"/>
                  </a:lnTo>
                  <a:lnTo>
                    <a:pt x="9266" y="181288"/>
                  </a:lnTo>
                  <a:lnTo>
                    <a:pt x="3795" y="201082"/>
                  </a:lnTo>
                  <a:lnTo>
                    <a:pt x="1998" y="210254"/>
                  </a:lnTo>
                  <a:lnTo>
                    <a:pt x="799" y="218910"/>
                  </a:lnTo>
                  <a:lnTo>
                    <a:pt x="0" y="227220"/>
                  </a:lnTo>
                  <a:lnTo>
                    <a:pt x="314" y="236147"/>
                  </a:lnTo>
                  <a:lnTo>
                    <a:pt x="1370" y="245485"/>
                  </a:lnTo>
                  <a:lnTo>
                    <a:pt x="2921" y="255097"/>
                  </a:lnTo>
                  <a:lnTo>
                    <a:pt x="5648" y="263198"/>
                  </a:lnTo>
                  <a:lnTo>
                    <a:pt x="9159" y="270292"/>
                  </a:lnTo>
                  <a:lnTo>
                    <a:pt x="17576" y="283537"/>
                  </a:lnTo>
                  <a:lnTo>
                    <a:pt x="26962" y="297890"/>
                  </a:lnTo>
                  <a:lnTo>
                    <a:pt x="32682" y="305273"/>
                  </a:lnTo>
                  <a:lnTo>
                    <a:pt x="39035" y="312736"/>
                  </a:lnTo>
                  <a:lnTo>
                    <a:pt x="45811" y="320250"/>
                  </a:lnTo>
                  <a:lnTo>
                    <a:pt x="53715" y="326954"/>
                  </a:lnTo>
                  <a:lnTo>
                    <a:pt x="62371" y="333116"/>
                  </a:lnTo>
                  <a:lnTo>
                    <a:pt x="71528" y="338917"/>
                  </a:lnTo>
                  <a:lnTo>
                    <a:pt x="81019" y="343632"/>
                  </a:lnTo>
                  <a:lnTo>
                    <a:pt x="90734" y="347621"/>
                  </a:lnTo>
                  <a:lnTo>
                    <a:pt x="100596" y="351128"/>
                  </a:lnTo>
                  <a:lnTo>
                    <a:pt x="111405" y="354312"/>
                  </a:lnTo>
                  <a:lnTo>
                    <a:pt x="122844" y="357281"/>
                  </a:lnTo>
                  <a:lnTo>
                    <a:pt x="146843" y="362838"/>
                  </a:lnTo>
                  <a:lnTo>
                    <a:pt x="171620" y="368131"/>
                  </a:lnTo>
                  <a:lnTo>
                    <a:pt x="182461" y="370727"/>
                  </a:lnTo>
                  <a:lnTo>
                    <a:pt x="192228" y="373305"/>
                  </a:lnTo>
                  <a:lnTo>
                    <a:pt x="201279" y="375870"/>
                  </a:lnTo>
                  <a:lnTo>
                    <a:pt x="209007" y="377580"/>
                  </a:lnTo>
                  <a:lnTo>
                    <a:pt x="215852" y="378720"/>
                  </a:lnTo>
                  <a:lnTo>
                    <a:pt x="234622" y="3810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MARTInkAnnotation121"/>
            <p:cNvSpPr/>
            <p:nvPr/>
          </p:nvSpPr>
          <p:spPr>
            <a:xfrm>
              <a:off x="388080" y="2582640"/>
              <a:ext cx="121680" cy="151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21921" h="15239">
                  <a:moveTo>
                    <a:pt x="0" y="7618"/>
                  </a:moveTo>
                  <a:lnTo>
                    <a:pt x="0" y="0"/>
                  </a:lnTo>
                  <a:lnTo>
                    <a:pt x="4045" y="4044"/>
                  </a:lnTo>
                  <a:lnTo>
                    <a:pt x="6084" y="5236"/>
                  </a:lnTo>
                  <a:lnTo>
                    <a:pt x="8289" y="6030"/>
                  </a:lnTo>
                  <a:lnTo>
                    <a:pt x="10606" y="6559"/>
                  </a:lnTo>
                  <a:lnTo>
                    <a:pt x="12998" y="6912"/>
                  </a:lnTo>
                  <a:lnTo>
                    <a:pt x="15438" y="7147"/>
                  </a:lnTo>
                  <a:lnTo>
                    <a:pt x="17912" y="7304"/>
                  </a:lnTo>
                  <a:lnTo>
                    <a:pt x="22919" y="7478"/>
                  </a:lnTo>
                  <a:lnTo>
                    <a:pt x="25439" y="7525"/>
                  </a:lnTo>
                  <a:lnTo>
                    <a:pt x="28813" y="8403"/>
                  </a:lnTo>
                  <a:lnTo>
                    <a:pt x="32755" y="9835"/>
                  </a:lnTo>
                  <a:lnTo>
                    <a:pt x="37077" y="11636"/>
                  </a:lnTo>
                  <a:lnTo>
                    <a:pt x="41651" y="12836"/>
                  </a:lnTo>
                  <a:lnTo>
                    <a:pt x="46394" y="13637"/>
                  </a:lnTo>
                  <a:lnTo>
                    <a:pt x="51250" y="14171"/>
                  </a:lnTo>
                  <a:lnTo>
                    <a:pt x="56180" y="14526"/>
                  </a:lnTo>
                  <a:lnTo>
                    <a:pt x="61160" y="14764"/>
                  </a:lnTo>
                  <a:lnTo>
                    <a:pt x="71209" y="15027"/>
                  </a:lnTo>
                  <a:lnTo>
                    <a:pt x="121920" y="152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MARTInkAnnotation122"/>
            <p:cNvSpPr/>
            <p:nvPr/>
          </p:nvSpPr>
          <p:spPr>
            <a:xfrm>
              <a:off x="563400" y="2491200"/>
              <a:ext cx="113760" cy="22860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13945" h="228601">
                  <a:moveTo>
                    <a:pt x="0" y="7620"/>
                  </a:moveTo>
                  <a:lnTo>
                    <a:pt x="6561" y="7620"/>
                  </a:lnTo>
                  <a:lnTo>
                    <a:pt x="8607" y="6773"/>
                  </a:lnTo>
                  <a:lnTo>
                    <a:pt x="11665" y="5362"/>
                  </a:lnTo>
                  <a:lnTo>
                    <a:pt x="15397" y="3575"/>
                  </a:lnTo>
                  <a:lnTo>
                    <a:pt x="18731" y="2383"/>
                  </a:lnTo>
                  <a:lnTo>
                    <a:pt x="21801" y="1589"/>
                  </a:lnTo>
                  <a:lnTo>
                    <a:pt x="24694" y="1059"/>
                  </a:lnTo>
                  <a:lnTo>
                    <a:pt x="28316" y="706"/>
                  </a:lnTo>
                  <a:lnTo>
                    <a:pt x="32424" y="471"/>
                  </a:lnTo>
                  <a:lnTo>
                    <a:pt x="41504" y="209"/>
                  </a:lnTo>
                  <a:lnTo>
                    <a:pt x="89197" y="3"/>
                  </a:lnTo>
                  <a:lnTo>
                    <a:pt x="110240" y="0"/>
                  </a:lnTo>
                  <a:lnTo>
                    <a:pt x="111594" y="847"/>
                  </a:lnTo>
                  <a:lnTo>
                    <a:pt x="112496" y="2258"/>
                  </a:lnTo>
                  <a:lnTo>
                    <a:pt x="113498" y="6084"/>
                  </a:lnTo>
                  <a:lnTo>
                    <a:pt x="113944" y="10606"/>
                  </a:lnTo>
                  <a:lnTo>
                    <a:pt x="113216" y="12997"/>
                  </a:lnTo>
                  <a:lnTo>
                    <a:pt x="110149" y="17912"/>
                  </a:lnTo>
                  <a:lnTo>
                    <a:pt x="108222" y="22919"/>
                  </a:lnTo>
                  <a:lnTo>
                    <a:pt x="106519" y="28813"/>
                  </a:lnTo>
                  <a:lnTo>
                    <a:pt x="104879" y="32755"/>
                  </a:lnTo>
                  <a:lnTo>
                    <a:pt x="102940" y="37077"/>
                  </a:lnTo>
                  <a:lnTo>
                    <a:pt x="98527" y="46394"/>
                  </a:lnTo>
                  <a:lnTo>
                    <a:pt x="73651" y="96532"/>
                  </a:lnTo>
                  <a:lnTo>
                    <a:pt x="71114" y="102454"/>
                  </a:lnTo>
                  <a:lnTo>
                    <a:pt x="68576" y="108943"/>
                  </a:lnTo>
                  <a:lnTo>
                    <a:pt x="66037" y="115809"/>
                  </a:lnTo>
                  <a:lnTo>
                    <a:pt x="63498" y="122079"/>
                  </a:lnTo>
                  <a:lnTo>
                    <a:pt x="60959" y="127953"/>
                  </a:lnTo>
                  <a:lnTo>
                    <a:pt x="58419" y="133562"/>
                  </a:lnTo>
                  <a:lnTo>
                    <a:pt x="55880" y="139841"/>
                  </a:lnTo>
                  <a:lnTo>
                    <a:pt x="50800" y="153592"/>
                  </a:lnTo>
                  <a:lnTo>
                    <a:pt x="49107" y="159968"/>
                  </a:lnTo>
                  <a:lnTo>
                    <a:pt x="47978" y="165912"/>
                  </a:lnTo>
                  <a:lnTo>
                    <a:pt x="47225" y="171568"/>
                  </a:lnTo>
                  <a:lnTo>
                    <a:pt x="45877" y="176185"/>
                  </a:lnTo>
                  <a:lnTo>
                    <a:pt x="44131" y="180110"/>
                  </a:lnTo>
                  <a:lnTo>
                    <a:pt x="42121" y="183573"/>
                  </a:lnTo>
                  <a:lnTo>
                    <a:pt x="40781" y="187576"/>
                  </a:lnTo>
                  <a:lnTo>
                    <a:pt x="39887" y="191937"/>
                  </a:lnTo>
                  <a:lnTo>
                    <a:pt x="39292" y="196538"/>
                  </a:lnTo>
                  <a:lnTo>
                    <a:pt x="38048" y="200452"/>
                  </a:lnTo>
                  <a:lnTo>
                    <a:pt x="36372" y="203908"/>
                  </a:lnTo>
                  <a:lnTo>
                    <a:pt x="33099" y="210006"/>
                  </a:lnTo>
                  <a:lnTo>
                    <a:pt x="31644" y="215538"/>
                  </a:lnTo>
                  <a:lnTo>
                    <a:pt x="30997" y="220819"/>
                  </a:lnTo>
                  <a:lnTo>
                    <a:pt x="30480" y="2286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SMARTInkAnnotation123"/>
            <p:cNvSpPr/>
            <p:nvPr/>
          </p:nvSpPr>
          <p:spPr>
            <a:xfrm>
              <a:off x="525240" y="2651400"/>
              <a:ext cx="213120" cy="3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13361" h="1">
                  <a:moveTo>
                    <a:pt x="0" y="0"/>
                  </a:moveTo>
                  <a:lnTo>
                    <a:pt x="2133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MARTInkAnnotation124"/>
            <p:cNvSpPr/>
            <p:nvPr/>
          </p:nvSpPr>
          <p:spPr>
            <a:xfrm>
              <a:off x="822600" y="2445480"/>
              <a:ext cx="128880" cy="46296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129064" h="463272">
                  <a:moveTo>
                    <a:pt x="0" y="0"/>
                  </a:moveTo>
                  <a:lnTo>
                    <a:pt x="0" y="6561"/>
                  </a:lnTo>
                  <a:lnTo>
                    <a:pt x="2258" y="11665"/>
                  </a:lnTo>
                  <a:lnTo>
                    <a:pt x="10606" y="28739"/>
                  </a:lnTo>
                  <a:lnTo>
                    <a:pt x="17912" y="43417"/>
                  </a:lnTo>
                  <a:lnTo>
                    <a:pt x="21255" y="49265"/>
                  </a:lnTo>
                  <a:lnTo>
                    <a:pt x="25177" y="55703"/>
                  </a:lnTo>
                  <a:lnTo>
                    <a:pt x="29484" y="62536"/>
                  </a:lnTo>
                  <a:lnTo>
                    <a:pt x="33203" y="70477"/>
                  </a:lnTo>
                  <a:lnTo>
                    <a:pt x="36529" y="79158"/>
                  </a:lnTo>
                  <a:lnTo>
                    <a:pt x="39592" y="88332"/>
                  </a:lnTo>
                  <a:lnTo>
                    <a:pt x="43328" y="96988"/>
                  </a:lnTo>
                  <a:lnTo>
                    <a:pt x="47512" y="105299"/>
                  </a:lnTo>
                  <a:lnTo>
                    <a:pt x="51995" y="113379"/>
                  </a:lnTo>
                  <a:lnTo>
                    <a:pt x="61491" y="131389"/>
                  </a:lnTo>
                  <a:lnTo>
                    <a:pt x="81385" y="170545"/>
                  </a:lnTo>
                  <a:lnTo>
                    <a:pt x="85583" y="181430"/>
                  </a:lnTo>
                  <a:lnTo>
                    <a:pt x="89229" y="192920"/>
                  </a:lnTo>
                  <a:lnTo>
                    <a:pt x="92506" y="204813"/>
                  </a:lnTo>
                  <a:lnTo>
                    <a:pt x="96384" y="216129"/>
                  </a:lnTo>
                  <a:lnTo>
                    <a:pt x="100662" y="227059"/>
                  </a:lnTo>
                  <a:lnTo>
                    <a:pt x="105208" y="237733"/>
                  </a:lnTo>
                  <a:lnTo>
                    <a:pt x="109085" y="249082"/>
                  </a:lnTo>
                  <a:lnTo>
                    <a:pt x="112517" y="260881"/>
                  </a:lnTo>
                  <a:lnTo>
                    <a:pt x="124108" y="306191"/>
                  </a:lnTo>
                  <a:lnTo>
                    <a:pt x="125918" y="316734"/>
                  </a:lnTo>
                  <a:lnTo>
                    <a:pt x="127126" y="327149"/>
                  </a:lnTo>
                  <a:lnTo>
                    <a:pt x="127931" y="337480"/>
                  </a:lnTo>
                  <a:lnTo>
                    <a:pt x="128467" y="347753"/>
                  </a:lnTo>
                  <a:lnTo>
                    <a:pt x="129063" y="368199"/>
                  </a:lnTo>
                  <a:lnTo>
                    <a:pt x="128375" y="377546"/>
                  </a:lnTo>
                  <a:lnTo>
                    <a:pt x="127070" y="386318"/>
                  </a:lnTo>
                  <a:lnTo>
                    <a:pt x="125354" y="394705"/>
                  </a:lnTo>
                  <a:lnTo>
                    <a:pt x="122516" y="401990"/>
                  </a:lnTo>
                  <a:lnTo>
                    <a:pt x="118930" y="408540"/>
                  </a:lnTo>
                  <a:lnTo>
                    <a:pt x="114847" y="414600"/>
                  </a:lnTo>
                  <a:lnTo>
                    <a:pt x="111278" y="420333"/>
                  </a:lnTo>
                  <a:lnTo>
                    <a:pt x="108052" y="425849"/>
                  </a:lnTo>
                  <a:lnTo>
                    <a:pt x="105054" y="431219"/>
                  </a:lnTo>
                  <a:lnTo>
                    <a:pt x="101363" y="435646"/>
                  </a:lnTo>
                  <a:lnTo>
                    <a:pt x="97209" y="439444"/>
                  </a:lnTo>
                  <a:lnTo>
                    <a:pt x="92746" y="442823"/>
                  </a:lnTo>
                  <a:lnTo>
                    <a:pt x="88924" y="445922"/>
                  </a:lnTo>
                  <a:lnTo>
                    <a:pt x="85529" y="448835"/>
                  </a:lnTo>
                  <a:lnTo>
                    <a:pt x="82420" y="451623"/>
                  </a:lnTo>
                  <a:lnTo>
                    <a:pt x="77806" y="454329"/>
                  </a:lnTo>
                  <a:lnTo>
                    <a:pt x="72191" y="456979"/>
                  </a:lnTo>
                  <a:lnTo>
                    <a:pt x="65907" y="459593"/>
                  </a:lnTo>
                  <a:lnTo>
                    <a:pt x="60871" y="461335"/>
                  </a:lnTo>
                  <a:lnTo>
                    <a:pt x="56668" y="462497"/>
                  </a:lnTo>
                  <a:lnTo>
                    <a:pt x="53018" y="463271"/>
                  </a:lnTo>
                  <a:lnTo>
                    <a:pt x="48893" y="462941"/>
                  </a:lnTo>
                  <a:lnTo>
                    <a:pt x="44448" y="461874"/>
                  </a:lnTo>
                  <a:lnTo>
                    <a:pt x="30480" y="457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MARTInkAnnotation125"/>
            <p:cNvSpPr/>
            <p:nvPr/>
          </p:nvSpPr>
          <p:spPr>
            <a:xfrm>
              <a:off x="1051200" y="2689560"/>
              <a:ext cx="228600" cy="151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28601" h="15241">
                  <a:moveTo>
                    <a:pt x="0" y="0"/>
                  </a:moveTo>
                  <a:lnTo>
                    <a:pt x="4045" y="4045"/>
                  </a:lnTo>
                  <a:lnTo>
                    <a:pt x="6930" y="5237"/>
                  </a:lnTo>
                  <a:lnTo>
                    <a:pt x="10547" y="6031"/>
                  </a:lnTo>
                  <a:lnTo>
                    <a:pt x="14651" y="6561"/>
                  </a:lnTo>
                  <a:lnTo>
                    <a:pt x="19928" y="6914"/>
                  </a:lnTo>
                  <a:lnTo>
                    <a:pt x="25985" y="7150"/>
                  </a:lnTo>
                  <a:lnTo>
                    <a:pt x="44388" y="7481"/>
                  </a:lnTo>
                  <a:lnTo>
                    <a:pt x="49912" y="7527"/>
                  </a:lnTo>
                  <a:lnTo>
                    <a:pt x="56982" y="8405"/>
                  </a:lnTo>
                  <a:lnTo>
                    <a:pt x="65081" y="9837"/>
                  </a:lnTo>
                  <a:lnTo>
                    <a:pt x="73867" y="11638"/>
                  </a:lnTo>
                  <a:lnTo>
                    <a:pt x="82265" y="12839"/>
                  </a:lnTo>
                  <a:lnTo>
                    <a:pt x="90403" y="13639"/>
                  </a:lnTo>
                  <a:lnTo>
                    <a:pt x="98369" y="14173"/>
                  </a:lnTo>
                  <a:lnTo>
                    <a:pt x="106219" y="14528"/>
                  </a:lnTo>
                  <a:lnTo>
                    <a:pt x="121715" y="14924"/>
                  </a:lnTo>
                  <a:lnTo>
                    <a:pt x="228600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MARTInkAnnotation126"/>
            <p:cNvSpPr/>
            <p:nvPr/>
          </p:nvSpPr>
          <p:spPr>
            <a:xfrm>
              <a:off x="1432800" y="2468520"/>
              <a:ext cx="327240" cy="41904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327216" h="419101">
                  <a:moveTo>
                    <a:pt x="60515" y="0"/>
                  </a:moveTo>
                  <a:lnTo>
                    <a:pt x="60515" y="10606"/>
                  </a:lnTo>
                  <a:lnTo>
                    <a:pt x="59668" y="12151"/>
                  </a:lnTo>
                  <a:lnTo>
                    <a:pt x="58257" y="13181"/>
                  </a:lnTo>
                  <a:lnTo>
                    <a:pt x="56470" y="13867"/>
                  </a:lnTo>
                  <a:lnTo>
                    <a:pt x="55278" y="16018"/>
                  </a:lnTo>
                  <a:lnTo>
                    <a:pt x="53954" y="22924"/>
                  </a:lnTo>
                  <a:lnTo>
                    <a:pt x="48850" y="31637"/>
                  </a:lnTo>
                  <a:lnTo>
                    <a:pt x="45118" y="36332"/>
                  </a:lnTo>
                  <a:lnTo>
                    <a:pt x="42631" y="42001"/>
                  </a:lnTo>
                  <a:lnTo>
                    <a:pt x="39866" y="55074"/>
                  </a:lnTo>
                  <a:lnTo>
                    <a:pt x="38283" y="62116"/>
                  </a:lnTo>
                  <a:lnTo>
                    <a:pt x="36380" y="69351"/>
                  </a:lnTo>
                  <a:lnTo>
                    <a:pt x="34265" y="76714"/>
                  </a:lnTo>
                  <a:lnTo>
                    <a:pt x="29657" y="91669"/>
                  </a:lnTo>
                  <a:lnTo>
                    <a:pt x="4628" y="167644"/>
                  </a:lnTo>
                  <a:lnTo>
                    <a:pt x="2937" y="176110"/>
                  </a:lnTo>
                  <a:lnTo>
                    <a:pt x="1810" y="185140"/>
                  </a:lnTo>
                  <a:lnTo>
                    <a:pt x="1058" y="194547"/>
                  </a:lnTo>
                  <a:lnTo>
                    <a:pt x="557" y="202511"/>
                  </a:lnTo>
                  <a:lnTo>
                    <a:pt x="0" y="215876"/>
                  </a:lnTo>
                  <a:lnTo>
                    <a:pt x="699" y="223504"/>
                  </a:lnTo>
                  <a:lnTo>
                    <a:pt x="2011" y="231976"/>
                  </a:lnTo>
                  <a:lnTo>
                    <a:pt x="3732" y="241011"/>
                  </a:lnTo>
                  <a:lnTo>
                    <a:pt x="5726" y="249574"/>
                  </a:lnTo>
                  <a:lnTo>
                    <a:pt x="7902" y="257823"/>
                  </a:lnTo>
                  <a:lnTo>
                    <a:pt x="10200" y="265862"/>
                  </a:lnTo>
                  <a:lnTo>
                    <a:pt x="12578" y="272915"/>
                  </a:lnTo>
                  <a:lnTo>
                    <a:pt x="17479" y="285267"/>
                  </a:lnTo>
                  <a:lnTo>
                    <a:pt x="20817" y="291778"/>
                  </a:lnTo>
                  <a:lnTo>
                    <a:pt x="24737" y="298658"/>
                  </a:lnTo>
                  <a:lnTo>
                    <a:pt x="29043" y="305786"/>
                  </a:lnTo>
                  <a:lnTo>
                    <a:pt x="34454" y="312231"/>
                  </a:lnTo>
                  <a:lnTo>
                    <a:pt x="40601" y="318220"/>
                  </a:lnTo>
                  <a:lnTo>
                    <a:pt x="47239" y="323907"/>
                  </a:lnTo>
                  <a:lnTo>
                    <a:pt x="53357" y="329391"/>
                  </a:lnTo>
                  <a:lnTo>
                    <a:pt x="64672" y="340001"/>
                  </a:lnTo>
                  <a:lnTo>
                    <a:pt x="71753" y="346047"/>
                  </a:lnTo>
                  <a:lnTo>
                    <a:pt x="79860" y="352618"/>
                  </a:lnTo>
                  <a:lnTo>
                    <a:pt x="88652" y="359539"/>
                  </a:lnTo>
                  <a:lnTo>
                    <a:pt x="97900" y="364999"/>
                  </a:lnTo>
                  <a:lnTo>
                    <a:pt x="107451" y="369486"/>
                  </a:lnTo>
                  <a:lnTo>
                    <a:pt x="117206" y="373324"/>
                  </a:lnTo>
                  <a:lnTo>
                    <a:pt x="141591" y="382105"/>
                  </a:lnTo>
                  <a:lnTo>
                    <a:pt x="155206" y="386816"/>
                  </a:lnTo>
                  <a:lnTo>
                    <a:pt x="167669" y="390804"/>
                  </a:lnTo>
                  <a:lnTo>
                    <a:pt x="190548" y="397493"/>
                  </a:lnTo>
                  <a:lnTo>
                    <a:pt x="202237" y="400462"/>
                  </a:lnTo>
                  <a:lnTo>
                    <a:pt x="259936" y="413907"/>
                  </a:lnTo>
                  <a:lnTo>
                    <a:pt x="269663" y="415638"/>
                  </a:lnTo>
                  <a:lnTo>
                    <a:pt x="278687" y="416793"/>
                  </a:lnTo>
                  <a:lnTo>
                    <a:pt x="287243" y="417561"/>
                  </a:lnTo>
                  <a:lnTo>
                    <a:pt x="294640" y="418074"/>
                  </a:lnTo>
                  <a:lnTo>
                    <a:pt x="301265" y="418417"/>
                  </a:lnTo>
                  <a:lnTo>
                    <a:pt x="316422" y="418898"/>
                  </a:lnTo>
                  <a:lnTo>
                    <a:pt x="327215" y="4191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MARTInkAnnotation127"/>
            <p:cNvSpPr/>
            <p:nvPr/>
          </p:nvSpPr>
          <p:spPr>
            <a:xfrm>
              <a:off x="1653120" y="2674080"/>
              <a:ext cx="190440" cy="7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0501" h="7621">
                  <a:moveTo>
                    <a:pt x="0" y="7620"/>
                  </a:moveTo>
                  <a:lnTo>
                    <a:pt x="50969" y="7620"/>
                  </a:lnTo>
                  <a:lnTo>
                    <a:pt x="57686" y="6774"/>
                  </a:lnTo>
                  <a:lnTo>
                    <a:pt x="65550" y="5362"/>
                  </a:lnTo>
                  <a:lnTo>
                    <a:pt x="74180" y="3575"/>
                  </a:lnTo>
                  <a:lnTo>
                    <a:pt x="82473" y="2383"/>
                  </a:lnTo>
                  <a:lnTo>
                    <a:pt x="90542" y="1589"/>
                  </a:lnTo>
                  <a:lnTo>
                    <a:pt x="98461" y="1059"/>
                  </a:lnTo>
                  <a:lnTo>
                    <a:pt x="106281" y="706"/>
                  </a:lnTo>
                  <a:lnTo>
                    <a:pt x="121742" y="314"/>
                  </a:lnTo>
                  <a:lnTo>
                    <a:pt x="167489" y="18"/>
                  </a:ln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MARTInkAnnotation128"/>
            <p:cNvSpPr/>
            <p:nvPr/>
          </p:nvSpPr>
          <p:spPr>
            <a:xfrm>
              <a:off x="1950480" y="2529360"/>
              <a:ext cx="251280" cy="24768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51461" h="247897">
                  <a:moveTo>
                    <a:pt x="0" y="30449"/>
                  </a:moveTo>
                  <a:lnTo>
                    <a:pt x="11352" y="19098"/>
                  </a:lnTo>
                  <a:lnTo>
                    <a:pt x="18027" y="14680"/>
                  </a:lnTo>
                  <a:lnTo>
                    <a:pt x="25792" y="10741"/>
                  </a:lnTo>
                  <a:lnTo>
                    <a:pt x="32066" y="8990"/>
                  </a:lnTo>
                  <a:lnTo>
                    <a:pt x="35770" y="7676"/>
                  </a:lnTo>
                  <a:lnTo>
                    <a:pt x="39934" y="5954"/>
                  </a:lnTo>
                  <a:lnTo>
                    <a:pt x="44402" y="3959"/>
                  </a:lnTo>
                  <a:lnTo>
                    <a:pt x="49075" y="2629"/>
                  </a:lnTo>
                  <a:lnTo>
                    <a:pt x="53883" y="1743"/>
                  </a:lnTo>
                  <a:lnTo>
                    <a:pt x="58782" y="1151"/>
                  </a:lnTo>
                  <a:lnTo>
                    <a:pt x="63742" y="757"/>
                  </a:lnTo>
                  <a:lnTo>
                    <a:pt x="68741" y="495"/>
                  </a:lnTo>
                  <a:lnTo>
                    <a:pt x="78812" y="203"/>
                  </a:lnTo>
                  <a:lnTo>
                    <a:pt x="104150" y="0"/>
                  </a:lnTo>
                  <a:lnTo>
                    <a:pt x="109226" y="836"/>
                  </a:lnTo>
                  <a:lnTo>
                    <a:pt x="114304" y="2241"/>
                  </a:lnTo>
                  <a:lnTo>
                    <a:pt x="126530" y="6533"/>
                  </a:lnTo>
                  <a:lnTo>
                    <a:pt x="132694" y="11321"/>
                  </a:lnTo>
                  <a:lnTo>
                    <a:pt x="139882" y="18102"/>
                  </a:lnTo>
                  <a:lnTo>
                    <a:pt x="141515" y="20525"/>
                  </a:lnTo>
                  <a:lnTo>
                    <a:pt x="143329" y="25474"/>
                  </a:lnTo>
                  <a:lnTo>
                    <a:pt x="142966" y="27979"/>
                  </a:lnTo>
                  <a:lnTo>
                    <a:pt x="141877" y="30496"/>
                  </a:lnTo>
                  <a:lnTo>
                    <a:pt x="138410" y="36397"/>
                  </a:lnTo>
                  <a:lnTo>
                    <a:pt x="134047" y="44664"/>
                  </a:lnTo>
                  <a:lnTo>
                    <a:pt x="130851" y="49239"/>
                  </a:lnTo>
                  <a:lnTo>
                    <a:pt x="127027" y="53982"/>
                  </a:lnTo>
                  <a:lnTo>
                    <a:pt x="122785" y="58838"/>
                  </a:lnTo>
                  <a:lnTo>
                    <a:pt x="118263" y="63768"/>
                  </a:lnTo>
                  <a:lnTo>
                    <a:pt x="108724" y="73762"/>
                  </a:lnTo>
                  <a:lnTo>
                    <a:pt x="102962" y="78798"/>
                  </a:lnTo>
                  <a:lnTo>
                    <a:pt x="96582" y="83848"/>
                  </a:lnTo>
                  <a:lnTo>
                    <a:pt x="89788" y="88909"/>
                  </a:lnTo>
                  <a:lnTo>
                    <a:pt x="82718" y="94822"/>
                  </a:lnTo>
                  <a:lnTo>
                    <a:pt x="75466" y="101304"/>
                  </a:lnTo>
                  <a:lnTo>
                    <a:pt x="61480" y="114434"/>
                  </a:lnTo>
                  <a:lnTo>
                    <a:pt x="49620" y="125913"/>
                  </a:lnTo>
                  <a:lnTo>
                    <a:pt x="43240" y="131345"/>
                  </a:lnTo>
                  <a:lnTo>
                    <a:pt x="36447" y="136660"/>
                  </a:lnTo>
                  <a:lnTo>
                    <a:pt x="29378" y="141896"/>
                  </a:lnTo>
                  <a:lnTo>
                    <a:pt x="23819" y="147081"/>
                  </a:lnTo>
                  <a:lnTo>
                    <a:pt x="19266" y="152230"/>
                  </a:lnTo>
                  <a:lnTo>
                    <a:pt x="15384" y="157356"/>
                  </a:lnTo>
                  <a:lnTo>
                    <a:pt x="11949" y="162467"/>
                  </a:lnTo>
                  <a:lnTo>
                    <a:pt x="8813" y="167568"/>
                  </a:lnTo>
                  <a:lnTo>
                    <a:pt x="5875" y="172662"/>
                  </a:lnTo>
                  <a:lnTo>
                    <a:pt x="3917" y="177751"/>
                  </a:lnTo>
                  <a:lnTo>
                    <a:pt x="2611" y="182837"/>
                  </a:lnTo>
                  <a:lnTo>
                    <a:pt x="1741" y="187921"/>
                  </a:lnTo>
                  <a:lnTo>
                    <a:pt x="2007" y="192157"/>
                  </a:lnTo>
                  <a:lnTo>
                    <a:pt x="3031" y="195828"/>
                  </a:lnTo>
                  <a:lnTo>
                    <a:pt x="6427" y="203011"/>
                  </a:lnTo>
                  <a:lnTo>
                    <a:pt x="10759" y="211848"/>
                  </a:lnTo>
                  <a:lnTo>
                    <a:pt x="13946" y="215728"/>
                  </a:lnTo>
                  <a:lnTo>
                    <a:pt x="17764" y="219162"/>
                  </a:lnTo>
                  <a:lnTo>
                    <a:pt x="22003" y="222298"/>
                  </a:lnTo>
                  <a:lnTo>
                    <a:pt x="27369" y="225235"/>
                  </a:lnTo>
                  <a:lnTo>
                    <a:pt x="33485" y="228040"/>
                  </a:lnTo>
                  <a:lnTo>
                    <a:pt x="40104" y="230756"/>
                  </a:lnTo>
                  <a:lnTo>
                    <a:pt x="47056" y="233414"/>
                  </a:lnTo>
                  <a:lnTo>
                    <a:pt x="61554" y="238625"/>
                  </a:lnTo>
                  <a:lnTo>
                    <a:pt x="69823" y="240353"/>
                  </a:lnTo>
                  <a:lnTo>
                    <a:pt x="78722" y="241505"/>
                  </a:lnTo>
                  <a:lnTo>
                    <a:pt x="88041" y="242273"/>
                  </a:lnTo>
                  <a:lnTo>
                    <a:pt x="97641" y="243632"/>
                  </a:lnTo>
                  <a:lnTo>
                    <a:pt x="107427" y="245384"/>
                  </a:lnTo>
                  <a:lnTo>
                    <a:pt x="117338" y="247399"/>
                  </a:lnTo>
                  <a:lnTo>
                    <a:pt x="126486" y="247896"/>
                  </a:lnTo>
                  <a:lnTo>
                    <a:pt x="135124" y="247380"/>
                  </a:lnTo>
                  <a:lnTo>
                    <a:pt x="143422" y="246190"/>
                  </a:lnTo>
                  <a:lnTo>
                    <a:pt x="153188" y="245396"/>
                  </a:lnTo>
                  <a:lnTo>
                    <a:pt x="163932" y="244867"/>
                  </a:lnTo>
                  <a:lnTo>
                    <a:pt x="175328" y="244514"/>
                  </a:lnTo>
                  <a:lnTo>
                    <a:pt x="185465" y="243433"/>
                  </a:lnTo>
                  <a:lnTo>
                    <a:pt x="194763" y="241865"/>
                  </a:lnTo>
                  <a:lnTo>
                    <a:pt x="203502" y="239973"/>
                  </a:lnTo>
                  <a:lnTo>
                    <a:pt x="211868" y="237865"/>
                  </a:lnTo>
                  <a:lnTo>
                    <a:pt x="219985" y="235613"/>
                  </a:lnTo>
                  <a:lnTo>
                    <a:pt x="227937" y="233265"/>
                  </a:lnTo>
                  <a:lnTo>
                    <a:pt x="234085" y="230853"/>
                  </a:lnTo>
                  <a:lnTo>
                    <a:pt x="239030" y="228398"/>
                  </a:lnTo>
                  <a:lnTo>
                    <a:pt x="251460" y="2209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MARTInkAnnotation129"/>
            <p:cNvSpPr/>
            <p:nvPr/>
          </p:nvSpPr>
          <p:spPr>
            <a:xfrm>
              <a:off x="2262960" y="2384640"/>
              <a:ext cx="114120" cy="5407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114138" h="541021">
                  <a:moveTo>
                    <a:pt x="0" y="0"/>
                  </a:moveTo>
                  <a:lnTo>
                    <a:pt x="6561" y="6561"/>
                  </a:lnTo>
                  <a:lnTo>
                    <a:pt x="8258" y="19578"/>
                  </a:lnTo>
                  <a:lnTo>
                    <a:pt x="11573" y="28739"/>
                  </a:lnTo>
                  <a:lnTo>
                    <a:pt x="15868" y="40713"/>
                  </a:lnTo>
                  <a:lnTo>
                    <a:pt x="18199" y="47462"/>
                  </a:lnTo>
                  <a:lnTo>
                    <a:pt x="21446" y="54502"/>
                  </a:lnTo>
                  <a:lnTo>
                    <a:pt x="25304" y="61734"/>
                  </a:lnTo>
                  <a:lnTo>
                    <a:pt x="29569" y="69096"/>
                  </a:lnTo>
                  <a:lnTo>
                    <a:pt x="38825" y="86307"/>
                  </a:lnTo>
                  <a:lnTo>
                    <a:pt x="58563" y="124951"/>
                  </a:lnTo>
                  <a:lnTo>
                    <a:pt x="63596" y="135794"/>
                  </a:lnTo>
                  <a:lnTo>
                    <a:pt x="73703" y="159131"/>
                  </a:lnTo>
                  <a:lnTo>
                    <a:pt x="77922" y="171280"/>
                  </a:lnTo>
                  <a:lnTo>
                    <a:pt x="81581" y="183614"/>
                  </a:lnTo>
                  <a:lnTo>
                    <a:pt x="84868" y="196069"/>
                  </a:lnTo>
                  <a:lnTo>
                    <a:pt x="88752" y="209453"/>
                  </a:lnTo>
                  <a:lnTo>
                    <a:pt x="97583" y="237870"/>
                  </a:lnTo>
                  <a:lnTo>
                    <a:pt x="101462" y="251713"/>
                  </a:lnTo>
                  <a:lnTo>
                    <a:pt x="104895" y="265176"/>
                  </a:lnTo>
                  <a:lnTo>
                    <a:pt x="108030" y="278384"/>
                  </a:lnTo>
                  <a:lnTo>
                    <a:pt x="110120" y="292269"/>
                  </a:lnTo>
                  <a:lnTo>
                    <a:pt x="111514" y="306606"/>
                  </a:lnTo>
                  <a:lnTo>
                    <a:pt x="112442" y="321244"/>
                  </a:lnTo>
                  <a:lnTo>
                    <a:pt x="113474" y="348798"/>
                  </a:lnTo>
                  <a:lnTo>
                    <a:pt x="114056" y="388110"/>
                  </a:lnTo>
                  <a:lnTo>
                    <a:pt x="114137" y="400980"/>
                  </a:lnTo>
                  <a:lnTo>
                    <a:pt x="112498" y="412946"/>
                  </a:lnTo>
                  <a:lnTo>
                    <a:pt x="109712" y="424311"/>
                  </a:lnTo>
                  <a:lnTo>
                    <a:pt x="97119" y="462839"/>
                  </a:lnTo>
                  <a:lnTo>
                    <a:pt x="93533" y="471119"/>
                  </a:lnTo>
                  <a:lnTo>
                    <a:pt x="89449" y="479179"/>
                  </a:lnTo>
                  <a:lnTo>
                    <a:pt x="85032" y="487093"/>
                  </a:lnTo>
                  <a:lnTo>
                    <a:pt x="80395" y="494062"/>
                  </a:lnTo>
                  <a:lnTo>
                    <a:pt x="75610" y="500401"/>
                  </a:lnTo>
                  <a:lnTo>
                    <a:pt x="70727" y="506321"/>
                  </a:lnTo>
                  <a:lnTo>
                    <a:pt x="65778" y="511114"/>
                  </a:lnTo>
                  <a:lnTo>
                    <a:pt x="60785" y="515156"/>
                  </a:lnTo>
                  <a:lnTo>
                    <a:pt x="55764" y="518697"/>
                  </a:lnTo>
                  <a:lnTo>
                    <a:pt x="50722" y="521905"/>
                  </a:lnTo>
                  <a:lnTo>
                    <a:pt x="45668" y="524890"/>
                  </a:lnTo>
                  <a:lnTo>
                    <a:pt x="40606" y="527726"/>
                  </a:lnTo>
                  <a:lnTo>
                    <a:pt x="36384" y="530465"/>
                  </a:lnTo>
                  <a:lnTo>
                    <a:pt x="32723" y="533136"/>
                  </a:lnTo>
                  <a:lnTo>
                    <a:pt x="24809" y="539463"/>
                  </a:lnTo>
                  <a:lnTo>
                    <a:pt x="23312" y="539981"/>
                  </a:lnTo>
                  <a:lnTo>
                    <a:pt x="21468" y="540328"/>
                  </a:lnTo>
                  <a:lnTo>
                    <a:pt x="15240" y="5410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MARTInkAnnotation130"/>
            <p:cNvSpPr/>
            <p:nvPr/>
          </p:nvSpPr>
          <p:spPr>
            <a:xfrm>
              <a:off x="433800" y="3390480"/>
              <a:ext cx="228600" cy="75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8601" h="7594">
                  <a:moveTo>
                    <a:pt x="0" y="0"/>
                  </a:moveTo>
                  <a:lnTo>
                    <a:pt x="52221" y="0"/>
                  </a:lnTo>
                  <a:lnTo>
                    <a:pt x="57674" y="847"/>
                  </a:lnTo>
                  <a:lnTo>
                    <a:pt x="63850" y="2258"/>
                  </a:lnTo>
                  <a:lnTo>
                    <a:pt x="70506" y="4045"/>
                  </a:lnTo>
                  <a:lnTo>
                    <a:pt x="76637" y="5237"/>
                  </a:lnTo>
                  <a:lnTo>
                    <a:pt x="82418" y="6032"/>
                  </a:lnTo>
                  <a:lnTo>
                    <a:pt x="87966" y="6561"/>
                  </a:lnTo>
                  <a:lnTo>
                    <a:pt x="94204" y="6914"/>
                  </a:lnTo>
                  <a:lnTo>
                    <a:pt x="107908" y="7307"/>
                  </a:lnTo>
                  <a:lnTo>
                    <a:pt x="138911" y="7579"/>
                  </a:lnTo>
                  <a:lnTo>
                    <a:pt x="145947" y="7593"/>
                  </a:lnTo>
                  <a:lnTo>
                    <a:pt x="152331" y="6755"/>
                  </a:lnTo>
                  <a:lnTo>
                    <a:pt x="158281" y="5350"/>
                  </a:lnTo>
                  <a:lnTo>
                    <a:pt x="163940" y="3567"/>
                  </a:lnTo>
                  <a:lnTo>
                    <a:pt x="169407" y="2378"/>
                  </a:lnTo>
                  <a:lnTo>
                    <a:pt x="174745" y="1586"/>
                  </a:lnTo>
                  <a:lnTo>
                    <a:pt x="179996" y="1057"/>
                  </a:lnTo>
                  <a:lnTo>
                    <a:pt x="186038" y="705"/>
                  </a:lnTo>
                  <a:lnTo>
                    <a:pt x="199523" y="313"/>
                  </a:lnTo>
                  <a:lnTo>
                    <a:pt x="219827" y="41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MARTInkAnnotation131"/>
            <p:cNvSpPr/>
            <p:nvPr/>
          </p:nvSpPr>
          <p:spPr>
            <a:xfrm>
              <a:off x="746280" y="3253320"/>
              <a:ext cx="190440" cy="3013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90461" h="301477">
                  <a:moveTo>
                    <a:pt x="0" y="7620"/>
                  </a:moveTo>
                  <a:lnTo>
                    <a:pt x="21957" y="7620"/>
                  </a:lnTo>
                  <a:lnTo>
                    <a:pt x="26492" y="6773"/>
                  </a:lnTo>
                  <a:lnTo>
                    <a:pt x="31208" y="5362"/>
                  </a:lnTo>
                  <a:lnTo>
                    <a:pt x="36045" y="3575"/>
                  </a:lnTo>
                  <a:lnTo>
                    <a:pt x="40964" y="2383"/>
                  </a:lnTo>
                  <a:lnTo>
                    <a:pt x="45936" y="1589"/>
                  </a:lnTo>
                  <a:lnTo>
                    <a:pt x="50944" y="1059"/>
                  </a:lnTo>
                  <a:lnTo>
                    <a:pt x="55976" y="706"/>
                  </a:lnTo>
                  <a:lnTo>
                    <a:pt x="61024" y="471"/>
                  </a:lnTo>
                  <a:lnTo>
                    <a:pt x="71148" y="209"/>
                  </a:lnTo>
                  <a:lnTo>
                    <a:pt x="185258" y="0"/>
                  </a:lnTo>
                  <a:lnTo>
                    <a:pt x="187005" y="847"/>
                  </a:lnTo>
                  <a:lnTo>
                    <a:pt x="188170" y="2258"/>
                  </a:lnTo>
                  <a:lnTo>
                    <a:pt x="188947" y="4045"/>
                  </a:lnTo>
                  <a:lnTo>
                    <a:pt x="189809" y="8289"/>
                  </a:lnTo>
                  <a:lnTo>
                    <a:pt x="190295" y="15438"/>
                  </a:lnTo>
                  <a:lnTo>
                    <a:pt x="190439" y="22919"/>
                  </a:lnTo>
                  <a:lnTo>
                    <a:pt x="190460" y="25439"/>
                  </a:lnTo>
                  <a:lnTo>
                    <a:pt x="188224" y="32755"/>
                  </a:lnTo>
                  <a:lnTo>
                    <a:pt x="184408" y="41651"/>
                  </a:lnTo>
                  <a:lnTo>
                    <a:pt x="179890" y="51249"/>
                  </a:lnTo>
                  <a:lnTo>
                    <a:pt x="165060" y="81320"/>
                  </a:lnTo>
                  <a:lnTo>
                    <a:pt x="161687" y="87233"/>
                  </a:lnTo>
                  <a:lnTo>
                    <a:pt x="157745" y="93715"/>
                  </a:lnTo>
                  <a:lnTo>
                    <a:pt x="148849" y="107691"/>
                  </a:lnTo>
                  <a:lnTo>
                    <a:pt x="139250" y="122369"/>
                  </a:lnTo>
                  <a:lnTo>
                    <a:pt x="135167" y="129840"/>
                  </a:lnTo>
                  <a:lnTo>
                    <a:pt x="131598" y="137360"/>
                  </a:lnTo>
                  <a:lnTo>
                    <a:pt x="128372" y="144913"/>
                  </a:lnTo>
                  <a:lnTo>
                    <a:pt x="124528" y="152489"/>
                  </a:lnTo>
                  <a:lnTo>
                    <a:pt x="120272" y="160079"/>
                  </a:lnTo>
                  <a:lnTo>
                    <a:pt x="115741" y="167679"/>
                  </a:lnTo>
                  <a:lnTo>
                    <a:pt x="111028" y="174440"/>
                  </a:lnTo>
                  <a:lnTo>
                    <a:pt x="106192" y="180640"/>
                  </a:lnTo>
                  <a:lnTo>
                    <a:pt x="101274" y="186467"/>
                  </a:lnTo>
                  <a:lnTo>
                    <a:pt x="97150" y="192891"/>
                  </a:lnTo>
                  <a:lnTo>
                    <a:pt x="93553" y="199714"/>
                  </a:lnTo>
                  <a:lnTo>
                    <a:pt x="90309" y="206803"/>
                  </a:lnTo>
                  <a:lnTo>
                    <a:pt x="87299" y="214068"/>
                  </a:lnTo>
                  <a:lnTo>
                    <a:pt x="84446" y="221452"/>
                  </a:lnTo>
                  <a:lnTo>
                    <a:pt x="81697" y="228914"/>
                  </a:lnTo>
                  <a:lnTo>
                    <a:pt x="78172" y="235583"/>
                  </a:lnTo>
                  <a:lnTo>
                    <a:pt x="74128" y="241722"/>
                  </a:lnTo>
                  <a:lnTo>
                    <a:pt x="69739" y="247508"/>
                  </a:lnTo>
                  <a:lnTo>
                    <a:pt x="65966" y="252212"/>
                  </a:lnTo>
                  <a:lnTo>
                    <a:pt x="62604" y="256195"/>
                  </a:lnTo>
                  <a:lnTo>
                    <a:pt x="59516" y="259697"/>
                  </a:lnTo>
                  <a:lnTo>
                    <a:pt x="53827" y="268103"/>
                  </a:lnTo>
                  <a:lnTo>
                    <a:pt x="48477" y="276637"/>
                  </a:lnTo>
                  <a:lnTo>
                    <a:pt x="43276" y="283252"/>
                  </a:lnTo>
                  <a:lnTo>
                    <a:pt x="40401" y="289014"/>
                  </a:lnTo>
                  <a:lnTo>
                    <a:pt x="38235" y="296702"/>
                  </a:lnTo>
                  <a:lnTo>
                    <a:pt x="38127" y="301476"/>
                  </a:lnTo>
                  <a:lnTo>
                    <a:pt x="38100" y="297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MARTInkAnnotation132"/>
            <p:cNvSpPr/>
            <p:nvPr/>
          </p:nvSpPr>
          <p:spPr>
            <a:xfrm>
              <a:off x="753840" y="3421440"/>
              <a:ext cx="205560" cy="720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05741" h="7307">
                  <a:moveTo>
                    <a:pt x="0" y="7306"/>
                  </a:moveTo>
                  <a:lnTo>
                    <a:pt x="137167" y="7306"/>
                  </a:lnTo>
                  <a:lnTo>
                    <a:pt x="144785" y="6460"/>
                  </a:lnTo>
                  <a:lnTo>
                    <a:pt x="152403" y="5048"/>
                  </a:lnTo>
                  <a:lnTo>
                    <a:pt x="160022" y="3261"/>
                  </a:lnTo>
                  <a:lnTo>
                    <a:pt x="166795" y="2069"/>
                  </a:lnTo>
                  <a:lnTo>
                    <a:pt x="173003" y="1275"/>
                  </a:lnTo>
                  <a:lnTo>
                    <a:pt x="178836" y="746"/>
                  </a:lnTo>
                  <a:lnTo>
                    <a:pt x="183570" y="392"/>
                  </a:lnTo>
                  <a:lnTo>
                    <a:pt x="191089" y="0"/>
                  </a:lnTo>
                  <a:lnTo>
                    <a:pt x="194279" y="742"/>
                  </a:lnTo>
                  <a:lnTo>
                    <a:pt x="197253" y="2083"/>
                  </a:lnTo>
                  <a:lnTo>
                    <a:pt x="205740" y="73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MARTInkAnnotation133"/>
            <p:cNvSpPr/>
            <p:nvPr/>
          </p:nvSpPr>
          <p:spPr>
            <a:xfrm>
              <a:off x="1051200" y="3260880"/>
              <a:ext cx="75960" cy="2818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76201" h="281941">
                  <a:moveTo>
                    <a:pt x="76200" y="0"/>
                  </a:moveTo>
                  <a:lnTo>
                    <a:pt x="72155" y="4045"/>
                  </a:lnTo>
                  <a:lnTo>
                    <a:pt x="70963" y="6084"/>
                  </a:lnTo>
                  <a:lnTo>
                    <a:pt x="69639" y="10606"/>
                  </a:lnTo>
                  <a:lnTo>
                    <a:pt x="68894" y="17912"/>
                  </a:lnTo>
                  <a:lnTo>
                    <a:pt x="67943" y="21255"/>
                  </a:lnTo>
                  <a:lnTo>
                    <a:pt x="66462" y="25177"/>
                  </a:lnTo>
                  <a:lnTo>
                    <a:pt x="64628" y="29485"/>
                  </a:lnTo>
                  <a:lnTo>
                    <a:pt x="60333" y="38787"/>
                  </a:lnTo>
                  <a:lnTo>
                    <a:pt x="58002" y="43638"/>
                  </a:lnTo>
                  <a:lnTo>
                    <a:pt x="56448" y="48565"/>
                  </a:lnTo>
                  <a:lnTo>
                    <a:pt x="55412" y="53544"/>
                  </a:lnTo>
                  <a:lnTo>
                    <a:pt x="54721" y="58556"/>
                  </a:lnTo>
                  <a:lnTo>
                    <a:pt x="53414" y="63590"/>
                  </a:lnTo>
                  <a:lnTo>
                    <a:pt x="51696" y="68641"/>
                  </a:lnTo>
                  <a:lnTo>
                    <a:pt x="49704" y="73700"/>
                  </a:lnTo>
                  <a:lnTo>
                    <a:pt x="48376" y="79614"/>
                  </a:lnTo>
                  <a:lnTo>
                    <a:pt x="47491" y="86096"/>
                  </a:lnTo>
                  <a:lnTo>
                    <a:pt x="46901" y="92957"/>
                  </a:lnTo>
                  <a:lnTo>
                    <a:pt x="44814" y="100072"/>
                  </a:lnTo>
                  <a:lnTo>
                    <a:pt x="41729" y="107355"/>
                  </a:lnTo>
                  <a:lnTo>
                    <a:pt x="37980" y="114750"/>
                  </a:lnTo>
                  <a:lnTo>
                    <a:pt x="35480" y="122220"/>
                  </a:lnTo>
                  <a:lnTo>
                    <a:pt x="33813" y="129740"/>
                  </a:lnTo>
                  <a:lnTo>
                    <a:pt x="32702" y="137293"/>
                  </a:lnTo>
                  <a:lnTo>
                    <a:pt x="31115" y="144022"/>
                  </a:lnTo>
                  <a:lnTo>
                    <a:pt x="29210" y="150202"/>
                  </a:lnTo>
                  <a:lnTo>
                    <a:pt x="24835" y="162430"/>
                  </a:lnTo>
                  <a:lnTo>
                    <a:pt x="20069" y="176331"/>
                  </a:lnTo>
                  <a:lnTo>
                    <a:pt x="18459" y="183594"/>
                  </a:lnTo>
                  <a:lnTo>
                    <a:pt x="17386" y="190976"/>
                  </a:lnTo>
                  <a:lnTo>
                    <a:pt x="16671" y="198438"/>
                  </a:lnTo>
                  <a:lnTo>
                    <a:pt x="15347" y="205952"/>
                  </a:lnTo>
                  <a:lnTo>
                    <a:pt x="13618" y="213501"/>
                  </a:lnTo>
                  <a:lnTo>
                    <a:pt x="11619" y="221074"/>
                  </a:lnTo>
                  <a:lnTo>
                    <a:pt x="10286" y="226969"/>
                  </a:lnTo>
                  <a:lnTo>
                    <a:pt x="8805" y="235777"/>
                  </a:lnTo>
                  <a:lnTo>
                    <a:pt x="7563" y="240158"/>
                  </a:lnTo>
                  <a:lnTo>
                    <a:pt x="5889" y="244772"/>
                  </a:lnTo>
                  <a:lnTo>
                    <a:pt x="3926" y="249542"/>
                  </a:lnTo>
                  <a:lnTo>
                    <a:pt x="2618" y="254414"/>
                  </a:lnTo>
                  <a:lnTo>
                    <a:pt x="1745" y="259356"/>
                  </a:lnTo>
                  <a:lnTo>
                    <a:pt x="1163" y="264344"/>
                  </a:lnTo>
                  <a:lnTo>
                    <a:pt x="517" y="272144"/>
                  </a:lnTo>
                  <a:lnTo>
                    <a:pt x="0" y="2819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MARTInkAnnotation134"/>
            <p:cNvSpPr/>
            <p:nvPr/>
          </p:nvSpPr>
          <p:spPr>
            <a:xfrm>
              <a:off x="1043640" y="3405600"/>
              <a:ext cx="99000" cy="1512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99061" h="15241">
                  <a:moveTo>
                    <a:pt x="0" y="15240"/>
                  </a:moveTo>
                  <a:lnTo>
                    <a:pt x="29264" y="15240"/>
                  </a:lnTo>
                  <a:lnTo>
                    <a:pt x="33902" y="14393"/>
                  </a:lnTo>
                  <a:lnTo>
                    <a:pt x="38688" y="12982"/>
                  </a:lnTo>
                  <a:lnTo>
                    <a:pt x="43572" y="11195"/>
                  </a:lnTo>
                  <a:lnTo>
                    <a:pt x="48522" y="10003"/>
                  </a:lnTo>
                  <a:lnTo>
                    <a:pt x="53514" y="9209"/>
                  </a:lnTo>
                  <a:lnTo>
                    <a:pt x="58536" y="8679"/>
                  </a:lnTo>
                  <a:lnTo>
                    <a:pt x="64424" y="8326"/>
                  </a:lnTo>
                  <a:lnTo>
                    <a:pt x="77739" y="7934"/>
                  </a:lnTo>
                  <a:lnTo>
                    <a:pt x="83153" y="6983"/>
                  </a:lnTo>
                  <a:lnTo>
                    <a:pt x="87609" y="5502"/>
                  </a:lnTo>
                  <a:lnTo>
                    <a:pt x="990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SMARTInkAnnotation135"/>
            <p:cNvSpPr/>
            <p:nvPr/>
          </p:nvSpPr>
          <p:spPr>
            <a:xfrm>
              <a:off x="1211400" y="3260880"/>
              <a:ext cx="174960" cy="2131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175261" h="213290">
                  <a:moveTo>
                    <a:pt x="0" y="38069"/>
                  </a:moveTo>
                  <a:lnTo>
                    <a:pt x="6561" y="24948"/>
                  </a:lnTo>
                  <a:lnTo>
                    <a:pt x="11352" y="19411"/>
                  </a:lnTo>
                  <a:lnTo>
                    <a:pt x="15188" y="17164"/>
                  </a:lnTo>
                  <a:lnTo>
                    <a:pt x="20285" y="14819"/>
                  </a:lnTo>
                  <a:lnTo>
                    <a:pt x="26224" y="12409"/>
                  </a:lnTo>
                  <a:lnTo>
                    <a:pt x="31876" y="10802"/>
                  </a:lnTo>
                  <a:lnTo>
                    <a:pt x="37337" y="9731"/>
                  </a:lnTo>
                  <a:lnTo>
                    <a:pt x="42671" y="9018"/>
                  </a:lnTo>
                  <a:lnTo>
                    <a:pt x="47921" y="7695"/>
                  </a:lnTo>
                  <a:lnTo>
                    <a:pt x="53114" y="5966"/>
                  </a:lnTo>
                  <a:lnTo>
                    <a:pt x="58269" y="3967"/>
                  </a:lnTo>
                  <a:lnTo>
                    <a:pt x="63400" y="2635"/>
                  </a:lnTo>
                  <a:lnTo>
                    <a:pt x="68513" y="1746"/>
                  </a:lnTo>
                  <a:lnTo>
                    <a:pt x="73615" y="1154"/>
                  </a:lnTo>
                  <a:lnTo>
                    <a:pt x="78710" y="759"/>
                  </a:lnTo>
                  <a:lnTo>
                    <a:pt x="83800" y="496"/>
                  </a:lnTo>
                  <a:lnTo>
                    <a:pt x="96797" y="125"/>
                  </a:lnTo>
                  <a:lnTo>
                    <a:pt x="108773" y="0"/>
                  </a:lnTo>
                  <a:lnTo>
                    <a:pt x="112309" y="836"/>
                  </a:lnTo>
                  <a:lnTo>
                    <a:pt x="116359" y="2240"/>
                  </a:lnTo>
                  <a:lnTo>
                    <a:pt x="120753" y="4023"/>
                  </a:lnTo>
                  <a:lnTo>
                    <a:pt x="123682" y="6059"/>
                  </a:lnTo>
                  <a:lnTo>
                    <a:pt x="125634" y="8262"/>
                  </a:lnTo>
                  <a:lnTo>
                    <a:pt x="126936" y="10578"/>
                  </a:lnTo>
                  <a:lnTo>
                    <a:pt x="126958" y="12968"/>
                  </a:lnTo>
                  <a:lnTo>
                    <a:pt x="126125" y="15409"/>
                  </a:lnTo>
                  <a:lnTo>
                    <a:pt x="122942" y="20378"/>
                  </a:lnTo>
                  <a:lnTo>
                    <a:pt x="118706" y="25408"/>
                  </a:lnTo>
                  <a:lnTo>
                    <a:pt x="116390" y="28782"/>
                  </a:lnTo>
                  <a:lnTo>
                    <a:pt x="114000" y="32724"/>
                  </a:lnTo>
                  <a:lnTo>
                    <a:pt x="111560" y="37046"/>
                  </a:lnTo>
                  <a:lnTo>
                    <a:pt x="106591" y="46363"/>
                  </a:lnTo>
                  <a:lnTo>
                    <a:pt x="104081" y="51218"/>
                  </a:lnTo>
                  <a:lnTo>
                    <a:pt x="100714" y="55302"/>
                  </a:lnTo>
                  <a:lnTo>
                    <a:pt x="96776" y="58871"/>
                  </a:lnTo>
                  <a:lnTo>
                    <a:pt x="92457" y="62097"/>
                  </a:lnTo>
                  <a:lnTo>
                    <a:pt x="87885" y="65941"/>
                  </a:lnTo>
                  <a:lnTo>
                    <a:pt x="83143" y="70197"/>
                  </a:lnTo>
                  <a:lnTo>
                    <a:pt x="78289" y="74728"/>
                  </a:lnTo>
                  <a:lnTo>
                    <a:pt x="73359" y="80288"/>
                  </a:lnTo>
                  <a:lnTo>
                    <a:pt x="68380" y="86535"/>
                  </a:lnTo>
                  <a:lnTo>
                    <a:pt x="63367" y="93240"/>
                  </a:lnTo>
                  <a:lnTo>
                    <a:pt x="59178" y="99403"/>
                  </a:lnTo>
                  <a:lnTo>
                    <a:pt x="55538" y="105205"/>
                  </a:lnTo>
                  <a:lnTo>
                    <a:pt x="52266" y="110766"/>
                  </a:lnTo>
                  <a:lnTo>
                    <a:pt x="49237" y="116168"/>
                  </a:lnTo>
                  <a:lnTo>
                    <a:pt x="43615" y="126684"/>
                  </a:lnTo>
                  <a:lnTo>
                    <a:pt x="27978" y="157424"/>
                  </a:lnTo>
                  <a:lnTo>
                    <a:pt x="26272" y="161666"/>
                  </a:lnTo>
                  <a:lnTo>
                    <a:pt x="25135" y="165340"/>
                  </a:lnTo>
                  <a:lnTo>
                    <a:pt x="24377" y="168636"/>
                  </a:lnTo>
                  <a:lnTo>
                    <a:pt x="23871" y="172527"/>
                  </a:lnTo>
                  <a:lnTo>
                    <a:pt x="23534" y="176815"/>
                  </a:lnTo>
                  <a:lnTo>
                    <a:pt x="23309" y="181366"/>
                  </a:lnTo>
                  <a:lnTo>
                    <a:pt x="24006" y="185247"/>
                  </a:lnTo>
                  <a:lnTo>
                    <a:pt x="27038" y="191817"/>
                  </a:lnTo>
                  <a:lnTo>
                    <a:pt x="31209" y="197559"/>
                  </a:lnTo>
                  <a:lnTo>
                    <a:pt x="35884" y="202934"/>
                  </a:lnTo>
                  <a:lnTo>
                    <a:pt x="40784" y="208145"/>
                  </a:lnTo>
                  <a:lnTo>
                    <a:pt x="44970" y="209873"/>
                  </a:lnTo>
                  <a:lnTo>
                    <a:pt x="50299" y="211025"/>
                  </a:lnTo>
                  <a:lnTo>
                    <a:pt x="56393" y="211793"/>
                  </a:lnTo>
                  <a:lnTo>
                    <a:pt x="62149" y="212305"/>
                  </a:lnTo>
                  <a:lnTo>
                    <a:pt x="67679" y="212646"/>
                  </a:lnTo>
                  <a:lnTo>
                    <a:pt x="73060" y="212874"/>
                  </a:lnTo>
                  <a:lnTo>
                    <a:pt x="85811" y="213127"/>
                  </a:lnTo>
                  <a:lnTo>
                    <a:pt x="114693" y="213289"/>
                  </a:lnTo>
                  <a:lnTo>
                    <a:pt x="122182" y="212456"/>
                  </a:lnTo>
                  <a:lnTo>
                    <a:pt x="129715" y="211054"/>
                  </a:lnTo>
                  <a:lnTo>
                    <a:pt x="137277" y="209272"/>
                  </a:lnTo>
                  <a:lnTo>
                    <a:pt x="143164" y="207238"/>
                  </a:lnTo>
                  <a:lnTo>
                    <a:pt x="147936" y="205035"/>
                  </a:lnTo>
                  <a:lnTo>
                    <a:pt x="151964" y="202720"/>
                  </a:lnTo>
                  <a:lnTo>
                    <a:pt x="156343" y="201176"/>
                  </a:lnTo>
                  <a:lnTo>
                    <a:pt x="160955" y="200147"/>
                  </a:lnTo>
                  <a:lnTo>
                    <a:pt x="175260" y="1980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SMARTInkAnnotation136"/>
            <p:cNvSpPr/>
            <p:nvPr/>
          </p:nvSpPr>
          <p:spPr>
            <a:xfrm>
              <a:off x="1599840" y="3344760"/>
              <a:ext cx="236160" cy="226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36221" h="22861">
                  <a:moveTo>
                    <a:pt x="0" y="22860"/>
                  </a:moveTo>
                  <a:lnTo>
                    <a:pt x="14153" y="22860"/>
                  </a:lnTo>
                  <a:lnTo>
                    <a:pt x="15362" y="22014"/>
                  </a:lnTo>
                  <a:lnTo>
                    <a:pt x="17015" y="20603"/>
                  </a:lnTo>
                  <a:lnTo>
                    <a:pt x="18963" y="18815"/>
                  </a:lnTo>
                  <a:lnTo>
                    <a:pt x="21956" y="17623"/>
                  </a:lnTo>
                  <a:lnTo>
                    <a:pt x="25644" y="16829"/>
                  </a:lnTo>
                  <a:lnTo>
                    <a:pt x="29796" y="16299"/>
                  </a:lnTo>
                  <a:lnTo>
                    <a:pt x="36667" y="15711"/>
                  </a:lnTo>
                  <a:lnTo>
                    <a:pt x="39685" y="15554"/>
                  </a:lnTo>
                  <a:lnTo>
                    <a:pt x="43390" y="14603"/>
                  </a:lnTo>
                  <a:lnTo>
                    <a:pt x="47553" y="13122"/>
                  </a:lnTo>
                  <a:lnTo>
                    <a:pt x="52022" y="11288"/>
                  </a:lnTo>
                  <a:lnTo>
                    <a:pt x="56695" y="10065"/>
                  </a:lnTo>
                  <a:lnTo>
                    <a:pt x="61503" y="9250"/>
                  </a:lnTo>
                  <a:lnTo>
                    <a:pt x="66402" y="8707"/>
                  </a:lnTo>
                  <a:lnTo>
                    <a:pt x="72208" y="8344"/>
                  </a:lnTo>
                  <a:lnTo>
                    <a:pt x="85433" y="7942"/>
                  </a:lnTo>
                  <a:lnTo>
                    <a:pt x="91669" y="6988"/>
                  </a:lnTo>
                  <a:lnTo>
                    <a:pt x="97519" y="5506"/>
                  </a:lnTo>
                  <a:lnTo>
                    <a:pt x="103113" y="3670"/>
                  </a:lnTo>
                  <a:lnTo>
                    <a:pt x="109382" y="2447"/>
                  </a:lnTo>
                  <a:lnTo>
                    <a:pt x="116101" y="1632"/>
                  </a:lnTo>
                  <a:lnTo>
                    <a:pt x="123121" y="1087"/>
                  </a:lnTo>
                  <a:lnTo>
                    <a:pt x="130341" y="725"/>
                  </a:lnTo>
                  <a:lnTo>
                    <a:pt x="145136" y="322"/>
                  </a:lnTo>
                  <a:lnTo>
                    <a:pt x="226285" y="1"/>
                  </a:lnTo>
                  <a:lnTo>
                    <a:pt x="2362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SMARTInkAnnotation137"/>
            <p:cNvSpPr/>
            <p:nvPr/>
          </p:nvSpPr>
          <p:spPr>
            <a:xfrm>
              <a:off x="1615320" y="3436200"/>
              <a:ext cx="174960" cy="151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75261" h="15241">
                  <a:moveTo>
                    <a:pt x="0" y="15240"/>
                  </a:moveTo>
                  <a:lnTo>
                    <a:pt x="4045" y="15240"/>
                  </a:lnTo>
                  <a:lnTo>
                    <a:pt x="6930" y="14393"/>
                  </a:lnTo>
                  <a:lnTo>
                    <a:pt x="10547" y="12982"/>
                  </a:lnTo>
                  <a:lnTo>
                    <a:pt x="14651" y="11195"/>
                  </a:lnTo>
                  <a:lnTo>
                    <a:pt x="18234" y="10003"/>
                  </a:lnTo>
                  <a:lnTo>
                    <a:pt x="21469" y="9209"/>
                  </a:lnTo>
                  <a:lnTo>
                    <a:pt x="24473" y="8679"/>
                  </a:lnTo>
                  <a:lnTo>
                    <a:pt x="28169" y="8326"/>
                  </a:lnTo>
                  <a:lnTo>
                    <a:pt x="32326" y="8091"/>
                  </a:lnTo>
                  <a:lnTo>
                    <a:pt x="40613" y="7829"/>
                  </a:lnTo>
                  <a:lnTo>
                    <a:pt x="47119" y="7713"/>
                  </a:lnTo>
                  <a:lnTo>
                    <a:pt x="50886" y="6836"/>
                  </a:lnTo>
                  <a:lnTo>
                    <a:pt x="55091" y="5404"/>
                  </a:lnTo>
                  <a:lnTo>
                    <a:pt x="59587" y="3603"/>
                  </a:lnTo>
                  <a:lnTo>
                    <a:pt x="64278" y="2402"/>
                  </a:lnTo>
                  <a:lnTo>
                    <a:pt x="69099" y="1601"/>
                  </a:lnTo>
                  <a:lnTo>
                    <a:pt x="74006" y="1067"/>
                  </a:lnTo>
                  <a:lnTo>
                    <a:pt x="78124" y="712"/>
                  </a:lnTo>
                  <a:lnTo>
                    <a:pt x="81716" y="474"/>
                  </a:lnTo>
                  <a:lnTo>
                    <a:pt x="87965" y="211"/>
                  </a:lnTo>
                  <a:lnTo>
                    <a:pt x="93564" y="94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SMARTInkAnnotation138"/>
            <p:cNvSpPr/>
            <p:nvPr/>
          </p:nvSpPr>
          <p:spPr>
            <a:xfrm>
              <a:off x="1897200" y="3306600"/>
              <a:ext cx="129240" cy="151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29541" h="15241">
                  <a:moveTo>
                    <a:pt x="0" y="15240"/>
                  </a:moveTo>
                  <a:lnTo>
                    <a:pt x="4045" y="15240"/>
                  </a:lnTo>
                  <a:lnTo>
                    <a:pt x="6930" y="14394"/>
                  </a:lnTo>
                  <a:lnTo>
                    <a:pt x="10547" y="12982"/>
                  </a:lnTo>
                  <a:lnTo>
                    <a:pt x="14651" y="11195"/>
                  </a:lnTo>
                  <a:lnTo>
                    <a:pt x="19081" y="10003"/>
                  </a:lnTo>
                  <a:lnTo>
                    <a:pt x="23727" y="9209"/>
                  </a:lnTo>
                  <a:lnTo>
                    <a:pt x="28518" y="8679"/>
                  </a:lnTo>
                  <a:lnTo>
                    <a:pt x="34252" y="8326"/>
                  </a:lnTo>
                  <a:lnTo>
                    <a:pt x="47396" y="7934"/>
                  </a:lnTo>
                  <a:lnTo>
                    <a:pt x="69077" y="7713"/>
                  </a:lnTo>
                  <a:lnTo>
                    <a:pt x="76531" y="6836"/>
                  </a:lnTo>
                  <a:lnTo>
                    <a:pt x="84041" y="5403"/>
                  </a:lnTo>
                  <a:lnTo>
                    <a:pt x="91587" y="3602"/>
                  </a:lnTo>
                  <a:lnTo>
                    <a:pt x="97465" y="2401"/>
                  </a:lnTo>
                  <a:lnTo>
                    <a:pt x="102230" y="1601"/>
                  </a:lnTo>
                  <a:lnTo>
                    <a:pt x="106254" y="1067"/>
                  </a:lnTo>
                  <a:lnTo>
                    <a:pt x="110629" y="712"/>
                  </a:lnTo>
                  <a:lnTo>
                    <a:pt x="115239" y="474"/>
                  </a:lnTo>
                  <a:lnTo>
                    <a:pt x="1295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SMARTInkAnnotation139"/>
            <p:cNvSpPr/>
            <p:nvPr/>
          </p:nvSpPr>
          <p:spPr>
            <a:xfrm>
              <a:off x="2103120" y="3230640"/>
              <a:ext cx="190440" cy="2887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90428" h="289064">
                  <a:moveTo>
                    <a:pt x="38069" y="0"/>
                  </a:moveTo>
                  <a:lnTo>
                    <a:pt x="38069" y="32065"/>
                  </a:lnTo>
                  <a:lnTo>
                    <a:pt x="35811" y="39934"/>
                  </a:lnTo>
                  <a:lnTo>
                    <a:pt x="34024" y="44402"/>
                  </a:lnTo>
                  <a:lnTo>
                    <a:pt x="32832" y="49922"/>
                  </a:lnTo>
                  <a:lnTo>
                    <a:pt x="32038" y="56141"/>
                  </a:lnTo>
                  <a:lnTo>
                    <a:pt x="31508" y="62827"/>
                  </a:lnTo>
                  <a:lnTo>
                    <a:pt x="31155" y="68979"/>
                  </a:lnTo>
                  <a:lnTo>
                    <a:pt x="30763" y="80328"/>
                  </a:lnTo>
                  <a:lnTo>
                    <a:pt x="29812" y="86572"/>
                  </a:lnTo>
                  <a:lnTo>
                    <a:pt x="28331" y="93275"/>
                  </a:lnTo>
                  <a:lnTo>
                    <a:pt x="26497" y="100283"/>
                  </a:lnTo>
                  <a:lnTo>
                    <a:pt x="25274" y="106649"/>
                  </a:lnTo>
                  <a:lnTo>
                    <a:pt x="24459" y="112586"/>
                  </a:lnTo>
                  <a:lnTo>
                    <a:pt x="23916" y="118237"/>
                  </a:lnTo>
                  <a:lnTo>
                    <a:pt x="22707" y="123698"/>
                  </a:lnTo>
                  <a:lnTo>
                    <a:pt x="21054" y="129032"/>
                  </a:lnTo>
                  <a:lnTo>
                    <a:pt x="19106" y="134282"/>
                  </a:lnTo>
                  <a:lnTo>
                    <a:pt x="14683" y="142372"/>
                  </a:lnTo>
                  <a:lnTo>
                    <a:pt x="10742" y="148790"/>
                  </a:lnTo>
                  <a:lnTo>
                    <a:pt x="8990" y="154464"/>
                  </a:lnTo>
                  <a:lnTo>
                    <a:pt x="7676" y="156316"/>
                  </a:lnTo>
                  <a:lnTo>
                    <a:pt x="5954" y="157551"/>
                  </a:lnTo>
                  <a:lnTo>
                    <a:pt x="3959" y="158374"/>
                  </a:lnTo>
                  <a:lnTo>
                    <a:pt x="2629" y="159769"/>
                  </a:lnTo>
                  <a:lnTo>
                    <a:pt x="1743" y="161546"/>
                  </a:lnTo>
                  <a:lnTo>
                    <a:pt x="73" y="167284"/>
                  </a:lnTo>
                  <a:lnTo>
                    <a:pt x="0" y="163489"/>
                  </a:lnTo>
                  <a:lnTo>
                    <a:pt x="1683" y="161486"/>
                  </a:lnTo>
                  <a:lnTo>
                    <a:pt x="4498" y="159304"/>
                  </a:lnTo>
                  <a:lnTo>
                    <a:pt x="8069" y="157003"/>
                  </a:lnTo>
                  <a:lnTo>
                    <a:pt x="11296" y="154622"/>
                  </a:lnTo>
                  <a:lnTo>
                    <a:pt x="17139" y="149718"/>
                  </a:lnTo>
                  <a:lnTo>
                    <a:pt x="20729" y="146379"/>
                  </a:lnTo>
                  <a:lnTo>
                    <a:pt x="33872" y="133589"/>
                  </a:lnTo>
                  <a:lnTo>
                    <a:pt x="43541" y="124001"/>
                  </a:lnTo>
                  <a:lnTo>
                    <a:pt x="48491" y="119921"/>
                  </a:lnTo>
                  <a:lnTo>
                    <a:pt x="53484" y="116354"/>
                  </a:lnTo>
                  <a:lnTo>
                    <a:pt x="58505" y="113129"/>
                  </a:lnTo>
                  <a:lnTo>
                    <a:pt x="64393" y="110133"/>
                  </a:lnTo>
                  <a:lnTo>
                    <a:pt x="70859" y="107288"/>
                  </a:lnTo>
                  <a:lnTo>
                    <a:pt x="77709" y="104546"/>
                  </a:lnTo>
                  <a:lnTo>
                    <a:pt x="83969" y="102717"/>
                  </a:lnTo>
                  <a:lnTo>
                    <a:pt x="89836" y="101498"/>
                  </a:lnTo>
                  <a:lnTo>
                    <a:pt x="95440" y="100686"/>
                  </a:lnTo>
                  <a:lnTo>
                    <a:pt x="100870" y="100144"/>
                  </a:lnTo>
                  <a:lnTo>
                    <a:pt x="106183" y="99783"/>
                  </a:lnTo>
                  <a:lnTo>
                    <a:pt x="115755" y="99381"/>
                  </a:lnTo>
                  <a:lnTo>
                    <a:pt x="122832" y="99203"/>
                  </a:lnTo>
                  <a:lnTo>
                    <a:pt x="126751" y="100002"/>
                  </a:lnTo>
                  <a:lnTo>
                    <a:pt x="131057" y="101381"/>
                  </a:lnTo>
                  <a:lnTo>
                    <a:pt x="135621" y="103148"/>
                  </a:lnTo>
                  <a:lnTo>
                    <a:pt x="140357" y="106018"/>
                  </a:lnTo>
                  <a:lnTo>
                    <a:pt x="145208" y="109625"/>
                  </a:lnTo>
                  <a:lnTo>
                    <a:pt x="150135" y="113724"/>
                  </a:lnTo>
                  <a:lnTo>
                    <a:pt x="155113" y="118149"/>
                  </a:lnTo>
                  <a:lnTo>
                    <a:pt x="165160" y="127582"/>
                  </a:lnTo>
                  <a:lnTo>
                    <a:pt x="169363" y="132468"/>
                  </a:lnTo>
                  <a:lnTo>
                    <a:pt x="173012" y="137419"/>
                  </a:lnTo>
                  <a:lnTo>
                    <a:pt x="176291" y="142413"/>
                  </a:lnTo>
                  <a:lnTo>
                    <a:pt x="179324" y="147435"/>
                  </a:lnTo>
                  <a:lnTo>
                    <a:pt x="182192" y="152477"/>
                  </a:lnTo>
                  <a:lnTo>
                    <a:pt x="184951" y="157531"/>
                  </a:lnTo>
                  <a:lnTo>
                    <a:pt x="186791" y="163441"/>
                  </a:lnTo>
                  <a:lnTo>
                    <a:pt x="188017" y="169921"/>
                  </a:lnTo>
                  <a:lnTo>
                    <a:pt x="188834" y="176781"/>
                  </a:lnTo>
                  <a:lnTo>
                    <a:pt x="189379" y="183894"/>
                  </a:lnTo>
                  <a:lnTo>
                    <a:pt x="189743" y="191176"/>
                  </a:lnTo>
                  <a:lnTo>
                    <a:pt x="190146" y="206040"/>
                  </a:lnTo>
                  <a:lnTo>
                    <a:pt x="190427" y="243880"/>
                  </a:lnTo>
                  <a:lnTo>
                    <a:pt x="188747" y="250640"/>
                  </a:lnTo>
                  <a:lnTo>
                    <a:pt x="185935" y="256840"/>
                  </a:lnTo>
                  <a:lnTo>
                    <a:pt x="182366" y="262667"/>
                  </a:lnTo>
                  <a:lnTo>
                    <a:pt x="179141" y="267398"/>
                  </a:lnTo>
                  <a:lnTo>
                    <a:pt x="173298" y="274913"/>
                  </a:lnTo>
                  <a:lnTo>
                    <a:pt x="168862" y="278102"/>
                  </a:lnTo>
                  <a:lnTo>
                    <a:pt x="163365" y="281075"/>
                  </a:lnTo>
                  <a:lnTo>
                    <a:pt x="157159" y="283903"/>
                  </a:lnTo>
                  <a:lnTo>
                    <a:pt x="151329" y="285789"/>
                  </a:lnTo>
                  <a:lnTo>
                    <a:pt x="145749" y="287046"/>
                  </a:lnTo>
                  <a:lnTo>
                    <a:pt x="140336" y="287884"/>
                  </a:lnTo>
                  <a:lnTo>
                    <a:pt x="135034" y="288442"/>
                  </a:lnTo>
                  <a:lnTo>
                    <a:pt x="129806" y="288815"/>
                  </a:lnTo>
                  <a:lnTo>
                    <a:pt x="124627" y="289063"/>
                  </a:lnTo>
                  <a:lnTo>
                    <a:pt x="118634" y="288382"/>
                  </a:lnTo>
                  <a:lnTo>
                    <a:pt x="112099" y="287082"/>
                  </a:lnTo>
                  <a:lnTo>
                    <a:pt x="105203" y="285368"/>
                  </a:lnTo>
                  <a:lnTo>
                    <a:pt x="99758" y="283379"/>
                  </a:lnTo>
                  <a:lnTo>
                    <a:pt x="95282" y="281206"/>
                  </a:lnTo>
                  <a:lnTo>
                    <a:pt x="83789" y="274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SMARTInkAnnotation140"/>
            <p:cNvSpPr/>
            <p:nvPr/>
          </p:nvSpPr>
          <p:spPr>
            <a:xfrm>
              <a:off x="2087640" y="3238200"/>
              <a:ext cx="297000" cy="75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97181" h="7621">
                  <a:moveTo>
                    <a:pt x="0" y="0"/>
                  </a:moveTo>
                  <a:lnTo>
                    <a:pt x="112714" y="0"/>
                  </a:lnTo>
                  <a:lnTo>
                    <a:pt x="125096" y="847"/>
                  </a:lnTo>
                  <a:lnTo>
                    <a:pt x="137584" y="2258"/>
                  </a:lnTo>
                  <a:lnTo>
                    <a:pt x="150143" y="4045"/>
                  </a:lnTo>
                  <a:lnTo>
                    <a:pt x="163595" y="5237"/>
                  </a:lnTo>
                  <a:lnTo>
                    <a:pt x="177644" y="6032"/>
                  </a:lnTo>
                  <a:lnTo>
                    <a:pt x="205106" y="6914"/>
                  </a:lnTo>
                  <a:lnTo>
                    <a:pt x="248074" y="7481"/>
                  </a:lnTo>
                  <a:lnTo>
                    <a:pt x="29718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SMARTInkAnnotation141"/>
            <p:cNvSpPr/>
            <p:nvPr/>
          </p:nvSpPr>
          <p:spPr>
            <a:xfrm>
              <a:off x="4678920" y="2925720"/>
              <a:ext cx="174960" cy="75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5262" h="7619">
                  <a:moveTo>
                    <a:pt x="0" y="0"/>
                  </a:moveTo>
                  <a:lnTo>
                    <a:pt x="6561" y="0"/>
                  </a:lnTo>
                  <a:lnTo>
                    <a:pt x="7760" y="847"/>
                  </a:lnTo>
                  <a:lnTo>
                    <a:pt x="9407" y="2258"/>
                  </a:lnTo>
                  <a:lnTo>
                    <a:pt x="11352" y="4045"/>
                  </a:lnTo>
                  <a:lnTo>
                    <a:pt x="13495" y="5237"/>
                  </a:lnTo>
                  <a:lnTo>
                    <a:pt x="15770" y="6032"/>
                  </a:lnTo>
                  <a:lnTo>
                    <a:pt x="18133" y="6561"/>
                  </a:lnTo>
                  <a:lnTo>
                    <a:pt x="21402" y="6914"/>
                  </a:lnTo>
                  <a:lnTo>
                    <a:pt x="25275" y="7149"/>
                  </a:lnTo>
                  <a:lnTo>
                    <a:pt x="34094" y="7411"/>
                  </a:lnTo>
                  <a:lnTo>
                    <a:pt x="70901" y="7608"/>
                  </a:lnTo>
                  <a:lnTo>
                    <a:pt x="103564" y="7618"/>
                  </a:lnTo>
                  <a:lnTo>
                    <a:pt x="112223" y="6772"/>
                  </a:lnTo>
                  <a:lnTo>
                    <a:pt x="120535" y="5361"/>
                  </a:lnTo>
                  <a:lnTo>
                    <a:pt x="128617" y="3574"/>
                  </a:lnTo>
                  <a:lnTo>
                    <a:pt x="135698" y="2383"/>
                  </a:lnTo>
                  <a:lnTo>
                    <a:pt x="142112" y="1589"/>
                  </a:lnTo>
                  <a:lnTo>
                    <a:pt x="148081" y="1059"/>
                  </a:lnTo>
                  <a:lnTo>
                    <a:pt x="153755" y="706"/>
                  </a:lnTo>
                  <a:lnTo>
                    <a:pt x="17526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SMARTInkAnnotation142"/>
            <p:cNvSpPr/>
            <p:nvPr/>
          </p:nvSpPr>
          <p:spPr>
            <a:xfrm>
              <a:off x="5054040" y="2636280"/>
              <a:ext cx="234360" cy="47232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472320"/>
                <a:gd name="textAreaBottom" fmla="*/ 472680 h 472320"/>
              </a:gdLst>
              <a:ahLst/>
              <a:rect l="textAreaLeft" t="textAreaTop" r="textAreaRight" b="textAreaBottom"/>
              <a:pathLst>
                <a:path w="234363" h="472441">
                  <a:moveTo>
                    <a:pt x="120062" y="0"/>
                  </a:moveTo>
                  <a:lnTo>
                    <a:pt x="116017" y="4046"/>
                  </a:lnTo>
                  <a:lnTo>
                    <a:pt x="109456" y="14652"/>
                  </a:lnTo>
                  <a:lnTo>
                    <a:pt x="104044" y="23779"/>
                  </a:lnTo>
                  <a:lnTo>
                    <a:pt x="69034" y="76533"/>
                  </a:lnTo>
                  <a:lnTo>
                    <a:pt x="64030" y="84889"/>
                  </a:lnTo>
                  <a:lnTo>
                    <a:pt x="59001" y="93846"/>
                  </a:lnTo>
                  <a:lnTo>
                    <a:pt x="48897" y="112829"/>
                  </a:lnTo>
                  <a:lnTo>
                    <a:pt x="38762" y="132556"/>
                  </a:lnTo>
                  <a:lnTo>
                    <a:pt x="34535" y="143404"/>
                  </a:lnTo>
                  <a:lnTo>
                    <a:pt x="30872" y="154870"/>
                  </a:lnTo>
                  <a:lnTo>
                    <a:pt x="27581" y="166746"/>
                  </a:lnTo>
                  <a:lnTo>
                    <a:pt x="23695" y="178898"/>
                  </a:lnTo>
                  <a:lnTo>
                    <a:pt x="19411" y="191232"/>
                  </a:lnTo>
                  <a:lnTo>
                    <a:pt x="14861" y="203688"/>
                  </a:lnTo>
                  <a:lnTo>
                    <a:pt x="10982" y="216225"/>
                  </a:lnTo>
                  <a:lnTo>
                    <a:pt x="7549" y="228817"/>
                  </a:lnTo>
                  <a:lnTo>
                    <a:pt x="4413" y="241445"/>
                  </a:lnTo>
                  <a:lnTo>
                    <a:pt x="2323" y="253250"/>
                  </a:lnTo>
                  <a:lnTo>
                    <a:pt x="930" y="264507"/>
                  </a:lnTo>
                  <a:lnTo>
                    <a:pt x="0" y="275398"/>
                  </a:lnTo>
                  <a:lnTo>
                    <a:pt x="227" y="286045"/>
                  </a:lnTo>
                  <a:lnTo>
                    <a:pt x="1225" y="296530"/>
                  </a:lnTo>
                  <a:lnTo>
                    <a:pt x="2738" y="306907"/>
                  </a:lnTo>
                  <a:lnTo>
                    <a:pt x="5439" y="317212"/>
                  </a:lnTo>
                  <a:lnTo>
                    <a:pt x="8934" y="327468"/>
                  </a:lnTo>
                  <a:lnTo>
                    <a:pt x="12956" y="337692"/>
                  </a:lnTo>
                  <a:lnTo>
                    <a:pt x="18178" y="347895"/>
                  </a:lnTo>
                  <a:lnTo>
                    <a:pt x="24200" y="358083"/>
                  </a:lnTo>
                  <a:lnTo>
                    <a:pt x="30754" y="368262"/>
                  </a:lnTo>
                  <a:lnTo>
                    <a:pt x="38510" y="377588"/>
                  </a:lnTo>
                  <a:lnTo>
                    <a:pt x="47068" y="386346"/>
                  </a:lnTo>
                  <a:lnTo>
                    <a:pt x="56159" y="394724"/>
                  </a:lnTo>
                  <a:lnTo>
                    <a:pt x="65607" y="402003"/>
                  </a:lnTo>
                  <a:lnTo>
                    <a:pt x="75292" y="408548"/>
                  </a:lnTo>
                  <a:lnTo>
                    <a:pt x="85135" y="414606"/>
                  </a:lnTo>
                  <a:lnTo>
                    <a:pt x="96778" y="420337"/>
                  </a:lnTo>
                  <a:lnTo>
                    <a:pt x="109619" y="425852"/>
                  </a:lnTo>
                  <a:lnTo>
                    <a:pt x="173877" y="451159"/>
                  </a:lnTo>
                  <a:lnTo>
                    <a:pt x="193086" y="458184"/>
                  </a:lnTo>
                  <a:lnTo>
                    <a:pt x="234362" y="4724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SMARTInkAnnotation143"/>
            <p:cNvSpPr/>
            <p:nvPr/>
          </p:nvSpPr>
          <p:spPr>
            <a:xfrm>
              <a:off x="5220000" y="2826720"/>
              <a:ext cx="144720" cy="30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4781" h="30481">
                  <a:moveTo>
                    <a:pt x="0" y="30480"/>
                  </a:moveTo>
                  <a:lnTo>
                    <a:pt x="6561" y="30480"/>
                  </a:lnTo>
                  <a:lnTo>
                    <a:pt x="7760" y="29634"/>
                  </a:lnTo>
                  <a:lnTo>
                    <a:pt x="9408" y="28222"/>
                  </a:lnTo>
                  <a:lnTo>
                    <a:pt x="11352" y="26435"/>
                  </a:lnTo>
                  <a:lnTo>
                    <a:pt x="15187" y="25243"/>
                  </a:lnTo>
                  <a:lnTo>
                    <a:pt x="20285" y="24449"/>
                  </a:lnTo>
                  <a:lnTo>
                    <a:pt x="26224" y="23919"/>
                  </a:lnTo>
                  <a:lnTo>
                    <a:pt x="31876" y="22720"/>
                  </a:lnTo>
                  <a:lnTo>
                    <a:pt x="37337" y="21073"/>
                  </a:lnTo>
                  <a:lnTo>
                    <a:pt x="42671" y="19129"/>
                  </a:lnTo>
                  <a:lnTo>
                    <a:pt x="49614" y="17833"/>
                  </a:lnTo>
                  <a:lnTo>
                    <a:pt x="57630" y="16969"/>
                  </a:lnTo>
                  <a:lnTo>
                    <a:pt x="66360" y="16392"/>
                  </a:lnTo>
                  <a:lnTo>
                    <a:pt x="75566" y="15162"/>
                  </a:lnTo>
                  <a:lnTo>
                    <a:pt x="85091" y="13494"/>
                  </a:lnTo>
                  <a:lnTo>
                    <a:pt x="94828" y="11536"/>
                  </a:lnTo>
                  <a:lnTo>
                    <a:pt x="103011" y="10231"/>
                  </a:lnTo>
                  <a:lnTo>
                    <a:pt x="110161" y="9360"/>
                  </a:lnTo>
                  <a:lnTo>
                    <a:pt x="116621" y="8781"/>
                  </a:lnTo>
                  <a:lnTo>
                    <a:pt x="122620" y="7547"/>
                  </a:lnTo>
                  <a:lnTo>
                    <a:pt x="128314" y="5878"/>
                  </a:lnTo>
                  <a:lnTo>
                    <a:pt x="1447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SMARTInkAnnotation144"/>
            <p:cNvSpPr/>
            <p:nvPr/>
          </p:nvSpPr>
          <p:spPr>
            <a:xfrm>
              <a:off x="5456160" y="2742840"/>
              <a:ext cx="228600" cy="2358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228601" h="236066">
                  <a:moveTo>
                    <a:pt x="0" y="15229"/>
                  </a:moveTo>
                  <a:lnTo>
                    <a:pt x="6561" y="15229"/>
                  </a:lnTo>
                  <a:lnTo>
                    <a:pt x="11352" y="11184"/>
                  </a:lnTo>
                  <a:lnTo>
                    <a:pt x="18028" y="6940"/>
                  </a:lnTo>
                  <a:lnTo>
                    <a:pt x="22178" y="4623"/>
                  </a:lnTo>
                  <a:lnTo>
                    <a:pt x="27486" y="3078"/>
                  </a:lnTo>
                  <a:lnTo>
                    <a:pt x="33564" y="2049"/>
                  </a:lnTo>
                  <a:lnTo>
                    <a:pt x="40156" y="1362"/>
                  </a:lnTo>
                  <a:lnTo>
                    <a:pt x="46244" y="904"/>
                  </a:lnTo>
                  <a:lnTo>
                    <a:pt x="51997" y="599"/>
                  </a:lnTo>
                  <a:lnTo>
                    <a:pt x="57524" y="396"/>
                  </a:lnTo>
                  <a:lnTo>
                    <a:pt x="77440" y="110"/>
                  </a:lnTo>
                  <a:lnTo>
                    <a:pt x="111424" y="0"/>
                  </a:lnTo>
                  <a:lnTo>
                    <a:pt x="116616" y="843"/>
                  </a:lnTo>
                  <a:lnTo>
                    <a:pt x="121770" y="2251"/>
                  </a:lnTo>
                  <a:lnTo>
                    <a:pt x="126900" y="4037"/>
                  </a:lnTo>
                  <a:lnTo>
                    <a:pt x="131167" y="5228"/>
                  </a:lnTo>
                  <a:lnTo>
                    <a:pt x="138165" y="6551"/>
                  </a:lnTo>
                  <a:lnTo>
                    <a:pt x="140371" y="7750"/>
                  </a:lnTo>
                  <a:lnTo>
                    <a:pt x="141841" y="9397"/>
                  </a:lnTo>
                  <a:lnTo>
                    <a:pt x="142820" y="11341"/>
                  </a:lnTo>
                  <a:lnTo>
                    <a:pt x="142627" y="14330"/>
                  </a:lnTo>
                  <a:lnTo>
                    <a:pt x="141652" y="18017"/>
                  </a:lnTo>
                  <a:lnTo>
                    <a:pt x="140155" y="22167"/>
                  </a:lnTo>
                  <a:lnTo>
                    <a:pt x="137463" y="26628"/>
                  </a:lnTo>
                  <a:lnTo>
                    <a:pt x="133976" y="31295"/>
                  </a:lnTo>
                  <a:lnTo>
                    <a:pt x="129957" y="36100"/>
                  </a:lnTo>
                  <a:lnTo>
                    <a:pt x="125585" y="40149"/>
                  </a:lnTo>
                  <a:lnTo>
                    <a:pt x="120977" y="43696"/>
                  </a:lnTo>
                  <a:lnTo>
                    <a:pt x="116211" y="46907"/>
                  </a:lnTo>
                  <a:lnTo>
                    <a:pt x="111341" y="50741"/>
                  </a:lnTo>
                  <a:lnTo>
                    <a:pt x="106401" y="54990"/>
                  </a:lnTo>
                  <a:lnTo>
                    <a:pt x="101414" y="59517"/>
                  </a:lnTo>
                  <a:lnTo>
                    <a:pt x="95549" y="64227"/>
                  </a:lnTo>
                  <a:lnTo>
                    <a:pt x="89100" y="69061"/>
                  </a:lnTo>
                  <a:lnTo>
                    <a:pt x="65629" y="86213"/>
                  </a:lnTo>
                  <a:lnTo>
                    <a:pt x="56453" y="93032"/>
                  </a:lnTo>
                  <a:lnTo>
                    <a:pt x="48642" y="99271"/>
                  </a:lnTo>
                  <a:lnTo>
                    <a:pt x="41741" y="105123"/>
                  </a:lnTo>
                  <a:lnTo>
                    <a:pt x="35447" y="110719"/>
                  </a:lnTo>
                  <a:lnTo>
                    <a:pt x="29559" y="116989"/>
                  </a:lnTo>
                  <a:lnTo>
                    <a:pt x="23939" y="123709"/>
                  </a:lnTo>
                  <a:lnTo>
                    <a:pt x="18499" y="130729"/>
                  </a:lnTo>
                  <a:lnTo>
                    <a:pt x="14027" y="137102"/>
                  </a:lnTo>
                  <a:lnTo>
                    <a:pt x="10197" y="143044"/>
                  </a:lnTo>
                  <a:lnTo>
                    <a:pt x="6798" y="148699"/>
                  </a:lnTo>
                  <a:lnTo>
                    <a:pt x="4532" y="154163"/>
                  </a:lnTo>
                  <a:lnTo>
                    <a:pt x="3021" y="159498"/>
                  </a:lnTo>
                  <a:lnTo>
                    <a:pt x="2015" y="164749"/>
                  </a:lnTo>
                  <a:lnTo>
                    <a:pt x="1343" y="169942"/>
                  </a:lnTo>
                  <a:lnTo>
                    <a:pt x="895" y="175098"/>
                  </a:lnTo>
                  <a:lnTo>
                    <a:pt x="597" y="180228"/>
                  </a:lnTo>
                  <a:lnTo>
                    <a:pt x="2091" y="185342"/>
                  </a:lnTo>
                  <a:lnTo>
                    <a:pt x="4781" y="190444"/>
                  </a:lnTo>
                  <a:lnTo>
                    <a:pt x="8267" y="195539"/>
                  </a:lnTo>
                  <a:lnTo>
                    <a:pt x="13132" y="200629"/>
                  </a:lnTo>
                  <a:lnTo>
                    <a:pt x="18915" y="205716"/>
                  </a:lnTo>
                  <a:lnTo>
                    <a:pt x="25310" y="210800"/>
                  </a:lnTo>
                  <a:lnTo>
                    <a:pt x="32960" y="215037"/>
                  </a:lnTo>
                  <a:lnTo>
                    <a:pt x="41447" y="218707"/>
                  </a:lnTo>
                  <a:lnTo>
                    <a:pt x="50491" y="222001"/>
                  </a:lnTo>
                  <a:lnTo>
                    <a:pt x="59908" y="225044"/>
                  </a:lnTo>
                  <a:lnTo>
                    <a:pt x="69572" y="227919"/>
                  </a:lnTo>
                  <a:lnTo>
                    <a:pt x="79401" y="230682"/>
                  </a:lnTo>
                  <a:lnTo>
                    <a:pt x="88495" y="232525"/>
                  </a:lnTo>
                  <a:lnTo>
                    <a:pt x="97096" y="233753"/>
                  </a:lnTo>
                  <a:lnTo>
                    <a:pt x="105371" y="234571"/>
                  </a:lnTo>
                  <a:lnTo>
                    <a:pt x="114274" y="235117"/>
                  </a:lnTo>
                  <a:lnTo>
                    <a:pt x="133197" y="235724"/>
                  </a:lnTo>
                  <a:lnTo>
                    <a:pt x="162891" y="236065"/>
                  </a:lnTo>
                  <a:lnTo>
                    <a:pt x="172941" y="235266"/>
                  </a:lnTo>
                  <a:lnTo>
                    <a:pt x="183027" y="233888"/>
                  </a:lnTo>
                  <a:lnTo>
                    <a:pt x="193138" y="232121"/>
                  </a:lnTo>
                  <a:lnTo>
                    <a:pt x="201572" y="230944"/>
                  </a:lnTo>
                  <a:lnTo>
                    <a:pt x="208888" y="230159"/>
                  </a:lnTo>
                  <a:lnTo>
                    <a:pt x="228600" y="2285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SMARTInkAnnotation145"/>
            <p:cNvSpPr/>
            <p:nvPr/>
          </p:nvSpPr>
          <p:spPr>
            <a:xfrm>
              <a:off x="5974560" y="2856960"/>
              <a:ext cx="190440" cy="15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0501" h="15241">
                  <a:moveTo>
                    <a:pt x="0" y="15240"/>
                  </a:moveTo>
                  <a:lnTo>
                    <a:pt x="50944" y="15240"/>
                  </a:lnTo>
                  <a:lnTo>
                    <a:pt x="56822" y="14394"/>
                  </a:lnTo>
                  <a:lnTo>
                    <a:pt x="63282" y="12982"/>
                  </a:lnTo>
                  <a:lnTo>
                    <a:pt x="70128" y="11195"/>
                  </a:lnTo>
                  <a:lnTo>
                    <a:pt x="76386" y="10003"/>
                  </a:lnTo>
                  <a:lnTo>
                    <a:pt x="82250" y="9209"/>
                  </a:lnTo>
                  <a:lnTo>
                    <a:pt x="87853" y="8679"/>
                  </a:lnTo>
                  <a:lnTo>
                    <a:pt x="94129" y="8326"/>
                  </a:lnTo>
                  <a:lnTo>
                    <a:pt x="107875" y="7934"/>
                  </a:lnTo>
                  <a:lnTo>
                    <a:pt x="129894" y="7713"/>
                  </a:lnTo>
                  <a:lnTo>
                    <a:pt x="136549" y="6836"/>
                  </a:lnTo>
                  <a:lnTo>
                    <a:pt x="142680" y="5403"/>
                  </a:lnTo>
                  <a:lnTo>
                    <a:pt x="148460" y="3602"/>
                  </a:lnTo>
                  <a:lnTo>
                    <a:pt x="154854" y="2402"/>
                  </a:lnTo>
                  <a:lnTo>
                    <a:pt x="161655" y="1601"/>
                  </a:lnTo>
                  <a:lnTo>
                    <a:pt x="174294" y="712"/>
                  </a:ln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SMARTInkAnnotation146"/>
            <p:cNvSpPr/>
            <p:nvPr/>
          </p:nvSpPr>
          <p:spPr>
            <a:xfrm>
              <a:off x="6317280" y="2605680"/>
              <a:ext cx="350280" cy="53316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50509" h="533401">
                  <a:moveTo>
                    <a:pt x="68569" y="0"/>
                  </a:moveTo>
                  <a:lnTo>
                    <a:pt x="68569" y="10606"/>
                  </a:lnTo>
                  <a:lnTo>
                    <a:pt x="67722" y="12997"/>
                  </a:lnTo>
                  <a:lnTo>
                    <a:pt x="63332" y="20408"/>
                  </a:lnTo>
                  <a:lnTo>
                    <a:pt x="57217" y="37077"/>
                  </a:lnTo>
                  <a:lnTo>
                    <a:pt x="55057" y="44137"/>
                  </a:lnTo>
                  <a:lnTo>
                    <a:pt x="53250" y="50943"/>
                  </a:lnTo>
                  <a:lnTo>
                    <a:pt x="48319" y="64295"/>
                  </a:lnTo>
                  <a:lnTo>
                    <a:pt x="45635" y="78129"/>
                  </a:lnTo>
                  <a:lnTo>
                    <a:pt x="42007" y="84960"/>
                  </a:lnTo>
                  <a:lnTo>
                    <a:pt x="39830" y="95333"/>
                  </a:lnTo>
                  <a:lnTo>
                    <a:pt x="38016" y="107564"/>
                  </a:lnTo>
                  <a:lnTo>
                    <a:pt x="34387" y="118644"/>
                  </a:lnTo>
                  <a:lnTo>
                    <a:pt x="5060" y="205773"/>
                  </a:lnTo>
                  <a:lnTo>
                    <a:pt x="2242" y="220995"/>
                  </a:lnTo>
                  <a:lnTo>
                    <a:pt x="990" y="236226"/>
                  </a:lnTo>
                  <a:lnTo>
                    <a:pt x="434" y="251463"/>
                  </a:lnTo>
                  <a:lnTo>
                    <a:pt x="47" y="295592"/>
                  </a:lnTo>
                  <a:lnTo>
                    <a:pt x="0" y="327346"/>
                  </a:lnTo>
                  <a:lnTo>
                    <a:pt x="4509" y="342760"/>
                  </a:lnTo>
                  <a:lnTo>
                    <a:pt x="11311" y="358078"/>
                  </a:lnTo>
                  <a:lnTo>
                    <a:pt x="17157" y="373352"/>
                  </a:lnTo>
                  <a:lnTo>
                    <a:pt x="27092" y="388608"/>
                  </a:lnTo>
                  <a:lnTo>
                    <a:pt x="33297" y="396232"/>
                  </a:lnTo>
                  <a:lnTo>
                    <a:pt x="39974" y="403008"/>
                  </a:lnTo>
                  <a:lnTo>
                    <a:pt x="46966" y="409219"/>
                  </a:lnTo>
                  <a:lnTo>
                    <a:pt x="54167" y="415053"/>
                  </a:lnTo>
                  <a:lnTo>
                    <a:pt x="61507" y="421482"/>
                  </a:lnTo>
                  <a:lnTo>
                    <a:pt x="68941" y="428308"/>
                  </a:lnTo>
                  <a:lnTo>
                    <a:pt x="76437" y="435399"/>
                  </a:lnTo>
                  <a:lnTo>
                    <a:pt x="84821" y="441819"/>
                  </a:lnTo>
                  <a:lnTo>
                    <a:pt x="93796" y="447793"/>
                  </a:lnTo>
                  <a:lnTo>
                    <a:pt x="103167" y="453468"/>
                  </a:lnTo>
                  <a:lnTo>
                    <a:pt x="111954" y="458099"/>
                  </a:lnTo>
                  <a:lnTo>
                    <a:pt x="120352" y="462033"/>
                  </a:lnTo>
                  <a:lnTo>
                    <a:pt x="138150" y="469508"/>
                  </a:lnTo>
                  <a:lnTo>
                    <a:pt x="160172" y="478474"/>
                  </a:lnTo>
                  <a:lnTo>
                    <a:pt x="171124" y="483236"/>
                  </a:lnTo>
                  <a:lnTo>
                    <a:pt x="192324" y="493043"/>
                  </a:lnTo>
                  <a:lnTo>
                    <a:pt x="202719" y="497182"/>
                  </a:lnTo>
                  <a:lnTo>
                    <a:pt x="213035" y="500788"/>
                  </a:lnTo>
                  <a:lnTo>
                    <a:pt x="223299" y="504039"/>
                  </a:lnTo>
                  <a:lnTo>
                    <a:pt x="234376" y="507053"/>
                  </a:lnTo>
                  <a:lnTo>
                    <a:pt x="245993" y="509908"/>
                  </a:lnTo>
                  <a:lnTo>
                    <a:pt x="257971" y="512659"/>
                  </a:lnTo>
                  <a:lnTo>
                    <a:pt x="268498" y="515339"/>
                  </a:lnTo>
                  <a:lnTo>
                    <a:pt x="278054" y="517973"/>
                  </a:lnTo>
                  <a:lnTo>
                    <a:pt x="295445" y="523157"/>
                  </a:lnTo>
                  <a:lnTo>
                    <a:pt x="311644" y="528283"/>
                  </a:lnTo>
                  <a:lnTo>
                    <a:pt x="318672" y="529989"/>
                  </a:lnTo>
                  <a:lnTo>
                    <a:pt x="325050" y="531126"/>
                  </a:lnTo>
                  <a:lnTo>
                    <a:pt x="335807" y="532390"/>
                  </a:lnTo>
                  <a:lnTo>
                    <a:pt x="339861" y="532726"/>
                  </a:lnTo>
                  <a:lnTo>
                    <a:pt x="350508" y="5334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SMARTInkAnnotation147"/>
            <p:cNvSpPr/>
            <p:nvPr/>
          </p:nvSpPr>
          <p:spPr>
            <a:xfrm>
              <a:off x="6500520" y="2811240"/>
              <a:ext cx="144720" cy="2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44781" h="22861">
                  <a:moveTo>
                    <a:pt x="0" y="22860"/>
                  </a:moveTo>
                  <a:lnTo>
                    <a:pt x="21957" y="22860"/>
                  </a:lnTo>
                  <a:lnTo>
                    <a:pt x="26491" y="22014"/>
                  </a:lnTo>
                  <a:lnTo>
                    <a:pt x="31207" y="20602"/>
                  </a:lnTo>
                  <a:lnTo>
                    <a:pt x="36046" y="18815"/>
                  </a:lnTo>
                  <a:lnTo>
                    <a:pt x="40963" y="17623"/>
                  </a:lnTo>
                  <a:lnTo>
                    <a:pt x="45936" y="16829"/>
                  </a:lnTo>
                  <a:lnTo>
                    <a:pt x="50944" y="16299"/>
                  </a:lnTo>
                  <a:lnTo>
                    <a:pt x="55976" y="15946"/>
                  </a:lnTo>
                  <a:lnTo>
                    <a:pt x="61024" y="15711"/>
                  </a:lnTo>
                  <a:lnTo>
                    <a:pt x="71148" y="15450"/>
                  </a:lnTo>
                  <a:lnTo>
                    <a:pt x="81293" y="15333"/>
                  </a:lnTo>
                  <a:lnTo>
                    <a:pt x="86369" y="14456"/>
                  </a:lnTo>
                  <a:lnTo>
                    <a:pt x="91445" y="13023"/>
                  </a:lnTo>
                  <a:lnTo>
                    <a:pt x="96524" y="11222"/>
                  </a:lnTo>
                  <a:lnTo>
                    <a:pt x="100756" y="10022"/>
                  </a:lnTo>
                  <a:lnTo>
                    <a:pt x="104424" y="9221"/>
                  </a:lnTo>
                  <a:lnTo>
                    <a:pt x="107717" y="8687"/>
                  </a:lnTo>
                  <a:lnTo>
                    <a:pt x="111605" y="8332"/>
                  </a:lnTo>
                  <a:lnTo>
                    <a:pt x="115890" y="8094"/>
                  </a:lnTo>
                  <a:lnTo>
                    <a:pt x="126844" y="7714"/>
                  </a:lnTo>
                  <a:lnTo>
                    <a:pt x="132786" y="7648"/>
                  </a:lnTo>
                  <a:lnTo>
                    <a:pt x="135092" y="6792"/>
                  </a:lnTo>
                  <a:lnTo>
                    <a:pt x="137474" y="5375"/>
                  </a:lnTo>
                  <a:lnTo>
                    <a:pt x="1447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SMARTInkAnnotation148"/>
            <p:cNvSpPr/>
            <p:nvPr/>
          </p:nvSpPr>
          <p:spPr>
            <a:xfrm>
              <a:off x="6791040" y="2559960"/>
              <a:ext cx="250200" cy="54072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250231" h="541021">
                  <a:moveTo>
                    <a:pt x="120690" y="0"/>
                  </a:moveTo>
                  <a:lnTo>
                    <a:pt x="120690" y="7307"/>
                  </a:lnTo>
                  <a:lnTo>
                    <a:pt x="116645" y="11573"/>
                  </a:lnTo>
                  <a:lnTo>
                    <a:pt x="115453" y="13642"/>
                  </a:lnTo>
                  <a:lnTo>
                    <a:pt x="112930" y="20599"/>
                  </a:lnTo>
                  <a:lnTo>
                    <a:pt x="109340" y="25524"/>
                  </a:lnTo>
                  <a:lnTo>
                    <a:pt x="108043" y="28870"/>
                  </a:lnTo>
                  <a:lnTo>
                    <a:pt x="105371" y="40821"/>
                  </a:lnTo>
                  <a:lnTo>
                    <a:pt x="101746" y="47212"/>
                  </a:lnTo>
                  <a:lnTo>
                    <a:pt x="95055" y="55132"/>
                  </a:lnTo>
                  <a:lnTo>
                    <a:pt x="90901" y="59615"/>
                  </a:lnTo>
                  <a:lnTo>
                    <a:pt x="86436" y="65143"/>
                  </a:lnTo>
                  <a:lnTo>
                    <a:pt x="81768" y="71369"/>
                  </a:lnTo>
                  <a:lnTo>
                    <a:pt x="76963" y="78059"/>
                  </a:lnTo>
                  <a:lnTo>
                    <a:pt x="69365" y="92266"/>
                  </a:lnTo>
                  <a:lnTo>
                    <a:pt x="62319" y="107047"/>
                  </a:lnTo>
                  <a:lnTo>
                    <a:pt x="58069" y="114545"/>
                  </a:lnTo>
                  <a:lnTo>
                    <a:pt x="53543" y="122084"/>
                  </a:lnTo>
                  <a:lnTo>
                    <a:pt x="43998" y="137233"/>
                  </a:lnTo>
                  <a:lnTo>
                    <a:pt x="24074" y="167654"/>
                  </a:lnTo>
                  <a:lnTo>
                    <a:pt x="19873" y="176116"/>
                  </a:lnTo>
                  <a:lnTo>
                    <a:pt x="16226" y="185144"/>
                  </a:lnTo>
                  <a:lnTo>
                    <a:pt x="12948" y="194549"/>
                  </a:lnTo>
                  <a:lnTo>
                    <a:pt x="10762" y="204206"/>
                  </a:lnTo>
                  <a:lnTo>
                    <a:pt x="9304" y="214031"/>
                  </a:lnTo>
                  <a:lnTo>
                    <a:pt x="8333" y="223967"/>
                  </a:lnTo>
                  <a:lnTo>
                    <a:pt x="6839" y="233978"/>
                  </a:lnTo>
                  <a:lnTo>
                    <a:pt x="4996" y="244039"/>
                  </a:lnTo>
                  <a:lnTo>
                    <a:pt x="2921" y="254133"/>
                  </a:lnTo>
                  <a:lnTo>
                    <a:pt x="1537" y="264248"/>
                  </a:lnTo>
                  <a:lnTo>
                    <a:pt x="615" y="274379"/>
                  </a:lnTo>
                  <a:lnTo>
                    <a:pt x="0" y="284519"/>
                  </a:lnTo>
                  <a:lnTo>
                    <a:pt x="437" y="294666"/>
                  </a:lnTo>
                  <a:lnTo>
                    <a:pt x="1575" y="304818"/>
                  </a:lnTo>
                  <a:lnTo>
                    <a:pt x="3180" y="314972"/>
                  </a:lnTo>
                  <a:lnTo>
                    <a:pt x="5097" y="324281"/>
                  </a:lnTo>
                  <a:lnTo>
                    <a:pt x="7222" y="333027"/>
                  </a:lnTo>
                  <a:lnTo>
                    <a:pt x="16715" y="369360"/>
                  </a:lnTo>
                  <a:lnTo>
                    <a:pt x="20893" y="378320"/>
                  </a:lnTo>
                  <a:lnTo>
                    <a:pt x="26219" y="386833"/>
                  </a:lnTo>
                  <a:lnTo>
                    <a:pt x="32310" y="395049"/>
                  </a:lnTo>
                  <a:lnTo>
                    <a:pt x="43593" y="410951"/>
                  </a:lnTo>
                  <a:lnTo>
                    <a:pt x="48972" y="418747"/>
                  </a:lnTo>
                  <a:lnTo>
                    <a:pt x="55944" y="427331"/>
                  </a:lnTo>
                  <a:lnTo>
                    <a:pt x="63980" y="436441"/>
                  </a:lnTo>
                  <a:lnTo>
                    <a:pt x="72723" y="445901"/>
                  </a:lnTo>
                  <a:lnTo>
                    <a:pt x="81093" y="453900"/>
                  </a:lnTo>
                  <a:lnTo>
                    <a:pt x="89211" y="460927"/>
                  </a:lnTo>
                  <a:lnTo>
                    <a:pt x="97164" y="467305"/>
                  </a:lnTo>
                  <a:lnTo>
                    <a:pt x="105853" y="473250"/>
                  </a:lnTo>
                  <a:lnTo>
                    <a:pt x="115032" y="478907"/>
                  </a:lnTo>
                  <a:lnTo>
                    <a:pt x="124539" y="484371"/>
                  </a:lnTo>
                  <a:lnTo>
                    <a:pt x="133416" y="490554"/>
                  </a:lnTo>
                  <a:lnTo>
                    <a:pt x="141873" y="497216"/>
                  </a:lnTo>
                  <a:lnTo>
                    <a:pt x="150052" y="504197"/>
                  </a:lnTo>
                  <a:lnTo>
                    <a:pt x="158892" y="509698"/>
                  </a:lnTo>
                  <a:lnTo>
                    <a:pt x="168171" y="514212"/>
                  </a:lnTo>
                  <a:lnTo>
                    <a:pt x="177744" y="518068"/>
                  </a:lnTo>
                  <a:lnTo>
                    <a:pt x="195154" y="524610"/>
                  </a:lnTo>
                  <a:lnTo>
                    <a:pt x="203353" y="527540"/>
                  </a:lnTo>
                  <a:lnTo>
                    <a:pt x="210512" y="530340"/>
                  </a:lnTo>
                  <a:lnTo>
                    <a:pt x="216978" y="533053"/>
                  </a:lnTo>
                  <a:lnTo>
                    <a:pt x="222982" y="535709"/>
                  </a:lnTo>
                  <a:lnTo>
                    <a:pt x="228678" y="537479"/>
                  </a:lnTo>
                  <a:lnTo>
                    <a:pt x="234168" y="538659"/>
                  </a:lnTo>
                  <a:lnTo>
                    <a:pt x="250230" y="5410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SMARTInkAnnotation149"/>
            <p:cNvSpPr/>
            <p:nvPr/>
          </p:nvSpPr>
          <p:spPr>
            <a:xfrm>
              <a:off x="7033680" y="2796120"/>
              <a:ext cx="129240" cy="3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29541" h="1">
                  <a:moveTo>
                    <a:pt x="0" y="0"/>
                  </a:moveTo>
                  <a:lnTo>
                    <a:pt x="1295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SMARTInkAnnotation150"/>
            <p:cNvSpPr/>
            <p:nvPr/>
          </p:nvSpPr>
          <p:spPr>
            <a:xfrm>
              <a:off x="7277760" y="2636280"/>
              <a:ext cx="144360" cy="3045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4560"/>
                <a:gd name="textAreaBottom" fmla="*/ 304560 h 304560"/>
              </a:gdLst>
              <a:ahLst/>
              <a:rect l="textAreaLeft" t="textAreaTop" r="textAreaRight" b="textAreaBottom"/>
              <a:pathLst>
                <a:path w="144676" h="304801">
                  <a:moveTo>
                    <a:pt x="0" y="38100"/>
                  </a:moveTo>
                  <a:lnTo>
                    <a:pt x="0" y="31539"/>
                  </a:lnTo>
                  <a:lnTo>
                    <a:pt x="846" y="31186"/>
                  </a:lnTo>
                  <a:lnTo>
                    <a:pt x="4045" y="30794"/>
                  </a:lnTo>
                  <a:lnTo>
                    <a:pt x="6083" y="29843"/>
                  </a:lnTo>
                  <a:lnTo>
                    <a:pt x="8289" y="28362"/>
                  </a:lnTo>
                  <a:lnTo>
                    <a:pt x="10606" y="26528"/>
                  </a:lnTo>
                  <a:lnTo>
                    <a:pt x="12998" y="24459"/>
                  </a:lnTo>
                  <a:lnTo>
                    <a:pt x="15439" y="22233"/>
                  </a:lnTo>
                  <a:lnTo>
                    <a:pt x="17913" y="19902"/>
                  </a:lnTo>
                  <a:lnTo>
                    <a:pt x="20408" y="18348"/>
                  </a:lnTo>
                  <a:lnTo>
                    <a:pt x="22919" y="17312"/>
                  </a:lnTo>
                  <a:lnTo>
                    <a:pt x="25440" y="16622"/>
                  </a:lnTo>
                  <a:lnTo>
                    <a:pt x="28813" y="15314"/>
                  </a:lnTo>
                  <a:lnTo>
                    <a:pt x="32755" y="13596"/>
                  </a:lnTo>
                  <a:lnTo>
                    <a:pt x="37077" y="11604"/>
                  </a:lnTo>
                  <a:lnTo>
                    <a:pt x="41652" y="10276"/>
                  </a:lnTo>
                  <a:lnTo>
                    <a:pt x="46393" y="9391"/>
                  </a:lnTo>
                  <a:lnTo>
                    <a:pt x="51249" y="8801"/>
                  </a:lnTo>
                  <a:lnTo>
                    <a:pt x="55332" y="7560"/>
                  </a:lnTo>
                  <a:lnTo>
                    <a:pt x="58903" y="5887"/>
                  </a:lnTo>
                  <a:lnTo>
                    <a:pt x="62129" y="3925"/>
                  </a:lnTo>
                  <a:lnTo>
                    <a:pt x="66818" y="2617"/>
                  </a:lnTo>
                  <a:lnTo>
                    <a:pt x="72486" y="1744"/>
                  </a:lnTo>
                  <a:lnTo>
                    <a:pt x="78804" y="1163"/>
                  </a:lnTo>
                  <a:lnTo>
                    <a:pt x="83863" y="776"/>
                  </a:lnTo>
                  <a:lnTo>
                    <a:pt x="88081" y="517"/>
                  </a:lnTo>
                  <a:lnTo>
                    <a:pt x="91742" y="345"/>
                  </a:lnTo>
                  <a:lnTo>
                    <a:pt x="100323" y="153"/>
                  </a:lnTo>
                  <a:lnTo>
                    <a:pt x="144427" y="0"/>
                  </a:lnTo>
                  <a:lnTo>
                    <a:pt x="144675" y="4046"/>
                  </a:lnTo>
                  <a:lnTo>
                    <a:pt x="143864" y="6084"/>
                  </a:lnTo>
                  <a:lnTo>
                    <a:pt x="139522" y="12997"/>
                  </a:lnTo>
                  <a:lnTo>
                    <a:pt x="138210" y="17912"/>
                  </a:lnTo>
                  <a:lnTo>
                    <a:pt x="137626" y="25177"/>
                  </a:lnTo>
                  <a:lnTo>
                    <a:pt x="137471" y="29485"/>
                  </a:lnTo>
                  <a:lnTo>
                    <a:pt x="135041" y="38786"/>
                  </a:lnTo>
                  <a:lnTo>
                    <a:pt x="133207" y="43638"/>
                  </a:lnTo>
                  <a:lnTo>
                    <a:pt x="131139" y="48565"/>
                  </a:lnTo>
                  <a:lnTo>
                    <a:pt x="128912" y="53544"/>
                  </a:lnTo>
                  <a:lnTo>
                    <a:pt x="124181" y="63590"/>
                  </a:lnTo>
                  <a:lnTo>
                    <a:pt x="119256" y="73700"/>
                  </a:lnTo>
                  <a:lnTo>
                    <a:pt x="116758" y="79614"/>
                  </a:lnTo>
                  <a:lnTo>
                    <a:pt x="114244" y="86096"/>
                  </a:lnTo>
                  <a:lnTo>
                    <a:pt x="111723" y="92957"/>
                  </a:lnTo>
                  <a:lnTo>
                    <a:pt x="109196" y="99225"/>
                  </a:lnTo>
                  <a:lnTo>
                    <a:pt x="106663" y="105096"/>
                  </a:lnTo>
                  <a:lnTo>
                    <a:pt x="104129" y="110704"/>
                  </a:lnTo>
                  <a:lnTo>
                    <a:pt x="101593" y="117830"/>
                  </a:lnTo>
                  <a:lnTo>
                    <a:pt x="99055" y="125967"/>
                  </a:lnTo>
                  <a:lnTo>
                    <a:pt x="96517" y="134778"/>
                  </a:lnTo>
                  <a:lnTo>
                    <a:pt x="93132" y="142345"/>
                  </a:lnTo>
                  <a:lnTo>
                    <a:pt x="89181" y="149084"/>
                  </a:lnTo>
                  <a:lnTo>
                    <a:pt x="84855" y="155269"/>
                  </a:lnTo>
                  <a:lnTo>
                    <a:pt x="81123" y="161933"/>
                  </a:lnTo>
                  <a:lnTo>
                    <a:pt x="77789" y="168916"/>
                  </a:lnTo>
                  <a:lnTo>
                    <a:pt x="74719" y="176110"/>
                  </a:lnTo>
                  <a:lnTo>
                    <a:pt x="71827" y="183447"/>
                  </a:lnTo>
                  <a:lnTo>
                    <a:pt x="66354" y="198372"/>
                  </a:lnTo>
                  <a:lnTo>
                    <a:pt x="64557" y="205061"/>
                  </a:lnTo>
                  <a:lnTo>
                    <a:pt x="63357" y="211214"/>
                  </a:lnTo>
                  <a:lnTo>
                    <a:pt x="62558" y="217010"/>
                  </a:lnTo>
                  <a:lnTo>
                    <a:pt x="61178" y="223413"/>
                  </a:lnTo>
                  <a:lnTo>
                    <a:pt x="59413" y="230222"/>
                  </a:lnTo>
                  <a:lnTo>
                    <a:pt x="57388" y="237302"/>
                  </a:lnTo>
                  <a:lnTo>
                    <a:pt x="56038" y="243714"/>
                  </a:lnTo>
                  <a:lnTo>
                    <a:pt x="55139" y="249683"/>
                  </a:lnTo>
                  <a:lnTo>
                    <a:pt x="54539" y="255355"/>
                  </a:lnTo>
                  <a:lnTo>
                    <a:pt x="51615" y="263916"/>
                  </a:lnTo>
                  <a:lnTo>
                    <a:pt x="49650" y="267384"/>
                  </a:lnTo>
                  <a:lnTo>
                    <a:pt x="47467" y="275753"/>
                  </a:lnTo>
                  <a:lnTo>
                    <a:pt x="46497" y="284270"/>
                  </a:lnTo>
                  <a:lnTo>
                    <a:pt x="46065" y="290878"/>
                  </a:lnTo>
                  <a:lnTo>
                    <a:pt x="45823" y="299358"/>
                  </a:lnTo>
                  <a:lnTo>
                    <a:pt x="45720" y="3048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SMARTInkAnnotation151"/>
            <p:cNvSpPr/>
            <p:nvPr/>
          </p:nvSpPr>
          <p:spPr>
            <a:xfrm>
              <a:off x="7285320" y="2811240"/>
              <a:ext cx="236160" cy="226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36221" h="22861">
                  <a:moveTo>
                    <a:pt x="0" y="22860"/>
                  </a:moveTo>
                  <a:lnTo>
                    <a:pt x="13122" y="16299"/>
                  </a:lnTo>
                  <a:lnTo>
                    <a:pt x="16368" y="15946"/>
                  </a:lnTo>
                  <a:lnTo>
                    <a:pt x="21071" y="15711"/>
                  </a:lnTo>
                  <a:lnTo>
                    <a:pt x="26748" y="15554"/>
                  </a:lnTo>
                  <a:lnTo>
                    <a:pt x="32226" y="14603"/>
                  </a:lnTo>
                  <a:lnTo>
                    <a:pt x="37570" y="13122"/>
                  </a:lnTo>
                  <a:lnTo>
                    <a:pt x="42827" y="11288"/>
                  </a:lnTo>
                  <a:lnTo>
                    <a:pt x="49718" y="10065"/>
                  </a:lnTo>
                  <a:lnTo>
                    <a:pt x="57698" y="9250"/>
                  </a:lnTo>
                  <a:lnTo>
                    <a:pt x="66406" y="8707"/>
                  </a:lnTo>
                  <a:lnTo>
                    <a:pt x="82854" y="8103"/>
                  </a:lnTo>
                  <a:lnTo>
                    <a:pt x="108651" y="7763"/>
                  </a:lnTo>
                  <a:lnTo>
                    <a:pt x="173870" y="7628"/>
                  </a:lnTo>
                  <a:lnTo>
                    <a:pt x="182800" y="6779"/>
                  </a:lnTo>
                  <a:lnTo>
                    <a:pt x="192141" y="5366"/>
                  </a:lnTo>
                  <a:lnTo>
                    <a:pt x="201753" y="3577"/>
                  </a:lnTo>
                  <a:lnTo>
                    <a:pt x="209857" y="2385"/>
                  </a:lnTo>
                  <a:lnTo>
                    <a:pt x="216952" y="1590"/>
                  </a:lnTo>
                  <a:lnTo>
                    <a:pt x="2362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SMARTInkAnnotation152"/>
            <p:cNvSpPr/>
            <p:nvPr/>
          </p:nvSpPr>
          <p:spPr>
            <a:xfrm>
              <a:off x="7574760" y="2460960"/>
              <a:ext cx="114120" cy="518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518040"/>
                <a:gd name="textAreaBottom" fmla="*/ 518400 h 518040"/>
              </a:gdLst>
              <a:ahLst/>
              <a:rect l="textAreaLeft" t="textAreaTop" r="textAreaRight" b="textAreaBottom"/>
              <a:pathLst>
                <a:path w="114165" h="518161">
                  <a:moveTo>
                    <a:pt x="0" y="0"/>
                  </a:moveTo>
                  <a:lnTo>
                    <a:pt x="4046" y="4045"/>
                  </a:lnTo>
                  <a:lnTo>
                    <a:pt x="6084" y="5237"/>
                  </a:lnTo>
                  <a:lnTo>
                    <a:pt x="8289" y="6031"/>
                  </a:lnTo>
                  <a:lnTo>
                    <a:pt x="10606" y="6561"/>
                  </a:lnTo>
                  <a:lnTo>
                    <a:pt x="12997" y="7761"/>
                  </a:lnTo>
                  <a:lnTo>
                    <a:pt x="15438" y="9407"/>
                  </a:lnTo>
                  <a:lnTo>
                    <a:pt x="17912" y="11352"/>
                  </a:lnTo>
                  <a:lnTo>
                    <a:pt x="21255" y="14341"/>
                  </a:lnTo>
                  <a:lnTo>
                    <a:pt x="29485" y="22178"/>
                  </a:lnTo>
                  <a:lnTo>
                    <a:pt x="34050" y="27486"/>
                  </a:lnTo>
                  <a:lnTo>
                    <a:pt x="38786" y="33564"/>
                  </a:lnTo>
                  <a:lnTo>
                    <a:pt x="43637" y="40156"/>
                  </a:lnTo>
                  <a:lnTo>
                    <a:pt x="47718" y="46244"/>
                  </a:lnTo>
                  <a:lnTo>
                    <a:pt x="51286" y="51996"/>
                  </a:lnTo>
                  <a:lnTo>
                    <a:pt x="54510" y="57524"/>
                  </a:lnTo>
                  <a:lnTo>
                    <a:pt x="58353" y="64596"/>
                  </a:lnTo>
                  <a:lnTo>
                    <a:pt x="67139" y="81485"/>
                  </a:lnTo>
                  <a:lnTo>
                    <a:pt x="71853" y="89884"/>
                  </a:lnTo>
                  <a:lnTo>
                    <a:pt x="76689" y="98022"/>
                  </a:lnTo>
                  <a:lnTo>
                    <a:pt x="81605" y="105988"/>
                  </a:lnTo>
                  <a:lnTo>
                    <a:pt x="85731" y="114685"/>
                  </a:lnTo>
                  <a:lnTo>
                    <a:pt x="89326" y="123871"/>
                  </a:lnTo>
                  <a:lnTo>
                    <a:pt x="92571" y="133380"/>
                  </a:lnTo>
                  <a:lnTo>
                    <a:pt x="95581" y="143954"/>
                  </a:lnTo>
                  <a:lnTo>
                    <a:pt x="98434" y="155236"/>
                  </a:lnTo>
                  <a:lnTo>
                    <a:pt x="109097" y="199715"/>
                  </a:lnTo>
                  <a:lnTo>
                    <a:pt x="110832" y="211037"/>
                  </a:lnTo>
                  <a:lnTo>
                    <a:pt x="111987" y="222818"/>
                  </a:lnTo>
                  <a:lnTo>
                    <a:pt x="112759" y="234905"/>
                  </a:lnTo>
                  <a:lnTo>
                    <a:pt x="113272" y="247197"/>
                  </a:lnTo>
                  <a:lnTo>
                    <a:pt x="113843" y="272143"/>
                  </a:lnTo>
                  <a:lnTo>
                    <a:pt x="114164" y="309988"/>
                  </a:lnTo>
                  <a:lnTo>
                    <a:pt x="113363" y="322652"/>
                  </a:lnTo>
                  <a:lnTo>
                    <a:pt x="111982" y="335328"/>
                  </a:lnTo>
                  <a:lnTo>
                    <a:pt x="110215" y="348012"/>
                  </a:lnTo>
                  <a:lnTo>
                    <a:pt x="108190" y="359855"/>
                  </a:lnTo>
                  <a:lnTo>
                    <a:pt x="105992" y="371137"/>
                  </a:lnTo>
                  <a:lnTo>
                    <a:pt x="103682" y="382045"/>
                  </a:lnTo>
                  <a:lnTo>
                    <a:pt x="101294" y="391856"/>
                  </a:lnTo>
                  <a:lnTo>
                    <a:pt x="98856" y="400938"/>
                  </a:lnTo>
                  <a:lnTo>
                    <a:pt x="96384" y="409532"/>
                  </a:lnTo>
                  <a:lnTo>
                    <a:pt x="93042" y="417801"/>
                  </a:lnTo>
                  <a:lnTo>
                    <a:pt x="89121" y="425854"/>
                  </a:lnTo>
                  <a:lnTo>
                    <a:pt x="84815" y="433763"/>
                  </a:lnTo>
                  <a:lnTo>
                    <a:pt x="80250" y="441576"/>
                  </a:lnTo>
                  <a:lnTo>
                    <a:pt x="66581" y="463860"/>
                  </a:lnTo>
                  <a:lnTo>
                    <a:pt x="63014" y="470106"/>
                  </a:lnTo>
                  <a:lnTo>
                    <a:pt x="59788" y="475964"/>
                  </a:lnTo>
                  <a:lnTo>
                    <a:pt x="55947" y="481563"/>
                  </a:lnTo>
                  <a:lnTo>
                    <a:pt x="51691" y="486989"/>
                  </a:lnTo>
                  <a:lnTo>
                    <a:pt x="47160" y="492299"/>
                  </a:lnTo>
                  <a:lnTo>
                    <a:pt x="44140" y="496686"/>
                  </a:lnTo>
                  <a:lnTo>
                    <a:pt x="40785" y="503819"/>
                  </a:lnTo>
                  <a:lnTo>
                    <a:pt x="39043" y="506059"/>
                  </a:lnTo>
                  <a:lnTo>
                    <a:pt x="37035" y="507553"/>
                  </a:lnTo>
                  <a:lnTo>
                    <a:pt x="34850" y="508548"/>
                  </a:lnTo>
                  <a:lnTo>
                    <a:pt x="33394" y="510059"/>
                  </a:lnTo>
                  <a:lnTo>
                    <a:pt x="32422" y="511913"/>
                  </a:lnTo>
                  <a:lnTo>
                    <a:pt x="30480" y="518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SMARTInkAnnotation153"/>
            <p:cNvSpPr/>
            <p:nvPr/>
          </p:nvSpPr>
          <p:spPr>
            <a:xfrm>
              <a:off x="7864560" y="2316240"/>
              <a:ext cx="144360" cy="7466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746640"/>
                <a:gd name="textAreaBottom" fmla="*/ 747000 h 746640"/>
              </a:gdLst>
              <a:ahLst/>
              <a:rect l="textAreaLeft" t="textAreaTop" r="textAreaRight" b="textAreaBottom"/>
              <a:pathLst>
                <a:path w="144547" h="746761">
                  <a:moveTo>
                    <a:pt x="60960" y="0"/>
                  </a:moveTo>
                  <a:lnTo>
                    <a:pt x="65005" y="4045"/>
                  </a:lnTo>
                  <a:lnTo>
                    <a:pt x="69249" y="12805"/>
                  </a:lnTo>
                  <a:lnTo>
                    <a:pt x="71566" y="18696"/>
                  </a:lnTo>
                  <a:lnTo>
                    <a:pt x="73958" y="23471"/>
                  </a:lnTo>
                  <a:lnTo>
                    <a:pt x="76399" y="27501"/>
                  </a:lnTo>
                  <a:lnTo>
                    <a:pt x="78873" y="31034"/>
                  </a:lnTo>
                  <a:lnTo>
                    <a:pt x="82215" y="36776"/>
                  </a:lnTo>
                  <a:lnTo>
                    <a:pt x="90445" y="52187"/>
                  </a:lnTo>
                  <a:lnTo>
                    <a:pt x="94163" y="61885"/>
                  </a:lnTo>
                  <a:lnTo>
                    <a:pt x="97490" y="72583"/>
                  </a:lnTo>
                  <a:lnTo>
                    <a:pt x="100553" y="83949"/>
                  </a:lnTo>
                  <a:lnTo>
                    <a:pt x="104289" y="95759"/>
                  </a:lnTo>
                  <a:lnTo>
                    <a:pt x="108473" y="107866"/>
                  </a:lnTo>
                  <a:lnTo>
                    <a:pt x="112955" y="120171"/>
                  </a:lnTo>
                  <a:lnTo>
                    <a:pt x="116790" y="133454"/>
                  </a:lnTo>
                  <a:lnTo>
                    <a:pt x="120194" y="147389"/>
                  </a:lnTo>
                  <a:lnTo>
                    <a:pt x="123309" y="161759"/>
                  </a:lnTo>
                  <a:lnTo>
                    <a:pt x="127080" y="176420"/>
                  </a:lnTo>
                  <a:lnTo>
                    <a:pt x="131286" y="191273"/>
                  </a:lnTo>
                  <a:lnTo>
                    <a:pt x="135784" y="206256"/>
                  </a:lnTo>
                  <a:lnTo>
                    <a:pt x="138783" y="222170"/>
                  </a:lnTo>
                  <a:lnTo>
                    <a:pt x="140781" y="238707"/>
                  </a:lnTo>
                  <a:lnTo>
                    <a:pt x="142114" y="255658"/>
                  </a:lnTo>
                  <a:lnTo>
                    <a:pt x="143002" y="272885"/>
                  </a:lnTo>
                  <a:lnTo>
                    <a:pt x="143991" y="307831"/>
                  </a:lnTo>
                  <a:lnTo>
                    <a:pt x="144546" y="360825"/>
                  </a:lnTo>
                  <a:lnTo>
                    <a:pt x="143777" y="377710"/>
                  </a:lnTo>
                  <a:lnTo>
                    <a:pt x="142418" y="394047"/>
                  </a:lnTo>
                  <a:lnTo>
                    <a:pt x="138651" y="426592"/>
                  </a:lnTo>
                  <a:lnTo>
                    <a:pt x="134153" y="460812"/>
                  </a:lnTo>
                  <a:lnTo>
                    <a:pt x="130922" y="477388"/>
                  </a:lnTo>
                  <a:lnTo>
                    <a:pt x="127075" y="493519"/>
                  </a:lnTo>
                  <a:lnTo>
                    <a:pt x="122817" y="509353"/>
                  </a:lnTo>
                  <a:lnTo>
                    <a:pt x="113569" y="540493"/>
                  </a:lnTo>
                  <a:lnTo>
                    <a:pt x="108733" y="555908"/>
                  </a:lnTo>
                  <a:lnTo>
                    <a:pt x="103816" y="570419"/>
                  </a:lnTo>
                  <a:lnTo>
                    <a:pt x="93836" y="597831"/>
                  </a:lnTo>
                  <a:lnTo>
                    <a:pt x="87958" y="610221"/>
                  </a:lnTo>
                  <a:lnTo>
                    <a:pt x="81498" y="621867"/>
                  </a:lnTo>
                  <a:lnTo>
                    <a:pt x="74652" y="633018"/>
                  </a:lnTo>
                  <a:lnTo>
                    <a:pt x="68395" y="643839"/>
                  </a:lnTo>
                  <a:lnTo>
                    <a:pt x="51499" y="674402"/>
                  </a:lnTo>
                  <a:lnTo>
                    <a:pt x="46186" y="683281"/>
                  </a:lnTo>
                  <a:lnTo>
                    <a:pt x="40950" y="691741"/>
                  </a:lnTo>
                  <a:lnTo>
                    <a:pt x="34921" y="700767"/>
                  </a:lnTo>
                  <a:lnTo>
                    <a:pt x="21448" y="719828"/>
                  </a:lnTo>
                  <a:lnTo>
                    <a:pt x="15992" y="727112"/>
                  </a:lnTo>
                  <a:lnTo>
                    <a:pt x="11509" y="732815"/>
                  </a:lnTo>
                  <a:lnTo>
                    <a:pt x="0" y="7467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SMARTInkAnnotation154"/>
            <p:cNvSpPr/>
            <p:nvPr/>
          </p:nvSpPr>
          <p:spPr>
            <a:xfrm>
              <a:off x="5700240" y="2643840"/>
              <a:ext cx="142920" cy="3855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143144" h="385577">
                  <a:moveTo>
                    <a:pt x="0" y="0"/>
                  </a:moveTo>
                  <a:lnTo>
                    <a:pt x="6561" y="0"/>
                  </a:lnTo>
                  <a:lnTo>
                    <a:pt x="6914" y="847"/>
                  </a:lnTo>
                  <a:lnTo>
                    <a:pt x="7306" y="4045"/>
                  </a:lnTo>
                  <a:lnTo>
                    <a:pt x="9104" y="6084"/>
                  </a:lnTo>
                  <a:lnTo>
                    <a:pt x="11996" y="8289"/>
                  </a:lnTo>
                  <a:lnTo>
                    <a:pt x="15617" y="10606"/>
                  </a:lnTo>
                  <a:lnTo>
                    <a:pt x="18879" y="12997"/>
                  </a:lnTo>
                  <a:lnTo>
                    <a:pt x="21899" y="15438"/>
                  </a:lnTo>
                  <a:lnTo>
                    <a:pt x="24759" y="17912"/>
                  </a:lnTo>
                  <a:lnTo>
                    <a:pt x="27513" y="22101"/>
                  </a:lnTo>
                  <a:lnTo>
                    <a:pt x="30195" y="27434"/>
                  </a:lnTo>
                  <a:lnTo>
                    <a:pt x="32830" y="33529"/>
                  </a:lnTo>
                  <a:lnTo>
                    <a:pt x="37127" y="39286"/>
                  </a:lnTo>
                  <a:lnTo>
                    <a:pt x="42532" y="44818"/>
                  </a:lnTo>
                  <a:lnTo>
                    <a:pt x="48674" y="50198"/>
                  </a:lnTo>
                  <a:lnTo>
                    <a:pt x="53616" y="57172"/>
                  </a:lnTo>
                  <a:lnTo>
                    <a:pt x="57757" y="65208"/>
                  </a:lnTo>
                  <a:lnTo>
                    <a:pt x="61365" y="73952"/>
                  </a:lnTo>
                  <a:lnTo>
                    <a:pt x="65464" y="82321"/>
                  </a:lnTo>
                  <a:lnTo>
                    <a:pt x="69889" y="90441"/>
                  </a:lnTo>
                  <a:lnTo>
                    <a:pt x="74533" y="98394"/>
                  </a:lnTo>
                  <a:lnTo>
                    <a:pt x="79321" y="107929"/>
                  </a:lnTo>
                  <a:lnTo>
                    <a:pt x="84208" y="118519"/>
                  </a:lnTo>
                  <a:lnTo>
                    <a:pt x="94152" y="141575"/>
                  </a:lnTo>
                  <a:lnTo>
                    <a:pt x="119403" y="203447"/>
                  </a:lnTo>
                  <a:lnTo>
                    <a:pt x="123628" y="216065"/>
                  </a:lnTo>
                  <a:lnTo>
                    <a:pt x="127292" y="228710"/>
                  </a:lnTo>
                  <a:lnTo>
                    <a:pt x="130581" y="241373"/>
                  </a:lnTo>
                  <a:lnTo>
                    <a:pt x="136494" y="266733"/>
                  </a:lnTo>
                  <a:lnTo>
                    <a:pt x="139256" y="279421"/>
                  </a:lnTo>
                  <a:lnTo>
                    <a:pt x="141098" y="292114"/>
                  </a:lnTo>
                  <a:lnTo>
                    <a:pt x="142325" y="304810"/>
                  </a:lnTo>
                  <a:lnTo>
                    <a:pt x="143143" y="317507"/>
                  </a:lnTo>
                  <a:lnTo>
                    <a:pt x="142842" y="330204"/>
                  </a:lnTo>
                  <a:lnTo>
                    <a:pt x="141795" y="342903"/>
                  </a:lnTo>
                  <a:lnTo>
                    <a:pt x="140250" y="355602"/>
                  </a:lnTo>
                  <a:lnTo>
                    <a:pt x="138374" y="367454"/>
                  </a:lnTo>
                  <a:lnTo>
                    <a:pt x="136275" y="378743"/>
                  </a:lnTo>
                  <a:lnTo>
                    <a:pt x="134870" y="3855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SMARTInkAnnotation155"/>
            <p:cNvSpPr/>
            <p:nvPr/>
          </p:nvSpPr>
          <p:spPr>
            <a:xfrm>
              <a:off x="5529240" y="3451680"/>
              <a:ext cx="30600" cy="7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30611" h="750">
                  <a:moveTo>
                    <a:pt x="0" y="749"/>
                  </a:moveTo>
                  <a:lnTo>
                    <a:pt x="606" y="645"/>
                  </a:lnTo>
                  <a:lnTo>
                    <a:pt x="5720" y="253"/>
                  </a:lnTo>
                  <a:lnTo>
                    <a:pt x="13073" y="79"/>
                  </a:lnTo>
                  <a:lnTo>
                    <a:pt x="3061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SMARTInkAnnotation156"/>
            <p:cNvSpPr/>
            <p:nvPr/>
          </p:nvSpPr>
          <p:spPr>
            <a:xfrm>
              <a:off x="5029560" y="3268440"/>
              <a:ext cx="243360" cy="34272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43324" h="342898">
                  <a:moveTo>
                    <a:pt x="0" y="30477"/>
                  </a:moveTo>
                  <a:lnTo>
                    <a:pt x="6561" y="23916"/>
                  </a:lnTo>
                  <a:lnTo>
                    <a:pt x="9408" y="23328"/>
                  </a:lnTo>
                  <a:lnTo>
                    <a:pt x="11352" y="23171"/>
                  </a:lnTo>
                  <a:lnTo>
                    <a:pt x="15187" y="22220"/>
                  </a:lnTo>
                  <a:lnTo>
                    <a:pt x="20285" y="20739"/>
                  </a:lnTo>
                  <a:lnTo>
                    <a:pt x="26224" y="18905"/>
                  </a:lnTo>
                  <a:lnTo>
                    <a:pt x="31876" y="16836"/>
                  </a:lnTo>
                  <a:lnTo>
                    <a:pt x="37337" y="14609"/>
                  </a:lnTo>
                  <a:lnTo>
                    <a:pt x="42671" y="12279"/>
                  </a:lnTo>
                  <a:lnTo>
                    <a:pt x="49614" y="10725"/>
                  </a:lnTo>
                  <a:lnTo>
                    <a:pt x="57630" y="9689"/>
                  </a:lnTo>
                  <a:lnTo>
                    <a:pt x="66360" y="8998"/>
                  </a:lnTo>
                  <a:lnTo>
                    <a:pt x="74720" y="7691"/>
                  </a:lnTo>
                  <a:lnTo>
                    <a:pt x="82833" y="5973"/>
                  </a:lnTo>
                  <a:lnTo>
                    <a:pt x="90782" y="3981"/>
                  </a:lnTo>
                  <a:lnTo>
                    <a:pt x="99468" y="2653"/>
                  </a:lnTo>
                  <a:lnTo>
                    <a:pt x="108645" y="1768"/>
                  </a:lnTo>
                  <a:lnTo>
                    <a:pt x="118151" y="1177"/>
                  </a:lnTo>
                  <a:lnTo>
                    <a:pt x="137743" y="522"/>
                  </a:lnTo>
                  <a:lnTo>
                    <a:pt x="187625" y="43"/>
                  </a:lnTo>
                  <a:lnTo>
                    <a:pt x="228407" y="0"/>
                  </a:lnTo>
                  <a:lnTo>
                    <a:pt x="231858" y="846"/>
                  </a:lnTo>
                  <a:lnTo>
                    <a:pt x="237951" y="4043"/>
                  </a:lnTo>
                  <a:lnTo>
                    <a:pt x="239914" y="6081"/>
                  </a:lnTo>
                  <a:lnTo>
                    <a:pt x="241222" y="8286"/>
                  </a:lnTo>
                  <a:lnTo>
                    <a:pt x="243323" y="13864"/>
                  </a:lnTo>
                  <a:lnTo>
                    <a:pt x="239641" y="22920"/>
                  </a:lnTo>
                  <a:lnTo>
                    <a:pt x="237741" y="31634"/>
                  </a:lnTo>
                  <a:lnTo>
                    <a:pt x="237234" y="36329"/>
                  </a:lnTo>
                  <a:lnTo>
                    <a:pt x="235203" y="41151"/>
                  </a:lnTo>
                  <a:lnTo>
                    <a:pt x="228430" y="51026"/>
                  </a:lnTo>
                  <a:lnTo>
                    <a:pt x="219776" y="63316"/>
                  </a:lnTo>
                  <a:lnTo>
                    <a:pt x="200423" y="91903"/>
                  </a:lnTo>
                  <a:lnTo>
                    <a:pt x="194575" y="99368"/>
                  </a:lnTo>
                  <a:lnTo>
                    <a:pt x="188136" y="106884"/>
                  </a:lnTo>
                  <a:lnTo>
                    <a:pt x="181304" y="114435"/>
                  </a:lnTo>
                  <a:lnTo>
                    <a:pt x="174210" y="122856"/>
                  </a:lnTo>
                  <a:lnTo>
                    <a:pt x="159553" y="141243"/>
                  </a:lnTo>
                  <a:lnTo>
                    <a:pt x="152089" y="150041"/>
                  </a:lnTo>
                  <a:lnTo>
                    <a:pt x="144573" y="158447"/>
                  </a:lnTo>
                  <a:lnTo>
                    <a:pt x="137022" y="166590"/>
                  </a:lnTo>
                  <a:lnTo>
                    <a:pt x="130294" y="175406"/>
                  </a:lnTo>
                  <a:lnTo>
                    <a:pt x="124117" y="184669"/>
                  </a:lnTo>
                  <a:lnTo>
                    <a:pt x="118304" y="194232"/>
                  </a:lnTo>
                  <a:lnTo>
                    <a:pt x="111890" y="203147"/>
                  </a:lnTo>
                  <a:lnTo>
                    <a:pt x="105073" y="211630"/>
                  </a:lnTo>
                  <a:lnTo>
                    <a:pt x="97989" y="219826"/>
                  </a:lnTo>
                  <a:lnTo>
                    <a:pt x="91573" y="227830"/>
                  </a:lnTo>
                  <a:lnTo>
                    <a:pt x="85602" y="235705"/>
                  </a:lnTo>
                  <a:lnTo>
                    <a:pt x="74452" y="251230"/>
                  </a:lnTo>
                  <a:lnTo>
                    <a:pt x="63852" y="266596"/>
                  </a:lnTo>
                  <a:lnTo>
                    <a:pt x="59501" y="274250"/>
                  </a:lnTo>
                  <a:lnTo>
                    <a:pt x="55754" y="281892"/>
                  </a:lnTo>
                  <a:lnTo>
                    <a:pt x="52410" y="289527"/>
                  </a:lnTo>
                  <a:lnTo>
                    <a:pt x="49333" y="295464"/>
                  </a:lnTo>
                  <a:lnTo>
                    <a:pt x="43657" y="304317"/>
                  </a:lnTo>
                  <a:lnTo>
                    <a:pt x="40570" y="313333"/>
                  </a:lnTo>
                  <a:lnTo>
                    <a:pt x="39198" y="322137"/>
                  </a:lnTo>
                  <a:lnTo>
                    <a:pt x="38425" y="331854"/>
                  </a:lnTo>
                  <a:lnTo>
                    <a:pt x="38100" y="34289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SMARTInkAnnotation157"/>
            <p:cNvSpPr/>
            <p:nvPr/>
          </p:nvSpPr>
          <p:spPr>
            <a:xfrm>
              <a:off x="5090400" y="3436200"/>
              <a:ext cx="258840" cy="75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59082" h="7621">
                  <a:moveTo>
                    <a:pt x="0" y="0"/>
                  </a:moveTo>
                  <a:lnTo>
                    <a:pt x="44136" y="0"/>
                  </a:lnTo>
                  <a:lnTo>
                    <a:pt x="53130" y="847"/>
                  </a:lnTo>
                  <a:lnTo>
                    <a:pt x="62514" y="2258"/>
                  </a:lnTo>
                  <a:lnTo>
                    <a:pt x="72156" y="4046"/>
                  </a:lnTo>
                  <a:lnTo>
                    <a:pt x="82817" y="5237"/>
                  </a:lnTo>
                  <a:lnTo>
                    <a:pt x="94158" y="6031"/>
                  </a:lnTo>
                  <a:lnTo>
                    <a:pt x="105952" y="6561"/>
                  </a:lnTo>
                  <a:lnTo>
                    <a:pt x="130345" y="7149"/>
                  </a:lnTo>
                  <a:lnTo>
                    <a:pt x="259081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SMARTInkAnnotation158"/>
            <p:cNvSpPr/>
            <p:nvPr/>
          </p:nvSpPr>
          <p:spPr>
            <a:xfrm>
              <a:off x="5784120" y="3245760"/>
              <a:ext cx="251640" cy="342720"/>
            </a:xfrm>
            <a:custGeom>
              <a:avLst/>
              <a:gdLst>
                <a:gd name="textAreaLeft" fmla="*/ 0 w 251640"/>
                <a:gd name="textAreaRight" fmla="*/ 252000 w 2516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51908" h="342780">
                  <a:moveTo>
                    <a:pt x="0" y="15119"/>
                  </a:moveTo>
                  <a:lnTo>
                    <a:pt x="10606" y="15119"/>
                  </a:lnTo>
                  <a:lnTo>
                    <a:pt x="17696" y="12862"/>
                  </a:lnTo>
                  <a:lnTo>
                    <a:pt x="21957" y="11074"/>
                  </a:lnTo>
                  <a:lnTo>
                    <a:pt x="26491" y="9035"/>
                  </a:lnTo>
                  <a:lnTo>
                    <a:pt x="36045" y="4513"/>
                  </a:lnTo>
                  <a:lnTo>
                    <a:pt x="41810" y="2968"/>
                  </a:lnTo>
                  <a:lnTo>
                    <a:pt x="48194" y="1939"/>
                  </a:lnTo>
                  <a:lnTo>
                    <a:pt x="54989" y="1252"/>
                  </a:lnTo>
                  <a:lnTo>
                    <a:pt x="62906" y="795"/>
                  </a:lnTo>
                  <a:lnTo>
                    <a:pt x="80734" y="286"/>
                  </a:lnTo>
                  <a:lnTo>
                    <a:pt x="105766" y="0"/>
                  </a:lnTo>
                  <a:lnTo>
                    <a:pt x="113691" y="806"/>
                  </a:lnTo>
                  <a:lnTo>
                    <a:pt x="121513" y="2191"/>
                  </a:lnTo>
                  <a:lnTo>
                    <a:pt x="146918" y="8184"/>
                  </a:lnTo>
                  <a:lnTo>
                    <a:pt x="156365" y="10496"/>
                  </a:lnTo>
                  <a:lnTo>
                    <a:pt x="164357" y="12883"/>
                  </a:lnTo>
                  <a:lnTo>
                    <a:pt x="171378" y="15322"/>
                  </a:lnTo>
                  <a:lnTo>
                    <a:pt x="177752" y="17794"/>
                  </a:lnTo>
                  <a:lnTo>
                    <a:pt x="182848" y="20289"/>
                  </a:lnTo>
                  <a:lnTo>
                    <a:pt x="187092" y="22799"/>
                  </a:lnTo>
                  <a:lnTo>
                    <a:pt x="194066" y="27846"/>
                  </a:lnTo>
                  <a:lnTo>
                    <a:pt x="199987" y="32911"/>
                  </a:lnTo>
                  <a:lnTo>
                    <a:pt x="201905" y="35447"/>
                  </a:lnTo>
                  <a:lnTo>
                    <a:pt x="204036" y="40523"/>
                  </a:lnTo>
                  <a:lnTo>
                    <a:pt x="203757" y="43908"/>
                  </a:lnTo>
                  <a:lnTo>
                    <a:pt x="201190" y="52185"/>
                  </a:lnTo>
                  <a:lnTo>
                    <a:pt x="197227" y="59251"/>
                  </a:lnTo>
                  <a:lnTo>
                    <a:pt x="194985" y="62320"/>
                  </a:lnTo>
                  <a:lnTo>
                    <a:pt x="190950" y="66060"/>
                  </a:lnTo>
                  <a:lnTo>
                    <a:pt x="185720" y="70246"/>
                  </a:lnTo>
                  <a:lnTo>
                    <a:pt x="179694" y="74730"/>
                  </a:lnTo>
                  <a:lnTo>
                    <a:pt x="173136" y="80260"/>
                  </a:lnTo>
                  <a:lnTo>
                    <a:pt x="166225" y="86487"/>
                  </a:lnTo>
                  <a:lnTo>
                    <a:pt x="159076" y="93178"/>
                  </a:lnTo>
                  <a:lnTo>
                    <a:pt x="151771" y="99331"/>
                  </a:lnTo>
                  <a:lnTo>
                    <a:pt x="144361" y="105127"/>
                  </a:lnTo>
                  <a:lnTo>
                    <a:pt x="136881" y="110684"/>
                  </a:lnTo>
                  <a:lnTo>
                    <a:pt x="127661" y="116930"/>
                  </a:lnTo>
                  <a:lnTo>
                    <a:pt x="106127" y="130641"/>
                  </a:lnTo>
                  <a:lnTo>
                    <a:pt x="95305" y="137854"/>
                  </a:lnTo>
                  <a:lnTo>
                    <a:pt x="47400" y="171201"/>
                  </a:lnTo>
                  <a:lnTo>
                    <a:pt x="40067" y="177594"/>
                  </a:lnTo>
                  <a:lnTo>
                    <a:pt x="33484" y="184396"/>
                  </a:lnTo>
                  <a:lnTo>
                    <a:pt x="27403" y="191470"/>
                  </a:lnTo>
                  <a:lnTo>
                    <a:pt x="21655" y="197880"/>
                  </a:lnTo>
                  <a:lnTo>
                    <a:pt x="10754" y="209517"/>
                  </a:lnTo>
                  <a:lnTo>
                    <a:pt x="7169" y="214991"/>
                  </a:lnTo>
                  <a:lnTo>
                    <a:pt x="3187" y="225589"/>
                  </a:lnTo>
                  <a:lnTo>
                    <a:pt x="1416" y="235944"/>
                  </a:lnTo>
                  <a:lnTo>
                    <a:pt x="944" y="241076"/>
                  </a:lnTo>
                  <a:lnTo>
                    <a:pt x="2677" y="251294"/>
                  </a:lnTo>
                  <a:lnTo>
                    <a:pt x="4325" y="256389"/>
                  </a:lnTo>
                  <a:lnTo>
                    <a:pt x="10671" y="266566"/>
                  </a:lnTo>
                  <a:lnTo>
                    <a:pt x="14734" y="271650"/>
                  </a:lnTo>
                  <a:lnTo>
                    <a:pt x="19136" y="275887"/>
                  </a:lnTo>
                  <a:lnTo>
                    <a:pt x="23764" y="279557"/>
                  </a:lnTo>
                  <a:lnTo>
                    <a:pt x="28543" y="282851"/>
                  </a:lnTo>
                  <a:lnTo>
                    <a:pt x="35115" y="286741"/>
                  </a:lnTo>
                  <a:lnTo>
                    <a:pt x="42884" y="291027"/>
                  </a:lnTo>
                  <a:lnTo>
                    <a:pt x="51449" y="295577"/>
                  </a:lnTo>
                  <a:lnTo>
                    <a:pt x="60547" y="298612"/>
                  </a:lnTo>
                  <a:lnTo>
                    <a:pt x="69997" y="300634"/>
                  </a:lnTo>
                  <a:lnTo>
                    <a:pt x="79685" y="301982"/>
                  </a:lnTo>
                  <a:lnTo>
                    <a:pt x="101738" y="305738"/>
                  </a:lnTo>
                  <a:lnTo>
                    <a:pt x="113545" y="307925"/>
                  </a:lnTo>
                  <a:lnTo>
                    <a:pt x="135696" y="312613"/>
                  </a:lnTo>
                  <a:lnTo>
                    <a:pt x="177512" y="322521"/>
                  </a:lnTo>
                  <a:lnTo>
                    <a:pt x="208195" y="330098"/>
                  </a:lnTo>
                  <a:lnTo>
                    <a:pt x="216690" y="331785"/>
                  </a:lnTo>
                  <a:lnTo>
                    <a:pt x="224047" y="332910"/>
                  </a:lnTo>
                  <a:lnTo>
                    <a:pt x="230644" y="333659"/>
                  </a:lnTo>
                  <a:lnTo>
                    <a:pt x="236737" y="334159"/>
                  </a:lnTo>
                  <a:lnTo>
                    <a:pt x="242491" y="334493"/>
                  </a:lnTo>
                  <a:lnTo>
                    <a:pt x="248021" y="334715"/>
                  </a:lnTo>
                  <a:lnTo>
                    <a:pt x="250861" y="335710"/>
                  </a:lnTo>
                  <a:lnTo>
                    <a:pt x="251907" y="337219"/>
                  </a:lnTo>
                  <a:lnTo>
                    <a:pt x="251461" y="3427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SMARTInkAnnotation159"/>
            <p:cNvSpPr/>
            <p:nvPr/>
          </p:nvSpPr>
          <p:spPr>
            <a:xfrm>
              <a:off x="5441040" y="2735280"/>
              <a:ext cx="197280" cy="2818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97596" h="281941">
                  <a:moveTo>
                    <a:pt x="0" y="0"/>
                  </a:moveTo>
                  <a:lnTo>
                    <a:pt x="196348" y="0"/>
                  </a:lnTo>
                  <a:lnTo>
                    <a:pt x="196939" y="847"/>
                  </a:lnTo>
                  <a:lnTo>
                    <a:pt x="197595" y="4045"/>
                  </a:lnTo>
                  <a:lnTo>
                    <a:pt x="196924" y="6084"/>
                  </a:lnTo>
                  <a:lnTo>
                    <a:pt x="193920" y="10606"/>
                  </a:lnTo>
                  <a:lnTo>
                    <a:pt x="191086" y="12997"/>
                  </a:lnTo>
                  <a:lnTo>
                    <a:pt x="187504" y="15438"/>
                  </a:lnTo>
                  <a:lnTo>
                    <a:pt x="183423" y="17912"/>
                  </a:lnTo>
                  <a:lnTo>
                    <a:pt x="179009" y="22101"/>
                  </a:lnTo>
                  <a:lnTo>
                    <a:pt x="174373" y="27434"/>
                  </a:lnTo>
                  <a:lnTo>
                    <a:pt x="169588" y="33529"/>
                  </a:lnTo>
                  <a:lnTo>
                    <a:pt x="164706" y="40133"/>
                  </a:lnTo>
                  <a:lnTo>
                    <a:pt x="154765" y="54244"/>
                  </a:lnTo>
                  <a:lnTo>
                    <a:pt x="148050" y="61562"/>
                  </a:lnTo>
                  <a:lnTo>
                    <a:pt x="140187" y="68982"/>
                  </a:lnTo>
                  <a:lnTo>
                    <a:pt x="131558" y="76468"/>
                  </a:lnTo>
                  <a:lnTo>
                    <a:pt x="123266" y="84845"/>
                  </a:lnTo>
                  <a:lnTo>
                    <a:pt x="115197" y="93816"/>
                  </a:lnTo>
                  <a:lnTo>
                    <a:pt x="107278" y="103184"/>
                  </a:lnTo>
                  <a:lnTo>
                    <a:pt x="100305" y="112816"/>
                  </a:lnTo>
                  <a:lnTo>
                    <a:pt x="93964" y="122624"/>
                  </a:lnTo>
                  <a:lnTo>
                    <a:pt x="88043" y="132550"/>
                  </a:lnTo>
                  <a:lnTo>
                    <a:pt x="81555" y="142553"/>
                  </a:lnTo>
                  <a:lnTo>
                    <a:pt x="74690" y="152609"/>
                  </a:lnTo>
                  <a:lnTo>
                    <a:pt x="55150" y="180684"/>
                  </a:lnTo>
                  <a:lnTo>
                    <a:pt x="49467" y="189036"/>
                  </a:lnTo>
                  <a:lnTo>
                    <a:pt x="44831" y="197144"/>
                  </a:lnTo>
                  <a:lnTo>
                    <a:pt x="40895" y="205090"/>
                  </a:lnTo>
                  <a:lnTo>
                    <a:pt x="34263" y="219844"/>
                  </a:lnTo>
                  <a:lnTo>
                    <a:pt x="28492" y="232047"/>
                  </a:lnTo>
                  <a:lnTo>
                    <a:pt x="26615" y="237671"/>
                  </a:lnTo>
                  <a:lnTo>
                    <a:pt x="25363" y="243114"/>
                  </a:lnTo>
                  <a:lnTo>
                    <a:pt x="24529" y="248436"/>
                  </a:lnTo>
                  <a:lnTo>
                    <a:pt x="23972" y="253677"/>
                  </a:lnTo>
                  <a:lnTo>
                    <a:pt x="23602" y="258865"/>
                  </a:lnTo>
                  <a:lnTo>
                    <a:pt x="23190" y="268298"/>
                  </a:lnTo>
                  <a:lnTo>
                    <a:pt x="23007" y="275312"/>
                  </a:lnTo>
                  <a:lnTo>
                    <a:pt x="23805" y="277522"/>
                  </a:lnTo>
                  <a:lnTo>
                    <a:pt x="25183" y="278995"/>
                  </a:lnTo>
                  <a:lnTo>
                    <a:pt x="30480" y="2819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SMARTInkAnnotation160"/>
            <p:cNvSpPr/>
            <p:nvPr/>
          </p:nvSpPr>
          <p:spPr>
            <a:xfrm>
              <a:off x="5471640" y="2880000"/>
              <a:ext cx="174960" cy="75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5261" h="7621">
                  <a:moveTo>
                    <a:pt x="0" y="0"/>
                  </a:moveTo>
                  <a:lnTo>
                    <a:pt x="65595" y="0"/>
                  </a:lnTo>
                  <a:lnTo>
                    <a:pt x="75057" y="847"/>
                  </a:lnTo>
                  <a:lnTo>
                    <a:pt x="84751" y="2258"/>
                  </a:lnTo>
                  <a:lnTo>
                    <a:pt x="94601" y="4046"/>
                  </a:lnTo>
                  <a:lnTo>
                    <a:pt x="105401" y="5237"/>
                  </a:lnTo>
                  <a:lnTo>
                    <a:pt x="116834" y="6031"/>
                  </a:lnTo>
                  <a:lnTo>
                    <a:pt x="139133" y="6914"/>
                  </a:lnTo>
                  <a:lnTo>
                    <a:pt x="17526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SMARTInkAnnotation161"/>
            <p:cNvSpPr/>
            <p:nvPr/>
          </p:nvSpPr>
          <p:spPr>
            <a:xfrm>
              <a:off x="7338600" y="2620800"/>
              <a:ext cx="251280" cy="2739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51461" h="274289">
                  <a:moveTo>
                    <a:pt x="0" y="53308"/>
                  </a:moveTo>
                  <a:lnTo>
                    <a:pt x="0" y="46747"/>
                  </a:lnTo>
                  <a:lnTo>
                    <a:pt x="6083" y="39814"/>
                  </a:lnTo>
                  <a:lnTo>
                    <a:pt x="21957" y="23759"/>
                  </a:lnTo>
                  <a:lnTo>
                    <a:pt x="27338" y="20062"/>
                  </a:lnTo>
                  <a:lnTo>
                    <a:pt x="33466" y="16751"/>
                  </a:lnTo>
                  <a:lnTo>
                    <a:pt x="40090" y="13696"/>
                  </a:lnTo>
                  <a:lnTo>
                    <a:pt x="46200" y="11661"/>
                  </a:lnTo>
                  <a:lnTo>
                    <a:pt x="51967" y="10303"/>
                  </a:lnTo>
                  <a:lnTo>
                    <a:pt x="57504" y="9398"/>
                  </a:lnTo>
                  <a:lnTo>
                    <a:pt x="62889" y="7948"/>
                  </a:lnTo>
                  <a:lnTo>
                    <a:pt x="68173" y="6135"/>
                  </a:lnTo>
                  <a:lnTo>
                    <a:pt x="73389" y="4079"/>
                  </a:lnTo>
                  <a:lnTo>
                    <a:pt x="78559" y="2709"/>
                  </a:lnTo>
                  <a:lnTo>
                    <a:pt x="83699" y="1795"/>
                  </a:lnTo>
                  <a:lnTo>
                    <a:pt x="88820" y="1186"/>
                  </a:lnTo>
                  <a:lnTo>
                    <a:pt x="94773" y="780"/>
                  </a:lnTo>
                  <a:lnTo>
                    <a:pt x="101280" y="510"/>
                  </a:lnTo>
                  <a:lnTo>
                    <a:pt x="120320" y="129"/>
                  </a:lnTo>
                  <a:lnTo>
                    <a:pt x="141925" y="0"/>
                  </a:lnTo>
                  <a:lnTo>
                    <a:pt x="147109" y="836"/>
                  </a:lnTo>
                  <a:lnTo>
                    <a:pt x="152259" y="2240"/>
                  </a:lnTo>
                  <a:lnTo>
                    <a:pt x="157386" y="4023"/>
                  </a:lnTo>
                  <a:lnTo>
                    <a:pt x="161650" y="6058"/>
                  </a:lnTo>
                  <a:lnTo>
                    <a:pt x="168648" y="10577"/>
                  </a:lnTo>
                  <a:lnTo>
                    <a:pt x="174578" y="17665"/>
                  </a:lnTo>
                  <a:lnTo>
                    <a:pt x="177346" y="21926"/>
                  </a:lnTo>
                  <a:lnTo>
                    <a:pt x="179190" y="26460"/>
                  </a:lnTo>
                  <a:lnTo>
                    <a:pt x="180420" y="31176"/>
                  </a:lnTo>
                  <a:lnTo>
                    <a:pt x="181240" y="36014"/>
                  </a:lnTo>
                  <a:lnTo>
                    <a:pt x="182634" y="40932"/>
                  </a:lnTo>
                  <a:lnTo>
                    <a:pt x="184409" y="45904"/>
                  </a:lnTo>
                  <a:lnTo>
                    <a:pt x="186438" y="50912"/>
                  </a:lnTo>
                  <a:lnTo>
                    <a:pt x="186945" y="56791"/>
                  </a:lnTo>
                  <a:lnTo>
                    <a:pt x="186438" y="63250"/>
                  </a:lnTo>
                  <a:lnTo>
                    <a:pt x="185252" y="70096"/>
                  </a:lnTo>
                  <a:lnTo>
                    <a:pt x="183615" y="77200"/>
                  </a:lnTo>
                  <a:lnTo>
                    <a:pt x="181676" y="84476"/>
                  </a:lnTo>
                  <a:lnTo>
                    <a:pt x="179538" y="91867"/>
                  </a:lnTo>
                  <a:lnTo>
                    <a:pt x="176418" y="99334"/>
                  </a:lnTo>
                  <a:lnTo>
                    <a:pt x="172645" y="106852"/>
                  </a:lnTo>
                  <a:lnTo>
                    <a:pt x="164784" y="121132"/>
                  </a:lnTo>
                  <a:lnTo>
                    <a:pt x="158468" y="133123"/>
                  </a:lnTo>
                  <a:lnTo>
                    <a:pt x="154752" y="139538"/>
                  </a:lnTo>
                  <a:lnTo>
                    <a:pt x="146108" y="153439"/>
                  </a:lnTo>
                  <a:lnTo>
                    <a:pt x="140585" y="160702"/>
                  </a:lnTo>
                  <a:lnTo>
                    <a:pt x="134364" y="168084"/>
                  </a:lnTo>
                  <a:lnTo>
                    <a:pt x="127676" y="175546"/>
                  </a:lnTo>
                  <a:lnTo>
                    <a:pt x="113470" y="190609"/>
                  </a:lnTo>
                  <a:lnTo>
                    <a:pt x="71517" y="233210"/>
                  </a:lnTo>
                  <a:lnTo>
                    <a:pt x="66305" y="237590"/>
                  </a:lnTo>
                  <a:lnTo>
                    <a:pt x="61136" y="241356"/>
                  </a:lnTo>
                  <a:lnTo>
                    <a:pt x="55997" y="244713"/>
                  </a:lnTo>
                  <a:lnTo>
                    <a:pt x="50879" y="248645"/>
                  </a:lnTo>
                  <a:lnTo>
                    <a:pt x="45772" y="252959"/>
                  </a:lnTo>
                  <a:lnTo>
                    <a:pt x="36429" y="261422"/>
                  </a:lnTo>
                  <a:lnTo>
                    <a:pt x="29455" y="268005"/>
                  </a:lnTo>
                  <a:lnTo>
                    <a:pt x="26411" y="270100"/>
                  </a:lnTo>
                  <a:lnTo>
                    <a:pt x="18927" y="273047"/>
                  </a:lnTo>
                  <a:lnTo>
                    <a:pt x="15283" y="274274"/>
                  </a:lnTo>
                  <a:lnTo>
                    <a:pt x="25849" y="274287"/>
                  </a:lnTo>
                  <a:lnTo>
                    <a:pt x="28240" y="273441"/>
                  </a:lnTo>
                  <a:lnTo>
                    <a:pt x="33154" y="270243"/>
                  </a:lnTo>
                  <a:lnTo>
                    <a:pt x="40417" y="265999"/>
                  </a:lnTo>
                  <a:lnTo>
                    <a:pt x="44725" y="263682"/>
                  </a:lnTo>
                  <a:lnTo>
                    <a:pt x="50136" y="262137"/>
                  </a:lnTo>
                  <a:lnTo>
                    <a:pt x="56284" y="261108"/>
                  </a:lnTo>
                  <a:lnTo>
                    <a:pt x="62922" y="260421"/>
                  </a:lnTo>
                  <a:lnTo>
                    <a:pt x="69889" y="259963"/>
                  </a:lnTo>
                  <a:lnTo>
                    <a:pt x="77073" y="259658"/>
                  </a:lnTo>
                  <a:lnTo>
                    <a:pt x="92674" y="259319"/>
                  </a:lnTo>
                  <a:lnTo>
                    <a:pt x="201668" y="259049"/>
                  </a:lnTo>
                  <a:lnTo>
                    <a:pt x="207259" y="259896"/>
                  </a:lnTo>
                  <a:lnTo>
                    <a:pt x="212678" y="261306"/>
                  </a:lnTo>
                  <a:lnTo>
                    <a:pt x="217987" y="263094"/>
                  </a:lnTo>
                  <a:lnTo>
                    <a:pt x="222371" y="264285"/>
                  </a:lnTo>
                  <a:lnTo>
                    <a:pt x="229501" y="265609"/>
                  </a:lnTo>
                  <a:lnTo>
                    <a:pt x="235491" y="268455"/>
                  </a:lnTo>
                  <a:lnTo>
                    <a:pt x="242190" y="273136"/>
                  </a:lnTo>
                  <a:lnTo>
                    <a:pt x="245365" y="273776"/>
                  </a:lnTo>
                  <a:lnTo>
                    <a:pt x="251460" y="2742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SMARTInkAnnotation162"/>
            <p:cNvSpPr/>
            <p:nvPr/>
          </p:nvSpPr>
          <p:spPr>
            <a:xfrm>
              <a:off x="5465160" y="3855240"/>
              <a:ext cx="214920" cy="34848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215028" h="348557">
                  <a:moveTo>
                    <a:pt x="74786" y="0"/>
                  </a:moveTo>
                  <a:lnTo>
                    <a:pt x="74786" y="10606"/>
                  </a:lnTo>
                  <a:lnTo>
                    <a:pt x="73939" y="12997"/>
                  </a:lnTo>
                  <a:lnTo>
                    <a:pt x="69549" y="20408"/>
                  </a:lnTo>
                  <a:lnTo>
                    <a:pt x="68224" y="25439"/>
                  </a:lnTo>
                  <a:lnTo>
                    <a:pt x="67479" y="33032"/>
                  </a:lnTo>
                  <a:lnTo>
                    <a:pt x="65047" y="40363"/>
                  </a:lnTo>
                  <a:lnTo>
                    <a:pt x="61144" y="49266"/>
                  </a:lnTo>
                  <a:lnTo>
                    <a:pt x="56587" y="58867"/>
                  </a:lnTo>
                  <a:lnTo>
                    <a:pt x="49262" y="73793"/>
                  </a:lnTo>
                  <a:lnTo>
                    <a:pt x="45916" y="78828"/>
                  </a:lnTo>
                  <a:lnTo>
                    <a:pt x="41992" y="83879"/>
                  </a:lnTo>
                  <a:lnTo>
                    <a:pt x="37684" y="88939"/>
                  </a:lnTo>
                  <a:lnTo>
                    <a:pt x="33964" y="94006"/>
                  </a:lnTo>
                  <a:lnTo>
                    <a:pt x="27574" y="104152"/>
                  </a:lnTo>
                  <a:lnTo>
                    <a:pt x="21911" y="112047"/>
                  </a:lnTo>
                  <a:lnTo>
                    <a:pt x="19216" y="115338"/>
                  </a:lnTo>
                  <a:lnTo>
                    <a:pt x="17419" y="119225"/>
                  </a:lnTo>
                  <a:lnTo>
                    <a:pt x="15422" y="128060"/>
                  </a:lnTo>
                  <a:lnTo>
                    <a:pt x="12278" y="135374"/>
                  </a:lnTo>
                  <a:lnTo>
                    <a:pt x="5746" y="144251"/>
                  </a:lnTo>
                  <a:lnTo>
                    <a:pt x="0" y="150790"/>
                  </a:lnTo>
                  <a:lnTo>
                    <a:pt x="375" y="151327"/>
                  </a:lnTo>
                  <a:lnTo>
                    <a:pt x="1472" y="151684"/>
                  </a:lnTo>
                  <a:lnTo>
                    <a:pt x="7061" y="152188"/>
                  </a:lnTo>
                  <a:lnTo>
                    <a:pt x="12511" y="152306"/>
                  </a:lnTo>
                  <a:lnTo>
                    <a:pt x="120548" y="152400"/>
                  </a:lnTo>
                  <a:lnTo>
                    <a:pt x="128154" y="153247"/>
                  </a:lnTo>
                  <a:lnTo>
                    <a:pt x="135764" y="154658"/>
                  </a:lnTo>
                  <a:lnTo>
                    <a:pt x="143378" y="156445"/>
                  </a:lnTo>
                  <a:lnTo>
                    <a:pt x="150147" y="159330"/>
                  </a:lnTo>
                  <a:lnTo>
                    <a:pt x="156353" y="162946"/>
                  </a:lnTo>
                  <a:lnTo>
                    <a:pt x="162183" y="167052"/>
                  </a:lnTo>
                  <a:lnTo>
                    <a:pt x="167764" y="171481"/>
                  </a:lnTo>
                  <a:lnTo>
                    <a:pt x="173178" y="176127"/>
                  </a:lnTo>
                  <a:lnTo>
                    <a:pt x="178480" y="180918"/>
                  </a:lnTo>
                  <a:lnTo>
                    <a:pt x="188887" y="190757"/>
                  </a:lnTo>
                  <a:lnTo>
                    <a:pt x="194033" y="195751"/>
                  </a:lnTo>
                  <a:lnTo>
                    <a:pt x="198311" y="201621"/>
                  </a:lnTo>
                  <a:lnTo>
                    <a:pt x="202009" y="208074"/>
                  </a:lnTo>
                  <a:lnTo>
                    <a:pt x="214027" y="232636"/>
                  </a:lnTo>
                  <a:lnTo>
                    <a:pt x="215027" y="239757"/>
                  </a:lnTo>
                  <a:lnTo>
                    <a:pt x="214846" y="247892"/>
                  </a:lnTo>
                  <a:lnTo>
                    <a:pt x="213879" y="256701"/>
                  </a:lnTo>
                  <a:lnTo>
                    <a:pt x="213234" y="265115"/>
                  </a:lnTo>
                  <a:lnTo>
                    <a:pt x="212804" y="273263"/>
                  </a:lnTo>
                  <a:lnTo>
                    <a:pt x="212518" y="281235"/>
                  </a:lnTo>
                  <a:lnTo>
                    <a:pt x="211480" y="288243"/>
                  </a:lnTo>
                  <a:lnTo>
                    <a:pt x="209942" y="294609"/>
                  </a:lnTo>
                  <a:lnTo>
                    <a:pt x="208070" y="300546"/>
                  </a:lnTo>
                  <a:lnTo>
                    <a:pt x="205128" y="306197"/>
                  </a:lnTo>
                  <a:lnTo>
                    <a:pt x="201474" y="311658"/>
                  </a:lnTo>
                  <a:lnTo>
                    <a:pt x="197344" y="316993"/>
                  </a:lnTo>
                  <a:lnTo>
                    <a:pt x="192898" y="322241"/>
                  </a:lnTo>
                  <a:lnTo>
                    <a:pt x="188240" y="327434"/>
                  </a:lnTo>
                  <a:lnTo>
                    <a:pt x="183442" y="332589"/>
                  </a:lnTo>
                  <a:lnTo>
                    <a:pt x="177703" y="336873"/>
                  </a:lnTo>
                  <a:lnTo>
                    <a:pt x="171337" y="340575"/>
                  </a:lnTo>
                  <a:lnTo>
                    <a:pt x="164553" y="343890"/>
                  </a:lnTo>
                  <a:lnTo>
                    <a:pt x="158337" y="346100"/>
                  </a:lnTo>
                  <a:lnTo>
                    <a:pt x="152500" y="347574"/>
                  </a:lnTo>
                  <a:lnTo>
                    <a:pt x="146915" y="348556"/>
                  </a:lnTo>
                  <a:lnTo>
                    <a:pt x="139805" y="348364"/>
                  </a:lnTo>
                  <a:lnTo>
                    <a:pt x="131678" y="347389"/>
                  </a:lnTo>
                  <a:lnTo>
                    <a:pt x="122874" y="345893"/>
                  </a:lnTo>
                  <a:lnTo>
                    <a:pt x="114465" y="344049"/>
                  </a:lnTo>
                  <a:lnTo>
                    <a:pt x="106319" y="341973"/>
                  </a:lnTo>
                  <a:lnTo>
                    <a:pt x="98347" y="339742"/>
                  </a:lnTo>
                  <a:lnTo>
                    <a:pt x="90493" y="336561"/>
                  </a:lnTo>
                  <a:lnTo>
                    <a:pt x="82717" y="332748"/>
                  </a:lnTo>
                  <a:lnTo>
                    <a:pt x="74993" y="328512"/>
                  </a:lnTo>
                  <a:lnTo>
                    <a:pt x="67303" y="323995"/>
                  </a:lnTo>
                  <a:lnTo>
                    <a:pt x="51987" y="314460"/>
                  </a:lnTo>
                  <a:lnTo>
                    <a:pt x="46040" y="309547"/>
                  </a:lnTo>
                  <a:lnTo>
                    <a:pt x="41228" y="304578"/>
                  </a:lnTo>
                  <a:lnTo>
                    <a:pt x="29065" y="2895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SMARTInkAnnotation163"/>
            <p:cNvSpPr/>
            <p:nvPr/>
          </p:nvSpPr>
          <p:spPr>
            <a:xfrm>
              <a:off x="5563080" y="3855240"/>
              <a:ext cx="228600" cy="75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8601" h="7622">
                  <a:moveTo>
                    <a:pt x="0" y="7621"/>
                  </a:moveTo>
                  <a:lnTo>
                    <a:pt x="6561" y="1059"/>
                  </a:lnTo>
                  <a:lnTo>
                    <a:pt x="9454" y="706"/>
                  </a:lnTo>
                  <a:lnTo>
                    <a:pt x="13922" y="471"/>
                  </a:lnTo>
                  <a:lnTo>
                    <a:pt x="25661" y="209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tracting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457200" y="129528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5"/>
              <p:cNvSpPr txBox="1"/>
              <p:nvPr/>
            </p:nvSpPr>
            <p:spPr>
              <a:xfrm>
                <a:off x="1531800" y="1295280"/>
                <a:ext cx="36496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26" name="Group 10"/>
          <p:cNvGrpSpPr/>
          <p:nvPr/>
        </p:nvGrpSpPr>
        <p:grpSpPr>
          <a:xfrm>
            <a:off x="457200" y="3625920"/>
            <a:ext cx="4114800" cy="1127160"/>
            <a:chOff x="457200" y="3625920"/>
            <a:chExt cx="4114800" cy="1127160"/>
          </a:xfrm>
        </p:grpSpPr>
        <p:sp>
          <p:nvSpPr>
            <p:cNvPr id="627" name="Text Box 6"/>
            <p:cNvSpPr/>
            <p:nvPr/>
          </p:nvSpPr>
          <p:spPr>
            <a:xfrm>
              <a:off x="457200" y="3625920"/>
              <a:ext cx="1295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8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8" name="Object 7"/>
                <p:cNvSpPr txBox="1"/>
                <p:nvPr/>
              </p:nvSpPr>
              <p:spPr>
                <a:xfrm>
                  <a:off x="1600200" y="3733920"/>
                  <a:ext cx="2971800" cy="101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7</m:t>
                                </m:r>
                              </m:e>
                            </m:mr>
                            <m:m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8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−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9" name="Line 9"/>
          <p:cNvSpPr/>
          <p:nvPr/>
        </p:nvSpPr>
        <p:spPr>
          <a:xfrm>
            <a:off x="457200" y="3581280"/>
            <a:ext cx="79246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15374"/>
          <p:cNvGrpSpPr/>
          <p:nvPr/>
        </p:nvGrpSpPr>
        <p:grpSpPr>
          <a:xfrm>
            <a:off x="382680" y="1311120"/>
            <a:ext cx="9271080" cy="1995480"/>
            <a:chOff x="382680" y="1311120"/>
            <a:chExt cx="9271080" cy="1995480"/>
          </a:xfrm>
        </p:grpSpPr>
        <p:sp>
          <p:nvSpPr>
            <p:cNvPr id="631" name="SMARTInkAnnotation81"/>
            <p:cNvSpPr/>
            <p:nvPr/>
          </p:nvSpPr>
          <p:spPr>
            <a:xfrm>
              <a:off x="1458720" y="1311120"/>
              <a:ext cx="429840" cy="101988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1019880"/>
                <a:gd name="textAreaBottom" fmla="*/ 1020240 h 1019880"/>
              </a:gdLst>
              <a:ahLst/>
              <a:rect l="textAreaLeft" t="textAreaTop" r="textAreaRight" b="textAreaBottom"/>
              <a:pathLst>
                <a:path w="429821" h="1020031">
                  <a:moveTo>
                    <a:pt x="42488" y="29878"/>
                  </a:moveTo>
                  <a:lnTo>
                    <a:pt x="42488" y="36439"/>
                  </a:lnTo>
                  <a:lnTo>
                    <a:pt x="30338" y="64277"/>
                  </a:lnTo>
                  <a:lnTo>
                    <a:pt x="25601" y="91612"/>
                  </a:lnTo>
                  <a:lnTo>
                    <a:pt x="19140" y="116185"/>
                  </a:lnTo>
                  <a:lnTo>
                    <a:pt x="14121" y="142657"/>
                  </a:lnTo>
                  <a:lnTo>
                    <a:pt x="12634" y="171103"/>
                  </a:lnTo>
                  <a:lnTo>
                    <a:pt x="11440" y="193398"/>
                  </a:lnTo>
                  <a:lnTo>
                    <a:pt x="8087" y="214596"/>
                  </a:lnTo>
                  <a:lnTo>
                    <a:pt x="6032" y="237564"/>
                  </a:lnTo>
                  <a:lnTo>
                    <a:pt x="5119" y="261883"/>
                  </a:lnTo>
                  <a:lnTo>
                    <a:pt x="4532" y="311989"/>
                  </a:lnTo>
                  <a:lnTo>
                    <a:pt x="4397" y="404773"/>
                  </a:lnTo>
                  <a:lnTo>
                    <a:pt x="2134" y="434412"/>
                  </a:lnTo>
                  <a:lnTo>
                    <a:pt x="0" y="464517"/>
                  </a:lnTo>
                  <a:lnTo>
                    <a:pt x="1873" y="494831"/>
                  </a:lnTo>
                  <a:lnTo>
                    <a:pt x="3270" y="525237"/>
                  </a:lnTo>
                  <a:lnTo>
                    <a:pt x="4738" y="556531"/>
                  </a:lnTo>
                  <a:lnTo>
                    <a:pt x="6315" y="573173"/>
                  </a:lnTo>
                  <a:lnTo>
                    <a:pt x="8213" y="590195"/>
                  </a:lnTo>
                  <a:lnTo>
                    <a:pt x="12579" y="620397"/>
                  </a:lnTo>
                  <a:lnTo>
                    <a:pt x="17342" y="649624"/>
                  </a:lnTo>
                  <a:lnTo>
                    <a:pt x="22281" y="682370"/>
                  </a:lnTo>
                  <a:lnTo>
                    <a:pt x="29556" y="712163"/>
                  </a:lnTo>
                  <a:lnTo>
                    <a:pt x="37587" y="740363"/>
                  </a:lnTo>
                  <a:lnTo>
                    <a:pt x="43979" y="769829"/>
                  </a:lnTo>
                  <a:lnTo>
                    <a:pt x="52337" y="810933"/>
                  </a:lnTo>
                  <a:lnTo>
                    <a:pt x="62105" y="837036"/>
                  </a:lnTo>
                  <a:lnTo>
                    <a:pt x="90321" y="894941"/>
                  </a:lnTo>
                  <a:lnTo>
                    <a:pt x="100718" y="915859"/>
                  </a:lnTo>
                  <a:lnTo>
                    <a:pt x="113242" y="936445"/>
                  </a:lnTo>
                  <a:lnTo>
                    <a:pt x="120137" y="946676"/>
                  </a:lnTo>
                  <a:lnTo>
                    <a:pt x="127274" y="955190"/>
                  </a:lnTo>
                  <a:lnTo>
                    <a:pt x="134572" y="962559"/>
                  </a:lnTo>
                  <a:lnTo>
                    <a:pt x="141978" y="969166"/>
                  </a:lnTo>
                  <a:lnTo>
                    <a:pt x="156979" y="983279"/>
                  </a:lnTo>
                  <a:lnTo>
                    <a:pt x="183261" y="1008991"/>
                  </a:lnTo>
                  <a:lnTo>
                    <a:pt x="190523" y="1012820"/>
                  </a:lnTo>
                  <a:lnTo>
                    <a:pt x="198751" y="1015373"/>
                  </a:lnTo>
                  <a:lnTo>
                    <a:pt x="207624" y="1017074"/>
                  </a:lnTo>
                  <a:lnTo>
                    <a:pt x="216078" y="1018209"/>
                  </a:lnTo>
                  <a:lnTo>
                    <a:pt x="224255" y="1018965"/>
                  </a:lnTo>
                  <a:lnTo>
                    <a:pt x="232246" y="1019469"/>
                  </a:lnTo>
                  <a:lnTo>
                    <a:pt x="245641" y="1020030"/>
                  </a:lnTo>
                  <a:lnTo>
                    <a:pt x="258085" y="1019432"/>
                  </a:lnTo>
                  <a:lnTo>
                    <a:pt x="264959" y="1018088"/>
                  </a:lnTo>
                  <a:lnTo>
                    <a:pt x="272082" y="1016344"/>
                  </a:lnTo>
                  <a:lnTo>
                    <a:pt x="279371" y="1013489"/>
                  </a:lnTo>
                  <a:lnTo>
                    <a:pt x="286770" y="1009892"/>
                  </a:lnTo>
                  <a:lnTo>
                    <a:pt x="294243" y="1005801"/>
                  </a:lnTo>
                  <a:lnTo>
                    <a:pt x="307061" y="996739"/>
                  </a:lnTo>
                  <a:lnTo>
                    <a:pt x="318403" y="986221"/>
                  </a:lnTo>
                  <a:lnTo>
                    <a:pt x="329088" y="973079"/>
                  </a:lnTo>
                  <a:lnTo>
                    <a:pt x="348669" y="947355"/>
                  </a:lnTo>
                  <a:lnTo>
                    <a:pt x="360884" y="928148"/>
                  </a:lnTo>
                  <a:lnTo>
                    <a:pt x="371957" y="907476"/>
                  </a:lnTo>
                  <a:lnTo>
                    <a:pt x="382523" y="884177"/>
                  </a:lnTo>
                  <a:lnTo>
                    <a:pt x="390606" y="857453"/>
                  </a:lnTo>
                  <a:lnTo>
                    <a:pt x="397021" y="829489"/>
                  </a:lnTo>
                  <a:lnTo>
                    <a:pt x="402693" y="802950"/>
                  </a:lnTo>
                  <a:lnTo>
                    <a:pt x="410295" y="772528"/>
                  </a:lnTo>
                  <a:lnTo>
                    <a:pt x="414693" y="756118"/>
                  </a:lnTo>
                  <a:lnTo>
                    <a:pt x="419579" y="724338"/>
                  </a:lnTo>
                  <a:lnTo>
                    <a:pt x="420882" y="708751"/>
                  </a:lnTo>
                  <a:lnTo>
                    <a:pt x="424588" y="675628"/>
                  </a:lnTo>
                  <a:lnTo>
                    <a:pt x="426761" y="658498"/>
                  </a:lnTo>
                  <a:lnTo>
                    <a:pt x="428210" y="641151"/>
                  </a:lnTo>
                  <a:lnTo>
                    <a:pt x="429176" y="623660"/>
                  </a:lnTo>
                  <a:lnTo>
                    <a:pt x="429820" y="606073"/>
                  </a:lnTo>
                  <a:lnTo>
                    <a:pt x="429403" y="588421"/>
                  </a:lnTo>
                  <a:lnTo>
                    <a:pt x="428278" y="570727"/>
                  </a:lnTo>
                  <a:lnTo>
                    <a:pt x="426682" y="553004"/>
                  </a:lnTo>
                  <a:lnTo>
                    <a:pt x="425617" y="535262"/>
                  </a:lnTo>
                  <a:lnTo>
                    <a:pt x="424434" y="499744"/>
                  </a:lnTo>
                  <a:lnTo>
                    <a:pt x="423768" y="446428"/>
                  </a:lnTo>
                  <a:lnTo>
                    <a:pt x="422829" y="428651"/>
                  </a:lnTo>
                  <a:lnTo>
                    <a:pt x="421355" y="410874"/>
                  </a:lnTo>
                  <a:lnTo>
                    <a:pt x="419526" y="393095"/>
                  </a:lnTo>
                  <a:lnTo>
                    <a:pt x="415236" y="359795"/>
                  </a:lnTo>
                  <a:lnTo>
                    <a:pt x="405583" y="292979"/>
                  </a:lnTo>
                  <a:lnTo>
                    <a:pt x="398315" y="262523"/>
                  </a:lnTo>
                  <a:lnTo>
                    <a:pt x="390287" y="234029"/>
                  </a:lnTo>
                  <a:lnTo>
                    <a:pt x="383896" y="204432"/>
                  </a:lnTo>
                  <a:lnTo>
                    <a:pt x="375976" y="174344"/>
                  </a:lnTo>
                  <a:lnTo>
                    <a:pt x="365965" y="145732"/>
                  </a:lnTo>
                  <a:lnTo>
                    <a:pt x="353049" y="121726"/>
                  </a:lnTo>
                  <a:lnTo>
                    <a:pt x="341100" y="99768"/>
                  </a:lnTo>
                  <a:lnTo>
                    <a:pt x="329298" y="78720"/>
                  </a:lnTo>
                  <a:lnTo>
                    <a:pt x="322595" y="68366"/>
                  </a:lnTo>
                  <a:lnTo>
                    <a:pt x="315586" y="58077"/>
                  </a:lnTo>
                  <a:lnTo>
                    <a:pt x="308373" y="49524"/>
                  </a:lnTo>
                  <a:lnTo>
                    <a:pt x="301025" y="42129"/>
                  </a:lnTo>
                  <a:lnTo>
                    <a:pt x="293586" y="35505"/>
                  </a:lnTo>
                  <a:lnTo>
                    <a:pt x="285240" y="29396"/>
                  </a:lnTo>
                  <a:lnTo>
                    <a:pt x="276289" y="23630"/>
                  </a:lnTo>
                  <a:lnTo>
                    <a:pt x="266936" y="18093"/>
                  </a:lnTo>
                  <a:lnTo>
                    <a:pt x="258160" y="13554"/>
                  </a:lnTo>
                  <a:lnTo>
                    <a:pt x="249769" y="9682"/>
                  </a:lnTo>
                  <a:lnTo>
                    <a:pt x="241636" y="6254"/>
                  </a:lnTo>
                  <a:lnTo>
                    <a:pt x="232827" y="3969"/>
                  </a:lnTo>
                  <a:lnTo>
                    <a:pt x="223567" y="2445"/>
                  </a:lnTo>
                  <a:lnTo>
                    <a:pt x="214007" y="1429"/>
                  </a:lnTo>
                  <a:lnTo>
                    <a:pt x="203401" y="752"/>
                  </a:lnTo>
                  <a:lnTo>
                    <a:pt x="192097" y="301"/>
                  </a:lnTo>
                  <a:lnTo>
                    <a:pt x="180327" y="0"/>
                  </a:lnTo>
                  <a:lnTo>
                    <a:pt x="169094" y="1493"/>
                  </a:lnTo>
                  <a:lnTo>
                    <a:pt x="158219" y="4181"/>
                  </a:lnTo>
                  <a:lnTo>
                    <a:pt x="147582" y="7667"/>
                  </a:lnTo>
                  <a:lnTo>
                    <a:pt x="137104" y="11684"/>
                  </a:lnTo>
                  <a:lnTo>
                    <a:pt x="126732" y="16055"/>
                  </a:lnTo>
                  <a:lnTo>
                    <a:pt x="116431" y="20663"/>
                  </a:lnTo>
                  <a:lnTo>
                    <a:pt x="105330" y="27121"/>
                  </a:lnTo>
                  <a:lnTo>
                    <a:pt x="93696" y="34813"/>
                  </a:lnTo>
                  <a:lnTo>
                    <a:pt x="81706" y="43328"/>
                  </a:lnTo>
                  <a:lnTo>
                    <a:pt x="70327" y="53238"/>
                  </a:lnTo>
                  <a:lnTo>
                    <a:pt x="59354" y="64078"/>
                  </a:lnTo>
                  <a:lnTo>
                    <a:pt x="48652" y="75538"/>
                  </a:lnTo>
                  <a:lnTo>
                    <a:pt x="39824" y="84025"/>
                  </a:lnTo>
                  <a:lnTo>
                    <a:pt x="32245" y="90529"/>
                  </a:lnTo>
                  <a:lnTo>
                    <a:pt x="25500" y="95712"/>
                  </a:lnTo>
                  <a:lnTo>
                    <a:pt x="20156" y="102554"/>
                  </a:lnTo>
                  <a:lnTo>
                    <a:pt x="15746" y="110502"/>
                  </a:lnTo>
                  <a:lnTo>
                    <a:pt x="4388" y="13655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SMARTInkAnnotation82"/>
            <p:cNvSpPr/>
            <p:nvPr/>
          </p:nvSpPr>
          <p:spPr>
            <a:xfrm>
              <a:off x="3287880" y="1326240"/>
              <a:ext cx="396720" cy="8978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897840"/>
                <a:gd name="textAreaBottom" fmla="*/ 898200 h 897840"/>
              </a:gdLst>
              <a:ahLst/>
              <a:rect l="textAreaLeft" t="textAreaTop" r="textAreaRight" b="textAreaBottom"/>
              <a:pathLst>
                <a:path w="396939" h="897991">
                  <a:moveTo>
                    <a:pt x="72595" y="37521"/>
                  </a:moveTo>
                  <a:lnTo>
                    <a:pt x="72595" y="45611"/>
                  </a:lnTo>
                  <a:lnTo>
                    <a:pt x="71749" y="48841"/>
                  </a:lnTo>
                  <a:lnTo>
                    <a:pt x="67358" y="57432"/>
                  </a:lnTo>
                  <a:lnTo>
                    <a:pt x="61244" y="82623"/>
                  </a:lnTo>
                  <a:lnTo>
                    <a:pt x="50417" y="105918"/>
                  </a:lnTo>
                  <a:lnTo>
                    <a:pt x="40530" y="132952"/>
                  </a:lnTo>
                  <a:lnTo>
                    <a:pt x="34919" y="154724"/>
                  </a:lnTo>
                  <a:lnTo>
                    <a:pt x="30450" y="177664"/>
                  </a:lnTo>
                  <a:lnTo>
                    <a:pt x="27088" y="210466"/>
                  </a:lnTo>
                  <a:lnTo>
                    <a:pt x="23301" y="234330"/>
                  </a:lnTo>
                  <a:lnTo>
                    <a:pt x="16409" y="271565"/>
                  </a:lnTo>
                  <a:lnTo>
                    <a:pt x="13757" y="296763"/>
                  </a:lnTo>
                  <a:lnTo>
                    <a:pt x="11731" y="322073"/>
                  </a:lnTo>
                  <a:lnTo>
                    <a:pt x="8009" y="347433"/>
                  </a:lnTo>
                  <a:lnTo>
                    <a:pt x="5790" y="372815"/>
                  </a:lnTo>
                  <a:lnTo>
                    <a:pt x="4804" y="399054"/>
                  </a:lnTo>
                  <a:lnTo>
                    <a:pt x="4171" y="455034"/>
                  </a:lnTo>
                  <a:lnTo>
                    <a:pt x="3237" y="481315"/>
                  </a:lnTo>
                  <a:lnTo>
                    <a:pt x="0" y="507107"/>
                  </a:lnTo>
                  <a:lnTo>
                    <a:pt x="255" y="534939"/>
                  </a:lnTo>
                  <a:lnTo>
                    <a:pt x="1508" y="549473"/>
                  </a:lnTo>
                  <a:lnTo>
                    <a:pt x="2901" y="576911"/>
                  </a:lnTo>
                  <a:lnTo>
                    <a:pt x="4367" y="603216"/>
                  </a:lnTo>
                  <a:lnTo>
                    <a:pt x="7841" y="629019"/>
                  </a:lnTo>
                  <a:lnTo>
                    <a:pt x="9948" y="654598"/>
                  </a:lnTo>
                  <a:lnTo>
                    <a:pt x="10885" y="679231"/>
                  </a:lnTo>
                  <a:lnTo>
                    <a:pt x="11302" y="701467"/>
                  </a:lnTo>
                  <a:lnTo>
                    <a:pt x="13745" y="722639"/>
                  </a:lnTo>
                  <a:lnTo>
                    <a:pt x="17653" y="743338"/>
                  </a:lnTo>
                  <a:lnTo>
                    <a:pt x="22212" y="763826"/>
                  </a:lnTo>
                  <a:lnTo>
                    <a:pt x="29318" y="784221"/>
                  </a:lnTo>
                  <a:lnTo>
                    <a:pt x="38121" y="803728"/>
                  </a:lnTo>
                  <a:lnTo>
                    <a:pt x="47678" y="820864"/>
                  </a:lnTo>
                  <a:lnTo>
                    <a:pt x="57570" y="836947"/>
                  </a:lnTo>
                  <a:lnTo>
                    <a:pt x="67610" y="851715"/>
                  </a:lnTo>
                  <a:lnTo>
                    <a:pt x="77718" y="863923"/>
                  </a:lnTo>
                  <a:lnTo>
                    <a:pt x="90112" y="874993"/>
                  </a:lnTo>
                  <a:lnTo>
                    <a:pt x="96973" y="880316"/>
                  </a:lnTo>
                  <a:lnTo>
                    <a:pt x="104087" y="884711"/>
                  </a:lnTo>
                  <a:lnTo>
                    <a:pt x="111370" y="888487"/>
                  </a:lnTo>
                  <a:lnTo>
                    <a:pt x="118765" y="891852"/>
                  </a:lnTo>
                  <a:lnTo>
                    <a:pt x="125388" y="894095"/>
                  </a:lnTo>
                  <a:lnTo>
                    <a:pt x="137263" y="896587"/>
                  </a:lnTo>
                  <a:lnTo>
                    <a:pt x="143647" y="897252"/>
                  </a:lnTo>
                  <a:lnTo>
                    <a:pt x="150443" y="897695"/>
                  </a:lnTo>
                  <a:lnTo>
                    <a:pt x="157514" y="897990"/>
                  </a:lnTo>
                  <a:lnTo>
                    <a:pt x="164768" y="897340"/>
                  </a:lnTo>
                  <a:lnTo>
                    <a:pt x="172144" y="896061"/>
                  </a:lnTo>
                  <a:lnTo>
                    <a:pt x="179601" y="894361"/>
                  </a:lnTo>
                  <a:lnTo>
                    <a:pt x="187113" y="892381"/>
                  </a:lnTo>
                  <a:lnTo>
                    <a:pt x="194660" y="890214"/>
                  </a:lnTo>
                  <a:lnTo>
                    <a:pt x="202231" y="887923"/>
                  </a:lnTo>
                  <a:lnTo>
                    <a:pt x="210666" y="884702"/>
                  </a:lnTo>
                  <a:lnTo>
                    <a:pt x="219676" y="880862"/>
                  </a:lnTo>
                  <a:lnTo>
                    <a:pt x="229069" y="876608"/>
                  </a:lnTo>
                  <a:lnTo>
                    <a:pt x="237871" y="872926"/>
                  </a:lnTo>
                  <a:lnTo>
                    <a:pt x="246280" y="869624"/>
                  </a:lnTo>
                  <a:lnTo>
                    <a:pt x="254425" y="866577"/>
                  </a:lnTo>
                  <a:lnTo>
                    <a:pt x="261549" y="862005"/>
                  </a:lnTo>
                  <a:lnTo>
                    <a:pt x="267990" y="856417"/>
                  </a:lnTo>
                  <a:lnTo>
                    <a:pt x="273979" y="850151"/>
                  </a:lnTo>
                  <a:lnTo>
                    <a:pt x="280511" y="844281"/>
                  </a:lnTo>
                  <a:lnTo>
                    <a:pt x="287405" y="838675"/>
                  </a:lnTo>
                  <a:lnTo>
                    <a:pt x="294542" y="833243"/>
                  </a:lnTo>
                  <a:lnTo>
                    <a:pt x="300993" y="827083"/>
                  </a:lnTo>
                  <a:lnTo>
                    <a:pt x="312677" y="813464"/>
                  </a:lnTo>
                  <a:lnTo>
                    <a:pt x="323514" y="798945"/>
                  </a:lnTo>
                  <a:lnTo>
                    <a:pt x="333975" y="783178"/>
                  </a:lnTo>
                  <a:lnTo>
                    <a:pt x="344269" y="764882"/>
                  </a:lnTo>
                  <a:lnTo>
                    <a:pt x="352231" y="745461"/>
                  </a:lnTo>
                  <a:lnTo>
                    <a:pt x="358591" y="725541"/>
                  </a:lnTo>
                  <a:lnTo>
                    <a:pt x="366932" y="696133"/>
                  </a:lnTo>
                  <a:lnTo>
                    <a:pt x="374765" y="669263"/>
                  </a:lnTo>
                  <a:lnTo>
                    <a:pt x="387543" y="614843"/>
                  </a:lnTo>
                  <a:lnTo>
                    <a:pt x="390373" y="591853"/>
                  </a:lnTo>
                  <a:lnTo>
                    <a:pt x="391629" y="567524"/>
                  </a:lnTo>
                  <a:lnTo>
                    <a:pt x="392188" y="542600"/>
                  </a:lnTo>
                  <a:lnTo>
                    <a:pt x="394695" y="517412"/>
                  </a:lnTo>
                  <a:lnTo>
                    <a:pt x="396938" y="492106"/>
                  </a:lnTo>
                  <a:lnTo>
                    <a:pt x="395112" y="466748"/>
                  </a:lnTo>
                  <a:lnTo>
                    <a:pt x="393736" y="443624"/>
                  </a:lnTo>
                  <a:lnTo>
                    <a:pt x="393124" y="421211"/>
                  </a:lnTo>
                  <a:lnTo>
                    <a:pt x="392853" y="397139"/>
                  </a:lnTo>
                  <a:lnTo>
                    <a:pt x="390474" y="374587"/>
                  </a:lnTo>
                  <a:lnTo>
                    <a:pt x="386595" y="352428"/>
                  </a:lnTo>
                  <a:lnTo>
                    <a:pt x="382049" y="328469"/>
                  </a:lnTo>
                  <a:lnTo>
                    <a:pt x="379464" y="305967"/>
                  </a:lnTo>
                  <a:lnTo>
                    <a:pt x="376621" y="283830"/>
                  </a:lnTo>
                  <a:lnTo>
                    <a:pt x="369713" y="259881"/>
                  </a:lnTo>
                  <a:lnTo>
                    <a:pt x="363256" y="237383"/>
                  </a:lnTo>
                  <a:lnTo>
                    <a:pt x="356718" y="216095"/>
                  </a:lnTo>
                  <a:lnTo>
                    <a:pt x="348168" y="195345"/>
                  </a:lnTo>
                  <a:lnTo>
                    <a:pt x="340981" y="174834"/>
                  </a:lnTo>
                  <a:lnTo>
                    <a:pt x="334118" y="154429"/>
                  </a:lnTo>
                  <a:lnTo>
                    <a:pt x="325423" y="134071"/>
                  </a:lnTo>
                  <a:lnTo>
                    <a:pt x="315915" y="115992"/>
                  </a:lnTo>
                  <a:lnTo>
                    <a:pt x="306044" y="99490"/>
                  </a:lnTo>
                  <a:lnTo>
                    <a:pt x="296012" y="83690"/>
                  </a:lnTo>
                  <a:lnTo>
                    <a:pt x="285910" y="70458"/>
                  </a:lnTo>
                  <a:lnTo>
                    <a:pt x="275775" y="58933"/>
                  </a:lnTo>
                  <a:lnTo>
                    <a:pt x="265626" y="48166"/>
                  </a:lnTo>
                  <a:lnTo>
                    <a:pt x="253214" y="37737"/>
                  </a:lnTo>
                  <a:lnTo>
                    <a:pt x="246347" y="32585"/>
                  </a:lnTo>
                  <a:lnTo>
                    <a:pt x="231945" y="22345"/>
                  </a:lnTo>
                  <a:lnTo>
                    <a:pt x="224549" y="17244"/>
                  </a:lnTo>
                  <a:lnTo>
                    <a:pt x="217924" y="12996"/>
                  </a:lnTo>
                  <a:lnTo>
                    <a:pt x="206048" y="6019"/>
                  </a:lnTo>
                  <a:lnTo>
                    <a:pt x="195125" y="2353"/>
                  </a:lnTo>
                  <a:lnTo>
                    <a:pt x="183779" y="724"/>
                  </a:lnTo>
                  <a:lnTo>
                    <a:pt x="177198" y="290"/>
                  </a:lnTo>
                  <a:lnTo>
                    <a:pt x="170271" y="0"/>
                  </a:lnTo>
                  <a:lnTo>
                    <a:pt x="163112" y="654"/>
                  </a:lnTo>
                  <a:lnTo>
                    <a:pt x="155799" y="1936"/>
                  </a:lnTo>
                  <a:lnTo>
                    <a:pt x="148385" y="3638"/>
                  </a:lnTo>
                  <a:lnTo>
                    <a:pt x="141748" y="6466"/>
                  </a:lnTo>
                  <a:lnTo>
                    <a:pt x="129859" y="14123"/>
                  </a:lnTo>
                  <a:lnTo>
                    <a:pt x="122624" y="18536"/>
                  </a:lnTo>
                  <a:lnTo>
                    <a:pt x="114415" y="23171"/>
                  </a:lnTo>
                  <a:lnTo>
                    <a:pt x="105555" y="27954"/>
                  </a:lnTo>
                  <a:lnTo>
                    <a:pt x="97108" y="33683"/>
                  </a:lnTo>
                  <a:lnTo>
                    <a:pt x="88937" y="40042"/>
                  </a:lnTo>
                  <a:lnTo>
                    <a:pt x="80950" y="46822"/>
                  </a:lnTo>
                  <a:lnTo>
                    <a:pt x="73085" y="54728"/>
                  </a:lnTo>
                  <a:lnTo>
                    <a:pt x="65302" y="63386"/>
                  </a:lnTo>
                  <a:lnTo>
                    <a:pt x="57573" y="72544"/>
                  </a:lnTo>
                  <a:lnTo>
                    <a:pt x="50727" y="82036"/>
                  </a:lnTo>
                  <a:lnTo>
                    <a:pt x="38605" y="101615"/>
                  </a:lnTo>
                  <a:lnTo>
                    <a:pt x="29831" y="119347"/>
                  </a:lnTo>
                  <a:lnTo>
                    <a:pt x="19255" y="14420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SMARTInkAnnotation83"/>
            <p:cNvSpPr/>
            <p:nvPr/>
          </p:nvSpPr>
          <p:spPr>
            <a:xfrm>
              <a:off x="822960" y="2522160"/>
              <a:ext cx="294480" cy="29628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96280"/>
                <a:gd name="textAreaBottom" fmla="*/ 296640 h 296280"/>
              </a:gdLst>
              <a:ahLst/>
              <a:rect l="textAreaLeft" t="textAreaTop" r="textAreaRight" b="textAreaBottom"/>
              <a:pathLst>
                <a:path w="294727" h="296586">
                  <a:moveTo>
                    <a:pt x="60960" y="68440"/>
                  </a:moveTo>
                  <a:lnTo>
                    <a:pt x="60960" y="64395"/>
                  </a:lnTo>
                  <a:lnTo>
                    <a:pt x="61807" y="62357"/>
                  </a:lnTo>
                  <a:lnTo>
                    <a:pt x="67044" y="55443"/>
                  </a:lnTo>
                  <a:lnTo>
                    <a:pt x="71566" y="50528"/>
                  </a:lnTo>
                  <a:lnTo>
                    <a:pt x="78656" y="45522"/>
                  </a:lnTo>
                  <a:lnTo>
                    <a:pt x="82917" y="43001"/>
                  </a:lnTo>
                  <a:lnTo>
                    <a:pt x="88298" y="40474"/>
                  </a:lnTo>
                  <a:lnTo>
                    <a:pt x="94426" y="37943"/>
                  </a:lnTo>
                  <a:lnTo>
                    <a:pt x="101050" y="35409"/>
                  </a:lnTo>
                  <a:lnTo>
                    <a:pt x="108007" y="32026"/>
                  </a:lnTo>
                  <a:lnTo>
                    <a:pt x="115184" y="28077"/>
                  </a:lnTo>
                  <a:lnTo>
                    <a:pt x="122510" y="23751"/>
                  </a:lnTo>
                  <a:lnTo>
                    <a:pt x="130780" y="20021"/>
                  </a:lnTo>
                  <a:lnTo>
                    <a:pt x="139680" y="16688"/>
                  </a:lnTo>
                  <a:lnTo>
                    <a:pt x="149000" y="13618"/>
                  </a:lnTo>
                  <a:lnTo>
                    <a:pt x="158600" y="10725"/>
                  </a:lnTo>
                  <a:lnTo>
                    <a:pt x="178298" y="5254"/>
                  </a:lnTo>
                  <a:lnTo>
                    <a:pt x="187445" y="3456"/>
                  </a:lnTo>
                  <a:lnTo>
                    <a:pt x="196084" y="2257"/>
                  </a:lnTo>
                  <a:lnTo>
                    <a:pt x="204382" y="1458"/>
                  </a:lnTo>
                  <a:lnTo>
                    <a:pt x="213302" y="926"/>
                  </a:lnTo>
                  <a:lnTo>
                    <a:pt x="232243" y="334"/>
                  </a:lnTo>
                  <a:lnTo>
                    <a:pt x="253856" y="0"/>
                  </a:lnTo>
                  <a:lnTo>
                    <a:pt x="258984" y="800"/>
                  </a:lnTo>
                  <a:lnTo>
                    <a:pt x="266940" y="3947"/>
                  </a:lnTo>
                  <a:lnTo>
                    <a:pt x="269400" y="5972"/>
                  </a:lnTo>
                  <a:lnTo>
                    <a:pt x="271040" y="8168"/>
                  </a:lnTo>
                  <a:lnTo>
                    <a:pt x="272133" y="10479"/>
                  </a:lnTo>
                  <a:lnTo>
                    <a:pt x="273348" y="17562"/>
                  </a:lnTo>
                  <a:lnTo>
                    <a:pt x="273672" y="21821"/>
                  </a:lnTo>
                  <a:lnTo>
                    <a:pt x="271348" y="26354"/>
                  </a:lnTo>
                  <a:lnTo>
                    <a:pt x="267259" y="31069"/>
                  </a:lnTo>
                  <a:lnTo>
                    <a:pt x="261992" y="35906"/>
                  </a:lnTo>
                  <a:lnTo>
                    <a:pt x="255942" y="40824"/>
                  </a:lnTo>
                  <a:lnTo>
                    <a:pt x="249368" y="45796"/>
                  </a:lnTo>
                  <a:lnTo>
                    <a:pt x="199525" y="82110"/>
                  </a:lnTo>
                  <a:lnTo>
                    <a:pt x="191437" y="87714"/>
                  </a:lnTo>
                  <a:lnTo>
                    <a:pt x="183505" y="93989"/>
                  </a:lnTo>
                  <a:lnTo>
                    <a:pt x="175676" y="100712"/>
                  </a:lnTo>
                  <a:lnTo>
                    <a:pt x="167917" y="107735"/>
                  </a:lnTo>
                  <a:lnTo>
                    <a:pt x="160205" y="114110"/>
                  </a:lnTo>
                  <a:lnTo>
                    <a:pt x="152523" y="120054"/>
                  </a:lnTo>
                  <a:lnTo>
                    <a:pt x="144862" y="125709"/>
                  </a:lnTo>
                  <a:lnTo>
                    <a:pt x="138061" y="130326"/>
                  </a:lnTo>
                  <a:lnTo>
                    <a:pt x="131835" y="134251"/>
                  </a:lnTo>
                  <a:lnTo>
                    <a:pt x="125990" y="137714"/>
                  </a:lnTo>
                  <a:lnTo>
                    <a:pt x="122093" y="141716"/>
                  </a:lnTo>
                  <a:lnTo>
                    <a:pt x="119495" y="146077"/>
                  </a:lnTo>
                  <a:lnTo>
                    <a:pt x="115326" y="157154"/>
                  </a:lnTo>
                  <a:lnTo>
                    <a:pt x="116678" y="158909"/>
                  </a:lnTo>
                  <a:lnTo>
                    <a:pt x="122695" y="163117"/>
                  </a:lnTo>
                  <a:lnTo>
                    <a:pt x="127516" y="164578"/>
                  </a:lnTo>
                  <a:lnTo>
                    <a:pt x="133271" y="165552"/>
                  </a:lnTo>
                  <a:lnTo>
                    <a:pt x="139647" y="166201"/>
                  </a:lnTo>
                  <a:lnTo>
                    <a:pt x="147285" y="167481"/>
                  </a:lnTo>
                  <a:lnTo>
                    <a:pt x="155763" y="169181"/>
                  </a:lnTo>
                  <a:lnTo>
                    <a:pt x="164802" y="171161"/>
                  </a:lnTo>
                  <a:lnTo>
                    <a:pt x="173368" y="172481"/>
                  </a:lnTo>
                  <a:lnTo>
                    <a:pt x="181619" y="173361"/>
                  </a:lnTo>
                  <a:lnTo>
                    <a:pt x="189659" y="173947"/>
                  </a:lnTo>
                  <a:lnTo>
                    <a:pt x="199253" y="175185"/>
                  </a:lnTo>
                  <a:lnTo>
                    <a:pt x="209882" y="176856"/>
                  </a:lnTo>
                  <a:lnTo>
                    <a:pt x="221201" y="178817"/>
                  </a:lnTo>
                  <a:lnTo>
                    <a:pt x="231288" y="180972"/>
                  </a:lnTo>
                  <a:lnTo>
                    <a:pt x="240552" y="183254"/>
                  </a:lnTo>
                  <a:lnTo>
                    <a:pt x="249268" y="185623"/>
                  </a:lnTo>
                  <a:lnTo>
                    <a:pt x="265726" y="190512"/>
                  </a:lnTo>
                  <a:lnTo>
                    <a:pt x="273670" y="193002"/>
                  </a:lnTo>
                  <a:lnTo>
                    <a:pt x="279814" y="196354"/>
                  </a:lnTo>
                  <a:lnTo>
                    <a:pt x="288897" y="204595"/>
                  </a:lnTo>
                  <a:lnTo>
                    <a:pt x="293499" y="211645"/>
                  </a:lnTo>
                  <a:lnTo>
                    <a:pt x="294726" y="214710"/>
                  </a:lnTo>
                  <a:lnTo>
                    <a:pt x="294697" y="218447"/>
                  </a:lnTo>
                  <a:lnTo>
                    <a:pt x="292408" y="227114"/>
                  </a:lnTo>
                  <a:lnTo>
                    <a:pt x="289765" y="231796"/>
                  </a:lnTo>
                  <a:lnTo>
                    <a:pt x="286310" y="236611"/>
                  </a:lnTo>
                  <a:lnTo>
                    <a:pt x="282313" y="241514"/>
                  </a:lnTo>
                  <a:lnTo>
                    <a:pt x="277109" y="245629"/>
                  </a:lnTo>
                  <a:lnTo>
                    <a:pt x="271099" y="249219"/>
                  </a:lnTo>
                  <a:lnTo>
                    <a:pt x="239159" y="265111"/>
                  </a:lnTo>
                  <a:lnTo>
                    <a:pt x="229713" y="268980"/>
                  </a:lnTo>
                  <a:lnTo>
                    <a:pt x="220029" y="272407"/>
                  </a:lnTo>
                  <a:lnTo>
                    <a:pt x="210186" y="275538"/>
                  </a:lnTo>
                  <a:lnTo>
                    <a:pt x="199390" y="278472"/>
                  </a:lnTo>
                  <a:lnTo>
                    <a:pt x="187960" y="281275"/>
                  </a:lnTo>
                  <a:lnTo>
                    <a:pt x="163971" y="286646"/>
                  </a:lnTo>
                  <a:lnTo>
                    <a:pt x="139198" y="291856"/>
                  </a:lnTo>
                  <a:lnTo>
                    <a:pt x="127512" y="293584"/>
                  </a:lnTo>
                  <a:lnTo>
                    <a:pt x="116335" y="294736"/>
                  </a:lnTo>
                  <a:lnTo>
                    <a:pt x="105497" y="295504"/>
                  </a:lnTo>
                  <a:lnTo>
                    <a:pt x="94884" y="296016"/>
                  </a:lnTo>
                  <a:lnTo>
                    <a:pt x="74062" y="296585"/>
                  </a:lnTo>
                  <a:lnTo>
                    <a:pt x="64615" y="295890"/>
                  </a:lnTo>
                  <a:lnTo>
                    <a:pt x="55776" y="294580"/>
                  </a:lnTo>
                  <a:lnTo>
                    <a:pt x="47344" y="292860"/>
                  </a:lnTo>
                  <a:lnTo>
                    <a:pt x="40030" y="291714"/>
                  </a:lnTo>
                  <a:lnTo>
                    <a:pt x="33460" y="290949"/>
                  </a:lnTo>
                  <a:lnTo>
                    <a:pt x="27387" y="290439"/>
                  </a:lnTo>
                  <a:lnTo>
                    <a:pt x="22491" y="288406"/>
                  </a:lnTo>
                  <a:lnTo>
                    <a:pt x="18381" y="285357"/>
                  </a:lnTo>
                  <a:lnTo>
                    <a:pt x="5700" y="272343"/>
                  </a:lnTo>
                  <a:lnTo>
                    <a:pt x="3800" y="269568"/>
                  </a:lnTo>
                  <a:lnTo>
                    <a:pt x="2534" y="266872"/>
                  </a:lnTo>
                  <a:lnTo>
                    <a:pt x="0" y="2589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SMARTInkAnnotation84"/>
            <p:cNvSpPr/>
            <p:nvPr/>
          </p:nvSpPr>
          <p:spPr>
            <a:xfrm>
              <a:off x="838080" y="2705040"/>
              <a:ext cx="342720" cy="38844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342901" h="388621">
                  <a:moveTo>
                    <a:pt x="342900" y="0"/>
                  </a:moveTo>
                  <a:lnTo>
                    <a:pt x="338855" y="4045"/>
                  </a:lnTo>
                  <a:lnTo>
                    <a:pt x="337663" y="6084"/>
                  </a:lnTo>
                  <a:lnTo>
                    <a:pt x="335140" y="12997"/>
                  </a:lnTo>
                  <a:lnTo>
                    <a:pt x="328559" y="21255"/>
                  </a:lnTo>
                  <a:lnTo>
                    <a:pt x="320722" y="29485"/>
                  </a:lnTo>
                  <a:lnTo>
                    <a:pt x="313852" y="38786"/>
                  </a:lnTo>
                  <a:lnTo>
                    <a:pt x="310835" y="43638"/>
                  </a:lnTo>
                  <a:lnTo>
                    <a:pt x="300709" y="53544"/>
                  </a:lnTo>
                  <a:lnTo>
                    <a:pt x="294452" y="58556"/>
                  </a:lnTo>
                  <a:lnTo>
                    <a:pt x="288588" y="65284"/>
                  </a:lnTo>
                  <a:lnTo>
                    <a:pt x="282986" y="73156"/>
                  </a:lnTo>
                  <a:lnTo>
                    <a:pt x="277557" y="81791"/>
                  </a:lnTo>
                  <a:lnTo>
                    <a:pt x="270552" y="90087"/>
                  </a:lnTo>
                  <a:lnTo>
                    <a:pt x="262494" y="98158"/>
                  </a:lnTo>
                  <a:lnTo>
                    <a:pt x="253736" y="106079"/>
                  </a:lnTo>
                  <a:lnTo>
                    <a:pt x="245358" y="114746"/>
                  </a:lnTo>
                  <a:lnTo>
                    <a:pt x="237232" y="123911"/>
                  </a:lnTo>
                  <a:lnTo>
                    <a:pt x="229274" y="133407"/>
                  </a:lnTo>
                  <a:lnTo>
                    <a:pt x="220583" y="142278"/>
                  </a:lnTo>
                  <a:lnTo>
                    <a:pt x="211402" y="150732"/>
                  </a:lnTo>
                  <a:lnTo>
                    <a:pt x="201895" y="158908"/>
                  </a:lnTo>
                  <a:lnTo>
                    <a:pt x="192170" y="167745"/>
                  </a:lnTo>
                  <a:lnTo>
                    <a:pt x="172333" y="186596"/>
                  </a:lnTo>
                  <a:lnTo>
                    <a:pt x="163149" y="196364"/>
                  </a:lnTo>
                  <a:lnTo>
                    <a:pt x="154486" y="206263"/>
                  </a:lnTo>
                  <a:lnTo>
                    <a:pt x="146171" y="216249"/>
                  </a:lnTo>
                  <a:lnTo>
                    <a:pt x="137240" y="226292"/>
                  </a:lnTo>
                  <a:lnTo>
                    <a:pt x="118287" y="246483"/>
                  </a:lnTo>
                  <a:lnTo>
                    <a:pt x="109338" y="256609"/>
                  </a:lnTo>
                  <a:lnTo>
                    <a:pt x="100832" y="266746"/>
                  </a:lnTo>
                  <a:lnTo>
                    <a:pt x="84608" y="287041"/>
                  </a:lnTo>
                  <a:lnTo>
                    <a:pt x="68930" y="307349"/>
                  </a:lnTo>
                  <a:lnTo>
                    <a:pt x="61193" y="316660"/>
                  </a:lnTo>
                  <a:lnTo>
                    <a:pt x="53496" y="325406"/>
                  </a:lnTo>
                  <a:lnTo>
                    <a:pt x="45824" y="333778"/>
                  </a:lnTo>
                  <a:lnTo>
                    <a:pt x="39016" y="341899"/>
                  </a:lnTo>
                  <a:lnTo>
                    <a:pt x="32784" y="349852"/>
                  </a:lnTo>
                  <a:lnTo>
                    <a:pt x="26936" y="357695"/>
                  </a:lnTo>
                  <a:lnTo>
                    <a:pt x="18180" y="368667"/>
                  </a:lnTo>
                  <a:lnTo>
                    <a:pt x="8491" y="379604"/>
                  </a:lnTo>
                  <a:lnTo>
                    <a:pt x="0" y="388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SMARTInkAnnotation85"/>
            <p:cNvSpPr/>
            <p:nvPr/>
          </p:nvSpPr>
          <p:spPr>
            <a:xfrm>
              <a:off x="1020960" y="29638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621" h="7621">
                  <a:moveTo>
                    <a:pt x="7620" y="7620"/>
                  </a:moveTo>
                  <a:lnTo>
                    <a:pt x="3575" y="7620"/>
                  </a:lnTo>
                  <a:lnTo>
                    <a:pt x="2383" y="6773"/>
                  </a:lnTo>
                  <a:lnTo>
                    <a:pt x="1589" y="5362"/>
                  </a:lnTo>
                  <a:lnTo>
                    <a:pt x="6" y="1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SMARTInkAnnotation86"/>
            <p:cNvSpPr/>
            <p:nvPr/>
          </p:nvSpPr>
          <p:spPr>
            <a:xfrm>
              <a:off x="956880" y="2956320"/>
              <a:ext cx="108000" cy="975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08330" h="97763">
                  <a:moveTo>
                    <a:pt x="79488" y="7620"/>
                  </a:moveTo>
                  <a:lnTo>
                    <a:pt x="75443" y="3575"/>
                  </a:lnTo>
                  <a:lnTo>
                    <a:pt x="73405" y="3230"/>
                  </a:lnTo>
                  <a:lnTo>
                    <a:pt x="71199" y="3847"/>
                  </a:lnTo>
                  <a:lnTo>
                    <a:pt x="68882" y="5105"/>
                  </a:lnTo>
                  <a:lnTo>
                    <a:pt x="66491" y="5943"/>
                  </a:lnTo>
                  <a:lnTo>
                    <a:pt x="64050" y="6502"/>
                  </a:lnTo>
                  <a:lnTo>
                    <a:pt x="61576" y="6875"/>
                  </a:lnTo>
                  <a:lnTo>
                    <a:pt x="57387" y="7970"/>
                  </a:lnTo>
                  <a:lnTo>
                    <a:pt x="52054" y="9546"/>
                  </a:lnTo>
                  <a:lnTo>
                    <a:pt x="45959" y="11445"/>
                  </a:lnTo>
                  <a:lnTo>
                    <a:pt x="40202" y="14403"/>
                  </a:lnTo>
                  <a:lnTo>
                    <a:pt x="34671" y="18069"/>
                  </a:lnTo>
                  <a:lnTo>
                    <a:pt x="29290" y="22206"/>
                  </a:lnTo>
                  <a:lnTo>
                    <a:pt x="24856" y="27504"/>
                  </a:lnTo>
                  <a:lnTo>
                    <a:pt x="21053" y="33576"/>
                  </a:lnTo>
                  <a:lnTo>
                    <a:pt x="8867" y="57526"/>
                  </a:lnTo>
                  <a:lnTo>
                    <a:pt x="6161" y="62058"/>
                  </a:lnTo>
                  <a:lnTo>
                    <a:pt x="3510" y="65925"/>
                  </a:lnTo>
                  <a:lnTo>
                    <a:pt x="896" y="69350"/>
                  </a:lnTo>
                  <a:lnTo>
                    <a:pt x="0" y="73327"/>
                  </a:lnTo>
                  <a:lnTo>
                    <a:pt x="249" y="77671"/>
                  </a:lnTo>
                  <a:lnTo>
                    <a:pt x="2688" y="88720"/>
                  </a:lnTo>
                  <a:lnTo>
                    <a:pt x="4581" y="90474"/>
                  </a:lnTo>
                  <a:lnTo>
                    <a:pt x="7537" y="92489"/>
                  </a:lnTo>
                  <a:lnTo>
                    <a:pt x="11201" y="94680"/>
                  </a:lnTo>
                  <a:lnTo>
                    <a:pt x="14490" y="96140"/>
                  </a:lnTo>
                  <a:lnTo>
                    <a:pt x="17529" y="97113"/>
                  </a:lnTo>
                  <a:lnTo>
                    <a:pt x="20402" y="97762"/>
                  </a:lnTo>
                  <a:lnTo>
                    <a:pt x="24858" y="97348"/>
                  </a:lnTo>
                  <a:lnTo>
                    <a:pt x="30368" y="96226"/>
                  </a:lnTo>
                  <a:lnTo>
                    <a:pt x="36581" y="94630"/>
                  </a:lnTo>
                  <a:lnTo>
                    <a:pt x="42417" y="92720"/>
                  </a:lnTo>
                  <a:lnTo>
                    <a:pt x="48001" y="90600"/>
                  </a:lnTo>
                  <a:lnTo>
                    <a:pt x="53416" y="88340"/>
                  </a:lnTo>
                  <a:lnTo>
                    <a:pt x="58720" y="85140"/>
                  </a:lnTo>
                  <a:lnTo>
                    <a:pt x="63950" y="81313"/>
                  </a:lnTo>
                  <a:lnTo>
                    <a:pt x="69129" y="77069"/>
                  </a:lnTo>
                  <a:lnTo>
                    <a:pt x="74276" y="72546"/>
                  </a:lnTo>
                  <a:lnTo>
                    <a:pt x="79400" y="67837"/>
                  </a:lnTo>
                  <a:lnTo>
                    <a:pt x="84509" y="63005"/>
                  </a:lnTo>
                  <a:lnTo>
                    <a:pt x="88762" y="58090"/>
                  </a:lnTo>
                  <a:lnTo>
                    <a:pt x="92445" y="53120"/>
                  </a:lnTo>
                  <a:lnTo>
                    <a:pt x="95746" y="48114"/>
                  </a:lnTo>
                  <a:lnTo>
                    <a:pt x="98793" y="43082"/>
                  </a:lnTo>
                  <a:lnTo>
                    <a:pt x="101672" y="38035"/>
                  </a:lnTo>
                  <a:lnTo>
                    <a:pt x="104437" y="32977"/>
                  </a:lnTo>
                  <a:lnTo>
                    <a:pt x="106281" y="28758"/>
                  </a:lnTo>
                  <a:lnTo>
                    <a:pt x="107510" y="25099"/>
                  </a:lnTo>
                  <a:lnTo>
                    <a:pt x="108329" y="21812"/>
                  </a:lnTo>
                  <a:lnTo>
                    <a:pt x="108029" y="18775"/>
                  </a:lnTo>
                  <a:lnTo>
                    <a:pt x="106982" y="15904"/>
                  </a:lnTo>
                  <a:lnTo>
                    <a:pt x="105437" y="13142"/>
                  </a:lnTo>
                  <a:lnTo>
                    <a:pt x="103561" y="10455"/>
                  </a:lnTo>
                  <a:lnTo>
                    <a:pt x="101463" y="7817"/>
                  </a:lnTo>
                  <a:lnTo>
                    <a:pt x="96059" y="1544"/>
                  </a:lnTo>
                  <a:lnTo>
                    <a:pt x="93922" y="1029"/>
                  </a:lnTo>
                  <a:lnTo>
                    <a:pt x="90804" y="686"/>
                  </a:lnTo>
                  <a:lnTo>
                    <a:pt x="81723" y="136"/>
                  </a:lnTo>
                  <a:lnTo>
                    <a:pt x="78224" y="61"/>
                  </a:lnTo>
                  <a:lnTo>
                    <a:pt x="7186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SMARTInkAnnotation87"/>
            <p:cNvSpPr/>
            <p:nvPr/>
          </p:nvSpPr>
          <p:spPr>
            <a:xfrm>
              <a:off x="952560" y="3066840"/>
              <a:ext cx="101880" cy="1389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02147" h="139111">
                  <a:moveTo>
                    <a:pt x="45720" y="11556"/>
                  </a:moveTo>
                  <a:lnTo>
                    <a:pt x="34369" y="11556"/>
                  </a:lnTo>
                  <a:lnTo>
                    <a:pt x="32226" y="12403"/>
                  </a:lnTo>
                  <a:lnTo>
                    <a:pt x="29951" y="13814"/>
                  </a:lnTo>
                  <a:lnTo>
                    <a:pt x="27587" y="15601"/>
                  </a:lnTo>
                  <a:lnTo>
                    <a:pt x="26011" y="17640"/>
                  </a:lnTo>
                  <a:lnTo>
                    <a:pt x="24961" y="19845"/>
                  </a:lnTo>
                  <a:lnTo>
                    <a:pt x="24261" y="22162"/>
                  </a:lnTo>
                  <a:lnTo>
                    <a:pt x="22947" y="25400"/>
                  </a:lnTo>
                  <a:lnTo>
                    <a:pt x="21225" y="29252"/>
                  </a:lnTo>
                  <a:lnTo>
                    <a:pt x="17053" y="38047"/>
                  </a:lnTo>
                  <a:lnTo>
                    <a:pt x="12377" y="47601"/>
                  </a:lnTo>
                  <a:lnTo>
                    <a:pt x="9945" y="53366"/>
                  </a:lnTo>
                  <a:lnTo>
                    <a:pt x="7476" y="59749"/>
                  </a:lnTo>
                  <a:lnTo>
                    <a:pt x="4984" y="66545"/>
                  </a:lnTo>
                  <a:lnTo>
                    <a:pt x="3323" y="73615"/>
                  </a:lnTo>
                  <a:lnTo>
                    <a:pt x="2215" y="80869"/>
                  </a:lnTo>
                  <a:lnTo>
                    <a:pt x="1477" y="88245"/>
                  </a:lnTo>
                  <a:lnTo>
                    <a:pt x="985" y="94855"/>
                  </a:lnTo>
                  <a:lnTo>
                    <a:pt x="656" y="100956"/>
                  </a:lnTo>
                  <a:lnTo>
                    <a:pt x="438" y="106716"/>
                  </a:lnTo>
                  <a:lnTo>
                    <a:pt x="1138" y="112250"/>
                  </a:lnTo>
                  <a:lnTo>
                    <a:pt x="2452" y="117632"/>
                  </a:lnTo>
                  <a:lnTo>
                    <a:pt x="4175" y="122913"/>
                  </a:lnTo>
                  <a:lnTo>
                    <a:pt x="6170" y="127281"/>
                  </a:lnTo>
                  <a:lnTo>
                    <a:pt x="8347" y="131039"/>
                  </a:lnTo>
                  <a:lnTo>
                    <a:pt x="10644" y="134392"/>
                  </a:lnTo>
                  <a:lnTo>
                    <a:pt x="13023" y="136626"/>
                  </a:lnTo>
                  <a:lnTo>
                    <a:pt x="15455" y="138116"/>
                  </a:lnTo>
                  <a:lnTo>
                    <a:pt x="17924" y="139110"/>
                  </a:lnTo>
                  <a:lnTo>
                    <a:pt x="22109" y="138925"/>
                  </a:lnTo>
                  <a:lnTo>
                    <a:pt x="27440" y="137956"/>
                  </a:lnTo>
                  <a:lnTo>
                    <a:pt x="33533" y="136462"/>
                  </a:lnTo>
                  <a:lnTo>
                    <a:pt x="39289" y="134620"/>
                  </a:lnTo>
                  <a:lnTo>
                    <a:pt x="44819" y="132546"/>
                  </a:lnTo>
                  <a:lnTo>
                    <a:pt x="50199" y="130316"/>
                  </a:lnTo>
                  <a:lnTo>
                    <a:pt x="55479" y="127136"/>
                  </a:lnTo>
                  <a:lnTo>
                    <a:pt x="60693" y="123323"/>
                  </a:lnTo>
                  <a:lnTo>
                    <a:pt x="65862" y="119087"/>
                  </a:lnTo>
                  <a:lnTo>
                    <a:pt x="71001" y="114570"/>
                  </a:lnTo>
                  <a:lnTo>
                    <a:pt x="76121" y="109866"/>
                  </a:lnTo>
                  <a:lnTo>
                    <a:pt x="81227" y="105036"/>
                  </a:lnTo>
                  <a:lnTo>
                    <a:pt x="85478" y="99276"/>
                  </a:lnTo>
                  <a:lnTo>
                    <a:pt x="89159" y="92896"/>
                  </a:lnTo>
                  <a:lnTo>
                    <a:pt x="92459" y="86103"/>
                  </a:lnTo>
                  <a:lnTo>
                    <a:pt x="95506" y="79034"/>
                  </a:lnTo>
                  <a:lnTo>
                    <a:pt x="98384" y="71781"/>
                  </a:lnTo>
                  <a:lnTo>
                    <a:pt x="101149" y="64406"/>
                  </a:lnTo>
                  <a:lnTo>
                    <a:pt x="102146" y="57796"/>
                  </a:lnTo>
                  <a:lnTo>
                    <a:pt x="101964" y="51696"/>
                  </a:lnTo>
                  <a:lnTo>
                    <a:pt x="100996" y="45936"/>
                  </a:lnTo>
                  <a:lnTo>
                    <a:pt x="99504" y="39556"/>
                  </a:lnTo>
                  <a:lnTo>
                    <a:pt x="97663" y="32763"/>
                  </a:lnTo>
                  <a:lnTo>
                    <a:pt x="95588" y="25694"/>
                  </a:lnTo>
                  <a:lnTo>
                    <a:pt x="92512" y="20134"/>
                  </a:lnTo>
                  <a:lnTo>
                    <a:pt x="88768" y="15582"/>
                  </a:lnTo>
                  <a:lnTo>
                    <a:pt x="84579" y="11700"/>
                  </a:lnTo>
                  <a:lnTo>
                    <a:pt x="79246" y="9112"/>
                  </a:lnTo>
                  <a:lnTo>
                    <a:pt x="73150" y="7386"/>
                  </a:lnTo>
                  <a:lnTo>
                    <a:pt x="66547" y="6236"/>
                  </a:lnTo>
                  <a:lnTo>
                    <a:pt x="60451" y="4623"/>
                  </a:lnTo>
                  <a:lnTo>
                    <a:pt x="54694" y="2700"/>
                  </a:lnTo>
                  <a:lnTo>
                    <a:pt x="49163" y="572"/>
                  </a:lnTo>
                  <a:lnTo>
                    <a:pt x="43782" y="0"/>
                  </a:lnTo>
                  <a:lnTo>
                    <a:pt x="38501" y="466"/>
                  </a:lnTo>
                  <a:lnTo>
                    <a:pt x="33287" y="1622"/>
                  </a:lnTo>
                  <a:lnTo>
                    <a:pt x="27272" y="3240"/>
                  </a:lnTo>
                  <a:lnTo>
                    <a:pt x="13814" y="7296"/>
                  </a:lnTo>
                  <a:lnTo>
                    <a:pt x="9209" y="9562"/>
                  </a:lnTo>
                  <a:lnTo>
                    <a:pt x="6140" y="11920"/>
                  </a:lnTo>
                  <a:lnTo>
                    <a:pt x="0" y="191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SMARTInkAnnotation88"/>
            <p:cNvSpPr/>
            <p:nvPr/>
          </p:nvSpPr>
          <p:spPr>
            <a:xfrm>
              <a:off x="1188720" y="2864880"/>
              <a:ext cx="220680" cy="226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20981" h="22861">
                  <a:moveTo>
                    <a:pt x="0" y="22860"/>
                  </a:moveTo>
                  <a:lnTo>
                    <a:pt x="35079" y="22860"/>
                  </a:lnTo>
                  <a:lnTo>
                    <a:pt x="41166" y="22013"/>
                  </a:lnTo>
                  <a:lnTo>
                    <a:pt x="47764" y="20602"/>
                  </a:lnTo>
                  <a:lnTo>
                    <a:pt x="54703" y="18815"/>
                  </a:lnTo>
                  <a:lnTo>
                    <a:pt x="61868" y="16777"/>
                  </a:lnTo>
                  <a:lnTo>
                    <a:pt x="76604" y="12254"/>
                  </a:lnTo>
                  <a:lnTo>
                    <a:pt x="84936" y="10710"/>
                  </a:lnTo>
                  <a:lnTo>
                    <a:pt x="93877" y="9680"/>
                  </a:lnTo>
                  <a:lnTo>
                    <a:pt x="103225" y="8993"/>
                  </a:lnTo>
                  <a:lnTo>
                    <a:pt x="111997" y="8536"/>
                  </a:lnTo>
                  <a:lnTo>
                    <a:pt x="128517" y="8027"/>
                  </a:lnTo>
                  <a:lnTo>
                    <a:pt x="137324" y="7045"/>
                  </a:lnTo>
                  <a:lnTo>
                    <a:pt x="146583" y="5543"/>
                  </a:lnTo>
                  <a:lnTo>
                    <a:pt x="156142" y="3696"/>
                  </a:lnTo>
                  <a:lnTo>
                    <a:pt x="164208" y="2464"/>
                  </a:lnTo>
                  <a:lnTo>
                    <a:pt x="171279" y="1642"/>
                  </a:lnTo>
                  <a:lnTo>
                    <a:pt x="177686" y="1095"/>
                  </a:lnTo>
                  <a:lnTo>
                    <a:pt x="184497" y="730"/>
                  </a:lnTo>
                  <a:lnTo>
                    <a:pt x="198839" y="324"/>
                  </a:lnTo>
                  <a:lnTo>
                    <a:pt x="2209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SMARTInkAnnotation89"/>
            <p:cNvSpPr/>
            <p:nvPr/>
          </p:nvSpPr>
          <p:spPr>
            <a:xfrm>
              <a:off x="1455480" y="2666880"/>
              <a:ext cx="218880" cy="2052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219145" h="205507">
                  <a:moveTo>
                    <a:pt x="83671" y="0"/>
                  </a:moveTo>
                  <a:lnTo>
                    <a:pt x="60747" y="0"/>
                  </a:lnTo>
                  <a:lnTo>
                    <a:pt x="57382" y="847"/>
                  </a:lnTo>
                  <a:lnTo>
                    <a:pt x="51385" y="4045"/>
                  </a:lnTo>
                  <a:lnTo>
                    <a:pt x="45897" y="6031"/>
                  </a:lnTo>
                  <a:lnTo>
                    <a:pt x="43249" y="6561"/>
                  </a:lnTo>
                  <a:lnTo>
                    <a:pt x="38943" y="7760"/>
                  </a:lnTo>
                  <a:lnTo>
                    <a:pt x="27385" y="11352"/>
                  </a:lnTo>
                  <a:lnTo>
                    <a:pt x="22440" y="13494"/>
                  </a:lnTo>
                  <a:lnTo>
                    <a:pt x="18298" y="15769"/>
                  </a:lnTo>
                  <a:lnTo>
                    <a:pt x="14688" y="18133"/>
                  </a:lnTo>
                  <a:lnTo>
                    <a:pt x="8421" y="23017"/>
                  </a:lnTo>
                  <a:lnTo>
                    <a:pt x="5564" y="25504"/>
                  </a:lnTo>
                  <a:lnTo>
                    <a:pt x="3660" y="28010"/>
                  </a:lnTo>
                  <a:lnTo>
                    <a:pt x="1544" y="33051"/>
                  </a:lnTo>
                  <a:lnTo>
                    <a:pt x="353" y="36604"/>
                  </a:lnTo>
                  <a:lnTo>
                    <a:pt x="0" y="41702"/>
                  </a:lnTo>
                  <a:lnTo>
                    <a:pt x="1643" y="43888"/>
                  </a:lnTo>
                  <a:lnTo>
                    <a:pt x="7986" y="48575"/>
                  </a:lnTo>
                  <a:lnTo>
                    <a:pt x="12894" y="50163"/>
                  </a:lnTo>
                  <a:lnTo>
                    <a:pt x="18707" y="51222"/>
                  </a:lnTo>
                  <a:lnTo>
                    <a:pt x="25121" y="51928"/>
                  </a:lnTo>
                  <a:lnTo>
                    <a:pt x="31091" y="53245"/>
                  </a:lnTo>
                  <a:lnTo>
                    <a:pt x="36765" y="54970"/>
                  </a:lnTo>
                  <a:lnTo>
                    <a:pt x="42240" y="56967"/>
                  </a:lnTo>
                  <a:lnTo>
                    <a:pt x="49277" y="58298"/>
                  </a:lnTo>
                  <a:lnTo>
                    <a:pt x="57355" y="59185"/>
                  </a:lnTo>
                  <a:lnTo>
                    <a:pt x="66127" y="59777"/>
                  </a:lnTo>
                  <a:lnTo>
                    <a:pt x="74515" y="61018"/>
                  </a:lnTo>
                  <a:lnTo>
                    <a:pt x="82647" y="62692"/>
                  </a:lnTo>
                  <a:lnTo>
                    <a:pt x="117994" y="71462"/>
                  </a:lnTo>
                  <a:lnTo>
                    <a:pt x="127720" y="74735"/>
                  </a:lnTo>
                  <a:lnTo>
                    <a:pt x="137590" y="78610"/>
                  </a:lnTo>
                  <a:lnTo>
                    <a:pt x="147557" y="82887"/>
                  </a:lnTo>
                  <a:lnTo>
                    <a:pt x="156742" y="86584"/>
                  </a:lnTo>
                  <a:lnTo>
                    <a:pt x="173720" y="92951"/>
                  </a:lnTo>
                  <a:lnTo>
                    <a:pt x="180957" y="96681"/>
                  </a:lnTo>
                  <a:lnTo>
                    <a:pt x="187475" y="100860"/>
                  </a:lnTo>
                  <a:lnTo>
                    <a:pt x="193514" y="105340"/>
                  </a:lnTo>
                  <a:lnTo>
                    <a:pt x="198386" y="110020"/>
                  </a:lnTo>
                  <a:lnTo>
                    <a:pt x="202481" y="114834"/>
                  </a:lnTo>
                  <a:lnTo>
                    <a:pt x="206058" y="119736"/>
                  </a:lnTo>
                  <a:lnTo>
                    <a:pt x="209289" y="124697"/>
                  </a:lnTo>
                  <a:lnTo>
                    <a:pt x="212289" y="129698"/>
                  </a:lnTo>
                  <a:lnTo>
                    <a:pt x="215137" y="134725"/>
                  </a:lnTo>
                  <a:lnTo>
                    <a:pt x="217035" y="139770"/>
                  </a:lnTo>
                  <a:lnTo>
                    <a:pt x="218300" y="144827"/>
                  </a:lnTo>
                  <a:lnTo>
                    <a:pt x="219144" y="149891"/>
                  </a:lnTo>
                  <a:lnTo>
                    <a:pt x="218013" y="154114"/>
                  </a:lnTo>
                  <a:lnTo>
                    <a:pt x="215566" y="157776"/>
                  </a:lnTo>
                  <a:lnTo>
                    <a:pt x="212241" y="161064"/>
                  </a:lnTo>
                  <a:lnTo>
                    <a:pt x="209178" y="164949"/>
                  </a:lnTo>
                  <a:lnTo>
                    <a:pt x="206289" y="169233"/>
                  </a:lnTo>
                  <a:lnTo>
                    <a:pt x="203516" y="173782"/>
                  </a:lnTo>
                  <a:lnTo>
                    <a:pt x="199128" y="177661"/>
                  </a:lnTo>
                  <a:lnTo>
                    <a:pt x="193662" y="181094"/>
                  </a:lnTo>
                  <a:lnTo>
                    <a:pt x="187479" y="184229"/>
                  </a:lnTo>
                  <a:lnTo>
                    <a:pt x="180816" y="188013"/>
                  </a:lnTo>
                  <a:lnTo>
                    <a:pt x="173835" y="192229"/>
                  </a:lnTo>
                  <a:lnTo>
                    <a:pt x="166640" y="196732"/>
                  </a:lnTo>
                  <a:lnTo>
                    <a:pt x="159304" y="199735"/>
                  </a:lnTo>
                  <a:lnTo>
                    <a:pt x="151873" y="201737"/>
                  </a:lnTo>
                  <a:lnTo>
                    <a:pt x="144379" y="203071"/>
                  </a:lnTo>
                  <a:lnTo>
                    <a:pt x="135996" y="203961"/>
                  </a:lnTo>
                  <a:lnTo>
                    <a:pt x="127021" y="204554"/>
                  </a:lnTo>
                  <a:lnTo>
                    <a:pt x="117651" y="204949"/>
                  </a:lnTo>
                  <a:lnTo>
                    <a:pt x="98209" y="205389"/>
                  </a:lnTo>
                  <a:lnTo>
                    <a:pt x="88283" y="205506"/>
                  </a:lnTo>
                  <a:lnTo>
                    <a:pt x="79126" y="204737"/>
                  </a:lnTo>
                  <a:lnTo>
                    <a:pt x="70481" y="203378"/>
                  </a:lnTo>
                  <a:lnTo>
                    <a:pt x="62178" y="201625"/>
                  </a:lnTo>
                  <a:lnTo>
                    <a:pt x="55795" y="199610"/>
                  </a:lnTo>
                  <a:lnTo>
                    <a:pt x="50694" y="197420"/>
                  </a:lnTo>
                  <a:lnTo>
                    <a:pt x="37951" y="1905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SMARTInkAnnotation90"/>
            <p:cNvSpPr/>
            <p:nvPr/>
          </p:nvSpPr>
          <p:spPr>
            <a:xfrm>
              <a:off x="1447560" y="2651400"/>
              <a:ext cx="243720" cy="2268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43841" h="22861">
                  <a:moveTo>
                    <a:pt x="0" y="22860"/>
                  </a:moveTo>
                  <a:lnTo>
                    <a:pt x="8091" y="18815"/>
                  </a:lnTo>
                  <a:lnTo>
                    <a:pt x="11320" y="17623"/>
                  </a:lnTo>
                  <a:lnTo>
                    <a:pt x="14320" y="16829"/>
                  </a:lnTo>
                  <a:lnTo>
                    <a:pt x="21173" y="15554"/>
                  </a:lnTo>
                  <a:lnTo>
                    <a:pt x="28884" y="13122"/>
                  </a:lnTo>
                  <a:lnTo>
                    <a:pt x="54530" y="4662"/>
                  </a:lnTo>
                  <a:lnTo>
                    <a:pt x="62600" y="3108"/>
                  </a:lnTo>
                  <a:lnTo>
                    <a:pt x="71366" y="2072"/>
                  </a:lnTo>
                  <a:lnTo>
                    <a:pt x="80598" y="1382"/>
                  </a:lnTo>
                  <a:lnTo>
                    <a:pt x="89292" y="921"/>
                  </a:lnTo>
                  <a:lnTo>
                    <a:pt x="105726" y="410"/>
                  </a:lnTo>
                  <a:lnTo>
                    <a:pt x="166968" y="36"/>
                  </a:lnTo>
                  <a:lnTo>
                    <a:pt x="2438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SMARTInkAnnotation91"/>
            <p:cNvSpPr/>
            <p:nvPr/>
          </p:nvSpPr>
          <p:spPr>
            <a:xfrm>
              <a:off x="1485720" y="2697120"/>
              <a:ext cx="357840" cy="44928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358141" h="449581">
                  <a:moveTo>
                    <a:pt x="358140" y="0"/>
                  </a:moveTo>
                  <a:lnTo>
                    <a:pt x="358140" y="4045"/>
                  </a:lnTo>
                  <a:lnTo>
                    <a:pt x="357294" y="6084"/>
                  </a:lnTo>
                  <a:lnTo>
                    <a:pt x="352903" y="12997"/>
                  </a:lnTo>
                  <a:lnTo>
                    <a:pt x="348733" y="25176"/>
                  </a:lnTo>
                  <a:lnTo>
                    <a:pt x="344646" y="34896"/>
                  </a:lnTo>
                  <a:lnTo>
                    <a:pt x="340007" y="47683"/>
                  </a:lnTo>
                  <a:lnTo>
                    <a:pt x="337585" y="55495"/>
                  </a:lnTo>
                  <a:lnTo>
                    <a:pt x="332636" y="73207"/>
                  </a:lnTo>
                  <a:lnTo>
                    <a:pt x="328437" y="81825"/>
                  </a:lnTo>
                  <a:lnTo>
                    <a:pt x="323098" y="90110"/>
                  </a:lnTo>
                  <a:lnTo>
                    <a:pt x="316999" y="98173"/>
                  </a:lnTo>
                  <a:lnTo>
                    <a:pt x="311239" y="106935"/>
                  </a:lnTo>
                  <a:lnTo>
                    <a:pt x="305706" y="116164"/>
                  </a:lnTo>
                  <a:lnTo>
                    <a:pt x="300324" y="125702"/>
                  </a:lnTo>
                  <a:lnTo>
                    <a:pt x="293349" y="135448"/>
                  </a:lnTo>
                  <a:lnTo>
                    <a:pt x="285313" y="145332"/>
                  </a:lnTo>
                  <a:lnTo>
                    <a:pt x="276569" y="155308"/>
                  </a:lnTo>
                  <a:lnTo>
                    <a:pt x="268199" y="166192"/>
                  </a:lnTo>
                  <a:lnTo>
                    <a:pt x="260079" y="177681"/>
                  </a:lnTo>
                  <a:lnTo>
                    <a:pt x="252126" y="189574"/>
                  </a:lnTo>
                  <a:lnTo>
                    <a:pt x="243438" y="200890"/>
                  </a:lnTo>
                  <a:lnTo>
                    <a:pt x="234258" y="211820"/>
                  </a:lnTo>
                  <a:lnTo>
                    <a:pt x="224752" y="222493"/>
                  </a:lnTo>
                  <a:lnTo>
                    <a:pt x="205159" y="245642"/>
                  </a:lnTo>
                  <a:lnTo>
                    <a:pt x="195193" y="257741"/>
                  </a:lnTo>
                  <a:lnTo>
                    <a:pt x="184315" y="269194"/>
                  </a:lnTo>
                  <a:lnTo>
                    <a:pt x="172830" y="280216"/>
                  </a:lnTo>
                  <a:lnTo>
                    <a:pt x="160940" y="290951"/>
                  </a:lnTo>
                  <a:lnTo>
                    <a:pt x="150474" y="301494"/>
                  </a:lnTo>
                  <a:lnTo>
                    <a:pt x="140956" y="311910"/>
                  </a:lnTo>
                  <a:lnTo>
                    <a:pt x="132070" y="322239"/>
                  </a:lnTo>
                  <a:lnTo>
                    <a:pt x="122760" y="331666"/>
                  </a:lnTo>
                  <a:lnTo>
                    <a:pt x="113167" y="340491"/>
                  </a:lnTo>
                  <a:lnTo>
                    <a:pt x="103385" y="348914"/>
                  </a:lnTo>
                  <a:lnTo>
                    <a:pt x="94323" y="357070"/>
                  </a:lnTo>
                  <a:lnTo>
                    <a:pt x="77481" y="372904"/>
                  </a:lnTo>
                  <a:lnTo>
                    <a:pt x="70281" y="380683"/>
                  </a:lnTo>
                  <a:lnTo>
                    <a:pt x="63787" y="388409"/>
                  </a:lnTo>
                  <a:lnTo>
                    <a:pt x="57765" y="396099"/>
                  </a:lnTo>
                  <a:lnTo>
                    <a:pt x="51210" y="402920"/>
                  </a:lnTo>
                  <a:lnTo>
                    <a:pt x="44300" y="409160"/>
                  </a:lnTo>
                  <a:lnTo>
                    <a:pt x="37153" y="415013"/>
                  </a:lnTo>
                  <a:lnTo>
                    <a:pt x="30696" y="420609"/>
                  </a:lnTo>
                  <a:lnTo>
                    <a:pt x="24697" y="426033"/>
                  </a:lnTo>
                  <a:lnTo>
                    <a:pt x="10422" y="439499"/>
                  </a:lnTo>
                  <a:lnTo>
                    <a:pt x="0" y="4495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SMARTInkAnnotation92"/>
            <p:cNvSpPr/>
            <p:nvPr/>
          </p:nvSpPr>
          <p:spPr>
            <a:xfrm>
              <a:off x="1656360" y="2979360"/>
              <a:ext cx="126360" cy="1134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126665" h="113530">
                  <a:moveTo>
                    <a:pt x="126664" y="0"/>
                  </a:moveTo>
                  <a:lnTo>
                    <a:pt x="120103" y="0"/>
                  </a:lnTo>
                  <a:lnTo>
                    <a:pt x="117257" y="2258"/>
                  </a:lnTo>
                  <a:lnTo>
                    <a:pt x="115313" y="4046"/>
                  </a:lnTo>
                  <a:lnTo>
                    <a:pt x="112323" y="6084"/>
                  </a:lnTo>
                  <a:lnTo>
                    <a:pt x="108637" y="8289"/>
                  </a:lnTo>
                  <a:lnTo>
                    <a:pt x="104486" y="10606"/>
                  </a:lnTo>
                  <a:lnTo>
                    <a:pt x="100872" y="12998"/>
                  </a:lnTo>
                  <a:lnTo>
                    <a:pt x="97616" y="15438"/>
                  </a:lnTo>
                  <a:lnTo>
                    <a:pt x="94599" y="17912"/>
                  </a:lnTo>
                  <a:lnTo>
                    <a:pt x="90047" y="21255"/>
                  </a:lnTo>
                  <a:lnTo>
                    <a:pt x="78217" y="29485"/>
                  </a:lnTo>
                  <a:lnTo>
                    <a:pt x="57276" y="43638"/>
                  </a:lnTo>
                  <a:lnTo>
                    <a:pt x="50772" y="48565"/>
                  </a:lnTo>
                  <a:lnTo>
                    <a:pt x="44743" y="53544"/>
                  </a:lnTo>
                  <a:lnTo>
                    <a:pt x="39030" y="58556"/>
                  </a:lnTo>
                  <a:lnTo>
                    <a:pt x="33528" y="63590"/>
                  </a:lnTo>
                  <a:lnTo>
                    <a:pt x="22899" y="73700"/>
                  </a:lnTo>
                  <a:lnTo>
                    <a:pt x="17694" y="77920"/>
                  </a:lnTo>
                  <a:lnTo>
                    <a:pt x="12531" y="81580"/>
                  </a:lnTo>
                  <a:lnTo>
                    <a:pt x="7395" y="84867"/>
                  </a:lnTo>
                  <a:lnTo>
                    <a:pt x="3972" y="87905"/>
                  </a:lnTo>
                  <a:lnTo>
                    <a:pt x="1689" y="90777"/>
                  </a:lnTo>
                  <a:lnTo>
                    <a:pt x="167" y="93538"/>
                  </a:lnTo>
                  <a:lnTo>
                    <a:pt x="0" y="97072"/>
                  </a:lnTo>
                  <a:lnTo>
                    <a:pt x="734" y="101121"/>
                  </a:lnTo>
                  <a:lnTo>
                    <a:pt x="2071" y="105514"/>
                  </a:lnTo>
                  <a:lnTo>
                    <a:pt x="3809" y="108443"/>
                  </a:lnTo>
                  <a:lnTo>
                    <a:pt x="5814" y="110395"/>
                  </a:lnTo>
                  <a:lnTo>
                    <a:pt x="7997" y="111697"/>
                  </a:lnTo>
                  <a:lnTo>
                    <a:pt x="11993" y="112565"/>
                  </a:lnTo>
                  <a:lnTo>
                    <a:pt x="17197" y="113143"/>
                  </a:lnTo>
                  <a:lnTo>
                    <a:pt x="23206" y="113529"/>
                  </a:lnTo>
                  <a:lnTo>
                    <a:pt x="29752" y="112940"/>
                  </a:lnTo>
                  <a:lnTo>
                    <a:pt x="36656" y="111700"/>
                  </a:lnTo>
                  <a:lnTo>
                    <a:pt x="43799" y="110027"/>
                  </a:lnTo>
                  <a:lnTo>
                    <a:pt x="51101" y="108064"/>
                  </a:lnTo>
                  <a:lnTo>
                    <a:pt x="65987" y="103627"/>
                  </a:lnTo>
                  <a:lnTo>
                    <a:pt x="72666" y="101258"/>
                  </a:lnTo>
                  <a:lnTo>
                    <a:pt x="78812" y="98832"/>
                  </a:lnTo>
                  <a:lnTo>
                    <a:pt x="84603" y="96368"/>
                  </a:lnTo>
                  <a:lnTo>
                    <a:pt x="95552" y="91372"/>
                  </a:lnTo>
                  <a:lnTo>
                    <a:pt x="100843" y="88855"/>
                  </a:lnTo>
                  <a:lnTo>
                    <a:pt x="106063" y="85484"/>
                  </a:lnTo>
                  <a:lnTo>
                    <a:pt x="111237" y="81542"/>
                  </a:lnTo>
                  <a:lnTo>
                    <a:pt x="116379" y="77222"/>
                  </a:lnTo>
                  <a:lnTo>
                    <a:pt x="119808" y="73494"/>
                  </a:lnTo>
                  <a:lnTo>
                    <a:pt x="122093" y="70163"/>
                  </a:lnTo>
                  <a:lnTo>
                    <a:pt x="123617" y="67095"/>
                  </a:lnTo>
                  <a:lnTo>
                    <a:pt x="124632" y="63357"/>
                  </a:lnTo>
                  <a:lnTo>
                    <a:pt x="125310" y="59171"/>
                  </a:lnTo>
                  <a:lnTo>
                    <a:pt x="125761" y="54688"/>
                  </a:lnTo>
                  <a:lnTo>
                    <a:pt x="126062" y="50005"/>
                  </a:lnTo>
                  <a:lnTo>
                    <a:pt x="126263" y="45190"/>
                  </a:lnTo>
                  <a:lnTo>
                    <a:pt x="126396" y="40287"/>
                  </a:lnTo>
                  <a:lnTo>
                    <a:pt x="125639" y="36171"/>
                  </a:lnTo>
                  <a:lnTo>
                    <a:pt x="124287" y="32581"/>
                  </a:lnTo>
                  <a:lnTo>
                    <a:pt x="122540" y="29341"/>
                  </a:lnTo>
                  <a:lnTo>
                    <a:pt x="120528" y="26334"/>
                  </a:lnTo>
                  <a:lnTo>
                    <a:pt x="118340" y="23483"/>
                  </a:lnTo>
                  <a:lnTo>
                    <a:pt x="112790" y="16868"/>
                  </a:lnTo>
                  <a:lnTo>
                    <a:pt x="109774" y="13706"/>
                  </a:lnTo>
                  <a:lnTo>
                    <a:pt x="103804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SMARTInkAnnotation93"/>
            <p:cNvSpPr/>
            <p:nvPr/>
          </p:nvSpPr>
          <p:spPr>
            <a:xfrm>
              <a:off x="1640160" y="3116520"/>
              <a:ext cx="126360" cy="1368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26363" h="137017">
                  <a:moveTo>
                    <a:pt x="66728" y="22860"/>
                  </a:moveTo>
                  <a:lnTo>
                    <a:pt x="66728" y="26905"/>
                  </a:lnTo>
                  <a:lnTo>
                    <a:pt x="65881" y="28097"/>
                  </a:lnTo>
                  <a:lnTo>
                    <a:pt x="64470" y="28891"/>
                  </a:lnTo>
                  <a:lnTo>
                    <a:pt x="60167" y="30166"/>
                  </a:lnTo>
                  <a:lnTo>
                    <a:pt x="58121" y="31117"/>
                  </a:lnTo>
                  <a:lnTo>
                    <a:pt x="51332" y="34433"/>
                  </a:lnTo>
                  <a:lnTo>
                    <a:pt x="47150" y="37348"/>
                  </a:lnTo>
                  <a:lnTo>
                    <a:pt x="42670" y="40986"/>
                  </a:lnTo>
                  <a:lnTo>
                    <a:pt x="37989" y="45104"/>
                  </a:lnTo>
                  <a:lnTo>
                    <a:pt x="30531" y="51937"/>
                  </a:lnTo>
                  <a:lnTo>
                    <a:pt x="23547" y="58643"/>
                  </a:lnTo>
                  <a:lnTo>
                    <a:pt x="14799" y="67268"/>
                  </a:lnTo>
                  <a:lnTo>
                    <a:pt x="10942" y="71939"/>
                  </a:lnTo>
                  <a:lnTo>
                    <a:pt x="7524" y="76746"/>
                  </a:lnTo>
                  <a:lnTo>
                    <a:pt x="4399" y="81644"/>
                  </a:lnTo>
                  <a:lnTo>
                    <a:pt x="2315" y="86603"/>
                  </a:lnTo>
                  <a:lnTo>
                    <a:pt x="926" y="91602"/>
                  </a:lnTo>
                  <a:lnTo>
                    <a:pt x="0" y="96628"/>
                  </a:lnTo>
                  <a:lnTo>
                    <a:pt x="230" y="101672"/>
                  </a:lnTo>
                  <a:lnTo>
                    <a:pt x="1229" y="106728"/>
                  </a:lnTo>
                  <a:lnTo>
                    <a:pt x="2742" y="111792"/>
                  </a:lnTo>
                  <a:lnTo>
                    <a:pt x="4597" y="116015"/>
                  </a:lnTo>
                  <a:lnTo>
                    <a:pt x="6681" y="119677"/>
                  </a:lnTo>
                  <a:lnTo>
                    <a:pt x="8917" y="122965"/>
                  </a:lnTo>
                  <a:lnTo>
                    <a:pt x="12101" y="126003"/>
                  </a:lnTo>
                  <a:lnTo>
                    <a:pt x="15916" y="128876"/>
                  </a:lnTo>
                  <a:lnTo>
                    <a:pt x="20154" y="131637"/>
                  </a:lnTo>
                  <a:lnTo>
                    <a:pt x="25518" y="133478"/>
                  </a:lnTo>
                  <a:lnTo>
                    <a:pt x="31635" y="134705"/>
                  </a:lnTo>
                  <a:lnTo>
                    <a:pt x="38253" y="135523"/>
                  </a:lnTo>
                  <a:lnTo>
                    <a:pt x="45205" y="136069"/>
                  </a:lnTo>
                  <a:lnTo>
                    <a:pt x="52379" y="136433"/>
                  </a:lnTo>
                  <a:lnTo>
                    <a:pt x="66277" y="136837"/>
                  </a:lnTo>
                  <a:lnTo>
                    <a:pt x="78099" y="137016"/>
                  </a:lnTo>
                  <a:lnTo>
                    <a:pt x="83622" y="136218"/>
                  </a:lnTo>
                  <a:lnTo>
                    <a:pt x="88998" y="134839"/>
                  </a:lnTo>
                  <a:lnTo>
                    <a:pt x="94274" y="133072"/>
                  </a:lnTo>
                  <a:lnTo>
                    <a:pt x="99486" y="130202"/>
                  </a:lnTo>
                  <a:lnTo>
                    <a:pt x="104653" y="126594"/>
                  </a:lnTo>
                  <a:lnTo>
                    <a:pt x="109791" y="122497"/>
                  </a:lnTo>
                  <a:lnTo>
                    <a:pt x="113217" y="118918"/>
                  </a:lnTo>
                  <a:lnTo>
                    <a:pt x="115501" y="115685"/>
                  </a:lnTo>
                  <a:lnTo>
                    <a:pt x="117023" y="112684"/>
                  </a:lnTo>
                  <a:lnTo>
                    <a:pt x="118885" y="108143"/>
                  </a:lnTo>
                  <a:lnTo>
                    <a:pt x="120973" y="102575"/>
                  </a:lnTo>
                  <a:lnTo>
                    <a:pt x="123211" y="96323"/>
                  </a:lnTo>
                  <a:lnTo>
                    <a:pt x="124703" y="90462"/>
                  </a:lnTo>
                  <a:lnTo>
                    <a:pt x="125699" y="84862"/>
                  </a:lnTo>
                  <a:lnTo>
                    <a:pt x="126362" y="79434"/>
                  </a:lnTo>
                  <a:lnTo>
                    <a:pt x="125957" y="73276"/>
                  </a:lnTo>
                  <a:lnTo>
                    <a:pt x="124841" y="66631"/>
                  </a:lnTo>
                  <a:lnTo>
                    <a:pt x="123250" y="59661"/>
                  </a:lnTo>
                  <a:lnTo>
                    <a:pt x="121343" y="52474"/>
                  </a:lnTo>
                  <a:lnTo>
                    <a:pt x="116966" y="37715"/>
                  </a:lnTo>
                  <a:lnTo>
                    <a:pt x="114613" y="31070"/>
                  </a:lnTo>
                  <a:lnTo>
                    <a:pt x="112198" y="24947"/>
                  </a:lnTo>
                  <a:lnTo>
                    <a:pt x="109742" y="19171"/>
                  </a:lnTo>
                  <a:lnTo>
                    <a:pt x="108104" y="14474"/>
                  </a:lnTo>
                  <a:lnTo>
                    <a:pt x="107012" y="10496"/>
                  </a:lnTo>
                  <a:lnTo>
                    <a:pt x="10482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SMARTInkAnnotation94"/>
            <p:cNvSpPr/>
            <p:nvPr/>
          </p:nvSpPr>
          <p:spPr>
            <a:xfrm>
              <a:off x="2262960" y="2918160"/>
              <a:ext cx="137160" cy="1512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37161" h="15241">
                  <a:moveTo>
                    <a:pt x="0" y="15240"/>
                  </a:moveTo>
                  <a:lnTo>
                    <a:pt x="22178" y="15240"/>
                  </a:lnTo>
                  <a:lnTo>
                    <a:pt x="26639" y="14394"/>
                  </a:lnTo>
                  <a:lnTo>
                    <a:pt x="31306" y="12982"/>
                  </a:lnTo>
                  <a:lnTo>
                    <a:pt x="36111" y="11195"/>
                  </a:lnTo>
                  <a:lnTo>
                    <a:pt x="41854" y="10003"/>
                  </a:lnTo>
                  <a:lnTo>
                    <a:pt x="48223" y="9209"/>
                  </a:lnTo>
                  <a:lnTo>
                    <a:pt x="55009" y="8679"/>
                  </a:lnTo>
                  <a:lnTo>
                    <a:pt x="62073" y="8326"/>
                  </a:lnTo>
                  <a:lnTo>
                    <a:pt x="76695" y="7934"/>
                  </a:lnTo>
                  <a:lnTo>
                    <a:pt x="84997" y="6983"/>
                  </a:lnTo>
                  <a:lnTo>
                    <a:pt x="93917" y="5502"/>
                  </a:lnTo>
                  <a:lnTo>
                    <a:pt x="103252" y="3668"/>
                  </a:lnTo>
                  <a:lnTo>
                    <a:pt x="111168" y="2446"/>
                  </a:lnTo>
                  <a:lnTo>
                    <a:pt x="118139" y="1630"/>
                  </a:lnTo>
                  <a:lnTo>
                    <a:pt x="1371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SMARTInkAnnotation95"/>
            <p:cNvSpPr/>
            <p:nvPr/>
          </p:nvSpPr>
          <p:spPr>
            <a:xfrm>
              <a:off x="2586960" y="2788920"/>
              <a:ext cx="253080" cy="30456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53116" h="304657">
                  <a:moveTo>
                    <a:pt x="41876" y="30477"/>
                  </a:moveTo>
                  <a:lnTo>
                    <a:pt x="41876" y="15578"/>
                  </a:lnTo>
                  <a:lnTo>
                    <a:pt x="47959" y="9221"/>
                  </a:lnTo>
                  <a:lnTo>
                    <a:pt x="52482" y="4661"/>
                  </a:lnTo>
                  <a:lnTo>
                    <a:pt x="56567" y="3106"/>
                  </a:lnTo>
                  <a:lnTo>
                    <a:pt x="61830" y="2070"/>
                  </a:lnTo>
                  <a:lnTo>
                    <a:pt x="67878" y="1379"/>
                  </a:lnTo>
                  <a:lnTo>
                    <a:pt x="73604" y="918"/>
                  </a:lnTo>
                  <a:lnTo>
                    <a:pt x="79115" y="611"/>
                  </a:lnTo>
                  <a:lnTo>
                    <a:pt x="84482" y="407"/>
                  </a:lnTo>
                  <a:lnTo>
                    <a:pt x="104171" y="118"/>
                  </a:lnTo>
                  <a:lnTo>
                    <a:pt x="153539" y="0"/>
                  </a:lnTo>
                  <a:lnTo>
                    <a:pt x="158651" y="846"/>
                  </a:lnTo>
                  <a:lnTo>
                    <a:pt x="163753" y="2256"/>
                  </a:lnTo>
                  <a:lnTo>
                    <a:pt x="168847" y="4043"/>
                  </a:lnTo>
                  <a:lnTo>
                    <a:pt x="173090" y="5234"/>
                  </a:lnTo>
                  <a:lnTo>
                    <a:pt x="180063" y="6558"/>
                  </a:lnTo>
                  <a:lnTo>
                    <a:pt x="182260" y="7757"/>
                  </a:lnTo>
                  <a:lnTo>
                    <a:pt x="183725" y="9404"/>
                  </a:lnTo>
                  <a:lnTo>
                    <a:pt x="184703" y="11348"/>
                  </a:lnTo>
                  <a:lnTo>
                    <a:pt x="185788" y="18024"/>
                  </a:lnTo>
                  <a:lnTo>
                    <a:pt x="186078" y="22175"/>
                  </a:lnTo>
                  <a:lnTo>
                    <a:pt x="184577" y="25789"/>
                  </a:lnTo>
                  <a:lnTo>
                    <a:pt x="181884" y="29045"/>
                  </a:lnTo>
                  <a:lnTo>
                    <a:pt x="174375" y="35767"/>
                  </a:lnTo>
                  <a:lnTo>
                    <a:pt x="165393" y="44399"/>
                  </a:lnTo>
                  <a:lnTo>
                    <a:pt x="159781" y="48225"/>
                  </a:lnTo>
                  <a:lnTo>
                    <a:pt x="153499" y="51622"/>
                  </a:lnTo>
                  <a:lnTo>
                    <a:pt x="146772" y="54734"/>
                  </a:lnTo>
                  <a:lnTo>
                    <a:pt x="139747" y="58502"/>
                  </a:lnTo>
                  <a:lnTo>
                    <a:pt x="132523" y="62707"/>
                  </a:lnTo>
                  <a:lnTo>
                    <a:pt x="125167" y="67204"/>
                  </a:lnTo>
                  <a:lnTo>
                    <a:pt x="117724" y="71048"/>
                  </a:lnTo>
                  <a:lnTo>
                    <a:pt x="110221" y="74457"/>
                  </a:lnTo>
                  <a:lnTo>
                    <a:pt x="102679" y="77578"/>
                  </a:lnTo>
                  <a:lnTo>
                    <a:pt x="95958" y="81351"/>
                  </a:lnTo>
                  <a:lnTo>
                    <a:pt x="89785" y="85559"/>
                  </a:lnTo>
                  <a:lnTo>
                    <a:pt x="83975" y="90058"/>
                  </a:lnTo>
                  <a:lnTo>
                    <a:pt x="79255" y="94752"/>
                  </a:lnTo>
                  <a:lnTo>
                    <a:pt x="75262" y="99573"/>
                  </a:lnTo>
                  <a:lnTo>
                    <a:pt x="68568" y="108600"/>
                  </a:lnTo>
                  <a:lnTo>
                    <a:pt x="62770" y="115434"/>
                  </a:lnTo>
                  <a:lnTo>
                    <a:pt x="59629" y="121294"/>
                  </a:lnTo>
                  <a:lnTo>
                    <a:pt x="58792" y="124041"/>
                  </a:lnTo>
                  <a:lnTo>
                    <a:pt x="59926" y="126720"/>
                  </a:lnTo>
                  <a:lnTo>
                    <a:pt x="62376" y="129352"/>
                  </a:lnTo>
                  <a:lnTo>
                    <a:pt x="65703" y="131954"/>
                  </a:lnTo>
                  <a:lnTo>
                    <a:pt x="70461" y="134535"/>
                  </a:lnTo>
                  <a:lnTo>
                    <a:pt x="76172" y="137102"/>
                  </a:lnTo>
                  <a:lnTo>
                    <a:pt x="82520" y="139661"/>
                  </a:lnTo>
                  <a:lnTo>
                    <a:pt x="89292" y="143060"/>
                  </a:lnTo>
                  <a:lnTo>
                    <a:pt x="96347" y="147019"/>
                  </a:lnTo>
                  <a:lnTo>
                    <a:pt x="103590" y="151351"/>
                  </a:lnTo>
                  <a:lnTo>
                    <a:pt x="111805" y="155087"/>
                  </a:lnTo>
                  <a:lnTo>
                    <a:pt x="120669" y="158423"/>
                  </a:lnTo>
                  <a:lnTo>
                    <a:pt x="129965" y="161495"/>
                  </a:lnTo>
                  <a:lnTo>
                    <a:pt x="139549" y="165235"/>
                  </a:lnTo>
                  <a:lnTo>
                    <a:pt x="149324" y="169422"/>
                  </a:lnTo>
                  <a:lnTo>
                    <a:pt x="169217" y="178591"/>
                  </a:lnTo>
                  <a:lnTo>
                    <a:pt x="189348" y="188310"/>
                  </a:lnTo>
                  <a:lnTo>
                    <a:pt x="198611" y="193272"/>
                  </a:lnTo>
                  <a:lnTo>
                    <a:pt x="207326" y="198274"/>
                  </a:lnTo>
                  <a:lnTo>
                    <a:pt x="215676" y="203302"/>
                  </a:lnTo>
                  <a:lnTo>
                    <a:pt x="222936" y="208347"/>
                  </a:lnTo>
                  <a:lnTo>
                    <a:pt x="229470" y="213403"/>
                  </a:lnTo>
                  <a:lnTo>
                    <a:pt x="235518" y="218468"/>
                  </a:lnTo>
                  <a:lnTo>
                    <a:pt x="240398" y="223538"/>
                  </a:lnTo>
                  <a:lnTo>
                    <a:pt x="244497" y="228611"/>
                  </a:lnTo>
                  <a:lnTo>
                    <a:pt x="250463" y="237917"/>
                  </a:lnTo>
                  <a:lnTo>
                    <a:pt x="253115" y="244875"/>
                  </a:lnTo>
                  <a:lnTo>
                    <a:pt x="252976" y="248762"/>
                  </a:lnTo>
                  <a:lnTo>
                    <a:pt x="250563" y="257597"/>
                  </a:lnTo>
                  <a:lnTo>
                    <a:pt x="247887" y="261477"/>
                  </a:lnTo>
                  <a:lnTo>
                    <a:pt x="240399" y="268046"/>
                  </a:lnTo>
                  <a:lnTo>
                    <a:pt x="235185" y="271830"/>
                  </a:lnTo>
                  <a:lnTo>
                    <a:pt x="222618" y="280549"/>
                  </a:lnTo>
                  <a:lnTo>
                    <a:pt x="215711" y="284399"/>
                  </a:lnTo>
                  <a:lnTo>
                    <a:pt x="208566" y="287811"/>
                  </a:lnTo>
                  <a:lnTo>
                    <a:pt x="201263" y="290933"/>
                  </a:lnTo>
                  <a:lnTo>
                    <a:pt x="193854" y="293861"/>
                  </a:lnTo>
                  <a:lnTo>
                    <a:pt x="178848" y="299372"/>
                  </a:lnTo>
                  <a:lnTo>
                    <a:pt x="171291" y="301181"/>
                  </a:lnTo>
                  <a:lnTo>
                    <a:pt x="163713" y="302386"/>
                  </a:lnTo>
                  <a:lnTo>
                    <a:pt x="156121" y="303190"/>
                  </a:lnTo>
                  <a:lnTo>
                    <a:pt x="147673" y="303726"/>
                  </a:lnTo>
                  <a:lnTo>
                    <a:pt x="138654" y="304083"/>
                  </a:lnTo>
                  <a:lnTo>
                    <a:pt x="112038" y="304586"/>
                  </a:lnTo>
                  <a:lnTo>
                    <a:pt x="103890" y="304656"/>
                  </a:lnTo>
                  <a:lnTo>
                    <a:pt x="94226" y="303856"/>
                  </a:lnTo>
                  <a:lnTo>
                    <a:pt x="83549" y="302477"/>
                  </a:lnTo>
                  <a:lnTo>
                    <a:pt x="72198" y="300710"/>
                  </a:lnTo>
                  <a:lnTo>
                    <a:pt x="62938" y="298686"/>
                  </a:lnTo>
                  <a:lnTo>
                    <a:pt x="55071" y="296490"/>
                  </a:lnTo>
                  <a:lnTo>
                    <a:pt x="48133" y="294179"/>
                  </a:lnTo>
                  <a:lnTo>
                    <a:pt x="41814" y="292639"/>
                  </a:lnTo>
                  <a:lnTo>
                    <a:pt x="35908" y="291611"/>
                  </a:lnTo>
                  <a:lnTo>
                    <a:pt x="30277" y="290927"/>
                  </a:lnTo>
                  <a:lnTo>
                    <a:pt x="24830" y="289623"/>
                  </a:lnTo>
                  <a:lnTo>
                    <a:pt x="19506" y="287908"/>
                  </a:lnTo>
                  <a:lnTo>
                    <a:pt x="6883" y="283116"/>
                  </a:lnTo>
                  <a:lnTo>
                    <a:pt x="652" y="278241"/>
                  </a:lnTo>
                  <a:lnTo>
                    <a:pt x="0" y="276933"/>
                  </a:lnTo>
                  <a:lnTo>
                    <a:pt x="412" y="276061"/>
                  </a:lnTo>
                  <a:lnTo>
                    <a:pt x="3776" y="2743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SMARTInkAnnotation96"/>
            <p:cNvSpPr/>
            <p:nvPr/>
          </p:nvSpPr>
          <p:spPr>
            <a:xfrm>
              <a:off x="3009960" y="2948760"/>
              <a:ext cx="213120" cy="75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13361" h="7621">
                  <a:moveTo>
                    <a:pt x="0" y="0"/>
                  </a:moveTo>
                  <a:lnTo>
                    <a:pt x="6561" y="0"/>
                  </a:lnTo>
                  <a:lnTo>
                    <a:pt x="8607" y="847"/>
                  </a:lnTo>
                  <a:lnTo>
                    <a:pt x="11665" y="2258"/>
                  </a:lnTo>
                  <a:lnTo>
                    <a:pt x="15397" y="4045"/>
                  </a:lnTo>
                  <a:lnTo>
                    <a:pt x="18731" y="5237"/>
                  </a:lnTo>
                  <a:lnTo>
                    <a:pt x="21801" y="6032"/>
                  </a:lnTo>
                  <a:lnTo>
                    <a:pt x="24694" y="6561"/>
                  </a:lnTo>
                  <a:lnTo>
                    <a:pt x="29162" y="6914"/>
                  </a:lnTo>
                  <a:lnTo>
                    <a:pt x="34682" y="7150"/>
                  </a:lnTo>
                  <a:lnTo>
                    <a:pt x="52327" y="7481"/>
                  </a:lnTo>
                  <a:lnTo>
                    <a:pt x="21336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SMARTInkAnnotation97"/>
            <p:cNvSpPr/>
            <p:nvPr/>
          </p:nvSpPr>
          <p:spPr>
            <a:xfrm>
              <a:off x="3276720" y="2826720"/>
              <a:ext cx="99000" cy="75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9062" h="7621">
                  <a:moveTo>
                    <a:pt x="0" y="7620"/>
                  </a:moveTo>
                  <a:lnTo>
                    <a:pt x="4045" y="3575"/>
                  </a:lnTo>
                  <a:lnTo>
                    <a:pt x="6931" y="2383"/>
                  </a:lnTo>
                  <a:lnTo>
                    <a:pt x="10547" y="1589"/>
                  </a:lnTo>
                  <a:lnTo>
                    <a:pt x="14652" y="1059"/>
                  </a:lnTo>
                  <a:lnTo>
                    <a:pt x="18235" y="706"/>
                  </a:lnTo>
                  <a:lnTo>
                    <a:pt x="21470" y="471"/>
                  </a:lnTo>
                  <a:lnTo>
                    <a:pt x="24473" y="314"/>
                  </a:lnTo>
                  <a:lnTo>
                    <a:pt x="34584" y="140"/>
                  </a:lnTo>
                  <a:lnTo>
                    <a:pt x="9906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SMARTInkAnnotation98"/>
            <p:cNvSpPr/>
            <p:nvPr/>
          </p:nvSpPr>
          <p:spPr>
            <a:xfrm>
              <a:off x="3429000" y="2796480"/>
              <a:ext cx="220320" cy="28800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20453" h="288016">
                  <a:moveTo>
                    <a:pt x="53293" y="0"/>
                  </a:moveTo>
                  <a:lnTo>
                    <a:pt x="53293" y="33051"/>
                  </a:lnTo>
                  <a:lnTo>
                    <a:pt x="51035" y="40372"/>
                  </a:lnTo>
                  <a:lnTo>
                    <a:pt x="47209" y="48423"/>
                  </a:lnTo>
                  <a:lnTo>
                    <a:pt x="42687" y="54824"/>
                  </a:lnTo>
                  <a:lnTo>
                    <a:pt x="37854" y="62748"/>
                  </a:lnTo>
                  <a:lnTo>
                    <a:pt x="32884" y="71068"/>
                  </a:lnTo>
                  <a:lnTo>
                    <a:pt x="27854" y="77588"/>
                  </a:lnTo>
                  <a:lnTo>
                    <a:pt x="24480" y="80512"/>
                  </a:lnTo>
                  <a:lnTo>
                    <a:pt x="20537" y="83308"/>
                  </a:lnTo>
                  <a:lnTo>
                    <a:pt x="16216" y="86019"/>
                  </a:lnTo>
                  <a:lnTo>
                    <a:pt x="12488" y="88673"/>
                  </a:lnTo>
                  <a:lnTo>
                    <a:pt x="6088" y="93879"/>
                  </a:lnTo>
                  <a:lnTo>
                    <a:pt x="4043" y="96453"/>
                  </a:lnTo>
                  <a:lnTo>
                    <a:pt x="2679" y="99015"/>
                  </a:lnTo>
                  <a:lnTo>
                    <a:pt x="0" y="106547"/>
                  </a:lnTo>
                  <a:lnTo>
                    <a:pt x="4012" y="106641"/>
                  </a:lnTo>
                  <a:lnTo>
                    <a:pt x="28472" y="106677"/>
                  </a:lnTo>
                  <a:lnTo>
                    <a:pt x="34205" y="105831"/>
                  </a:lnTo>
                  <a:lnTo>
                    <a:pt x="40568" y="104421"/>
                  </a:lnTo>
                  <a:lnTo>
                    <a:pt x="47349" y="102634"/>
                  </a:lnTo>
                  <a:lnTo>
                    <a:pt x="55257" y="101443"/>
                  </a:lnTo>
                  <a:lnTo>
                    <a:pt x="63916" y="100648"/>
                  </a:lnTo>
                  <a:lnTo>
                    <a:pt x="73075" y="100119"/>
                  </a:lnTo>
                  <a:lnTo>
                    <a:pt x="90025" y="99531"/>
                  </a:lnTo>
                  <a:lnTo>
                    <a:pt x="98101" y="99374"/>
                  </a:lnTo>
                  <a:lnTo>
                    <a:pt x="106025" y="100116"/>
                  </a:lnTo>
                  <a:lnTo>
                    <a:pt x="113847" y="101457"/>
                  </a:lnTo>
                  <a:lnTo>
                    <a:pt x="121602" y="103198"/>
                  </a:lnTo>
                  <a:lnTo>
                    <a:pt x="129313" y="105206"/>
                  </a:lnTo>
                  <a:lnTo>
                    <a:pt x="136992" y="107390"/>
                  </a:lnTo>
                  <a:lnTo>
                    <a:pt x="152299" y="112076"/>
                  </a:lnTo>
                  <a:lnTo>
                    <a:pt x="167569" y="116980"/>
                  </a:lnTo>
                  <a:lnTo>
                    <a:pt x="173503" y="119474"/>
                  </a:lnTo>
                  <a:lnTo>
                    <a:pt x="178306" y="121982"/>
                  </a:lnTo>
                  <a:lnTo>
                    <a:pt x="182356" y="124502"/>
                  </a:lnTo>
                  <a:lnTo>
                    <a:pt x="186748" y="127875"/>
                  </a:lnTo>
                  <a:lnTo>
                    <a:pt x="191369" y="131816"/>
                  </a:lnTo>
                  <a:lnTo>
                    <a:pt x="196144" y="136138"/>
                  </a:lnTo>
                  <a:lnTo>
                    <a:pt x="200173" y="140712"/>
                  </a:lnTo>
                  <a:lnTo>
                    <a:pt x="203707" y="145454"/>
                  </a:lnTo>
                  <a:lnTo>
                    <a:pt x="206909" y="150310"/>
                  </a:lnTo>
                  <a:lnTo>
                    <a:pt x="209890" y="156087"/>
                  </a:lnTo>
                  <a:lnTo>
                    <a:pt x="212725" y="162477"/>
                  </a:lnTo>
                  <a:lnTo>
                    <a:pt x="215461" y="169278"/>
                  </a:lnTo>
                  <a:lnTo>
                    <a:pt x="217285" y="175506"/>
                  </a:lnTo>
                  <a:lnTo>
                    <a:pt x="218501" y="181351"/>
                  </a:lnTo>
                  <a:lnTo>
                    <a:pt x="219311" y="186940"/>
                  </a:lnTo>
                  <a:lnTo>
                    <a:pt x="219852" y="193207"/>
                  </a:lnTo>
                  <a:lnTo>
                    <a:pt x="220213" y="199925"/>
                  </a:lnTo>
                  <a:lnTo>
                    <a:pt x="220452" y="206943"/>
                  </a:lnTo>
                  <a:lnTo>
                    <a:pt x="219766" y="213315"/>
                  </a:lnTo>
                  <a:lnTo>
                    <a:pt x="218461" y="219257"/>
                  </a:lnTo>
                  <a:lnTo>
                    <a:pt x="216745" y="224911"/>
                  </a:lnTo>
                  <a:lnTo>
                    <a:pt x="214755" y="230374"/>
                  </a:lnTo>
                  <a:lnTo>
                    <a:pt x="212580" y="235709"/>
                  </a:lnTo>
                  <a:lnTo>
                    <a:pt x="210285" y="240960"/>
                  </a:lnTo>
                  <a:lnTo>
                    <a:pt x="207060" y="246153"/>
                  </a:lnTo>
                  <a:lnTo>
                    <a:pt x="203218" y="251309"/>
                  </a:lnTo>
                  <a:lnTo>
                    <a:pt x="198963" y="256439"/>
                  </a:lnTo>
                  <a:lnTo>
                    <a:pt x="195279" y="260706"/>
                  </a:lnTo>
                  <a:lnTo>
                    <a:pt x="188929" y="267705"/>
                  </a:lnTo>
                  <a:lnTo>
                    <a:pt x="185203" y="270757"/>
                  </a:lnTo>
                  <a:lnTo>
                    <a:pt x="181026" y="273638"/>
                  </a:lnTo>
                  <a:lnTo>
                    <a:pt x="176548" y="276405"/>
                  </a:lnTo>
                  <a:lnTo>
                    <a:pt x="171023" y="279097"/>
                  </a:lnTo>
                  <a:lnTo>
                    <a:pt x="164800" y="281738"/>
                  </a:lnTo>
                  <a:lnTo>
                    <a:pt x="158111" y="284345"/>
                  </a:lnTo>
                  <a:lnTo>
                    <a:pt x="151958" y="286084"/>
                  </a:lnTo>
                  <a:lnTo>
                    <a:pt x="146163" y="287243"/>
                  </a:lnTo>
                  <a:lnTo>
                    <a:pt x="140606" y="288015"/>
                  </a:lnTo>
                  <a:lnTo>
                    <a:pt x="136055" y="287684"/>
                  </a:lnTo>
                  <a:lnTo>
                    <a:pt x="132174" y="286615"/>
                  </a:lnTo>
                  <a:lnTo>
                    <a:pt x="128741" y="285057"/>
                  </a:lnTo>
                  <a:lnTo>
                    <a:pt x="123911" y="283171"/>
                  </a:lnTo>
                  <a:lnTo>
                    <a:pt x="111772" y="278818"/>
                  </a:lnTo>
                  <a:lnTo>
                    <a:pt x="106672" y="276472"/>
                  </a:lnTo>
                  <a:lnTo>
                    <a:pt x="102426" y="274061"/>
                  </a:lnTo>
                  <a:lnTo>
                    <a:pt x="98748" y="271608"/>
                  </a:lnTo>
                  <a:lnTo>
                    <a:pt x="92404" y="266623"/>
                  </a:lnTo>
                  <a:lnTo>
                    <a:pt x="83772" y="2590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SMARTInkAnnotation99"/>
            <p:cNvSpPr/>
            <p:nvPr/>
          </p:nvSpPr>
          <p:spPr>
            <a:xfrm>
              <a:off x="3497760" y="2796480"/>
              <a:ext cx="213120" cy="3024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13362" h="30481">
                  <a:moveTo>
                    <a:pt x="0" y="30480"/>
                  </a:moveTo>
                  <a:lnTo>
                    <a:pt x="0" y="23919"/>
                  </a:lnTo>
                  <a:lnTo>
                    <a:pt x="846" y="23566"/>
                  </a:lnTo>
                  <a:lnTo>
                    <a:pt x="6083" y="23069"/>
                  </a:lnTo>
                  <a:lnTo>
                    <a:pt x="10606" y="22953"/>
                  </a:lnTo>
                  <a:lnTo>
                    <a:pt x="13844" y="22075"/>
                  </a:lnTo>
                  <a:lnTo>
                    <a:pt x="17696" y="20643"/>
                  </a:lnTo>
                  <a:lnTo>
                    <a:pt x="21957" y="18842"/>
                  </a:lnTo>
                  <a:lnTo>
                    <a:pt x="26491" y="17642"/>
                  </a:lnTo>
                  <a:lnTo>
                    <a:pt x="31207" y="16841"/>
                  </a:lnTo>
                  <a:lnTo>
                    <a:pt x="36045" y="16307"/>
                  </a:lnTo>
                  <a:lnTo>
                    <a:pt x="41810" y="15105"/>
                  </a:lnTo>
                  <a:lnTo>
                    <a:pt x="48193" y="13457"/>
                  </a:lnTo>
                  <a:lnTo>
                    <a:pt x="54989" y="11511"/>
                  </a:lnTo>
                  <a:lnTo>
                    <a:pt x="62060" y="10214"/>
                  </a:lnTo>
                  <a:lnTo>
                    <a:pt x="69313" y="9349"/>
                  </a:lnTo>
                  <a:lnTo>
                    <a:pt x="76689" y="8773"/>
                  </a:lnTo>
                  <a:lnTo>
                    <a:pt x="84146" y="8389"/>
                  </a:lnTo>
                  <a:lnTo>
                    <a:pt x="99205" y="7962"/>
                  </a:lnTo>
                  <a:lnTo>
                    <a:pt x="107623" y="7001"/>
                  </a:lnTo>
                  <a:lnTo>
                    <a:pt x="116622" y="5514"/>
                  </a:lnTo>
                  <a:lnTo>
                    <a:pt x="126008" y="3676"/>
                  </a:lnTo>
                  <a:lnTo>
                    <a:pt x="134805" y="2451"/>
                  </a:lnTo>
                  <a:lnTo>
                    <a:pt x="143211" y="1634"/>
                  </a:lnTo>
                  <a:lnTo>
                    <a:pt x="151353" y="1089"/>
                  </a:lnTo>
                  <a:lnTo>
                    <a:pt x="159322" y="726"/>
                  </a:lnTo>
                  <a:lnTo>
                    <a:pt x="174950" y="323"/>
                  </a:lnTo>
                  <a:lnTo>
                    <a:pt x="21336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SMARTInkAnnotation100"/>
            <p:cNvSpPr/>
            <p:nvPr/>
          </p:nvSpPr>
          <p:spPr>
            <a:xfrm>
              <a:off x="3772080" y="2666880"/>
              <a:ext cx="15120" cy="75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5242" h="7621">
                  <a:moveTo>
                    <a:pt x="0" y="0"/>
                  </a:moveTo>
                  <a:lnTo>
                    <a:pt x="4045" y="0"/>
                  </a:lnTo>
                  <a:lnTo>
                    <a:pt x="6083" y="847"/>
                  </a:lnTo>
                  <a:lnTo>
                    <a:pt x="8289" y="2258"/>
                  </a:lnTo>
                  <a:lnTo>
                    <a:pt x="15241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SMARTInkAnnotation101"/>
            <p:cNvSpPr/>
            <p:nvPr/>
          </p:nvSpPr>
          <p:spPr>
            <a:xfrm>
              <a:off x="4360680" y="2796480"/>
              <a:ext cx="275040" cy="265320"/>
            </a:xfrm>
            <a:custGeom>
              <a:avLst/>
              <a:gdLst>
                <a:gd name="textAreaLeft" fmla="*/ 0 w 275040"/>
                <a:gd name="textAreaRight" fmla="*/ 275400 w 27504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75280" h="265366">
                  <a:moveTo>
                    <a:pt x="89492" y="0"/>
                  </a:moveTo>
                  <a:lnTo>
                    <a:pt x="89492" y="4045"/>
                  </a:lnTo>
                  <a:lnTo>
                    <a:pt x="88645" y="5237"/>
                  </a:lnTo>
                  <a:lnTo>
                    <a:pt x="87234" y="6031"/>
                  </a:lnTo>
                  <a:lnTo>
                    <a:pt x="85447" y="6561"/>
                  </a:lnTo>
                  <a:lnTo>
                    <a:pt x="83409" y="8607"/>
                  </a:lnTo>
                  <a:lnTo>
                    <a:pt x="76495" y="18731"/>
                  </a:lnTo>
                  <a:lnTo>
                    <a:pt x="71580" y="24694"/>
                  </a:lnTo>
                  <a:lnTo>
                    <a:pt x="68237" y="29162"/>
                  </a:lnTo>
                  <a:lnTo>
                    <a:pt x="60008" y="40901"/>
                  </a:lnTo>
                  <a:lnTo>
                    <a:pt x="45855" y="61790"/>
                  </a:lnTo>
                  <a:lnTo>
                    <a:pt x="40927" y="69980"/>
                  </a:lnTo>
                  <a:lnTo>
                    <a:pt x="35949" y="78827"/>
                  </a:lnTo>
                  <a:lnTo>
                    <a:pt x="30937" y="88111"/>
                  </a:lnTo>
                  <a:lnTo>
                    <a:pt x="25901" y="96841"/>
                  </a:lnTo>
                  <a:lnTo>
                    <a:pt x="20852" y="105200"/>
                  </a:lnTo>
                  <a:lnTo>
                    <a:pt x="15792" y="113314"/>
                  </a:lnTo>
                  <a:lnTo>
                    <a:pt x="11572" y="122109"/>
                  </a:lnTo>
                  <a:lnTo>
                    <a:pt x="7912" y="131359"/>
                  </a:lnTo>
                  <a:lnTo>
                    <a:pt x="4625" y="140913"/>
                  </a:lnTo>
                  <a:lnTo>
                    <a:pt x="2434" y="149822"/>
                  </a:lnTo>
                  <a:lnTo>
                    <a:pt x="974" y="158301"/>
                  </a:lnTo>
                  <a:lnTo>
                    <a:pt x="0" y="166494"/>
                  </a:lnTo>
                  <a:lnTo>
                    <a:pt x="197" y="174496"/>
                  </a:lnTo>
                  <a:lnTo>
                    <a:pt x="1176" y="182371"/>
                  </a:lnTo>
                  <a:lnTo>
                    <a:pt x="2674" y="190160"/>
                  </a:lnTo>
                  <a:lnTo>
                    <a:pt x="6213" y="197894"/>
                  </a:lnTo>
                  <a:lnTo>
                    <a:pt x="11113" y="205589"/>
                  </a:lnTo>
                  <a:lnTo>
                    <a:pt x="16919" y="213259"/>
                  </a:lnTo>
                  <a:lnTo>
                    <a:pt x="23330" y="220066"/>
                  </a:lnTo>
                  <a:lnTo>
                    <a:pt x="30145" y="226298"/>
                  </a:lnTo>
                  <a:lnTo>
                    <a:pt x="37227" y="232145"/>
                  </a:lnTo>
                  <a:lnTo>
                    <a:pt x="45335" y="237737"/>
                  </a:lnTo>
                  <a:lnTo>
                    <a:pt x="54127" y="243158"/>
                  </a:lnTo>
                  <a:lnTo>
                    <a:pt x="63376" y="248466"/>
                  </a:lnTo>
                  <a:lnTo>
                    <a:pt x="73775" y="252004"/>
                  </a:lnTo>
                  <a:lnTo>
                    <a:pt x="84940" y="254363"/>
                  </a:lnTo>
                  <a:lnTo>
                    <a:pt x="96618" y="255935"/>
                  </a:lnTo>
                  <a:lnTo>
                    <a:pt x="107789" y="257830"/>
                  </a:lnTo>
                  <a:lnTo>
                    <a:pt x="118623" y="259940"/>
                  </a:lnTo>
                  <a:lnTo>
                    <a:pt x="129233" y="262193"/>
                  </a:lnTo>
                  <a:lnTo>
                    <a:pt x="140540" y="263695"/>
                  </a:lnTo>
                  <a:lnTo>
                    <a:pt x="152311" y="264697"/>
                  </a:lnTo>
                  <a:lnTo>
                    <a:pt x="164390" y="265365"/>
                  </a:lnTo>
                  <a:lnTo>
                    <a:pt x="175832" y="264963"/>
                  </a:lnTo>
                  <a:lnTo>
                    <a:pt x="186845" y="263849"/>
                  </a:lnTo>
                  <a:lnTo>
                    <a:pt x="197574" y="262260"/>
                  </a:lnTo>
                  <a:lnTo>
                    <a:pt x="208113" y="259506"/>
                  </a:lnTo>
                  <a:lnTo>
                    <a:pt x="218527" y="255977"/>
                  </a:lnTo>
                  <a:lnTo>
                    <a:pt x="228855" y="251932"/>
                  </a:lnTo>
                  <a:lnTo>
                    <a:pt x="237434" y="246695"/>
                  </a:lnTo>
                  <a:lnTo>
                    <a:pt x="244847" y="240663"/>
                  </a:lnTo>
                  <a:lnTo>
                    <a:pt x="251482" y="234102"/>
                  </a:lnTo>
                  <a:lnTo>
                    <a:pt x="256752" y="227188"/>
                  </a:lnTo>
                  <a:lnTo>
                    <a:pt x="261112" y="220039"/>
                  </a:lnTo>
                  <a:lnTo>
                    <a:pt x="264865" y="212733"/>
                  </a:lnTo>
                  <a:lnTo>
                    <a:pt x="268214" y="204475"/>
                  </a:lnTo>
                  <a:lnTo>
                    <a:pt x="271294" y="195583"/>
                  </a:lnTo>
                  <a:lnTo>
                    <a:pt x="274193" y="186269"/>
                  </a:lnTo>
                  <a:lnTo>
                    <a:pt x="275279" y="176673"/>
                  </a:lnTo>
                  <a:lnTo>
                    <a:pt x="275157" y="166889"/>
                  </a:lnTo>
                  <a:lnTo>
                    <a:pt x="274229" y="156979"/>
                  </a:lnTo>
                  <a:lnTo>
                    <a:pt x="271916" y="147833"/>
                  </a:lnTo>
                  <a:lnTo>
                    <a:pt x="268682" y="139195"/>
                  </a:lnTo>
                  <a:lnTo>
                    <a:pt x="260572" y="121978"/>
                  </a:lnTo>
                  <a:lnTo>
                    <a:pt x="251324" y="103037"/>
                  </a:lnTo>
                  <a:lnTo>
                    <a:pt x="245639" y="94091"/>
                  </a:lnTo>
                  <a:lnTo>
                    <a:pt x="239310" y="85588"/>
                  </a:lnTo>
                  <a:lnTo>
                    <a:pt x="232551" y="77378"/>
                  </a:lnTo>
                  <a:lnTo>
                    <a:pt x="224658" y="69365"/>
                  </a:lnTo>
                  <a:lnTo>
                    <a:pt x="216009" y="61484"/>
                  </a:lnTo>
                  <a:lnTo>
                    <a:pt x="206857" y="53690"/>
                  </a:lnTo>
                  <a:lnTo>
                    <a:pt x="196522" y="46799"/>
                  </a:lnTo>
                  <a:lnTo>
                    <a:pt x="185398" y="40513"/>
                  </a:lnTo>
                  <a:lnTo>
                    <a:pt x="173750" y="34628"/>
                  </a:lnTo>
                  <a:lnTo>
                    <a:pt x="163444" y="29859"/>
                  </a:lnTo>
                  <a:lnTo>
                    <a:pt x="154033" y="25833"/>
                  </a:lnTo>
                  <a:lnTo>
                    <a:pt x="145220" y="22302"/>
                  </a:lnTo>
                  <a:lnTo>
                    <a:pt x="135957" y="19101"/>
                  </a:lnTo>
                  <a:lnTo>
                    <a:pt x="126395" y="16121"/>
                  </a:lnTo>
                  <a:lnTo>
                    <a:pt x="116634" y="13287"/>
                  </a:lnTo>
                  <a:lnTo>
                    <a:pt x="107587" y="11398"/>
                  </a:lnTo>
                  <a:lnTo>
                    <a:pt x="99015" y="10139"/>
                  </a:lnTo>
                  <a:lnTo>
                    <a:pt x="90761" y="9299"/>
                  </a:lnTo>
                  <a:lnTo>
                    <a:pt x="83565" y="8739"/>
                  </a:lnTo>
                  <a:lnTo>
                    <a:pt x="77074" y="8366"/>
                  </a:lnTo>
                  <a:lnTo>
                    <a:pt x="71053" y="8117"/>
                  </a:lnTo>
                  <a:lnTo>
                    <a:pt x="65346" y="8798"/>
                  </a:lnTo>
                  <a:lnTo>
                    <a:pt x="59848" y="10099"/>
                  </a:lnTo>
                  <a:lnTo>
                    <a:pt x="43772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SMARTInkAnnotation102"/>
            <p:cNvSpPr/>
            <p:nvPr/>
          </p:nvSpPr>
          <p:spPr>
            <a:xfrm>
              <a:off x="4800960" y="2918160"/>
              <a:ext cx="198000" cy="15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8121" h="15241">
                  <a:moveTo>
                    <a:pt x="0" y="15240"/>
                  </a:moveTo>
                  <a:lnTo>
                    <a:pt x="129575" y="15240"/>
                  </a:lnTo>
                  <a:lnTo>
                    <a:pt x="137184" y="14394"/>
                  </a:lnTo>
                  <a:lnTo>
                    <a:pt x="144795" y="12982"/>
                  </a:lnTo>
                  <a:lnTo>
                    <a:pt x="152411" y="11195"/>
                  </a:lnTo>
                  <a:lnTo>
                    <a:pt x="159181" y="10003"/>
                  </a:lnTo>
                  <a:lnTo>
                    <a:pt x="165388" y="9209"/>
                  </a:lnTo>
                  <a:lnTo>
                    <a:pt x="171218" y="8679"/>
                  </a:lnTo>
                  <a:lnTo>
                    <a:pt x="176799" y="7480"/>
                  </a:lnTo>
                  <a:lnTo>
                    <a:pt x="182212" y="5833"/>
                  </a:lnTo>
                  <a:lnTo>
                    <a:pt x="198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SMARTInkAnnotation103"/>
            <p:cNvSpPr/>
            <p:nvPr/>
          </p:nvSpPr>
          <p:spPr>
            <a:xfrm>
              <a:off x="5059800" y="2750760"/>
              <a:ext cx="152280" cy="226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52401" h="22861">
                  <a:moveTo>
                    <a:pt x="0" y="22860"/>
                  </a:moveTo>
                  <a:lnTo>
                    <a:pt x="21957" y="22860"/>
                  </a:lnTo>
                  <a:lnTo>
                    <a:pt x="26491" y="22013"/>
                  </a:lnTo>
                  <a:lnTo>
                    <a:pt x="31207" y="20602"/>
                  </a:lnTo>
                  <a:lnTo>
                    <a:pt x="36045" y="18815"/>
                  </a:lnTo>
                  <a:lnTo>
                    <a:pt x="41810" y="17623"/>
                  </a:lnTo>
                  <a:lnTo>
                    <a:pt x="48193" y="16829"/>
                  </a:lnTo>
                  <a:lnTo>
                    <a:pt x="54989" y="16299"/>
                  </a:lnTo>
                  <a:lnTo>
                    <a:pt x="62059" y="15946"/>
                  </a:lnTo>
                  <a:lnTo>
                    <a:pt x="76689" y="15554"/>
                  </a:lnTo>
                  <a:lnTo>
                    <a:pt x="84146" y="14603"/>
                  </a:lnTo>
                  <a:lnTo>
                    <a:pt x="91658" y="13122"/>
                  </a:lnTo>
                  <a:lnTo>
                    <a:pt x="99205" y="11288"/>
                  </a:lnTo>
                  <a:lnTo>
                    <a:pt x="105930" y="10065"/>
                  </a:lnTo>
                  <a:lnTo>
                    <a:pt x="112107" y="9250"/>
                  </a:lnTo>
                  <a:lnTo>
                    <a:pt x="117918" y="8707"/>
                  </a:lnTo>
                  <a:lnTo>
                    <a:pt x="122639" y="8345"/>
                  </a:lnTo>
                  <a:lnTo>
                    <a:pt x="126632" y="8103"/>
                  </a:lnTo>
                  <a:lnTo>
                    <a:pt x="130142" y="7942"/>
                  </a:lnTo>
                  <a:lnTo>
                    <a:pt x="134175" y="6988"/>
                  </a:lnTo>
                  <a:lnTo>
                    <a:pt x="138556" y="5506"/>
                  </a:lnTo>
                  <a:lnTo>
                    <a:pt x="1524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SMARTInkAnnotation104"/>
            <p:cNvSpPr/>
            <p:nvPr/>
          </p:nvSpPr>
          <p:spPr>
            <a:xfrm>
              <a:off x="5280840" y="2705040"/>
              <a:ext cx="37800" cy="297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8098" h="297181">
                  <a:moveTo>
                    <a:pt x="38097" y="0"/>
                  </a:moveTo>
                  <a:lnTo>
                    <a:pt x="38097" y="4045"/>
                  </a:lnTo>
                  <a:lnTo>
                    <a:pt x="37250" y="6084"/>
                  </a:lnTo>
                  <a:lnTo>
                    <a:pt x="35839" y="8289"/>
                  </a:lnTo>
                  <a:lnTo>
                    <a:pt x="31536" y="13867"/>
                  </a:lnTo>
                  <a:lnTo>
                    <a:pt x="30336" y="16018"/>
                  </a:lnTo>
                  <a:lnTo>
                    <a:pt x="24603" y="27136"/>
                  </a:lnTo>
                  <a:lnTo>
                    <a:pt x="19964" y="36332"/>
                  </a:lnTo>
                  <a:lnTo>
                    <a:pt x="18388" y="41154"/>
                  </a:lnTo>
                  <a:lnTo>
                    <a:pt x="17337" y="46063"/>
                  </a:lnTo>
                  <a:lnTo>
                    <a:pt x="16638" y="51028"/>
                  </a:lnTo>
                  <a:lnTo>
                    <a:pt x="15323" y="56879"/>
                  </a:lnTo>
                  <a:lnTo>
                    <a:pt x="13601" y="63319"/>
                  </a:lnTo>
                  <a:lnTo>
                    <a:pt x="11606" y="70153"/>
                  </a:lnTo>
                  <a:lnTo>
                    <a:pt x="10277" y="77249"/>
                  </a:lnTo>
                  <a:lnTo>
                    <a:pt x="9390" y="84519"/>
                  </a:lnTo>
                  <a:lnTo>
                    <a:pt x="8799" y="91906"/>
                  </a:lnTo>
                  <a:lnTo>
                    <a:pt x="7558" y="100218"/>
                  </a:lnTo>
                  <a:lnTo>
                    <a:pt x="5884" y="109145"/>
                  </a:lnTo>
                  <a:lnTo>
                    <a:pt x="3921" y="118483"/>
                  </a:lnTo>
                  <a:lnTo>
                    <a:pt x="2613" y="127249"/>
                  </a:lnTo>
                  <a:lnTo>
                    <a:pt x="1742" y="135633"/>
                  </a:lnTo>
                  <a:lnTo>
                    <a:pt x="1160" y="143762"/>
                  </a:lnTo>
                  <a:lnTo>
                    <a:pt x="772" y="151721"/>
                  </a:lnTo>
                  <a:lnTo>
                    <a:pt x="342" y="167338"/>
                  </a:lnTo>
                  <a:lnTo>
                    <a:pt x="0" y="262559"/>
                  </a:lnTo>
                  <a:lnTo>
                    <a:pt x="845" y="268173"/>
                  </a:lnTo>
                  <a:lnTo>
                    <a:pt x="2256" y="273609"/>
                  </a:lnTo>
                  <a:lnTo>
                    <a:pt x="6558" y="286409"/>
                  </a:lnTo>
                  <a:lnTo>
                    <a:pt x="7758" y="288306"/>
                  </a:lnTo>
                  <a:lnTo>
                    <a:pt x="9404" y="290417"/>
                  </a:lnTo>
                  <a:lnTo>
                    <a:pt x="15237" y="297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SMARTInkAnnotation105"/>
            <p:cNvSpPr/>
            <p:nvPr/>
          </p:nvSpPr>
          <p:spPr>
            <a:xfrm>
              <a:off x="5441040" y="2728800"/>
              <a:ext cx="190440" cy="2494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190501" h="249814">
                  <a:moveTo>
                    <a:pt x="0" y="29297"/>
                  </a:moveTo>
                  <a:lnTo>
                    <a:pt x="0" y="25252"/>
                  </a:lnTo>
                  <a:lnTo>
                    <a:pt x="846" y="24060"/>
                  </a:lnTo>
                  <a:lnTo>
                    <a:pt x="2258" y="23266"/>
                  </a:lnTo>
                  <a:lnTo>
                    <a:pt x="4045" y="22736"/>
                  </a:lnTo>
                  <a:lnTo>
                    <a:pt x="8289" y="19890"/>
                  </a:lnTo>
                  <a:lnTo>
                    <a:pt x="13844" y="15803"/>
                  </a:lnTo>
                  <a:lnTo>
                    <a:pt x="17696" y="13528"/>
                  </a:lnTo>
                  <a:lnTo>
                    <a:pt x="21957" y="11164"/>
                  </a:lnTo>
                  <a:lnTo>
                    <a:pt x="26491" y="9589"/>
                  </a:lnTo>
                  <a:lnTo>
                    <a:pt x="31207" y="8538"/>
                  </a:lnTo>
                  <a:lnTo>
                    <a:pt x="36045" y="7838"/>
                  </a:lnTo>
                  <a:lnTo>
                    <a:pt x="41810" y="6524"/>
                  </a:lnTo>
                  <a:lnTo>
                    <a:pt x="48193" y="4802"/>
                  </a:lnTo>
                  <a:lnTo>
                    <a:pt x="54989" y="2807"/>
                  </a:lnTo>
                  <a:lnTo>
                    <a:pt x="62059" y="1477"/>
                  </a:lnTo>
                  <a:lnTo>
                    <a:pt x="69313" y="590"/>
                  </a:lnTo>
                  <a:lnTo>
                    <a:pt x="76689" y="0"/>
                  </a:lnTo>
                  <a:lnTo>
                    <a:pt x="84146" y="452"/>
                  </a:lnTo>
                  <a:lnTo>
                    <a:pt x="91658" y="1600"/>
                  </a:lnTo>
                  <a:lnTo>
                    <a:pt x="99205" y="3213"/>
                  </a:lnTo>
                  <a:lnTo>
                    <a:pt x="105930" y="4288"/>
                  </a:lnTo>
                  <a:lnTo>
                    <a:pt x="112107" y="5004"/>
                  </a:lnTo>
                  <a:lnTo>
                    <a:pt x="117918" y="5482"/>
                  </a:lnTo>
                  <a:lnTo>
                    <a:pt x="123485" y="6647"/>
                  </a:lnTo>
                  <a:lnTo>
                    <a:pt x="128891" y="8270"/>
                  </a:lnTo>
                  <a:lnTo>
                    <a:pt x="134187" y="10199"/>
                  </a:lnTo>
                  <a:lnTo>
                    <a:pt x="138564" y="12332"/>
                  </a:lnTo>
                  <a:lnTo>
                    <a:pt x="142330" y="14601"/>
                  </a:lnTo>
                  <a:lnTo>
                    <a:pt x="145686" y="16959"/>
                  </a:lnTo>
                  <a:lnTo>
                    <a:pt x="148771" y="19379"/>
                  </a:lnTo>
                  <a:lnTo>
                    <a:pt x="154456" y="24325"/>
                  </a:lnTo>
                  <a:lnTo>
                    <a:pt x="155464" y="26829"/>
                  </a:lnTo>
                  <a:lnTo>
                    <a:pt x="155289" y="29345"/>
                  </a:lnTo>
                  <a:lnTo>
                    <a:pt x="152838" y="35245"/>
                  </a:lnTo>
                  <a:lnTo>
                    <a:pt x="148925" y="43512"/>
                  </a:lnTo>
                  <a:lnTo>
                    <a:pt x="145850" y="48934"/>
                  </a:lnTo>
                  <a:lnTo>
                    <a:pt x="142107" y="55088"/>
                  </a:lnTo>
                  <a:lnTo>
                    <a:pt x="137918" y="61731"/>
                  </a:lnTo>
                  <a:lnTo>
                    <a:pt x="132585" y="67853"/>
                  </a:lnTo>
                  <a:lnTo>
                    <a:pt x="126491" y="73628"/>
                  </a:lnTo>
                  <a:lnTo>
                    <a:pt x="119886" y="79171"/>
                  </a:lnTo>
                  <a:lnTo>
                    <a:pt x="112945" y="85406"/>
                  </a:lnTo>
                  <a:lnTo>
                    <a:pt x="98458" y="99108"/>
                  </a:lnTo>
                  <a:lnTo>
                    <a:pt x="34509" y="162444"/>
                  </a:lnTo>
                  <a:lnTo>
                    <a:pt x="29780" y="168862"/>
                  </a:lnTo>
                  <a:lnTo>
                    <a:pt x="25780" y="175680"/>
                  </a:lnTo>
                  <a:lnTo>
                    <a:pt x="22266" y="182766"/>
                  </a:lnTo>
                  <a:lnTo>
                    <a:pt x="19078" y="188336"/>
                  </a:lnTo>
                  <a:lnTo>
                    <a:pt x="16106" y="192896"/>
                  </a:lnTo>
                  <a:lnTo>
                    <a:pt x="13277" y="196783"/>
                  </a:lnTo>
                  <a:lnTo>
                    <a:pt x="12238" y="201914"/>
                  </a:lnTo>
                  <a:lnTo>
                    <a:pt x="12392" y="207875"/>
                  </a:lnTo>
                  <a:lnTo>
                    <a:pt x="13341" y="214389"/>
                  </a:lnTo>
                  <a:lnTo>
                    <a:pt x="14821" y="219578"/>
                  </a:lnTo>
                  <a:lnTo>
                    <a:pt x="16654" y="223885"/>
                  </a:lnTo>
                  <a:lnTo>
                    <a:pt x="18722" y="227602"/>
                  </a:lnTo>
                  <a:lnTo>
                    <a:pt x="21795" y="230927"/>
                  </a:lnTo>
                  <a:lnTo>
                    <a:pt x="25538" y="233990"/>
                  </a:lnTo>
                  <a:lnTo>
                    <a:pt x="29724" y="236879"/>
                  </a:lnTo>
                  <a:lnTo>
                    <a:pt x="34210" y="239652"/>
                  </a:lnTo>
                  <a:lnTo>
                    <a:pt x="38893" y="242347"/>
                  </a:lnTo>
                  <a:lnTo>
                    <a:pt x="43709" y="244990"/>
                  </a:lnTo>
                  <a:lnTo>
                    <a:pt x="50306" y="246752"/>
                  </a:lnTo>
                  <a:lnTo>
                    <a:pt x="58090" y="247927"/>
                  </a:lnTo>
                  <a:lnTo>
                    <a:pt x="66667" y="248711"/>
                  </a:lnTo>
                  <a:lnTo>
                    <a:pt x="74925" y="249233"/>
                  </a:lnTo>
                  <a:lnTo>
                    <a:pt x="90873" y="249813"/>
                  </a:lnTo>
                  <a:lnTo>
                    <a:pt x="99529" y="249121"/>
                  </a:lnTo>
                  <a:lnTo>
                    <a:pt x="108686" y="247813"/>
                  </a:lnTo>
                  <a:lnTo>
                    <a:pt x="118178" y="246094"/>
                  </a:lnTo>
                  <a:lnTo>
                    <a:pt x="127892" y="244102"/>
                  </a:lnTo>
                  <a:lnTo>
                    <a:pt x="147716" y="239630"/>
                  </a:lnTo>
                  <a:lnTo>
                    <a:pt x="156897" y="237252"/>
                  </a:lnTo>
                  <a:lnTo>
                    <a:pt x="165558" y="234820"/>
                  </a:lnTo>
                  <a:lnTo>
                    <a:pt x="190500" y="2274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SMARTInkAnnotation106"/>
            <p:cNvSpPr/>
            <p:nvPr/>
          </p:nvSpPr>
          <p:spPr>
            <a:xfrm>
              <a:off x="5585760" y="2552400"/>
              <a:ext cx="380880" cy="7542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754200"/>
                <a:gd name="textAreaBottom" fmla="*/ 754560 h 754200"/>
              </a:gdLst>
              <a:ahLst/>
              <a:rect l="textAreaLeft" t="textAreaTop" r="textAreaRight" b="textAreaBottom"/>
              <a:pathLst>
                <a:path w="380857" h="754188">
                  <a:moveTo>
                    <a:pt x="0" y="15212"/>
                  </a:moveTo>
                  <a:lnTo>
                    <a:pt x="8090" y="15212"/>
                  </a:lnTo>
                  <a:lnTo>
                    <a:pt x="16578" y="12954"/>
                  </a:lnTo>
                  <a:lnTo>
                    <a:pt x="21212" y="11167"/>
                  </a:lnTo>
                  <a:lnTo>
                    <a:pt x="27688" y="9975"/>
                  </a:lnTo>
                  <a:lnTo>
                    <a:pt x="35392" y="9181"/>
                  </a:lnTo>
                  <a:lnTo>
                    <a:pt x="43914" y="8652"/>
                  </a:lnTo>
                  <a:lnTo>
                    <a:pt x="62415" y="8063"/>
                  </a:lnTo>
                  <a:lnTo>
                    <a:pt x="72090" y="7906"/>
                  </a:lnTo>
                  <a:lnTo>
                    <a:pt x="81927" y="6955"/>
                  </a:lnTo>
                  <a:lnTo>
                    <a:pt x="91871" y="5474"/>
                  </a:lnTo>
                  <a:lnTo>
                    <a:pt x="101887" y="3640"/>
                  </a:lnTo>
                  <a:lnTo>
                    <a:pt x="112798" y="2417"/>
                  </a:lnTo>
                  <a:lnTo>
                    <a:pt x="124305" y="1602"/>
                  </a:lnTo>
                  <a:lnTo>
                    <a:pt x="136210" y="1059"/>
                  </a:lnTo>
                  <a:lnTo>
                    <a:pt x="160727" y="455"/>
                  </a:lnTo>
                  <a:lnTo>
                    <a:pt x="244917" y="0"/>
                  </a:lnTo>
                  <a:lnTo>
                    <a:pt x="254717" y="838"/>
                  </a:lnTo>
                  <a:lnTo>
                    <a:pt x="263792" y="2243"/>
                  </a:lnTo>
                  <a:lnTo>
                    <a:pt x="272381" y="4026"/>
                  </a:lnTo>
                  <a:lnTo>
                    <a:pt x="281494" y="5215"/>
                  </a:lnTo>
                  <a:lnTo>
                    <a:pt x="290956" y="6007"/>
                  </a:lnTo>
                  <a:lnTo>
                    <a:pt x="300651" y="6536"/>
                  </a:lnTo>
                  <a:lnTo>
                    <a:pt x="308807" y="7735"/>
                  </a:lnTo>
                  <a:lnTo>
                    <a:pt x="315938" y="9381"/>
                  </a:lnTo>
                  <a:lnTo>
                    <a:pt x="329224" y="13467"/>
                  </a:lnTo>
                  <a:lnTo>
                    <a:pt x="343595" y="18105"/>
                  </a:lnTo>
                  <a:lnTo>
                    <a:pt x="353933" y="22989"/>
                  </a:lnTo>
                  <a:lnTo>
                    <a:pt x="357876" y="25477"/>
                  </a:lnTo>
                  <a:lnTo>
                    <a:pt x="364514" y="32756"/>
                  </a:lnTo>
                  <a:lnTo>
                    <a:pt x="367469" y="37069"/>
                  </a:lnTo>
                  <a:lnTo>
                    <a:pt x="370753" y="46375"/>
                  </a:lnTo>
                  <a:lnTo>
                    <a:pt x="372602" y="63392"/>
                  </a:lnTo>
                  <a:lnTo>
                    <a:pt x="372188" y="78112"/>
                  </a:lnTo>
                  <a:lnTo>
                    <a:pt x="369182" y="95943"/>
                  </a:lnTo>
                  <a:lnTo>
                    <a:pt x="367281" y="115157"/>
                  </a:lnTo>
                  <a:lnTo>
                    <a:pt x="364742" y="135832"/>
                  </a:lnTo>
                  <a:lnTo>
                    <a:pt x="354640" y="171272"/>
                  </a:lnTo>
                  <a:lnTo>
                    <a:pt x="351574" y="183599"/>
                  </a:lnTo>
                  <a:lnTo>
                    <a:pt x="348682" y="196050"/>
                  </a:lnTo>
                  <a:lnTo>
                    <a:pt x="345062" y="208584"/>
                  </a:lnTo>
                  <a:lnTo>
                    <a:pt x="340955" y="221173"/>
                  </a:lnTo>
                  <a:lnTo>
                    <a:pt x="336523" y="233800"/>
                  </a:lnTo>
                  <a:lnTo>
                    <a:pt x="332722" y="247297"/>
                  </a:lnTo>
                  <a:lnTo>
                    <a:pt x="329341" y="261375"/>
                  </a:lnTo>
                  <a:lnTo>
                    <a:pt x="326241" y="275841"/>
                  </a:lnTo>
                  <a:lnTo>
                    <a:pt x="320538" y="305461"/>
                  </a:lnTo>
                  <a:lnTo>
                    <a:pt x="317832" y="320471"/>
                  </a:lnTo>
                  <a:lnTo>
                    <a:pt x="314335" y="334711"/>
                  </a:lnTo>
                  <a:lnTo>
                    <a:pt x="310310" y="348438"/>
                  </a:lnTo>
                  <a:lnTo>
                    <a:pt x="305933" y="361823"/>
                  </a:lnTo>
                  <a:lnTo>
                    <a:pt x="302169" y="375826"/>
                  </a:lnTo>
                  <a:lnTo>
                    <a:pt x="298812" y="390241"/>
                  </a:lnTo>
                  <a:lnTo>
                    <a:pt x="295729" y="404931"/>
                  </a:lnTo>
                  <a:lnTo>
                    <a:pt x="293672" y="418958"/>
                  </a:lnTo>
                  <a:lnTo>
                    <a:pt x="292301" y="432543"/>
                  </a:lnTo>
                  <a:lnTo>
                    <a:pt x="291387" y="445833"/>
                  </a:lnTo>
                  <a:lnTo>
                    <a:pt x="289932" y="459773"/>
                  </a:lnTo>
                  <a:lnTo>
                    <a:pt x="286056" y="488808"/>
                  </a:lnTo>
                  <a:lnTo>
                    <a:pt x="285531" y="502816"/>
                  </a:lnTo>
                  <a:lnTo>
                    <a:pt x="286027" y="516388"/>
                  </a:lnTo>
                  <a:lnTo>
                    <a:pt x="287205" y="529669"/>
                  </a:lnTo>
                  <a:lnTo>
                    <a:pt x="287990" y="542757"/>
                  </a:lnTo>
                  <a:lnTo>
                    <a:pt x="288863" y="568587"/>
                  </a:lnTo>
                  <a:lnTo>
                    <a:pt x="291508" y="591921"/>
                  </a:lnTo>
                  <a:lnTo>
                    <a:pt x="296352" y="613581"/>
                  </a:lnTo>
                  <a:lnTo>
                    <a:pt x="304150" y="634496"/>
                  </a:lnTo>
                  <a:lnTo>
                    <a:pt x="311002" y="652823"/>
                  </a:lnTo>
                  <a:lnTo>
                    <a:pt x="317717" y="670281"/>
                  </a:lnTo>
                  <a:lnTo>
                    <a:pt x="326345" y="689329"/>
                  </a:lnTo>
                  <a:lnTo>
                    <a:pt x="335825" y="704569"/>
                  </a:lnTo>
                  <a:lnTo>
                    <a:pt x="345683" y="716140"/>
                  </a:lnTo>
                  <a:lnTo>
                    <a:pt x="355708" y="724104"/>
                  </a:lnTo>
                  <a:lnTo>
                    <a:pt x="363550" y="732725"/>
                  </a:lnTo>
                  <a:lnTo>
                    <a:pt x="372726" y="744840"/>
                  </a:lnTo>
                  <a:lnTo>
                    <a:pt x="380856" y="754187"/>
                  </a:lnTo>
                  <a:lnTo>
                    <a:pt x="376912" y="750258"/>
                  </a:lnTo>
                  <a:lnTo>
                    <a:pt x="374889" y="749082"/>
                  </a:lnTo>
                  <a:lnTo>
                    <a:pt x="363299" y="744939"/>
                  </a:lnTo>
                  <a:lnTo>
                    <a:pt x="353659" y="740855"/>
                  </a:lnTo>
                  <a:lnTo>
                    <a:pt x="340909" y="736218"/>
                  </a:lnTo>
                  <a:lnTo>
                    <a:pt x="333106" y="733796"/>
                  </a:lnTo>
                  <a:lnTo>
                    <a:pt x="315405" y="728847"/>
                  </a:lnTo>
                  <a:lnTo>
                    <a:pt x="286399" y="721301"/>
                  </a:lnTo>
                  <a:lnTo>
                    <a:pt x="264167" y="716238"/>
                  </a:lnTo>
                  <a:lnTo>
                    <a:pt x="241020" y="711166"/>
                  </a:lnTo>
                  <a:lnTo>
                    <a:pt x="219445" y="706089"/>
                  </a:lnTo>
                  <a:lnTo>
                    <a:pt x="208103" y="704397"/>
                  </a:lnTo>
                  <a:lnTo>
                    <a:pt x="196309" y="703269"/>
                  </a:lnTo>
                  <a:lnTo>
                    <a:pt x="184213" y="702517"/>
                  </a:lnTo>
                  <a:lnTo>
                    <a:pt x="172761" y="701168"/>
                  </a:lnTo>
                  <a:lnTo>
                    <a:pt x="161741" y="699423"/>
                  </a:lnTo>
                  <a:lnTo>
                    <a:pt x="151007" y="697413"/>
                  </a:lnTo>
                  <a:lnTo>
                    <a:pt x="139619" y="696073"/>
                  </a:lnTo>
                  <a:lnTo>
                    <a:pt x="127792" y="695179"/>
                  </a:lnTo>
                  <a:lnTo>
                    <a:pt x="105057" y="694186"/>
                  </a:lnTo>
                  <a:lnTo>
                    <a:pt x="86485" y="693745"/>
                  </a:lnTo>
                  <a:lnTo>
                    <a:pt x="77976" y="692781"/>
                  </a:lnTo>
                  <a:lnTo>
                    <a:pt x="69765" y="691291"/>
                  </a:lnTo>
                  <a:lnTo>
                    <a:pt x="61750" y="689451"/>
                  </a:lnTo>
                  <a:lnTo>
                    <a:pt x="54713" y="688225"/>
                  </a:lnTo>
                  <a:lnTo>
                    <a:pt x="48329" y="687407"/>
                  </a:lnTo>
                  <a:lnTo>
                    <a:pt x="37566" y="686499"/>
                  </a:lnTo>
                  <a:lnTo>
                    <a:pt x="33510" y="686257"/>
                  </a:lnTo>
                  <a:lnTo>
                    <a:pt x="22860" y="6857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SMARTInkAnnotation107"/>
            <p:cNvSpPr/>
            <p:nvPr/>
          </p:nvSpPr>
          <p:spPr>
            <a:xfrm>
              <a:off x="382680" y="2334960"/>
              <a:ext cx="623160" cy="918360"/>
            </a:xfrm>
            <a:custGeom>
              <a:avLst/>
              <a:gdLst>
                <a:gd name="textAreaLeft" fmla="*/ 0 w 623160"/>
                <a:gd name="textAreaRight" fmla="*/ 623520 w 62316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623182" h="918543">
                  <a:moveTo>
                    <a:pt x="623181" y="42255"/>
                  </a:moveTo>
                  <a:lnTo>
                    <a:pt x="623181" y="31649"/>
                  </a:lnTo>
                  <a:lnTo>
                    <a:pt x="622335" y="29257"/>
                  </a:lnTo>
                  <a:lnTo>
                    <a:pt x="619136" y="24343"/>
                  </a:lnTo>
                  <a:lnTo>
                    <a:pt x="612575" y="16816"/>
                  </a:lnTo>
                  <a:lnTo>
                    <a:pt x="609337" y="15135"/>
                  </a:lnTo>
                  <a:lnTo>
                    <a:pt x="591974" y="10181"/>
                  </a:lnTo>
                  <a:lnTo>
                    <a:pt x="587136" y="8172"/>
                  </a:lnTo>
                  <a:lnTo>
                    <a:pt x="572730" y="5940"/>
                  </a:lnTo>
                  <a:lnTo>
                    <a:pt x="555038" y="4102"/>
                  </a:lnTo>
                  <a:lnTo>
                    <a:pt x="535887" y="462"/>
                  </a:lnTo>
                  <a:lnTo>
                    <a:pt x="525191" y="0"/>
                  </a:lnTo>
                  <a:lnTo>
                    <a:pt x="513828" y="538"/>
                  </a:lnTo>
                  <a:lnTo>
                    <a:pt x="502019" y="1743"/>
                  </a:lnTo>
                  <a:lnTo>
                    <a:pt x="488220" y="2548"/>
                  </a:lnTo>
                  <a:lnTo>
                    <a:pt x="457083" y="3440"/>
                  </a:lnTo>
                  <a:lnTo>
                    <a:pt x="441329" y="4525"/>
                  </a:lnTo>
                  <a:lnTo>
                    <a:pt x="425746" y="6095"/>
                  </a:lnTo>
                  <a:lnTo>
                    <a:pt x="377286" y="12350"/>
                  </a:lnTo>
                  <a:lnTo>
                    <a:pt x="360191" y="14698"/>
                  </a:lnTo>
                  <a:lnTo>
                    <a:pt x="343714" y="17957"/>
                  </a:lnTo>
                  <a:lnTo>
                    <a:pt x="327650" y="21823"/>
                  </a:lnTo>
                  <a:lnTo>
                    <a:pt x="261322" y="40194"/>
                  </a:lnTo>
                  <a:lnTo>
                    <a:pt x="244781" y="44268"/>
                  </a:lnTo>
                  <a:lnTo>
                    <a:pt x="228674" y="47830"/>
                  </a:lnTo>
                  <a:lnTo>
                    <a:pt x="212857" y="51052"/>
                  </a:lnTo>
                  <a:lnTo>
                    <a:pt x="197231" y="54893"/>
                  </a:lnTo>
                  <a:lnTo>
                    <a:pt x="181735" y="59147"/>
                  </a:lnTo>
                  <a:lnTo>
                    <a:pt x="166323" y="63676"/>
                  </a:lnTo>
                  <a:lnTo>
                    <a:pt x="151816" y="68389"/>
                  </a:lnTo>
                  <a:lnTo>
                    <a:pt x="137911" y="73224"/>
                  </a:lnTo>
                  <a:lnTo>
                    <a:pt x="124408" y="78141"/>
                  </a:lnTo>
                  <a:lnTo>
                    <a:pt x="112865" y="83112"/>
                  </a:lnTo>
                  <a:lnTo>
                    <a:pt x="102631" y="88120"/>
                  </a:lnTo>
                  <a:lnTo>
                    <a:pt x="83638" y="98199"/>
                  </a:lnTo>
                  <a:lnTo>
                    <a:pt x="63909" y="108324"/>
                  </a:lnTo>
                  <a:lnTo>
                    <a:pt x="48367" y="118468"/>
                  </a:lnTo>
                  <a:lnTo>
                    <a:pt x="35815" y="129467"/>
                  </a:lnTo>
                  <a:lnTo>
                    <a:pt x="20075" y="149093"/>
                  </a:lnTo>
                  <a:lnTo>
                    <a:pt x="9673" y="166856"/>
                  </a:lnTo>
                  <a:lnTo>
                    <a:pt x="2075" y="186983"/>
                  </a:lnTo>
                  <a:lnTo>
                    <a:pt x="0" y="198583"/>
                  </a:lnTo>
                  <a:lnTo>
                    <a:pt x="1336" y="211641"/>
                  </a:lnTo>
                  <a:lnTo>
                    <a:pt x="4591" y="235530"/>
                  </a:lnTo>
                  <a:lnTo>
                    <a:pt x="7813" y="264057"/>
                  </a:lnTo>
                  <a:lnTo>
                    <a:pt x="16487" y="308082"/>
                  </a:lnTo>
                  <a:lnTo>
                    <a:pt x="23621" y="330298"/>
                  </a:lnTo>
                  <a:lnTo>
                    <a:pt x="31590" y="352308"/>
                  </a:lnTo>
                  <a:lnTo>
                    <a:pt x="37954" y="376200"/>
                  </a:lnTo>
                  <a:lnTo>
                    <a:pt x="43605" y="403189"/>
                  </a:lnTo>
                  <a:lnTo>
                    <a:pt x="51546" y="446942"/>
                  </a:lnTo>
                  <a:lnTo>
                    <a:pt x="66909" y="535370"/>
                  </a:lnTo>
                  <a:lnTo>
                    <a:pt x="71149" y="562830"/>
                  </a:lnTo>
                  <a:lnTo>
                    <a:pt x="72280" y="577265"/>
                  </a:lnTo>
                  <a:lnTo>
                    <a:pt x="73033" y="591969"/>
                  </a:lnTo>
                  <a:lnTo>
                    <a:pt x="73871" y="619594"/>
                  </a:lnTo>
                  <a:lnTo>
                    <a:pt x="74453" y="685487"/>
                  </a:lnTo>
                  <a:lnTo>
                    <a:pt x="74529" y="750860"/>
                  </a:lnTo>
                  <a:lnTo>
                    <a:pt x="70020" y="772621"/>
                  </a:lnTo>
                  <a:lnTo>
                    <a:pt x="64065" y="792736"/>
                  </a:lnTo>
                  <a:lnTo>
                    <a:pt x="59866" y="819186"/>
                  </a:lnTo>
                  <a:lnTo>
                    <a:pt x="53636" y="846403"/>
                  </a:lnTo>
                  <a:lnTo>
                    <a:pt x="43945" y="871627"/>
                  </a:lnTo>
                  <a:lnTo>
                    <a:pt x="39776" y="882458"/>
                  </a:lnTo>
                  <a:lnTo>
                    <a:pt x="36583" y="897229"/>
                  </a:lnTo>
                  <a:lnTo>
                    <a:pt x="30605" y="910234"/>
                  </a:lnTo>
                  <a:lnTo>
                    <a:pt x="29173" y="916911"/>
                  </a:lnTo>
                  <a:lnTo>
                    <a:pt x="28209" y="917459"/>
                  </a:lnTo>
                  <a:lnTo>
                    <a:pt x="24880" y="918068"/>
                  </a:lnTo>
                  <a:lnTo>
                    <a:pt x="24500" y="918230"/>
                  </a:lnTo>
                  <a:lnTo>
                    <a:pt x="28085" y="918512"/>
                  </a:lnTo>
                  <a:lnTo>
                    <a:pt x="32648" y="918542"/>
                  </a:lnTo>
                  <a:lnTo>
                    <a:pt x="34759" y="917700"/>
                  </a:lnTo>
                  <a:lnTo>
                    <a:pt x="39362" y="914506"/>
                  </a:lnTo>
                  <a:lnTo>
                    <a:pt x="42622" y="913316"/>
                  </a:lnTo>
                  <a:lnTo>
                    <a:pt x="56146" y="911640"/>
                  </a:lnTo>
                  <a:lnTo>
                    <a:pt x="68906" y="911248"/>
                  </a:lnTo>
                  <a:lnTo>
                    <a:pt x="83043" y="908816"/>
                  </a:lnTo>
                  <a:lnTo>
                    <a:pt x="99486" y="904913"/>
                  </a:lnTo>
                  <a:lnTo>
                    <a:pt x="120906" y="900356"/>
                  </a:lnTo>
                  <a:lnTo>
                    <a:pt x="131697" y="898802"/>
                  </a:lnTo>
                  <a:lnTo>
                    <a:pt x="142279" y="897767"/>
                  </a:lnTo>
                  <a:lnTo>
                    <a:pt x="152719" y="897076"/>
                  </a:lnTo>
                  <a:lnTo>
                    <a:pt x="163067" y="896616"/>
                  </a:lnTo>
                  <a:lnTo>
                    <a:pt x="183595" y="896104"/>
                  </a:lnTo>
                  <a:lnTo>
                    <a:pt x="193810" y="895121"/>
                  </a:lnTo>
                  <a:lnTo>
                    <a:pt x="204007" y="893619"/>
                  </a:lnTo>
                  <a:lnTo>
                    <a:pt x="214192" y="891771"/>
                  </a:lnTo>
                  <a:lnTo>
                    <a:pt x="224368" y="891386"/>
                  </a:lnTo>
                  <a:lnTo>
                    <a:pt x="234539" y="891975"/>
                  </a:lnTo>
                  <a:lnTo>
                    <a:pt x="244706" y="893215"/>
                  </a:lnTo>
                  <a:lnTo>
                    <a:pt x="254871" y="894042"/>
                  </a:lnTo>
                  <a:lnTo>
                    <a:pt x="265035" y="894593"/>
                  </a:lnTo>
                  <a:lnTo>
                    <a:pt x="291004" y="895368"/>
                  </a:lnTo>
                  <a:lnTo>
                    <a:pt x="303673" y="896397"/>
                  </a:lnTo>
                  <a:lnTo>
                    <a:pt x="320326" y="900889"/>
                  </a:lnTo>
                  <a:lnTo>
                    <a:pt x="338866" y="902835"/>
                  </a:lnTo>
                  <a:lnTo>
                    <a:pt x="348861" y="9033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SMARTInkAnnotation108"/>
            <p:cNvSpPr/>
            <p:nvPr/>
          </p:nvSpPr>
          <p:spPr>
            <a:xfrm>
              <a:off x="6012360" y="2926080"/>
              <a:ext cx="106560" cy="75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6681" h="7621">
                  <a:moveTo>
                    <a:pt x="0" y="7620"/>
                  </a:moveTo>
                  <a:lnTo>
                    <a:pt x="4045" y="3575"/>
                  </a:lnTo>
                  <a:lnTo>
                    <a:pt x="6931" y="2383"/>
                  </a:lnTo>
                  <a:lnTo>
                    <a:pt x="10547" y="1589"/>
                  </a:lnTo>
                  <a:lnTo>
                    <a:pt x="14651" y="1059"/>
                  </a:lnTo>
                  <a:lnTo>
                    <a:pt x="19928" y="706"/>
                  </a:lnTo>
                  <a:lnTo>
                    <a:pt x="25985" y="471"/>
                  </a:lnTo>
                  <a:lnTo>
                    <a:pt x="46646" y="139"/>
                  </a:lnTo>
                  <a:lnTo>
                    <a:pt x="1066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SMARTInkAnnotation109"/>
            <p:cNvSpPr/>
            <p:nvPr/>
          </p:nvSpPr>
          <p:spPr>
            <a:xfrm>
              <a:off x="6012720" y="2948760"/>
              <a:ext cx="106200" cy="11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06367" h="11949">
                  <a:moveTo>
                    <a:pt x="7306" y="0"/>
                  </a:moveTo>
                  <a:lnTo>
                    <a:pt x="745" y="0"/>
                  </a:lnTo>
                  <a:lnTo>
                    <a:pt x="392" y="847"/>
                  </a:lnTo>
                  <a:lnTo>
                    <a:pt x="157" y="2258"/>
                  </a:lnTo>
                  <a:lnTo>
                    <a:pt x="0" y="4045"/>
                  </a:lnTo>
                  <a:lnTo>
                    <a:pt x="742" y="5237"/>
                  </a:lnTo>
                  <a:lnTo>
                    <a:pt x="2084" y="6031"/>
                  </a:lnTo>
                  <a:lnTo>
                    <a:pt x="3825" y="6561"/>
                  </a:lnTo>
                  <a:lnTo>
                    <a:pt x="5832" y="6914"/>
                  </a:lnTo>
                  <a:lnTo>
                    <a:pt x="8016" y="7150"/>
                  </a:lnTo>
                  <a:lnTo>
                    <a:pt x="10320" y="7306"/>
                  </a:lnTo>
                  <a:lnTo>
                    <a:pt x="13549" y="8257"/>
                  </a:lnTo>
                  <a:lnTo>
                    <a:pt x="17395" y="9738"/>
                  </a:lnTo>
                  <a:lnTo>
                    <a:pt x="21652" y="11573"/>
                  </a:lnTo>
                  <a:lnTo>
                    <a:pt x="27030" y="11948"/>
                  </a:lnTo>
                  <a:lnTo>
                    <a:pt x="33155" y="11352"/>
                  </a:lnTo>
                  <a:lnTo>
                    <a:pt x="39779" y="10108"/>
                  </a:lnTo>
                  <a:lnTo>
                    <a:pt x="47581" y="9279"/>
                  </a:lnTo>
                  <a:lnTo>
                    <a:pt x="56170" y="8726"/>
                  </a:lnTo>
                  <a:lnTo>
                    <a:pt x="73896" y="8111"/>
                  </a:lnTo>
                  <a:lnTo>
                    <a:pt x="106366" y="7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SMARTInkAnnotation110"/>
            <p:cNvSpPr/>
            <p:nvPr/>
          </p:nvSpPr>
          <p:spPr>
            <a:xfrm>
              <a:off x="6318360" y="2514600"/>
              <a:ext cx="364680" cy="776520"/>
            </a:xfrm>
            <a:custGeom>
              <a:avLst/>
              <a:gdLst>
                <a:gd name="textAreaLeft" fmla="*/ 0 w 364680"/>
                <a:gd name="textAreaRight" fmla="*/ 364680 w 36468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364693" h="776772">
                  <a:moveTo>
                    <a:pt x="341833" y="15139"/>
                  </a:moveTo>
                  <a:lnTo>
                    <a:pt x="330481" y="15139"/>
                  </a:lnTo>
                  <a:lnTo>
                    <a:pt x="328339" y="14293"/>
                  </a:lnTo>
                  <a:lnTo>
                    <a:pt x="323699" y="11094"/>
                  </a:lnTo>
                  <a:lnTo>
                    <a:pt x="314300" y="9108"/>
                  </a:lnTo>
                  <a:lnTo>
                    <a:pt x="308237" y="8579"/>
                  </a:lnTo>
                  <a:lnTo>
                    <a:pt x="296985" y="5732"/>
                  </a:lnTo>
                  <a:lnTo>
                    <a:pt x="291614" y="3788"/>
                  </a:lnTo>
                  <a:lnTo>
                    <a:pt x="285494" y="2492"/>
                  </a:lnTo>
                  <a:lnTo>
                    <a:pt x="278873" y="1628"/>
                  </a:lnTo>
                  <a:lnTo>
                    <a:pt x="271920" y="1051"/>
                  </a:lnTo>
                  <a:lnTo>
                    <a:pt x="264744" y="667"/>
                  </a:lnTo>
                  <a:lnTo>
                    <a:pt x="249997" y="241"/>
                  </a:lnTo>
                  <a:lnTo>
                    <a:pt x="227416" y="0"/>
                  </a:lnTo>
                  <a:lnTo>
                    <a:pt x="219834" y="813"/>
                  </a:lnTo>
                  <a:lnTo>
                    <a:pt x="212240" y="2202"/>
                  </a:lnTo>
                  <a:lnTo>
                    <a:pt x="204637" y="3974"/>
                  </a:lnTo>
                  <a:lnTo>
                    <a:pt x="197029" y="5156"/>
                  </a:lnTo>
                  <a:lnTo>
                    <a:pt x="189416" y="5944"/>
                  </a:lnTo>
                  <a:lnTo>
                    <a:pt x="181801" y="6469"/>
                  </a:lnTo>
                  <a:lnTo>
                    <a:pt x="174185" y="7666"/>
                  </a:lnTo>
                  <a:lnTo>
                    <a:pt x="166567" y="9310"/>
                  </a:lnTo>
                  <a:lnTo>
                    <a:pt x="158949" y="11253"/>
                  </a:lnTo>
                  <a:lnTo>
                    <a:pt x="152176" y="12548"/>
                  </a:lnTo>
                  <a:lnTo>
                    <a:pt x="145969" y="13412"/>
                  </a:lnTo>
                  <a:lnTo>
                    <a:pt x="140137" y="13988"/>
                  </a:lnTo>
                  <a:lnTo>
                    <a:pt x="129141" y="16885"/>
                  </a:lnTo>
                  <a:lnTo>
                    <a:pt x="119456" y="20149"/>
                  </a:lnTo>
                  <a:lnTo>
                    <a:pt x="112329" y="21599"/>
                  </a:lnTo>
                  <a:lnTo>
                    <a:pt x="106339" y="24501"/>
                  </a:lnTo>
                  <a:lnTo>
                    <a:pt x="103558" y="26461"/>
                  </a:lnTo>
                  <a:lnTo>
                    <a:pt x="101702" y="29460"/>
                  </a:lnTo>
                  <a:lnTo>
                    <a:pt x="99641" y="37309"/>
                  </a:lnTo>
                  <a:lnTo>
                    <a:pt x="98210" y="61103"/>
                  </a:lnTo>
                  <a:lnTo>
                    <a:pt x="98137" y="66102"/>
                  </a:lnTo>
                  <a:lnTo>
                    <a:pt x="102081" y="85273"/>
                  </a:lnTo>
                  <a:lnTo>
                    <a:pt x="104566" y="107039"/>
                  </a:lnTo>
                  <a:lnTo>
                    <a:pt x="105148" y="124282"/>
                  </a:lnTo>
                  <a:lnTo>
                    <a:pt x="106252" y="143233"/>
                  </a:lnTo>
                  <a:lnTo>
                    <a:pt x="109565" y="162946"/>
                  </a:lnTo>
                  <a:lnTo>
                    <a:pt x="111602" y="182996"/>
                  </a:lnTo>
                  <a:lnTo>
                    <a:pt x="112508" y="204042"/>
                  </a:lnTo>
                  <a:lnTo>
                    <a:pt x="113018" y="239691"/>
                  </a:lnTo>
                  <a:lnTo>
                    <a:pt x="113204" y="306340"/>
                  </a:lnTo>
                  <a:lnTo>
                    <a:pt x="112366" y="321033"/>
                  </a:lnTo>
                  <a:lnTo>
                    <a:pt x="110962" y="335909"/>
                  </a:lnTo>
                  <a:lnTo>
                    <a:pt x="109179" y="350906"/>
                  </a:lnTo>
                  <a:lnTo>
                    <a:pt x="107990" y="365983"/>
                  </a:lnTo>
                  <a:lnTo>
                    <a:pt x="107197" y="381116"/>
                  </a:lnTo>
                  <a:lnTo>
                    <a:pt x="106669" y="396284"/>
                  </a:lnTo>
                  <a:lnTo>
                    <a:pt x="105470" y="411475"/>
                  </a:lnTo>
                  <a:lnTo>
                    <a:pt x="103824" y="426683"/>
                  </a:lnTo>
                  <a:lnTo>
                    <a:pt x="99737" y="457128"/>
                  </a:lnTo>
                  <a:lnTo>
                    <a:pt x="95099" y="487592"/>
                  </a:lnTo>
                  <a:lnTo>
                    <a:pt x="93523" y="501981"/>
                  </a:lnTo>
                  <a:lnTo>
                    <a:pt x="92473" y="515807"/>
                  </a:lnTo>
                  <a:lnTo>
                    <a:pt x="91773" y="529258"/>
                  </a:lnTo>
                  <a:lnTo>
                    <a:pt x="90459" y="543305"/>
                  </a:lnTo>
                  <a:lnTo>
                    <a:pt x="88737" y="557750"/>
                  </a:lnTo>
                  <a:lnTo>
                    <a:pt x="86741" y="572460"/>
                  </a:lnTo>
                  <a:lnTo>
                    <a:pt x="82267" y="600093"/>
                  </a:lnTo>
                  <a:lnTo>
                    <a:pt x="79889" y="613388"/>
                  </a:lnTo>
                  <a:lnTo>
                    <a:pt x="72731" y="637192"/>
                  </a:lnTo>
                  <a:lnTo>
                    <a:pt x="64752" y="659061"/>
                  </a:lnTo>
                  <a:lnTo>
                    <a:pt x="42203" y="730925"/>
                  </a:lnTo>
                  <a:lnTo>
                    <a:pt x="32816" y="754872"/>
                  </a:lnTo>
                  <a:lnTo>
                    <a:pt x="30925" y="762445"/>
                  </a:lnTo>
                  <a:lnTo>
                    <a:pt x="29574" y="764803"/>
                  </a:lnTo>
                  <a:lnTo>
                    <a:pt x="27827" y="766375"/>
                  </a:lnTo>
                  <a:lnTo>
                    <a:pt x="23628" y="768968"/>
                  </a:lnTo>
                  <a:lnTo>
                    <a:pt x="14590" y="776771"/>
                  </a:lnTo>
                  <a:lnTo>
                    <a:pt x="7648" y="770547"/>
                  </a:lnTo>
                  <a:lnTo>
                    <a:pt x="7283" y="769357"/>
                  </a:lnTo>
                  <a:lnTo>
                    <a:pt x="6649" y="759003"/>
                  </a:lnTo>
                  <a:lnTo>
                    <a:pt x="5769" y="756582"/>
                  </a:lnTo>
                  <a:lnTo>
                    <a:pt x="1334" y="749129"/>
                  </a:lnTo>
                  <a:lnTo>
                    <a:pt x="0" y="744088"/>
                  </a:lnTo>
                  <a:lnTo>
                    <a:pt x="491" y="741558"/>
                  </a:lnTo>
                  <a:lnTo>
                    <a:pt x="3293" y="736490"/>
                  </a:lnTo>
                  <a:lnTo>
                    <a:pt x="6073" y="734800"/>
                  </a:lnTo>
                  <a:lnTo>
                    <a:pt x="18076" y="731574"/>
                  </a:lnTo>
                  <a:lnTo>
                    <a:pt x="27478" y="727819"/>
                  </a:lnTo>
                  <a:lnTo>
                    <a:pt x="34050" y="725633"/>
                  </a:lnTo>
                  <a:lnTo>
                    <a:pt x="41817" y="723328"/>
                  </a:lnTo>
                  <a:lnTo>
                    <a:pt x="50382" y="720945"/>
                  </a:lnTo>
                  <a:lnTo>
                    <a:pt x="59479" y="719356"/>
                  </a:lnTo>
                  <a:lnTo>
                    <a:pt x="68930" y="718297"/>
                  </a:lnTo>
                  <a:lnTo>
                    <a:pt x="78618" y="717591"/>
                  </a:lnTo>
                  <a:lnTo>
                    <a:pt x="89309" y="717121"/>
                  </a:lnTo>
                  <a:lnTo>
                    <a:pt x="112477" y="716598"/>
                  </a:lnTo>
                  <a:lnTo>
                    <a:pt x="187049" y="716216"/>
                  </a:lnTo>
                  <a:lnTo>
                    <a:pt x="199697" y="717050"/>
                  </a:lnTo>
                  <a:lnTo>
                    <a:pt x="212362" y="718454"/>
                  </a:lnTo>
                  <a:lnTo>
                    <a:pt x="225039" y="720235"/>
                  </a:lnTo>
                  <a:lnTo>
                    <a:pt x="236877" y="722270"/>
                  </a:lnTo>
                  <a:lnTo>
                    <a:pt x="248155" y="724473"/>
                  </a:lnTo>
                  <a:lnTo>
                    <a:pt x="259061" y="726789"/>
                  </a:lnTo>
                  <a:lnTo>
                    <a:pt x="269718" y="728332"/>
                  </a:lnTo>
                  <a:lnTo>
                    <a:pt x="280209" y="729361"/>
                  </a:lnTo>
                  <a:lnTo>
                    <a:pt x="299204" y="730504"/>
                  </a:lnTo>
                  <a:lnTo>
                    <a:pt x="313291" y="731013"/>
                  </a:lnTo>
                  <a:lnTo>
                    <a:pt x="345107" y="731384"/>
                  </a:lnTo>
                  <a:lnTo>
                    <a:pt x="356255" y="731409"/>
                  </a:lnTo>
                  <a:lnTo>
                    <a:pt x="359068" y="730565"/>
                  </a:lnTo>
                  <a:lnTo>
                    <a:pt x="360944" y="729157"/>
                  </a:lnTo>
                  <a:lnTo>
                    <a:pt x="364692" y="7237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SMARTInkAnnotation111"/>
            <p:cNvSpPr/>
            <p:nvPr/>
          </p:nvSpPr>
          <p:spPr>
            <a:xfrm>
              <a:off x="6667920" y="2720160"/>
              <a:ext cx="83520" cy="756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3821" h="7621">
                  <a:moveTo>
                    <a:pt x="0" y="7620"/>
                  </a:moveTo>
                  <a:lnTo>
                    <a:pt x="6562" y="7620"/>
                  </a:lnTo>
                  <a:lnTo>
                    <a:pt x="8608" y="6773"/>
                  </a:lnTo>
                  <a:lnTo>
                    <a:pt x="11665" y="5362"/>
                  </a:lnTo>
                  <a:lnTo>
                    <a:pt x="15398" y="3575"/>
                  </a:lnTo>
                  <a:lnTo>
                    <a:pt x="19579" y="2383"/>
                  </a:lnTo>
                  <a:lnTo>
                    <a:pt x="24058" y="1589"/>
                  </a:lnTo>
                  <a:lnTo>
                    <a:pt x="28739" y="1059"/>
                  </a:lnTo>
                  <a:lnTo>
                    <a:pt x="34399" y="706"/>
                  </a:lnTo>
                  <a:lnTo>
                    <a:pt x="47461" y="314"/>
                  </a:lnTo>
                  <a:lnTo>
                    <a:pt x="838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SMARTInkAnnotation112"/>
            <p:cNvSpPr/>
            <p:nvPr/>
          </p:nvSpPr>
          <p:spPr>
            <a:xfrm>
              <a:off x="6835680" y="2583000"/>
              <a:ext cx="114120" cy="1825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82520"/>
                <a:gd name="textAreaBottom" fmla="*/ 182520 h 182520"/>
              </a:gdLst>
              <a:ahLst/>
              <a:rect l="textAreaLeft" t="textAreaTop" r="textAreaRight" b="textAreaBottom"/>
              <a:pathLst>
                <a:path w="114302" h="182758">
                  <a:moveTo>
                    <a:pt x="0" y="22737"/>
                  </a:moveTo>
                  <a:lnTo>
                    <a:pt x="6562" y="16177"/>
                  </a:lnTo>
                  <a:lnTo>
                    <a:pt x="8608" y="14977"/>
                  </a:lnTo>
                  <a:lnTo>
                    <a:pt x="15398" y="11386"/>
                  </a:lnTo>
                  <a:lnTo>
                    <a:pt x="28739" y="4604"/>
                  </a:lnTo>
                  <a:lnTo>
                    <a:pt x="33553" y="3029"/>
                  </a:lnTo>
                  <a:lnTo>
                    <a:pt x="38455" y="1978"/>
                  </a:lnTo>
                  <a:lnTo>
                    <a:pt x="43417" y="1278"/>
                  </a:lnTo>
                  <a:lnTo>
                    <a:pt x="48418" y="811"/>
                  </a:lnTo>
                  <a:lnTo>
                    <a:pt x="53446" y="500"/>
                  </a:lnTo>
                  <a:lnTo>
                    <a:pt x="58491" y="292"/>
                  </a:lnTo>
                  <a:lnTo>
                    <a:pt x="70869" y="62"/>
                  </a:lnTo>
                  <a:lnTo>
                    <a:pt x="77726" y="0"/>
                  </a:lnTo>
                  <a:lnTo>
                    <a:pt x="83145" y="806"/>
                  </a:lnTo>
                  <a:lnTo>
                    <a:pt x="87604" y="2190"/>
                  </a:lnTo>
                  <a:lnTo>
                    <a:pt x="91422" y="3959"/>
                  </a:lnTo>
                  <a:lnTo>
                    <a:pt x="94816" y="5138"/>
                  </a:lnTo>
                  <a:lnTo>
                    <a:pt x="97924" y="5924"/>
                  </a:lnTo>
                  <a:lnTo>
                    <a:pt x="100844" y="6449"/>
                  </a:lnTo>
                  <a:lnTo>
                    <a:pt x="103636" y="7645"/>
                  </a:lnTo>
                  <a:lnTo>
                    <a:pt x="106344" y="9289"/>
                  </a:lnTo>
                  <a:lnTo>
                    <a:pt x="108997" y="11232"/>
                  </a:lnTo>
                  <a:lnTo>
                    <a:pt x="110765" y="13374"/>
                  </a:lnTo>
                  <a:lnTo>
                    <a:pt x="111944" y="15648"/>
                  </a:lnTo>
                  <a:lnTo>
                    <a:pt x="113254" y="20433"/>
                  </a:lnTo>
                  <a:lnTo>
                    <a:pt x="113835" y="25382"/>
                  </a:lnTo>
                  <a:lnTo>
                    <a:pt x="113144" y="27887"/>
                  </a:lnTo>
                  <a:lnTo>
                    <a:pt x="110118" y="32928"/>
                  </a:lnTo>
                  <a:lnTo>
                    <a:pt x="107279" y="35458"/>
                  </a:lnTo>
                  <a:lnTo>
                    <a:pt x="103693" y="37991"/>
                  </a:lnTo>
                  <a:lnTo>
                    <a:pt x="99609" y="40526"/>
                  </a:lnTo>
                  <a:lnTo>
                    <a:pt x="95194" y="43910"/>
                  </a:lnTo>
                  <a:lnTo>
                    <a:pt x="90556" y="47859"/>
                  </a:lnTo>
                  <a:lnTo>
                    <a:pt x="85771" y="52185"/>
                  </a:lnTo>
                  <a:lnTo>
                    <a:pt x="75939" y="61507"/>
                  </a:lnTo>
                  <a:lnTo>
                    <a:pt x="40626" y="96437"/>
                  </a:lnTo>
                  <a:lnTo>
                    <a:pt x="36397" y="101503"/>
                  </a:lnTo>
                  <a:lnTo>
                    <a:pt x="32731" y="106575"/>
                  </a:lnTo>
                  <a:lnTo>
                    <a:pt x="29441" y="111649"/>
                  </a:lnTo>
                  <a:lnTo>
                    <a:pt x="26401" y="116725"/>
                  </a:lnTo>
                  <a:lnTo>
                    <a:pt x="23528" y="121802"/>
                  </a:lnTo>
                  <a:lnTo>
                    <a:pt x="20766" y="126880"/>
                  </a:lnTo>
                  <a:lnTo>
                    <a:pt x="18924" y="131960"/>
                  </a:lnTo>
                  <a:lnTo>
                    <a:pt x="17697" y="137039"/>
                  </a:lnTo>
                  <a:lnTo>
                    <a:pt x="16878" y="142118"/>
                  </a:lnTo>
                  <a:lnTo>
                    <a:pt x="16332" y="146351"/>
                  </a:lnTo>
                  <a:lnTo>
                    <a:pt x="15968" y="150020"/>
                  </a:lnTo>
                  <a:lnTo>
                    <a:pt x="15726" y="153312"/>
                  </a:lnTo>
                  <a:lnTo>
                    <a:pt x="16411" y="156354"/>
                  </a:lnTo>
                  <a:lnTo>
                    <a:pt x="19429" y="161991"/>
                  </a:lnTo>
                  <a:lnTo>
                    <a:pt x="22266" y="164680"/>
                  </a:lnTo>
                  <a:lnTo>
                    <a:pt x="25851" y="167319"/>
                  </a:lnTo>
                  <a:lnTo>
                    <a:pt x="29934" y="169925"/>
                  </a:lnTo>
                  <a:lnTo>
                    <a:pt x="35197" y="172509"/>
                  </a:lnTo>
                  <a:lnTo>
                    <a:pt x="41244" y="175079"/>
                  </a:lnTo>
                  <a:lnTo>
                    <a:pt x="47816" y="177638"/>
                  </a:lnTo>
                  <a:lnTo>
                    <a:pt x="55584" y="179344"/>
                  </a:lnTo>
                  <a:lnTo>
                    <a:pt x="64150" y="180482"/>
                  </a:lnTo>
                  <a:lnTo>
                    <a:pt x="80158" y="181746"/>
                  </a:lnTo>
                  <a:lnTo>
                    <a:pt x="90095" y="182308"/>
                  </a:lnTo>
                  <a:lnTo>
                    <a:pt x="99593" y="182557"/>
                  </a:lnTo>
                  <a:lnTo>
                    <a:pt x="114301" y="1827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MARTInkAnnotation113"/>
            <p:cNvSpPr/>
            <p:nvPr/>
          </p:nvSpPr>
          <p:spPr>
            <a:xfrm>
              <a:off x="6812640" y="2583000"/>
              <a:ext cx="380880" cy="47988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381001" h="480061">
                  <a:moveTo>
                    <a:pt x="381000" y="0"/>
                  </a:moveTo>
                  <a:lnTo>
                    <a:pt x="381000" y="18133"/>
                  </a:lnTo>
                  <a:lnTo>
                    <a:pt x="376955" y="29550"/>
                  </a:lnTo>
                  <a:lnTo>
                    <a:pt x="372712" y="41073"/>
                  </a:lnTo>
                  <a:lnTo>
                    <a:pt x="367156" y="55508"/>
                  </a:lnTo>
                  <a:lnTo>
                    <a:pt x="363304" y="64099"/>
                  </a:lnTo>
                  <a:lnTo>
                    <a:pt x="359044" y="73213"/>
                  </a:lnTo>
                  <a:lnTo>
                    <a:pt x="353662" y="82675"/>
                  </a:lnTo>
                  <a:lnTo>
                    <a:pt x="347534" y="92370"/>
                  </a:lnTo>
                  <a:lnTo>
                    <a:pt x="340910" y="102220"/>
                  </a:lnTo>
                  <a:lnTo>
                    <a:pt x="326776" y="122196"/>
                  </a:lnTo>
                  <a:lnTo>
                    <a:pt x="319451" y="132264"/>
                  </a:lnTo>
                  <a:lnTo>
                    <a:pt x="312027" y="143209"/>
                  </a:lnTo>
                  <a:lnTo>
                    <a:pt x="297005" y="166660"/>
                  </a:lnTo>
                  <a:lnTo>
                    <a:pt x="288597" y="177993"/>
                  </a:lnTo>
                  <a:lnTo>
                    <a:pt x="279604" y="188936"/>
                  </a:lnTo>
                  <a:lnTo>
                    <a:pt x="270223" y="199617"/>
                  </a:lnTo>
                  <a:lnTo>
                    <a:pt x="259735" y="210972"/>
                  </a:lnTo>
                  <a:lnTo>
                    <a:pt x="236793" y="234876"/>
                  </a:lnTo>
                  <a:lnTo>
                    <a:pt x="200077" y="272134"/>
                  </a:lnTo>
                  <a:lnTo>
                    <a:pt x="187572" y="283870"/>
                  </a:lnTo>
                  <a:lnTo>
                    <a:pt x="175001" y="295080"/>
                  </a:lnTo>
                  <a:lnTo>
                    <a:pt x="162387" y="305940"/>
                  </a:lnTo>
                  <a:lnTo>
                    <a:pt x="148898" y="316567"/>
                  </a:lnTo>
                  <a:lnTo>
                    <a:pt x="134826" y="327038"/>
                  </a:lnTo>
                  <a:lnTo>
                    <a:pt x="120364" y="337405"/>
                  </a:lnTo>
                  <a:lnTo>
                    <a:pt x="107336" y="348550"/>
                  </a:lnTo>
                  <a:lnTo>
                    <a:pt x="95264" y="360214"/>
                  </a:lnTo>
                  <a:lnTo>
                    <a:pt x="83829" y="372222"/>
                  </a:lnTo>
                  <a:lnTo>
                    <a:pt x="72820" y="382768"/>
                  </a:lnTo>
                  <a:lnTo>
                    <a:pt x="62093" y="392339"/>
                  </a:lnTo>
                  <a:lnTo>
                    <a:pt x="51555" y="401259"/>
                  </a:lnTo>
                  <a:lnTo>
                    <a:pt x="42837" y="409746"/>
                  </a:lnTo>
                  <a:lnTo>
                    <a:pt x="35331" y="417944"/>
                  </a:lnTo>
                  <a:lnTo>
                    <a:pt x="28634" y="425949"/>
                  </a:lnTo>
                  <a:lnTo>
                    <a:pt x="22476" y="432980"/>
                  </a:lnTo>
                  <a:lnTo>
                    <a:pt x="11118" y="445307"/>
                  </a:lnTo>
                  <a:lnTo>
                    <a:pt x="7412" y="450964"/>
                  </a:lnTo>
                  <a:lnTo>
                    <a:pt x="2196" y="465324"/>
                  </a:lnTo>
                  <a:lnTo>
                    <a:pt x="651" y="471178"/>
                  </a:lnTo>
                  <a:lnTo>
                    <a:pt x="0" y="4800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SMARTInkAnnotation114"/>
            <p:cNvSpPr/>
            <p:nvPr/>
          </p:nvSpPr>
          <p:spPr>
            <a:xfrm>
              <a:off x="7104240" y="2864880"/>
              <a:ext cx="123480" cy="1249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123744" h="125263">
                  <a:moveTo>
                    <a:pt x="89492" y="0"/>
                  </a:moveTo>
                  <a:lnTo>
                    <a:pt x="85446" y="4046"/>
                  </a:lnTo>
                  <a:lnTo>
                    <a:pt x="84255" y="6084"/>
                  </a:lnTo>
                  <a:lnTo>
                    <a:pt x="83460" y="8289"/>
                  </a:lnTo>
                  <a:lnTo>
                    <a:pt x="82930" y="10606"/>
                  </a:lnTo>
                  <a:lnTo>
                    <a:pt x="80883" y="13844"/>
                  </a:lnTo>
                  <a:lnTo>
                    <a:pt x="77828" y="17696"/>
                  </a:lnTo>
                  <a:lnTo>
                    <a:pt x="74095" y="21957"/>
                  </a:lnTo>
                  <a:lnTo>
                    <a:pt x="69914" y="26492"/>
                  </a:lnTo>
                  <a:lnTo>
                    <a:pt x="60753" y="36045"/>
                  </a:lnTo>
                  <a:lnTo>
                    <a:pt x="31001" y="66083"/>
                  </a:lnTo>
                  <a:lnTo>
                    <a:pt x="25945" y="71995"/>
                  </a:lnTo>
                  <a:lnTo>
                    <a:pt x="20880" y="78477"/>
                  </a:lnTo>
                  <a:lnTo>
                    <a:pt x="15811" y="85338"/>
                  </a:lnTo>
                  <a:lnTo>
                    <a:pt x="11585" y="90758"/>
                  </a:lnTo>
                  <a:lnTo>
                    <a:pt x="7920" y="95219"/>
                  </a:lnTo>
                  <a:lnTo>
                    <a:pt x="4631" y="99039"/>
                  </a:lnTo>
                  <a:lnTo>
                    <a:pt x="2437" y="102433"/>
                  </a:lnTo>
                  <a:lnTo>
                    <a:pt x="975" y="105542"/>
                  </a:lnTo>
                  <a:lnTo>
                    <a:pt x="0" y="108461"/>
                  </a:lnTo>
                  <a:lnTo>
                    <a:pt x="1044" y="111254"/>
                  </a:lnTo>
                  <a:lnTo>
                    <a:pt x="3433" y="113963"/>
                  </a:lnTo>
                  <a:lnTo>
                    <a:pt x="6720" y="116615"/>
                  </a:lnTo>
                  <a:lnTo>
                    <a:pt x="10604" y="119230"/>
                  </a:lnTo>
                  <a:lnTo>
                    <a:pt x="14887" y="121820"/>
                  </a:lnTo>
                  <a:lnTo>
                    <a:pt x="19434" y="124393"/>
                  </a:lnTo>
                  <a:lnTo>
                    <a:pt x="24161" y="125262"/>
                  </a:lnTo>
                  <a:lnTo>
                    <a:pt x="29004" y="124995"/>
                  </a:lnTo>
                  <a:lnTo>
                    <a:pt x="33926" y="123970"/>
                  </a:lnTo>
                  <a:lnTo>
                    <a:pt x="39749" y="123287"/>
                  </a:lnTo>
                  <a:lnTo>
                    <a:pt x="46169" y="122831"/>
                  </a:lnTo>
                  <a:lnTo>
                    <a:pt x="52990" y="122527"/>
                  </a:lnTo>
                  <a:lnTo>
                    <a:pt x="60078" y="121479"/>
                  </a:lnTo>
                  <a:lnTo>
                    <a:pt x="67342" y="119932"/>
                  </a:lnTo>
                  <a:lnTo>
                    <a:pt x="74726" y="118055"/>
                  </a:lnTo>
                  <a:lnTo>
                    <a:pt x="81341" y="115110"/>
                  </a:lnTo>
                  <a:lnTo>
                    <a:pt x="87444" y="111453"/>
                  </a:lnTo>
                  <a:lnTo>
                    <a:pt x="93207" y="107322"/>
                  </a:lnTo>
                  <a:lnTo>
                    <a:pt x="98741" y="102028"/>
                  </a:lnTo>
                  <a:lnTo>
                    <a:pt x="104125" y="95959"/>
                  </a:lnTo>
                  <a:lnTo>
                    <a:pt x="109407" y="89373"/>
                  </a:lnTo>
                  <a:lnTo>
                    <a:pt x="112928" y="83289"/>
                  </a:lnTo>
                  <a:lnTo>
                    <a:pt x="115277" y="77539"/>
                  </a:lnTo>
                  <a:lnTo>
                    <a:pt x="116842" y="72013"/>
                  </a:lnTo>
                  <a:lnTo>
                    <a:pt x="118732" y="66635"/>
                  </a:lnTo>
                  <a:lnTo>
                    <a:pt x="120839" y="61357"/>
                  </a:lnTo>
                  <a:lnTo>
                    <a:pt x="123090" y="56145"/>
                  </a:lnTo>
                  <a:lnTo>
                    <a:pt x="123743" y="51823"/>
                  </a:lnTo>
                  <a:lnTo>
                    <a:pt x="123332" y="48095"/>
                  </a:lnTo>
                  <a:lnTo>
                    <a:pt x="122213" y="44764"/>
                  </a:lnTo>
                  <a:lnTo>
                    <a:pt x="120619" y="41696"/>
                  </a:lnTo>
                  <a:lnTo>
                    <a:pt x="118710" y="38804"/>
                  </a:lnTo>
                  <a:lnTo>
                    <a:pt x="116590" y="36029"/>
                  </a:lnTo>
                  <a:lnTo>
                    <a:pt x="114331" y="33333"/>
                  </a:lnTo>
                  <a:lnTo>
                    <a:pt x="111978" y="30689"/>
                  </a:lnTo>
                  <a:lnTo>
                    <a:pt x="109562" y="28079"/>
                  </a:lnTo>
                  <a:lnTo>
                    <a:pt x="107105" y="26340"/>
                  </a:lnTo>
                  <a:lnTo>
                    <a:pt x="104621" y="25180"/>
                  </a:lnTo>
                  <a:lnTo>
                    <a:pt x="102118" y="24407"/>
                  </a:lnTo>
                  <a:lnTo>
                    <a:pt x="98757" y="23891"/>
                  </a:lnTo>
                  <a:lnTo>
                    <a:pt x="94822" y="23548"/>
                  </a:lnTo>
                  <a:lnTo>
                    <a:pt x="84430" y="22996"/>
                  </a:lnTo>
                  <a:lnTo>
                    <a:pt x="80751" y="22921"/>
                  </a:lnTo>
                  <a:lnTo>
                    <a:pt x="74251" y="228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MARTInkAnnotation115"/>
            <p:cNvSpPr/>
            <p:nvPr/>
          </p:nvSpPr>
          <p:spPr>
            <a:xfrm>
              <a:off x="7118280" y="2979360"/>
              <a:ext cx="119160" cy="1213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19451" h="121434">
                  <a:moveTo>
                    <a:pt x="67784" y="0"/>
                  </a:moveTo>
                  <a:lnTo>
                    <a:pt x="63738" y="0"/>
                  </a:lnTo>
                  <a:lnTo>
                    <a:pt x="61700" y="1694"/>
                  </a:lnTo>
                  <a:lnTo>
                    <a:pt x="59495" y="4516"/>
                  </a:lnTo>
                  <a:lnTo>
                    <a:pt x="57178" y="8091"/>
                  </a:lnTo>
                  <a:lnTo>
                    <a:pt x="53941" y="11321"/>
                  </a:lnTo>
                  <a:lnTo>
                    <a:pt x="50089" y="14320"/>
                  </a:lnTo>
                  <a:lnTo>
                    <a:pt x="45827" y="17167"/>
                  </a:lnTo>
                  <a:lnTo>
                    <a:pt x="41292" y="20758"/>
                  </a:lnTo>
                  <a:lnTo>
                    <a:pt x="36576" y="24846"/>
                  </a:lnTo>
                  <a:lnTo>
                    <a:pt x="31739" y="29264"/>
                  </a:lnTo>
                  <a:lnTo>
                    <a:pt x="27668" y="33902"/>
                  </a:lnTo>
                  <a:lnTo>
                    <a:pt x="24107" y="38689"/>
                  </a:lnTo>
                  <a:lnTo>
                    <a:pt x="8262" y="62582"/>
                  </a:lnTo>
                  <a:lnTo>
                    <a:pt x="5243" y="68814"/>
                  </a:lnTo>
                  <a:lnTo>
                    <a:pt x="3230" y="74663"/>
                  </a:lnTo>
                  <a:lnTo>
                    <a:pt x="1888" y="80255"/>
                  </a:lnTo>
                  <a:lnTo>
                    <a:pt x="994" y="85677"/>
                  </a:lnTo>
                  <a:lnTo>
                    <a:pt x="397" y="90985"/>
                  </a:lnTo>
                  <a:lnTo>
                    <a:pt x="0" y="96217"/>
                  </a:lnTo>
                  <a:lnTo>
                    <a:pt x="581" y="100551"/>
                  </a:lnTo>
                  <a:lnTo>
                    <a:pt x="1815" y="104288"/>
                  </a:lnTo>
                  <a:lnTo>
                    <a:pt x="3485" y="107625"/>
                  </a:lnTo>
                  <a:lnTo>
                    <a:pt x="7138" y="110696"/>
                  </a:lnTo>
                  <a:lnTo>
                    <a:pt x="12113" y="113591"/>
                  </a:lnTo>
                  <a:lnTo>
                    <a:pt x="17971" y="116368"/>
                  </a:lnTo>
                  <a:lnTo>
                    <a:pt x="23568" y="118218"/>
                  </a:lnTo>
                  <a:lnTo>
                    <a:pt x="28994" y="119452"/>
                  </a:lnTo>
                  <a:lnTo>
                    <a:pt x="34304" y="120275"/>
                  </a:lnTo>
                  <a:lnTo>
                    <a:pt x="40384" y="120823"/>
                  </a:lnTo>
                  <a:lnTo>
                    <a:pt x="46977" y="121189"/>
                  </a:lnTo>
                  <a:lnTo>
                    <a:pt x="53913" y="121433"/>
                  </a:lnTo>
                  <a:lnTo>
                    <a:pt x="61077" y="120749"/>
                  </a:lnTo>
                  <a:lnTo>
                    <a:pt x="68392" y="119445"/>
                  </a:lnTo>
                  <a:lnTo>
                    <a:pt x="75810" y="117730"/>
                  </a:lnTo>
                  <a:lnTo>
                    <a:pt x="82448" y="114894"/>
                  </a:lnTo>
                  <a:lnTo>
                    <a:pt x="88566" y="111309"/>
                  </a:lnTo>
                  <a:lnTo>
                    <a:pt x="94339" y="107226"/>
                  </a:lnTo>
                  <a:lnTo>
                    <a:pt x="99034" y="103657"/>
                  </a:lnTo>
                  <a:lnTo>
                    <a:pt x="103010" y="100432"/>
                  </a:lnTo>
                  <a:lnTo>
                    <a:pt x="106508" y="97434"/>
                  </a:lnTo>
                  <a:lnTo>
                    <a:pt x="109687" y="93743"/>
                  </a:lnTo>
                  <a:lnTo>
                    <a:pt x="112652" y="89589"/>
                  </a:lnTo>
                  <a:lnTo>
                    <a:pt x="115476" y="85126"/>
                  </a:lnTo>
                  <a:lnTo>
                    <a:pt x="117358" y="80457"/>
                  </a:lnTo>
                  <a:lnTo>
                    <a:pt x="118613" y="75651"/>
                  </a:lnTo>
                  <a:lnTo>
                    <a:pt x="119450" y="70754"/>
                  </a:lnTo>
                  <a:lnTo>
                    <a:pt x="119161" y="65796"/>
                  </a:lnTo>
                  <a:lnTo>
                    <a:pt x="118123" y="60798"/>
                  </a:lnTo>
                  <a:lnTo>
                    <a:pt x="116583" y="55772"/>
                  </a:lnTo>
                  <a:lnTo>
                    <a:pt x="115557" y="51575"/>
                  </a:lnTo>
                  <a:lnTo>
                    <a:pt x="114872" y="47930"/>
                  </a:lnTo>
                  <a:lnTo>
                    <a:pt x="114417" y="44653"/>
                  </a:lnTo>
                  <a:lnTo>
                    <a:pt x="112418" y="41622"/>
                  </a:lnTo>
                  <a:lnTo>
                    <a:pt x="109394" y="38755"/>
                  </a:lnTo>
                  <a:lnTo>
                    <a:pt x="100462" y="32115"/>
                  </a:lnTo>
                  <a:lnTo>
                    <a:pt x="96983" y="31207"/>
                  </a:lnTo>
                  <a:lnTo>
                    <a:pt x="90644" y="304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SMARTInkAnnotation116"/>
            <p:cNvSpPr/>
            <p:nvPr/>
          </p:nvSpPr>
          <p:spPr>
            <a:xfrm>
              <a:off x="7714800" y="2533320"/>
              <a:ext cx="332280" cy="51444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332486" h="514417">
                  <a:moveTo>
                    <a:pt x="12445" y="141036"/>
                  </a:moveTo>
                  <a:lnTo>
                    <a:pt x="8400" y="141036"/>
                  </a:lnTo>
                  <a:lnTo>
                    <a:pt x="6362" y="140189"/>
                  </a:lnTo>
                  <a:lnTo>
                    <a:pt x="1839" y="136991"/>
                  </a:lnTo>
                  <a:lnTo>
                    <a:pt x="1141" y="135799"/>
                  </a:lnTo>
                  <a:lnTo>
                    <a:pt x="1523" y="135005"/>
                  </a:lnTo>
                  <a:lnTo>
                    <a:pt x="2623" y="134475"/>
                  </a:lnTo>
                  <a:lnTo>
                    <a:pt x="2511" y="132429"/>
                  </a:lnTo>
                  <a:lnTo>
                    <a:pt x="127" y="125640"/>
                  </a:lnTo>
                  <a:lnTo>
                    <a:pt x="0" y="122305"/>
                  </a:lnTo>
                  <a:lnTo>
                    <a:pt x="762" y="119235"/>
                  </a:lnTo>
                  <a:lnTo>
                    <a:pt x="8067" y="104180"/>
                  </a:lnTo>
                  <a:lnTo>
                    <a:pt x="15194" y="89852"/>
                  </a:lnTo>
                  <a:lnTo>
                    <a:pt x="22415" y="79906"/>
                  </a:lnTo>
                  <a:lnTo>
                    <a:pt x="32116" y="69840"/>
                  </a:lnTo>
                  <a:lnTo>
                    <a:pt x="38258" y="64786"/>
                  </a:lnTo>
                  <a:lnTo>
                    <a:pt x="44894" y="59722"/>
                  </a:lnTo>
                  <a:lnTo>
                    <a:pt x="51858" y="54654"/>
                  </a:lnTo>
                  <a:lnTo>
                    <a:pt x="66368" y="44506"/>
                  </a:lnTo>
                  <a:lnTo>
                    <a:pt x="73794" y="40276"/>
                  </a:lnTo>
                  <a:lnTo>
                    <a:pt x="81284" y="36610"/>
                  </a:lnTo>
                  <a:lnTo>
                    <a:pt x="88818" y="33318"/>
                  </a:lnTo>
                  <a:lnTo>
                    <a:pt x="96380" y="30278"/>
                  </a:lnTo>
                  <a:lnTo>
                    <a:pt x="111556" y="24641"/>
                  </a:lnTo>
                  <a:lnTo>
                    <a:pt x="119160" y="21106"/>
                  </a:lnTo>
                  <a:lnTo>
                    <a:pt x="126769" y="17056"/>
                  </a:lnTo>
                  <a:lnTo>
                    <a:pt x="134381" y="12663"/>
                  </a:lnTo>
                  <a:lnTo>
                    <a:pt x="142842" y="9734"/>
                  </a:lnTo>
                  <a:lnTo>
                    <a:pt x="151870" y="7781"/>
                  </a:lnTo>
                  <a:lnTo>
                    <a:pt x="161274" y="6480"/>
                  </a:lnTo>
                  <a:lnTo>
                    <a:pt x="170085" y="4765"/>
                  </a:lnTo>
                  <a:lnTo>
                    <a:pt x="178498" y="2776"/>
                  </a:lnTo>
                  <a:lnTo>
                    <a:pt x="186647" y="602"/>
                  </a:lnTo>
                  <a:lnTo>
                    <a:pt x="193773" y="0"/>
                  </a:lnTo>
                  <a:lnTo>
                    <a:pt x="200218" y="446"/>
                  </a:lnTo>
                  <a:lnTo>
                    <a:pt x="206206" y="1589"/>
                  </a:lnTo>
                  <a:lnTo>
                    <a:pt x="215119" y="2860"/>
                  </a:lnTo>
                  <a:lnTo>
                    <a:pt x="218680" y="3198"/>
                  </a:lnTo>
                  <a:lnTo>
                    <a:pt x="227154" y="5833"/>
                  </a:lnTo>
                  <a:lnTo>
                    <a:pt x="235718" y="9826"/>
                  </a:lnTo>
                  <a:lnTo>
                    <a:pt x="242346" y="14423"/>
                  </a:lnTo>
                  <a:lnTo>
                    <a:pt x="244452" y="17680"/>
                  </a:lnTo>
                  <a:lnTo>
                    <a:pt x="248264" y="30356"/>
                  </a:lnTo>
                  <a:lnTo>
                    <a:pt x="252155" y="39916"/>
                  </a:lnTo>
                  <a:lnTo>
                    <a:pt x="252685" y="45683"/>
                  </a:lnTo>
                  <a:lnTo>
                    <a:pt x="251015" y="58864"/>
                  </a:lnTo>
                  <a:lnTo>
                    <a:pt x="250232" y="66781"/>
                  </a:lnTo>
                  <a:lnTo>
                    <a:pt x="249711" y="75446"/>
                  </a:lnTo>
                  <a:lnTo>
                    <a:pt x="249362" y="84610"/>
                  </a:lnTo>
                  <a:lnTo>
                    <a:pt x="248283" y="94105"/>
                  </a:lnTo>
                  <a:lnTo>
                    <a:pt x="246717" y="103822"/>
                  </a:lnTo>
                  <a:lnTo>
                    <a:pt x="244826" y="113687"/>
                  </a:lnTo>
                  <a:lnTo>
                    <a:pt x="241872" y="123650"/>
                  </a:lnTo>
                  <a:lnTo>
                    <a:pt x="238209" y="133679"/>
                  </a:lnTo>
                  <a:lnTo>
                    <a:pt x="220165" y="178153"/>
                  </a:lnTo>
                  <a:lnTo>
                    <a:pt x="216117" y="190334"/>
                  </a:lnTo>
                  <a:lnTo>
                    <a:pt x="212573" y="202688"/>
                  </a:lnTo>
                  <a:lnTo>
                    <a:pt x="209364" y="215157"/>
                  </a:lnTo>
                  <a:lnTo>
                    <a:pt x="204684" y="226857"/>
                  </a:lnTo>
                  <a:lnTo>
                    <a:pt x="199025" y="238043"/>
                  </a:lnTo>
                  <a:lnTo>
                    <a:pt x="192712" y="248888"/>
                  </a:lnTo>
                  <a:lnTo>
                    <a:pt x="186809" y="260351"/>
                  </a:lnTo>
                  <a:lnTo>
                    <a:pt x="181182" y="272226"/>
                  </a:lnTo>
                  <a:lnTo>
                    <a:pt x="175735" y="284376"/>
                  </a:lnTo>
                  <a:lnTo>
                    <a:pt x="169566" y="295862"/>
                  </a:lnTo>
                  <a:lnTo>
                    <a:pt x="162911" y="306907"/>
                  </a:lnTo>
                  <a:lnTo>
                    <a:pt x="155937" y="317657"/>
                  </a:lnTo>
                  <a:lnTo>
                    <a:pt x="149593" y="329057"/>
                  </a:lnTo>
                  <a:lnTo>
                    <a:pt x="143671" y="340890"/>
                  </a:lnTo>
                  <a:lnTo>
                    <a:pt x="138028" y="353012"/>
                  </a:lnTo>
                  <a:lnTo>
                    <a:pt x="132574" y="363633"/>
                  </a:lnTo>
                  <a:lnTo>
                    <a:pt x="127244" y="373254"/>
                  </a:lnTo>
                  <a:lnTo>
                    <a:pt x="121998" y="382208"/>
                  </a:lnTo>
                  <a:lnTo>
                    <a:pt x="115961" y="391564"/>
                  </a:lnTo>
                  <a:lnTo>
                    <a:pt x="109395" y="401188"/>
                  </a:lnTo>
                  <a:lnTo>
                    <a:pt x="102478" y="410991"/>
                  </a:lnTo>
                  <a:lnTo>
                    <a:pt x="96174" y="419219"/>
                  </a:lnTo>
                  <a:lnTo>
                    <a:pt x="90279" y="426398"/>
                  </a:lnTo>
                  <a:lnTo>
                    <a:pt x="84653" y="432877"/>
                  </a:lnTo>
                  <a:lnTo>
                    <a:pt x="78363" y="439737"/>
                  </a:lnTo>
                  <a:lnTo>
                    <a:pt x="64603" y="454132"/>
                  </a:lnTo>
                  <a:lnTo>
                    <a:pt x="25692" y="493536"/>
                  </a:lnTo>
                  <a:lnTo>
                    <a:pt x="23817" y="496262"/>
                  </a:lnTo>
                  <a:lnTo>
                    <a:pt x="20108" y="506660"/>
                  </a:lnTo>
                  <a:lnTo>
                    <a:pt x="20078" y="502711"/>
                  </a:lnTo>
                  <a:lnTo>
                    <a:pt x="20920" y="501532"/>
                  </a:lnTo>
                  <a:lnTo>
                    <a:pt x="22328" y="500747"/>
                  </a:lnTo>
                  <a:lnTo>
                    <a:pt x="27844" y="499028"/>
                  </a:lnTo>
                  <a:lnTo>
                    <a:pt x="38762" y="495441"/>
                  </a:lnTo>
                  <a:lnTo>
                    <a:pt x="45230" y="494146"/>
                  </a:lnTo>
                  <a:lnTo>
                    <a:pt x="52081" y="493283"/>
                  </a:lnTo>
                  <a:lnTo>
                    <a:pt x="59189" y="492707"/>
                  </a:lnTo>
                  <a:lnTo>
                    <a:pt x="67314" y="491477"/>
                  </a:lnTo>
                  <a:lnTo>
                    <a:pt x="76117" y="489810"/>
                  </a:lnTo>
                  <a:lnTo>
                    <a:pt x="85373" y="487852"/>
                  </a:lnTo>
                  <a:lnTo>
                    <a:pt x="94931" y="486547"/>
                  </a:lnTo>
                  <a:lnTo>
                    <a:pt x="104689" y="485676"/>
                  </a:lnTo>
                  <a:lnTo>
                    <a:pt x="114581" y="485097"/>
                  </a:lnTo>
                  <a:lnTo>
                    <a:pt x="134603" y="484452"/>
                  </a:lnTo>
                  <a:lnTo>
                    <a:pt x="185196" y="484004"/>
                  </a:lnTo>
                  <a:lnTo>
                    <a:pt x="255841" y="483939"/>
                  </a:lnTo>
                  <a:lnTo>
                    <a:pt x="262761" y="484784"/>
                  </a:lnTo>
                  <a:lnTo>
                    <a:pt x="269069" y="486195"/>
                  </a:lnTo>
                  <a:lnTo>
                    <a:pt x="274967" y="487982"/>
                  </a:lnTo>
                  <a:lnTo>
                    <a:pt x="280593" y="489174"/>
                  </a:lnTo>
                  <a:lnTo>
                    <a:pt x="286037" y="489968"/>
                  </a:lnTo>
                  <a:lnTo>
                    <a:pt x="291359" y="490497"/>
                  </a:lnTo>
                  <a:lnTo>
                    <a:pt x="299531" y="493343"/>
                  </a:lnTo>
                  <a:lnTo>
                    <a:pt x="308892" y="499706"/>
                  </a:lnTo>
                  <a:lnTo>
                    <a:pt x="315226" y="504491"/>
                  </a:lnTo>
                  <a:lnTo>
                    <a:pt x="323685" y="509441"/>
                  </a:lnTo>
                  <a:lnTo>
                    <a:pt x="332485" y="5144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SMARTInkAnnotation117"/>
            <p:cNvSpPr/>
            <p:nvPr/>
          </p:nvSpPr>
          <p:spPr>
            <a:xfrm>
              <a:off x="8672040" y="2682000"/>
              <a:ext cx="52920" cy="27432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53209" h="274321">
                  <a:moveTo>
                    <a:pt x="53208" y="0"/>
                  </a:moveTo>
                  <a:lnTo>
                    <a:pt x="49163" y="4045"/>
                  </a:lnTo>
                  <a:lnTo>
                    <a:pt x="47971" y="6084"/>
                  </a:lnTo>
                  <a:lnTo>
                    <a:pt x="46647" y="10606"/>
                  </a:lnTo>
                  <a:lnTo>
                    <a:pt x="45448" y="12997"/>
                  </a:lnTo>
                  <a:lnTo>
                    <a:pt x="43802" y="15438"/>
                  </a:lnTo>
                  <a:lnTo>
                    <a:pt x="41858" y="17912"/>
                  </a:lnTo>
                  <a:lnTo>
                    <a:pt x="39714" y="22101"/>
                  </a:lnTo>
                  <a:lnTo>
                    <a:pt x="37439" y="27434"/>
                  </a:lnTo>
                  <a:lnTo>
                    <a:pt x="35075" y="33530"/>
                  </a:lnTo>
                  <a:lnTo>
                    <a:pt x="32653" y="39286"/>
                  </a:lnTo>
                  <a:lnTo>
                    <a:pt x="30191" y="44818"/>
                  </a:lnTo>
                  <a:lnTo>
                    <a:pt x="27703" y="50198"/>
                  </a:lnTo>
                  <a:lnTo>
                    <a:pt x="25199" y="56326"/>
                  </a:lnTo>
                  <a:lnTo>
                    <a:pt x="22682" y="62950"/>
                  </a:lnTo>
                  <a:lnTo>
                    <a:pt x="17629" y="77085"/>
                  </a:lnTo>
                  <a:lnTo>
                    <a:pt x="4945" y="114417"/>
                  </a:lnTo>
                  <a:lnTo>
                    <a:pt x="3253" y="122844"/>
                  </a:lnTo>
                  <a:lnTo>
                    <a:pt x="2125" y="131850"/>
                  </a:lnTo>
                  <a:lnTo>
                    <a:pt x="1372" y="141240"/>
                  </a:lnTo>
                  <a:lnTo>
                    <a:pt x="871" y="150040"/>
                  </a:lnTo>
                  <a:lnTo>
                    <a:pt x="314" y="166591"/>
                  </a:lnTo>
                  <a:lnTo>
                    <a:pt x="0" y="190190"/>
                  </a:lnTo>
                  <a:lnTo>
                    <a:pt x="803" y="197913"/>
                  </a:lnTo>
                  <a:lnTo>
                    <a:pt x="2186" y="205602"/>
                  </a:lnTo>
                  <a:lnTo>
                    <a:pt x="3953" y="213268"/>
                  </a:lnTo>
                  <a:lnTo>
                    <a:pt x="5131" y="220072"/>
                  </a:lnTo>
                  <a:lnTo>
                    <a:pt x="5917" y="226301"/>
                  </a:lnTo>
                  <a:lnTo>
                    <a:pt x="6441" y="232148"/>
                  </a:lnTo>
                  <a:lnTo>
                    <a:pt x="7637" y="238585"/>
                  </a:lnTo>
                  <a:lnTo>
                    <a:pt x="9280" y="245417"/>
                  </a:lnTo>
                  <a:lnTo>
                    <a:pt x="11223" y="252511"/>
                  </a:lnTo>
                  <a:lnTo>
                    <a:pt x="12518" y="258088"/>
                  </a:lnTo>
                  <a:lnTo>
                    <a:pt x="13382" y="262652"/>
                  </a:lnTo>
                  <a:lnTo>
                    <a:pt x="15108" y="2743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MARTInkAnnotation118"/>
            <p:cNvSpPr/>
            <p:nvPr/>
          </p:nvSpPr>
          <p:spPr>
            <a:xfrm>
              <a:off x="8923680" y="2576520"/>
              <a:ext cx="380880" cy="3794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380997" h="379669">
                  <a:moveTo>
                    <a:pt x="0" y="90245"/>
                  </a:moveTo>
                  <a:lnTo>
                    <a:pt x="0" y="79639"/>
                  </a:lnTo>
                  <a:lnTo>
                    <a:pt x="846" y="77248"/>
                  </a:lnTo>
                  <a:lnTo>
                    <a:pt x="4045" y="72333"/>
                  </a:lnTo>
                  <a:lnTo>
                    <a:pt x="13844" y="61433"/>
                  </a:lnTo>
                  <a:lnTo>
                    <a:pt x="36045" y="38996"/>
                  </a:lnTo>
                  <a:lnTo>
                    <a:pt x="41810" y="34912"/>
                  </a:lnTo>
                  <a:lnTo>
                    <a:pt x="48194" y="31343"/>
                  </a:lnTo>
                  <a:lnTo>
                    <a:pt x="54989" y="28117"/>
                  </a:lnTo>
                  <a:lnTo>
                    <a:pt x="62059" y="25120"/>
                  </a:lnTo>
                  <a:lnTo>
                    <a:pt x="69313" y="22275"/>
                  </a:lnTo>
                  <a:lnTo>
                    <a:pt x="76688" y="19532"/>
                  </a:lnTo>
                  <a:lnTo>
                    <a:pt x="84992" y="16856"/>
                  </a:lnTo>
                  <a:lnTo>
                    <a:pt x="93914" y="14226"/>
                  </a:lnTo>
                  <a:lnTo>
                    <a:pt x="103249" y="11626"/>
                  </a:lnTo>
                  <a:lnTo>
                    <a:pt x="112014" y="9892"/>
                  </a:lnTo>
                  <a:lnTo>
                    <a:pt x="120395" y="8737"/>
                  </a:lnTo>
                  <a:lnTo>
                    <a:pt x="128524" y="7966"/>
                  </a:lnTo>
                  <a:lnTo>
                    <a:pt x="137329" y="6606"/>
                  </a:lnTo>
                  <a:lnTo>
                    <a:pt x="146585" y="4852"/>
                  </a:lnTo>
                  <a:lnTo>
                    <a:pt x="156144" y="2837"/>
                  </a:lnTo>
                  <a:lnTo>
                    <a:pt x="164210" y="1493"/>
                  </a:lnTo>
                  <a:lnTo>
                    <a:pt x="171280" y="597"/>
                  </a:lnTo>
                  <a:lnTo>
                    <a:pt x="177687" y="0"/>
                  </a:lnTo>
                  <a:lnTo>
                    <a:pt x="189321" y="1594"/>
                  </a:lnTo>
                  <a:lnTo>
                    <a:pt x="200136" y="5125"/>
                  </a:lnTo>
                  <a:lnTo>
                    <a:pt x="210588" y="9516"/>
                  </a:lnTo>
                  <a:lnTo>
                    <a:pt x="220877" y="14290"/>
                  </a:lnTo>
                  <a:lnTo>
                    <a:pt x="230248" y="19234"/>
                  </a:lnTo>
                  <a:lnTo>
                    <a:pt x="237234" y="24254"/>
                  </a:lnTo>
                  <a:lnTo>
                    <a:pt x="243162" y="31565"/>
                  </a:lnTo>
                  <a:lnTo>
                    <a:pt x="248619" y="40458"/>
                  </a:lnTo>
                  <a:lnTo>
                    <a:pt x="253866" y="50055"/>
                  </a:lnTo>
                  <a:lnTo>
                    <a:pt x="255604" y="55832"/>
                  </a:lnTo>
                  <a:lnTo>
                    <a:pt x="256762" y="62223"/>
                  </a:lnTo>
                  <a:lnTo>
                    <a:pt x="257535" y="69024"/>
                  </a:lnTo>
                  <a:lnTo>
                    <a:pt x="258051" y="76944"/>
                  </a:lnTo>
                  <a:lnTo>
                    <a:pt x="258392" y="85611"/>
                  </a:lnTo>
                  <a:lnTo>
                    <a:pt x="258623" y="94776"/>
                  </a:lnTo>
                  <a:lnTo>
                    <a:pt x="257081" y="103426"/>
                  </a:lnTo>
                  <a:lnTo>
                    <a:pt x="254360" y="111732"/>
                  </a:lnTo>
                  <a:lnTo>
                    <a:pt x="250853" y="119810"/>
                  </a:lnTo>
                  <a:lnTo>
                    <a:pt x="247670" y="129428"/>
                  </a:lnTo>
                  <a:lnTo>
                    <a:pt x="244699" y="140074"/>
                  </a:lnTo>
                  <a:lnTo>
                    <a:pt x="241873" y="151404"/>
                  </a:lnTo>
                  <a:lnTo>
                    <a:pt x="237449" y="162344"/>
                  </a:lnTo>
                  <a:lnTo>
                    <a:pt x="231960" y="173025"/>
                  </a:lnTo>
                  <a:lnTo>
                    <a:pt x="225760" y="183531"/>
                  </a:lnTo>
                  <a:lnTo>
                    <a:pt x="219086" y="193923"/>
                  </a:lnTo>
                  <a:lnTo>
                    <a:pt x="212098" y="204237"/>
                  </a:lnTo>
                  <a:lnTo>
                    <a:pt x="197559" y="224728"/>
                  </a:lnTo>
                  <a:lnTo>
                    <a:pt x="159947" y="275647"/>
                  </a:lnTo>
                  <a:lnTo>
                    <a:pt x="152351" y="284966"/>
                  </a:lnTo>
                  <a:lnTo>
                    <a:pt x="144747" y="293719"/>
                  </a:lnTo>
                  <a:lnTo>
                    <a:pt x="137138" y="302095"/>
                  </a:lnTo>
                  <a:lnTo>
                    <a:pt x="128679" y="310218"/>
                  </a:lnTo>
                  <a:lnTo>
                    <a:pt x="119652" y="318174"/>
                  </a:lnTo>
                  <a:lnTo>
                    <a:pt x="110248" y="326017"/>
                  </a:lnTo>
                  <a:lnTo>
                    <a:pt x="102285" y="332940"/>
                  </a:lnTo>
                  <a:lnTo>
                    <a:pt x="95284" y="339249"/>
                  </a:lnTo>
                  <a:lnTo>
                    <a:pt x="79597" y="353959"/>
                  </a:lnTo>
                  <a:lnTo>
                    <a:pt x="66711" y="366515"/>
                  </a:lnTo>
                  <a:lnTo>
                    <a:pt x="64794" y="369252"/>
                  </a:lnTo>
                  <a:lnTo>
                    <a:pt x="61004" y="379668"/>
                  </a:lnTo>
                  <a:lnTo>
                    <a:pt x="69064" y="375719"/>
                  </a:lnTo>
                  <a:lnTo>
                    <a:pt x="79802" y="371498"/>
                  </a:lnTo>
                  <a:lnTo>
                    <a:pt x="86221" y="369187"/>
                  </a:lnTo>
                  <a:lnTo>
                    <a:pt x="93887" y="365953"/>
                  </a:lnTo>
                  <a:lnTo>
                    <a:pt x="102384" y="362104"/>
                  </a:lnTo>
                  <a:lnTo>
                    <a:pt x="111436" y="357844"/>
                  </a:lnTo>
                  <a:lnTo>
                    <a:pt x="121704" y="354158"/>
                  </a:lnTo>
                  <a:lnTo>
                    <a:pt x="132782" y="350854"/>
                  </a:lnTo>
                  <a:lnTo>
                    <a:pt x="144402" y="347804"/>
                  </a:lnTo>
                  <a:lnTo>
                    <a:pt x="168601" y="342158"/>
                  </a:lnTo>
                  <a:lnTo>
                    <a:pt x="180981" y="339467"/>
                  </a:lnTo>
                  <a:lnTo>
                    <a:pt x="193467" y="337673"/>
                  </a:lnTo>
                  <a:lnTo>
                    <a:pt x="206025" y="336477"/>
                  </a:lnTo>
                  <a:lnTo>
                    <a:pt x="218630" y="335680"/>
                  </a:lnTo>
                  <a:lnTo>
                    <a:pt x="241666" y="334794"/>
                  </a:lnTo>
                  <a:lnTo>
                    <a:pt x="275935" y="334295"/>
                  </a:lnTo>
                  <a:lnTo>
                    <a:pt x="362225" y="334089"/>
                  </a:lnTo>
                  <a:lnTo>
                    <a:pt x="366790" y="334934"/>
                  </a:lnTo>
                  <a:lnTo>
                    <a:pt x="377943" y="340117"/>
                  </a:lnTo>
                  <a:lnTo>
                    <a:pt x="380996" y="341703"/>
                  </a:lnTo>
                  <a:lnTo>
                    <a:pt x="376955" y="341704"/>
                  </a:lnTo>
                  <a:lnTo>
                    <a:pt x="375763" y="342551"/>
                  </a:lnTo>
                  <a:lnTo>
                    <a:pt x="374970" y="343962"/>
                  </a:lnTo>
                  <a:lnTo>
                    <a:pt x="373380" y="3493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SMARTInkAnnotation119"/>
            <p:cNvSpPr/>
            <p:nvPr/>
          </p:nvSpPr>
          <p:spPr>
            <a:xfrm>
              <a:off x="9136800" y="2385360"/>
              <a:ext cx="516960" cy="913680"/>
            </a:xfrm>
            <a:custGeom>
              <a:avLst/>
              <a:gdLst>
                <a:gd name="textAreaLeft" fmla="*/ 0 w 516960"/>
                <a:gd name="textAreaRight" fmla="*/ 517320 w 516960"/>
                <a:gd name="textAreaTop" fmla="*/ 0 h 913680"/>
                <a:gd name="textAreaBottom" fmla="*/ 914040 h 913680"/>
              </a:gdLst>
              <a:ahLst/>
              <a:rect l="textAreaLeft" t="textAreaTop" r="textAreaRight" b="textAreaBottom"/>
              <a:pathLst>
                <a:path w="516968" h="913964">
                  <a:moveTo>
                    <a:pt x="0" y="30043"/>
                  </a:moveTo>
                  <a:lnTo>
                    <a:pt x="4046" y="34088"/>
                  </a:lnTo>
                  <a:lnTo>
                    <a:pt x="6084" y="35280"/>
                  </a:lnTo>
                  <a:lnTo>
                    <a:pt x="10606" y="36604"/>
                  </a:lnTo>
                  <a:lnTo>
                    <a:pt x="21957" y="37349"/>
                  </a:lnTo>
                  <a:lnTo>
                    <a:pt x="40091" y="37570"/>
                  </a:lnTo>
                  <a:lnTo>
                    <a:pt x="88041" y="37655"/>
                  </a:lnTo>
                  <a:lnTo>
                    <a:pt x="98487" y="36811"/>
                  </a:lnTo>
                  <a:lnTo>
                    <a:pt x="109684" y="35402"/>
                  </a:lnTo>
                  <a:lnTo>
                    <a:pt x="121384" y="33615"/>
                  </a:lnTo>
                  <a:lnTo>
                    <a:pt x="132568" y="31578"/>
                  </a:lnTo>
                  <a:lnTo>
                    <a:pt x="143412" y="29373"/>
                  </a:lnTo>
                  <a:lnTo>
                    <a:pt x="154029" y="27056"/>
                  </a:lnTo>
                  <a:lnTo>
                    <a:pt x="165338" y="25512"/>
                  </a:lnTo>
                  <a:lnTo>
                    <a:pt x="177113" y="24482"/>
                  </a:lnTo>
                  <a:lnTo>
                    <a:pt x="189195" y="23795"/>
                  </a:lnTo>
                  <a:lnTo>
                    <a:pt x="201483" y="22491"/>
                  </a:lnTo>
                  <a:lnTo>
                    <a:pt x="213910" y="20775"/>
                  </a:lnTo>
                  <a:lnTo>
                    <a:pt x="268314" y="11937"/>
                  </a:lnTo>
                  <a:lnTo>
                    <a:pt x="281322" y="9506"/>
                  </a:lnTo>
                  <a:lnTo>
                    <a:pt x="304807" y="4547"/>
                  </a:lnTo>
                  <a:lnTo>
                    <a:pt x="316659" y="2885"/>
                  </a:lnTo>
                  <a:lnTo>
                    <a:pt x="328791" y="1778"/>
                  </a:lnTo>
                  <a:lnTo>
                    <a:pt x="351869" y="547"/>
                  </a:lnTo>
                  <a:lnTo>
                    <a:pt x="370593" y="0"/>
                  </a:lnTo>
                  <a:lnTo>
                    <a:pt x="379142" y="701"/>
                  </a:lnTo>
                  <a:lnTo>
                    <a:pt x="387381" y="2015"/>
                  </a:lnTo>
                  <a:lnTo>
                    <a:pt x="402463" y="5733"/>
                  </a:lnTo>
                  <a:lnTo>
                    <a:pt x="414810" y="10207"/>
                  </a:lnTo>
                  <a:lnTo>
                    <a:pt x="423685" y="15018"/>
                  </a:lnTo>
                  <a:lnTo>
                    <a:pt x="427236" y="17487"/>
                  </a:lnTo>
                  <a:lnTo>
                    <a:pt x="429604" y="20825"/>
                  </a:lnTo>
                  <a:lnTo>
                    <a:pt x="432235" y="29051"/>
                  </a:lnTo>
                  <a:lnTo>
                    <a:pt x="433924" y="54212"/>
                  </a:lnTo>
                  <a:lnTo>
                    <a:pt x="433370" y="76997"/>
                  </a:lnTo>
                  <a:lnTo>
                    <a:pt x="428221" y="104821"/>
                  </a:lnTo>
                  <a:lnTo>
                    <a:pt x="418895" y="146822"/>
                  </a:lnTo>
                  <a:lnTo>
                    <a:pt x="413081" y="170845"/>
                  </a:lnTo>
                  <a:lnTo>
                    <a:pt x="404855" y="195633"/>
                  </a:lnTo>
                  <a:lnTo>
                    <a:pt x="397810" y="223018"/>
                  </a:lnTo>
                  <a:lnTo>
                    <a:pt x="394748" y="237433"/>
                  </a:lnTo>
                  <a:lnTo>
                    <a:pt x="392705" y="252123"/>
                  </a:lnTo>
                  <a:lnTo>
                    <a:pt x="391343" y="266996"/>
                  </a:lnTo>
                  <a:lnTo>
                    <a:pt x="390435" y="281992"/>
                  </a:lnTo>
                  <a:lnTo>
                    <a:pt x="388136" y="297069"/>
                  </a:lnTo>
                  <a:lnTo>
                    <a:pt x="384912" y="312200"/>
                  </a:lnTo>
                  <a:lnTo>
                    <a:pt x="381067" y="327368"/>
                  </a:lnTo>
                  <a:lnTo>
                    <a:pt x="378505" y="342560"/>
                  </a:lnTo>
                  <a:lnTo>
                    <a:pt x="376797" y="357767"/>
                  </a:lnTo>
                  <a:lnTo>
                    <a:pt x="375658" y="372986"/>
                  </a:lnTo>
                  <a:lnTo>
                    <a:pt x="374898" y="388212"/>
                  </a:lnTo>
                  <a:lnTo>
                    <a:pt x="374053" y="418676"/>
                  </a:lnTo>
                  <a:lnTo>
                    <a:pt x="372983" y="433911"/>
                  </a:lnTo>
                  <a:lnTo>
                    <a:pt x="371421" y="449149"/>
                  </a:lnTo>
                  <a:lnTo>
                    <a:pt x="369534" y="464387"/>
                  </a:lnTo>
                  <a:lnTo>
                    <a:pt x="369124" y="479626"/>
                  </a:lnTo>
                  <a:lnTo>
                    <a:pt x="369696" y="494865"/>
                  </a:lnTo>
                  <a:lnTo>
                    <a:pt x="370923" y="510104"/>
                  </a:lnTo>
                  <a:lnTo>
                    <a:pt x="371743" y="525344"/>
                  </a:lnTo>
                  <a:lnTo>
                    <a:pt x="372652" y="555823"/>
                  </a:lnTo>
                  <a:lnTo>
                    <a:pt x="375315" y="584045"/>
                  </a:lnTo>
                  <a:lnTo>
                    <a:pt x="379320" y="610700"/>
                  </a:lnTo>
                  <a:lnTo>
                    <a:pt x="383922" y="636657"/>
                  </a:lnTo>
                  <a:lnTo>
                    <a:pt x="388789" y="660047"/>
                  </a:lnTo>
                  <a:lnTo>
                    <a:pt x="394623" y="682578"/>
                  </a:lnTo>
                  <a:lnTo>
                    <a:pt x="402859" y="706703"/>
                  </a:lnTo>
                  <a:lnTo>
                    <a:pt x="412163" y="729279"/>
                  </a:lnTo>
                  <a:lnTo>
                    <a:pt x="421944" y="750601"/>
                  </a:lnTo>
                  <a:lnTo>
                    <a:pt x="431936" y="771367"/>
                  </a:lnTo>
                  <a:lnTo>
                    <a:pt x="443035" y="798052"/>
                  </a:lnTo>
                  <a:lnTo>
                    <a:pt x="455731" y="822046"/>
                  </a:lnTo>
                  <a:lnTo>
                    <a:pt x="474345" y="852062"/>
                  </a:lnTo>
                  <a:lnTo>
                    <a:pt x="489802" y="880485"/>
                  </a:lnTo>
                  <a:lnTo>
                    <a:pt x="497716" y="892002"/>
                  </a:lnTo>
                  <a:lnTo>
                    <a:pt x="507129" y="903479"/>
                  </a:lnTo>
                  <a:lnTo>
                    <a:pt x="509024" y="908739"/>
                  </a:lnTo>
                  <a:lnTo>
                    <a:pt x="510375" y="910480"/>
                  </a:lnTo>
                  <a:lnTo>
                    <a:pt x="512124" y="911641"/>
                  </a:lnTo>
                  <a:lnTo>
                    <a:pt x="516967" y="913504"/>
                  </a:lnTo>
                  <a:lnTo>
                    <a:pt x="516518" y="913657"/>
                  </a:lnTo>
                  <a:lnTo>
                    <a:pt x="503404" y="913923"/>
                  </a:lnTo>
                  <a:lnTo>
                    <a:pt x="489870" y="911687"/>
                  </a:lnTo>
                  <a:lnTo>
                    <a:pt x="481520" y="909906"/>
                  </a:lnTo>
                  <a:lnTo>
                    <a:pt x="465469" y="907927"/>
                  </a:lnTo>
                  <a:lnTo>
                    <a:pt x="457633" y="907399"/>
                  </a:lnTo>
                  <a:lnTo>
                    <a:pt x="448175" y="906201"/>
                  </a:lnTo>
                  <a:lnTo>
                    <a:pt x="437636" y="904555"/>
                  </a:lnTo>
                  <a:lnTo>
                    <a:pt x="426377" y="902611"/>
                  </a:lnTo>
                  <a:lnTo>
                    <a:pt x="415485" y="900468"/>
                  </a:lnTo>
                  <a:lnTo>
                    <a:pt x="394350" y="895830"/>
                  </a:lnTo>
                  <a:lnTo>
                    <a:pt x="383974" y="894254"/>
                  </a:lnTo>
                  <a:lnTo>
                    <a:pt x="373670" y="893204"/>
                  </a:lnTo>
                  <a:lnTo>
                    <a:pt x="363412" y="892504"/>
                  </a:lnTo>
                  <a:lnTo>
                    <a:pt x="352342" y="892037"/>
                  </a:lnTo>
                  <a:lnTo>
                    <a:pt x="328752" y="891518"/>
                  </a:lnTo>
                  <a:lnTo>
                    <a:pt x="295716" y="891226"/>
                  </a:lnTo>
                  <a:lnTo>
                    <a:pt x="286045" y="892032"/>
                  </a:lnTo>
                  <a:lnTo>
                    <a:pt x="277055" y="893416"/>
                  </a:lnTo>
                  <a:lnTo>
                    <a:pt x="261143" y="897211"/>
                  </a:lnTo>
                  <a:lnTo>
                    <a:pt x="248425" y="901720"/>
                  </a:lnTo>
                  <a:lnTo>
                    <a:pt x="237129" y="906546"/>
                  </a:lnTo>
                  <a:lnTo>
                    <a:pt x="220980" y="9139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6:10:19Z</dcterms:created>
  <dc:creator>Stephanie Ruth Rentel</dc:creator>
  <dc:description/>
  <dc:language>en-US</dc:language>
  <cp:lastModifiedBy>m</cp:lastModifiedBy>
  <dcterms:modified xsi:type="dcterms:W3CDTF">2012-01-11T21:21:49Z</dcterms:modified>
  <cp:revision>84</cp:revision>
  <dc:subject/>
  <dc:title>Slide 1</dc:title>
</cp:coreProperties>
</file>